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jpeg" ContentType="image/jpeg"/>
  <Override PartName="/ppt/media/image52.png" ContentType="image/png"/>
  <Override PartName="/ppt/media/image26.jpeg" ContentType="image/jpeg"/>
  <Override PartName="/ppt/media/image42.png" ContentType="image/png"/>
  <Override PartName="/ppt/media/image23.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6.png" ContentType="image/png"/>
  <Override PartName="/ppt/media/image15.png" ContentType="image/png"/>
  <Override PartName="/ppt/media/image55.wmf" ContentType="image/x-wmf"/>
  <Override PartName="/ppt/media/image24.png" ContentType="image/png"/>
  <Override PartName="/ppt/media/image1.png" ContentType="image/png"/>
  <Override PartName="/ppt/media/image31.png" ContentType="image/png"/>
  <Override PartName="/ppt/media/image17.jpeg" ContentType="image/jpeg"/>
  <Override PartName="/ppt/media/image3.png" ContentType="image/png"/>
  <Override PartName="/ppt/media/image33.png" ContentType="image/png"/>
  <Override PartName="/ppt/media/image4.png" ContentType="image/png"/>
  <Override PartName="/ppt/media/image3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2.jpeg" ContentType="image/jpeg"/>
  <Override PartName="/ppt/media/image39.png" ContentType="image/png"/>
  <Override PartName="/ppt/media/image50.png" ContentType="image/png"/>
  <Override PartName="/ppt/media/image40.png" ContentType="image/png"/>
  <Override PartName="/ppt/media/image43.png" ContentType="image/png"/>
  <Override PartName="/ppt/media/image45.png" ContentType="image/png"/>
  <Override PartName="/ppt/media/image46.png" ContentType="image/png"/>
  <Override PartName="/ppt/media/image48.png" ContentType="image/png"/>
  <Override PartName="/ppt/media/image11.png" ContentType="image/png"/>
  <Override PartName="/ppt/media/image6.wmf" ContentType="image/x-wmf"/>
  <Override PartName="/ppt/media/image47.png" ContentType="image/png"/>
  <Override PartName="/ppt/media/image51.png" ContentType="image/png"/>
  <Override PartName="/ppt/media/image14.png" ContentType="image/png"/>
  <Override PartName="/ppt/media/image12.png" ContentType="image/png"/>
  <Override PartName="/ppt/media/image49.png" ContentType="image/png"/>
  <Override PartName="/ppt/media/image30.png" ContentType="image/png"/>
  <Override PartName="/ppt/media/image54.png" ContentType="image/png"/>
  <Override PartName="/ppt/media/image44.png" ContentType="image/png"/>
  <Override PartName="/ppt/media/image56.png" ContentType="image/png"/>
  <Override PartName="/ppt/media/image10.wmf" ContentType="image/x-wmf"/>
  <Override PartName="/ppt/media/image2.png" ContentType="image/png"/>
  <Override PartName="/ppt/media/image25.jpeg" ContentType="image/jpeg"/>
  <Override PartName="/ppt/media/image32.png" ContentType="image/png"/>
  <Override PartName="/ppt/media/image9.wmf" ContentType="image/x-wmf"/>
  <Override PartName="/ppt/media/image41.png" ContentType="image/png"/>
  <Override PartName="/ppt/media/image13.png" ContentType="image/png"/>
  <Override PartName="/ppt/media/image53.wmf" ContentType="image/x-wmf"/>
  <Override PartName="/ppt/media/image38.png" ContentType="image/png"/>
  <Override PartName="/ppt/media/image8.png" ContentType="image/png"/>
  <Override PartName="/ppt/media/image7.png" ContentType="image/png"/>
  <Override PartName="/ppt/media/image3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136"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900000" y="739440"/>
            <a:ext cx="4935600" cy="3701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139" name="PlaceHolder 4"/>
          <p:cNvSpPr>
            <a:spLocks noGrp="1"/>
          </p:cNvSpPr>
          <p:nvPr>
            <p:ph type="body"/>
          </p:nvPr>
        </p:nvSpPr>
        <p:spPr>
          <a:xfrm>
            <a:off x="672840" y="4687920"/>
            <a:ext cx="5389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360" y="9374040"/>
            <a:ext cx="29192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12"/>
          </p:nvPr>
        </p:nvSpPr>
        <p:spPr>
          <a:xfrm>
            <a:off x="3814560" y="9374040"/>
            <a:ext cx="291924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65D8-A0CE-43F2-A9BA-BAD0C779C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C1AB-BDAF-407A-9EB1-DF5C90AA631E}"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679" name="PlaceHolder 1"/>
          <p:cNvSpPr>
            <a:spLocks noGrp="1"/>
          </p:cNvSpPr>
          <p:nvPr>
            <p:ph type="sldImg"/>
          </p:nvPr>
        </p:nvSpPr>
        <p:spPr>
          <a:xfrm>
            <a:off x="900000" y="739800"/>
            <a:ext cx="4935600" cy="3701880"/>
          </a:xfrm>
          <a:prstGeom prst="rect">
            <a:avLst/>
          </a:prstGeom>
          <a:ln w="0">
            <a:noFill/>
          </a:ln>
        </p:spPr>
      </p:sp>
      <p:sp>
        <p:nvSpPr>
          <p:cNvPr id="680"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817C-77F5-4A2A-B5D1-6E5434CAD151}"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06" name="PlaceHolder 1"/>
          <p:cNvSpPr>
            <a:spLocks noGrp="1"/>
          </p:cNvSpPr>
          <p:nvPr>
            <p:ph type="sldImg"/>
          </p:nvPr>
        </p:nvSpPr>
        <p:spPr>
          <a:xfrm>
            <a:off x="900000" y="739800"/>
            <a:ext cx="4935600" cy="3701880"/>
          </a:xfrm>
          <a:prstGeom prst="rect">
            <a:avLst/>
          </a:prstGeom>
          <a:ln w="0">
            <a:noFill/>
          </a:ln>
        </p:spPr>
      </p:sp>
      <p:sp>
        <p:nvSpPr>
          <p:cNvPr id="70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00000" y="739800"/>
            <a:ext cx="4935600" cy="3701880"/>
          </a:xfrm>
          <a:prstGeom prst="rect">
            <a:avLst/>
          </a:prstGeom>
          <a:ln w="0">
            <a:noFill/>
          </a:ln>
        </p:spPr>
      </p:sp>
      <p:sp>
        <p:nvSpPr>
          <p:cNvPr id="709"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22F2-230F-4F1F-9A66-577B44689527}"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3B4F-86C4-426B-BD72-30CF07FCB731}"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12" name="PlaceHolder 1"/>
          <p:cNvSpPr>
            <a:spLocks noGrp="1"/>
          </p:cNvSpPr>
          <p:nvPr>
            <p:ph type="sldImg"/>
          </p:nvPr>
        </p:nvSpPr>
        <p:spPr>
          <a:xfrm>
            <a:off x="900000" y="739800"/>
            <a:ext cx="4935600" cy="3701880"/>
          </a:xfrm>
          <a:prstGeom prst="rect">
            <a:avLst/>
          </a:prstGeom>
          <a:ln w="0">
            <a:noFill/>
          </a:ln>
        </p:spPr>
      </p:sp>
      <p:sp>
        <p:nvSpPr>
          <p:cNvPr id="71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FCA6-C579-49FA-BC39-48E1382B1259}"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15" name="PlaceHolder 1"/>
          <p:cNvSpPr>
            <a:spLocks noGrp="1"/>
          </p:cNvSpPr>
          <p:nvPr>
            <p:ph type="sldImg"/>
          </p:nvPr>
        </p:nvSpPr>
        <p:spPr>
          <a:xfrm>
            <a:off x="900000" y="739800"/>
            <a:ext cx="4935600" cy="3701880"/>
          </a:xfrm>
          <a:prstGeom prst="rect">
            <a:avLst/>
          </a:prstGeom>
          <a:ln w="0">
            <a:noFill/>
          </a:ln>
        </p:spPr>
      </p:sp>
      <p:sp>
        <p:nvSpPr>
          <p:cNvPr id="71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BDE5-9773-448D-B2CF-823B6FE3D6D8}"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18" name="PlaceHolder 1"/>
          <p:cNvSpPr>
            <a:spLocks noGrp="1"/>
          </p:cNvSpPr>
          <p:nvPr>
            <p:ph type="sldImg"/>
          </p:nvPr>
        </p:nvSpPr>
        <p:spPr>
          <a:xfrm>
            <a:off x="900000" y="739800"/>
            <a:ext cx="4935600" cy="3701880"/>
          </a:xfrm>
          <a:prstGeom prst="rect">
            <a:avLst/>
          </a:prstGeom>
          <a:ln w="0">
            <a:noFill/>
          </a:ln>
        </p:spPr>
      </p:sp>
      <p:sp>
        <p:nvSpPr>
          <p:cNvPr id="719"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1D65-C444-4EE0-B6E9-09B8C6FC17E7}"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21" name="PlaceHolder 1"/>
          <p:cNvSpPr>
            <a:spLocks noGrp="1"/>
          </p:cNvSpPr>
          <p:nvPr>
            <p:ph type="sldImg"/>
          </p:nvPr>
        </p:nvSpPr>
        <p:spPr>
          <a:xfrm>
            <a:off x="900000" y="739800"/>
            <a:ext cx="4935600" cy="3701880"/>
          </a:xfrm>
          <a:prstGeom prst="rect">
            <a:avLst/>
          </a:prstGeom>
          <a:ln w="0">
            <a:noFill/>
          </a:ln>
        </p:spPr>
      </p:sp>
      <p:sp>
        <p:nvSpPr>
          <p:cNvPr id="722"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EEEE-2D9F-4798-AEE4-A3E03D09CB64}"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24" name="PlaceHolder 1"/>
          <p:cNvSpPr>
            <a:spLocks noGrp="1"/>
          </p:cNvSpPr>
          <p:nvPr>
            <p:ph type="sldImg"/>
          </p:nvPr>
        </p:nvSpPr>
        <p:spPr>
          <a:xfrm>
            <a:off x="901800" y="739800"/>
            <a:ext cx="4935600" cy="3701880"/>
          </a:xfrm>
          <a:prstGeom prst="rect">
            <a:avLst/>
          </a:prstGeom>
          <a:ln w="0">
            <a:noFill/>
          </a:ln>
        </p:spPr>
      </p:sp>
      <p:sp>
        <p:nvSpPr>
          <p:cNvPr id="725" name="PlaceHolder 2"/>
          <p:cNvSpPr>
            <a:spLocks noGrp="1"/>
          </p:cNvSpPr>
          <p:nvPr>
            <p:ph type="body"/>
          </p:nvPr>
        </p:nvSpPr>
        <p:spPr>
          <a:xfrm>
            <a:off x="898200" y="4687920"/>
            <a:ext cx="493884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B2DA-17B7-43F4-BFCA-6CC2FACE88D5}"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27" name="PlaceHolder 1"/>
          <p:cNvSpPr>
            <a:spLocks noGrp="1"/>
          </p:cNvSpPr>
          <p:nvPr>
            <p:ph type="sldImg"/>
          </p:nvPr>
        </p:nvSpPr>
        <p:spPr>
          <a:xfrm>
            <a:off x="900000" y="739800"/>
            <a:ext cx="4935600" cy="3701880"/>
          </a:xfrm>
          <a:prstGeom prst="rect">
            <a:avLst/>
          </a:prstGeom>
          <a:ln w="0">
            <a:noFill/>
          </a:ln>
        </p:spPr>
      </p:sp>
      <p:sp>
        <p:nvSpPr>
          <p:cNvPr id="728"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904D-2C6A-47AC-BE8F-860BA003D5D3}"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30" name="PlaceHolder 1"/>
          <p:cNvSpPr>
            <a:spLocks noGrp="1"/>
          </p:cNvSpPr>
          <p:nvPr>
            <p:ph type="sldImg"/>
          </p:nvPr>
        </p:nvSpPr>
        <p:spPr>
          <a:xfrm>
            <a:off x="900000" y="739800"/>
            <a:ext cx="4935600" cy="3701880"/>
          </a:xfrm>
          <a:prstGeom prst="rect">
            <a:avLst/>
          </a:prstGeom>
          <a:ln w="0">
            <a:noFill/>
          </a:ln>
        </p:spPr>
      </p:sp>
      <p:sp>
        <p:nvSpPr>
          <p:cNvPr id="731"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B43E-C76A-49BC-BE6D-D97A8DD2C417}"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682" name="PlaceHolder 1"/>
          <p:cNvSpPr>
            <a:spLocks noGrp="1"/>
          </p:cNvSpPr>
          <p:nvPr>
            <p:ph type="sldImg"/>
          </p:nvPr>
        </p:nvSpPr>
        <p:spPr>
          <a:xfrm>
            <a:off x="900000" y="739800"/>
            <a:ext cx="4935600" cy="3701880"/>
          </a:xfrm>
          <a:prstGeom prst="rect">
            <a:avLst/>
          </a:prstGeom>
          <a:ln w="0">
            <a:noFill/>
          </a:ln>
        </p:spPr>
      </p:sp>
      <p:sp>
        <p:nvSpPr>
          <p:cNvPr id="68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E8C9-C746-4832-A592-1CE4568847AC}"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33" name="PlaceHolder 1"/>
          <p:cNvSpPr>
            <a:spLocks noGrp="1"/>
          </p:cNvSpPr>
          <p:nvPr>
            <p:ph type="sldImg"/>
          </p:nvPr>
        </p:nvSpPr>
        <p:spPr>
          <a:xfrm>
            <a:off x="900000" y="739800"/>
            <a:ext cx="4935600" cy="3701880"/>
          </a:xfrm>
          <a:prstGeom prst="rect">
            <a:avLst/>
          </a:prstGeom>
          <a:ln w="0">
            <a:noFill/>
          </a:ln>
        </p:spPr>
      </p:sp>
      <p:sp>
        <p:nvSpPr>
          <p:cNvPr id="734"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1EA1-2BF7-46CB-8B11-1EB8E850377A}"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36" name="PlaceHolder 1"/>
          <p:cNvSpPr>
            <a:spLocks noGrp="1"/>
          </p:cNvSpPr>
          <p:nvPr>
            <p:ph type="sldImg"/>
          </p:nvPr>
        </p:nvSpPr>
        <p:spPr>
          <a:xfrm>
            <a:off x="900000" y="739800"/>
            <a:ext cx="4935600" cy="3701880"/>
          </a:xfrm>
          <a:prstGeom prst="rect">
            <a:avLst/>
          </a:prstGeom>
          <a:ln w="0">
            <a:noFill/>
          </a:ln>
        </p:spPr>
      </p:sp>
      <p:sp>
        <p:nvSpPr>
          <p:cNvPr id="73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7BBB-304B-4471-AFB4-E5359F6F6226}"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39" name="PlaceHolder 1"/>
          <p:cNvSpPr>
            <a:spLocks noGrp="1"/>
          </p:cNvSpPr>
          <p:nvPr>
            <p:ph type="sldImg"/>
          </p:nvPr>
        </p:nvSpPr>
        <p:spPr>
          <a:xfrm>
            <a:off x="900000" y="739800"/>
            <a:ext cx="4935600" cy="3701880"/>
          </a:xfrm>
          <a:prstGeom prst="rect">
            <a:avLst/>
          </a:prstGeom>
          <a:ln w="0">
            <a:noFill/>
          </a:ln>
        </p:spPr>
      </p:sp>
      <p:sp>
        <p:nvSpPr>
          <p:cNvPr id="740"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DCB7-7910-4A48-907E-572D4D7A02BD}"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42" name="PlaceHolder 1"/>
          <p:cNvSpPr>
            <a:spLocks noGrp="1"/>
          </p:cNvSpPr>
          <p:nvPr>
            <p:ph type="sldImg"/>
          </p:nvPr>
        </p:nvSpPr>
        <p:spPr>
          <a:xfrm>
            <a:off x="900000" y="739800"/>
            <a:ext cx="4935600" cy="3701880"/>
          </a:xfrm>
          <a:prstGeom prst="rect">
            <a:avLst/>
          </a:prstGeom>
          <a:ln w="0">
            <a:noFill/>
          </a:ln>
        </p:spPr>
      </p:sp>
      <p:sp>
        <p:nvSpPr>
          <p:cNvPr id="74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00000" y="739800"/>
            <a:ext cx="4935600" cy="3701880"/>
          </a:xfrm>
          <a:prstGeom prst="rect">
            <a:avLst/>
          </a:prstGeom>
          <a:ln w="0">
            <a:noFill/>
          </a:ln>
        </p:spPr>
      </p:sp>
      <p:sp>
        <p:nvSpPr>
          <p:cNvPr id="74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59E4-E7AD-45C8-8AF9-584E8A4A09EF}"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00000" y="739800"/>
            <a:ext cx="4935600" cy="3701880"/>
          </a:xfrm>
          <a:prstGeom prst="rect">
            <a:avLst/>
          </a:prstGeom>
          <a:ln w="0">
            <a:noFill/>
          </a:ln>
        </p:spPr>
      </p:sp>
      <p:sp>
        <p:nvSpPr>
          <p:cNvPr id="748"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8A3F-AA96-44DC-9F44-51A1AAB66C29}"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00000" y="739800"/>
            <a:ext cx="4935600" cy="3701880"/>
          </a:xfrm>
          <a:prstGeom prst="rect">
            <a:avLst/>
          </a:prstGeom>
          <a:ln w="0">
            <a:noFill/>
          </a:ln>
        </p:spPr>
      </p:sp>
      <p:sp>
        <p:nvSpPr>
          <p:cNvPr id="751"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DA3B-F5D6-4523-A49F-05E73F1D8BF4}"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00000" y="739800"/>
            <a:ext cx="4935600" cy="3701880"/>
          </a:xfrm>
          <a:prstGeom prst="rect">
            <a:avLst/>
          </a:prstGeom>
          <a:ln w="0">
            <a:noFill/>
          </a:ln>
        </p:spPr>
      </p:sp>
      <p:sp>
        <p:nvSpPr>
          <p:cNvPr id="754"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C6A7-39C2-490B-842A-60DC8AA4F748}"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F4E2-F740-46BB-998A-74877205E69D}"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57" name="PlaceHolder 1"/>
          <p:cNvSpPr>
            <a:spLocks noGrp="1"/>
          </p:cNvSpPr>
          <p:nvPr>
            <p:ph type="sldImg"/>
          </p:nvPr>
        </p:nvSpPr>
        <p:spPr>
          <a:xfrm>
            <a:off x="900000" y="739800"/>
            <a:ext cx="4935600" cy="3701880"/>
          </a:xfrm>
          <a:prstGeom prst="rect">
            <a:avLst/>
          </a:prstGeom>
          <a:ln w="0">
            <a:noFill/>
          </a:ln>
        </p:spPr>
      </p:sp>
      <p:sp>
        <p:nvSpPr>
          <p:cNvPr id="758"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00000" y="739800"/>
            <a:ext cx="4935600" cy="3701880"/>
          </a:xfrm>
          <a:prstGeom prst="rect">
            <a:avLst/>
          </a:prstGeom>
          <a:ln w="0">
            <a:noFill/>
          </a:ln>
        </p:spPr>
      </p:sp>
      <p:sp>
        <p:nvSpPr>
          <p:cNvPr id="760"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E209-3297-4D8C-802B-F3FED00EE3F6}"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29A3-73C1-4662-846D-B7F3757626E2}"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685" name="PlaceHolder 1"/>
          <p:cNvSpPr>
            <a:spLocks noGrp="1"/>
          </p:cNvSpPr>
          <p:nvPr>
            <p:ph type="sldImg"/>
          </p:nvPr>
        </p:nvSpPr>
        <p:spPr>
          <a:xfrm>
            <a:off x="900000" y="739800"/>
            <a:ext cx="4935600" cy="3701880"/>
          </a:xfrm>
          <a:prstGeom prst="rect">
            <a:avLst/>
          </a:prstGeom>
          <a:ln w="0">
            <a:noFill/>
          </a:ln>
        </p:spPr>
      </p:sp>
      <p:sp>
        <p:nvSpPr>
          <p:cNvPr id="68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00000" y="739800"/>
            <a:ext cx="4935600" cy="3701880"/>
          </a:xfrm>
          <a:prstGeom prst="rect">
            <a:avLst/>
          </a:prstGeom>
          <a:ln w="0">
            <a:noFill/>
          </a:ln>
        </p:spPr>
      </p:sp>
      <p:sp>
        <p:nvSpPr>
          <p:cNvPr id="76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A4BA-E51C-4647-87C7-977A82246D50}"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00000" y="739800"/>
            <a:ext cx="4935600" cy="3701880"/>
          </a:xfrm>
          <a:prstGeom prst="rect">
            <a:avLst/>
          </a:prstGeom>
          <a:ln w="0">
            <a:noFill/>
          </a:ln>
        </p:spPr>
      </p:sp>
      <p:sp>
        <p:nvSpPr>
          <p:cNvPr id="766"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9EAB-22EE-4365-8F6F-0D287E19F244}"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00000" y="739800"/>
            <a:ext cx="4935600" cy="3701880"/>
          </a:xfrm>
          <a:prstGeom prst="rect">
            <a:avLst/>
          </a:prstGeom>
          <a:ln w="0">
            <a:noFill/>
          </a:ln>
        </p:spPr>
      </p:sp>
      <p:sp>
        <p:nvSpPr>
          <p:cNvPr id="769"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1E0B-7699-4B4D-A3C2-DBC0C0E22242}"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00000" y="739800"/>
            <a:ext cx="4935600" cy="3701880"/>
          </a:xfrm>
          <a:prstGeom prst="rect">
            <a:avLst/>
          </a:prstGeom>
          <a:ln w="0">
            <a:noFill/>
          </a:ln>
        </p:spPr>
      </p:sp>
      <p:sp>
        <p:nvSpPr>
          <p:cNvPr id="772"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18D8-2E5E-4420-9F49-2090A7BCAF3E}"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00000" y="739800"/>
            <a:ext cx="4935600" cy="3701880"/>
          </a:xfrm>
          <a:prstGeom prst="rect">
            <a:avLst/>
          </a:prstGeom>
          <a:ln w="0">
            <a:noFill/>
          </a:ln>
        </p:spPr>
      </p:sp>
      <p:sp>
        <p:nvSpPr>
          <p:cNvPr id="77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6"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A0B3-049C-4177-BA94-808D0198A93E}"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00000" y="739800"/>
            <a:ext cx="4935600" cy="3701880"/>
          </a:xfrm>
          <a:prstGeom prst="rect">
            <a:avLst/>
          </a:prstGeom>
          <a:ln w="0">
            <a:noFill/>
          </a:ln>
        </p:spPr>
      </p:sp>
      <p:sp>
        <p:nvSpPr>
          <p:cNvPr id="778"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56CD-9880-45FD-89BE-701C5A332464}"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00000" y="739800"/>
            <a:ext cx="4935600" cy="3701880"/>
          </a:xfrm>
          <a:prstGeom prst="rect">
            <a:avLst/>
          </a:prstGeom>
          <a:ln w="0">
            <a:noFill/>
          </a:ln>
        </p:spPr>
      </p:sp>
      <p:sp>
        <p:nvSpPr>
          <p:cNvPr id="781"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37EF-3F1F-454B-A079-E23B7BD72E2D}"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00000" y="739800"/>
            <a:ext cx="4935600" cy="3701880"/>
          </a:xfrm>
          <a:prstGeom prst="rect">
            <a:avLst/>
          </a:prstGeom>
          <a:ln w="0">
            <a:noFill/>
          </a:ln>
        </p:spPr>
      </p:sp>
      <p:sp>
        <p:nvSpPr>
          <p:cNvPr id="784"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2141-DC6A-434F-8963-3DC7C7F30EEA}"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7078-D648-451C-854A-65F9BBD2B30D}"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87" name="PlaceHolder 1"/>
          <p:cNvSpPr>
            <a:spLocks noGrp="1"/>
          </p:cNvSpPr>
          <p:nvPr>
            <p:ph type="sldImg"/>
          </p:nvPr>
        </p:nvSpPr>
        <p:spPr>
          <a:xfrm>
            <a:off x="900000" y="739800"/>
            <a:ext cx="4935600" cy="3701880"/>
          </a:xfrm>
          <a:prstGeom prst="rect">
            <a:avLst/>
          </a:prstGeom>
          <a:ln w="0">
            <a:noFill/>
          </a:ln>
        </p:spPr>
      </p:sp>
      <p:sp>
        <p:nvSpPr>
          <p:cNvPr id="788"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0872-B995-491B-B965-17EC812BF866}"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688" name="PlaceHolder 1"/>
          <p:cNvSpPr>
            <a:spLocks noGrp="1"/>
          </p:cNvSpPr>
          <p:nvPr>
            <p:ph type="sldImg"/>
          </p:nvPr>
        </p:nvSpPr>
        <p:spPr>
          <a:xfrm>
            <a:off x="900000" y="739800"/>
            <a:ext cx="4935600" cy="3701880"/>
          </a:xfrm>
          <a:prstGeom prst="rect">
            <a:avLst/>
          </a:prstGeom>
          <a:ln w="0">
            <a:noFill/>
          </a:ln>
        </p:spPr>
      </p:sp>
      <p:sp>
        <p:nvSpPr>
          <p:cNvPr id="689"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672840" y="4687920"/>
            <a:ext cx="5389560" cy="444168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e classic activities of libraries through the centuries, but in the digital realm they present both additional opportunities as well as challeng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will be focusing on the unique aspects of these activities as they relate to building digital libraries, but in most cases all the usual considerations of these activities still apply. For example, when selecting material one must consider such issues as the cost of the material, its relative importance for your audience, etc. </a:t>
            </a:r>
            <a:endParaRPr b="0" lang="en-US" sz="1800" spc="-1" strike="noStrike">
              <a:solidFill>
                <a:srgbClr val="000000"/>
              </a:solidFill>
              <a:latin typeface="Times New Roman"/>
            </a:endParaRPr>
          </a:p>
        </p:txBody>
      </p:sp>
      <p:sp>
        <p:nvSpPr>
          <p:cNvPr id="790" name="PlaceHolder 2"/>
          <p:cNvSpPr>
            <a:spLocks noGrp="1"/>
          </p:cNvSpPr>
          <p:nvPr>
            <p:ph type="sldImg"/>
          </p:nvPr>
        </p:nvSpPr>
        <p:spPr>
          <a:xfrm>
            <a:off x="900000" y="739800"/>
            <a:ext cx="4935600" cy="37018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B9AF-B64B-4910-8A7D-BF059919521A}"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691" name="PlaceHolder 1"/>
          <p:cNvSpPr>
            <a:spLocks noGrp="1"/>
          </p:cNvSpPr>
          <p:nvPr>
            <p:ph type="sldImg"/>
          </p:nvPr>
        </p:nvSpPr>
        <p:spPr>
          <a:xfrm>
            <a:off x="900000" y="739800"/>
            <a:ext cx="4935600" cy="3701880"/>
          </a:xfrm>
          <a:prstGeom prst="rect">
            <a:avLst/>
          </a:prstGeom>
          <a:ln w="0">
            <a:noFill/>
          </a:ln>
        </p:spPr>
      </p:sp>
      <p:sp>
        <p:nvSpPr>
          <p:cNvPr id="692"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DC08-7C41-4956-BB50-3D2E58FD7F39}"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694" name="PlaceHolder 1"/>
          <p:cNvSpPr>
            <a:spLocks noGrp="1"/>
          </p:cNvSpPr>
          <p:nvPr>
            <p:ph type="sldImg"/>
          </p:nvPr>
        </p:nvSpPr>
        <p:spPr>
          <a:xfrm>
            <a:off x="900000" y="739800"/>
            <a:ext cx="4935600" cy="3701880"/>
          </a:xfrm>
          <a:prstGeom prst="rect">
            <a:avLst/>
          </a:prstGeom>
          <a:ln w="0">
            <a:noFill/>
          </a:ln>
        </p:spPr>
      </p:sp>
      <p:sp>
        <p:nvSpPr>
          <p:cNvPr id="695"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CDD1-91E5-4538-A4ED-4088A32ADB19}"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697" name="PlaceHolder 1"/>
          <p:cNvSpPr>
            <a:spLocks noGrp="1"/>
          </p:cNvSpPr>
          <p:nvPr>
            <p:ph type="sldImg"/>
          </p:nvPr>
        </p:nvSpPr>
        <p:spPr>
          <a:xfrm>
            <a:off x="900000" y="739800"/>
            <a:ext cx="4935600" cy="3701880"/>
          </a:xfrm>
          <a:prstGeom prst="rect">
            <a:avLst/>
          </a:prstGeom>
          <a:ln w="0">
            <a:noFill/>
          </a:ln>
        </p:spPr>
      </p:sp>
      <p:sp>
        <p:nvSpPr>
          <p:cNvPr id="698"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00000" y="739800"/>
            <a:ext cx="4935600" cy="3701880"/>
          </a:xfrm>
          <a:prstGeom prst="rect">
            <a:avLst/>
          </a:prstGeom>
          <a:ln w="0">
            <a:noFill/>
          </a:ln>
        </p:spPr>
      </p:sp>
      <p:sp>
        <p:nvSpPr>
          <p:cNvPr id="700"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Slide Number Placeholder 3"/>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41E0-76B2-4B19-9FDE-7C324012A006}"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14920" y="9374040"/>
            <a:ext cx="291924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6F3E-A298-486F-9EF0-40777E0B5159}" type="slidenum">
              <a:rPr b="0" lang="en-US"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703" name="PlaceHolder 1"/>
          <p:cNvSpPr>
            <a:spLocks noGrp="1"/>
          </p:cNvSpPr>
          <p:nvPr>
            <p:ph type="sldImg"/>
          </p:nvPr>
        </p:nvSpPr>
        <p:spPr>
          <a:xfrm>
            <a:off x="900000" y="739800"/>
            <a:ext cx="4935600" cy="3701880"/>
          </a:xfrm>
          <a:prstGeom prst="rect">
            <a:avLst/>
          </a:prstGeom>
          <a:ln w="0">
            <a:noFill/>
          </a:ln>
        </p:spPr>
      </p:sp>
      <p:sp>
        <p:nvSpPr>
          <p:cNvPr id="704"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1FE45-24D2-4682-9101-DC5FBC71E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ABD48-AACA-4587-925D-768369ADC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B2989-6DCE-4DD0-9449-C02B2984E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B7739-9B8E-4AB5-A8C9-245D81673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3D716-B642-45FE-A859-0DCB6C339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EB79F-C3AC-4BA0-9063-67855CA79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B622D-C3E5-4496-8523-73A6FE329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EBE0A-98BC-46F2-AB10-2B966211D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3B9A5-CDAA-4B18-802F-67571DFB0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9B6F6-82A3-4FF8-8582-5C10C3321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9D416-4263-4313-BE68-C19175051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9CD4-E00E-46A1-824F-AAE6AA0BF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ECF59-CB24-461F-850B-18CD12844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B4418-E744-4E5A-B511-551AE1584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A1DED-0110-4447-96BF-FB65CD822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CBD2B-B3A6-418B-A1A0-B6E1664AC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D1A6B2-336E-440E-864B-0F4F6A834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914B37-941C-4DAE-A4C9-4E34808CD8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407AD-8383-48A0-8643-F67880670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DDA8EB-3FC2-4D8C-B747-E5C05E587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C849B-F0F6-46EF-AAB4-05788A4D2C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95606C-483A-4C74-8B95-AB0E40024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E230B-75E5-4C88-8D5C-E9EBC8EEE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24F6A-9A89-44EB-B89F-2C6D33B8A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7D309-5E5F-4F36-8C28-442A166B4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E3DA8-82BC-4343-BF18-9ED090BAC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AA732-640A-4655-914C-BA138E9B1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6C5D8-6FAD-4635-9806-8DCC43F2B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6738D4-8115-4968-8C86-3ED93A4B21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2EB9C3-6C5F-44D3-87C6-78A710ADA6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ECFC9-B4DC-4EC1-8ECB-A41BC9460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A8CDA-BF2C-49D1-A8F3-C427D0ED7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8530D-DBE8-48AA-AC4E-0ED2B8D55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65F43-10BB-4204-A550-791A7B753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2F69-C34A-495F-9619-35A4EF305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776F-62E6-4578-AF4C-82A61FE76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8689-19D4-4C7A-A89C-CF0008DC1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7CEF-8BFF-4A65-896E-D6ADC3605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91"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2"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3"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6"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7"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8"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8A10-A747-46B8-8087-B2AC65AE0C22}"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25.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png"/><Relationship Id="rId8" Type="http://schemas.openxmlformats.org/officeDocument/2006/relationships/image" Target="../media/image29.jpe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image" Target="../media/image35.png"/><Relationship Id="rId15" Type="http://schemas.openxmlformats.org/officeDocument/2006/relationships/image" Target="../media/image36.jpeg"/><Relationship Id="rId16" Type="http://schemas.openxmlformats.org/officeDocument/2006/relationships/image" Target="../media/image37.png"/><Relationship Id="rId17" Type="http://schemas.openxmlformats.org/officeDocument/2006/relationships/image" Target="../media/image38.png"/><Relationship Id="rId18" Type="http://schemas.openxmlformats.org/officeDocument/2006/relationships/image" Target="../media/image39.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slideLayout" Target="../slideLayouts/slideLayout1.xml"/><Relationship Id="rId2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ital Library Architecture and Technology </a:t>
            </a:r>
            <a:endParaRPr b="0" lang="en-US" sz="5400" spc="-1" strike="noStrike">
              <a:solidFill>
                <a:srgbClr val="000000"/>
              </a:solidFill>
              <a:latin typeface="Arial"/>
            </a:endParaRPr>
          </a:p>
        </p:txBody>
      </p:sp>
      <p:sp>
        <p:nvSpPr>
          <p:cNvPr id="143"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0074-DF48-4073-8D39-DEFBCED9355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ndle system</a:t>
            </a: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andles are general purpose identifiers that can be used to identify digital objects, over long periods of time and to manage materials stored in any repository or database.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I: Digital Object Identifiers</a:t>
            </a:r>
            <a:endParaRPr b="0" lang="en-US" sz="2600" spc="-1" strike="noStrike">
              <a:solidFill>
                <a:srgbClr val="000000"/>
              </a:solidFill>
              <a:latin typeface="Arial"/>
            </a:endParaRPr>
          </a:p>
          <a:p>
            <a:pPr marL="343080" indent="-3430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a:t>
            </a:r>
            <a:r>
              <a:rPr b="1" lang="en-US" sz="2200" spc="-1" strike="noStrike">
                <a:solidFill>
                  <a:srgbClr val="000000"/>
                </a:solidFill>
                <a:latin typeface="Arial"/>
              </a:rPr>
              <a:t>10.1234/NP5678</a:t>
            </a:r>
            <a:br>
              <a:rPr sz="2200"/>
            </a:br>
            <a:r>
              <a:rPr b="0" lang="en-US" sz="2200" spc="-1" strike="noStrike">
                <a:solidFill>
                  <a:srgbClr val="000000"/>
                </a:solidFill>
                <a:latin typeface="Arial"/>
              </a:rPr>
              <a:t>                   </a:t>
            </a:r>
            <a:r>
              <a:rPr b="1" lang="en-US" sz="2200" spc="-1" strike="noStrike">
                <a:solidFill>
                  <a:srgbClr val="000000"/>
                </a:solidFill>
                <a:latin typeface="Arial"/>
              </a:rPr>
              <a:t>10.5678/ISBN-0-7645-4889-4</a:t>
            </a:r>
            <a:r>
              <a:rPr b="0" i="1"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istent Uniform Resource Locator (PURL) developed by OCLC – names the location of an obj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tinues..</a:t>
            </a:r>
            <a:endParaRPr b="0" lang="en-US" sz="4200" spc="-1" strike="noStrike">
              <a:solidFill>
                <a:srgbClr val="000000"/>
              </a:solidFill>
              <a:latin typeface="Arial"/>
            </a:endParaRPr>
          </a:p>
        </p:txBody>
      </p:sp>
      <p:sp>
        <p:nvSpPr>
          <p:cNvPr id="197"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andle System,</a:t>
            </a:r>
            <a:r>
              <a:rPr b="1" lang="en-US" sz="3000" spc="-1" strike="noStrike">
                <a:solidFill>
                  <a:srgbClr val="000000"/>
                </a:solidFill>
                <a:latin typeface="Arial"/>
              </a:rPr>
              <a:t> </a:t>
            </a:r>
            <a:r>
              <a:rPr b="0" lang="en-US" sz="3000" spc="-1" strike="noStrike">
                <a:solidFill>
                  <a:srgbClr val="000000"/>
                </a:solidFill>
                <a:latin typeface="Arial"/>
              </a:rPr>
              <a:t>developed by the Corporation for National Research Initiatives(CNRI</a:t>
            </a:r>
            <a:r>
              <a:rPr b="1" lang="en-US" sz="3000" spc="-1" strike="noStrike">
                <a:solidFill>
                  <a:srgbClr val="000000"/>
                </a:solidFill>
                <a:latin typeface="Arial"/>
              </a:rPr>
              <a:t>)</a:t>
            </a:r>
            <a:r>
              <a:rPr b="0" lang="en-US" sz="3000" spc="-1" strike="noStrike">
                <a:solidFill>
                  <a:srgbClr val="000000"/>
                </a:solidFill>
                <a:latin typeface="Arial"/>
              </a:rPr>
              <a:t> is “a comprehensive system for assigning, managing, and resolving persistent identifiers, known as “</a:t>
            </a:r>
            <a:r>
              <a:rPr b="0" i="1" lang="en-US" sz="3000" spc="-1" strike="noStrike">
                <a:solidFill>
                  <a:srgbClr val="000000"/>
                </a:solidFill>
                <a:latin typeface="Arial"/>
              </a:rPr>
              <a:t>handles,</a:t>
            </a:r>
            <a:r>
              <a:rPr b="0" lang="en-US" sz="3000" spc="-1" strike="noStrike">
                <a:solidFill>
                  <a:srgbClr val="000000"/>
                </a:solidFill>
                <a:latin typeface="Arial"/>
              </a:rPr>
              <a:t>” for digital objects and other resources on the Internet” </a:t>
            </a:r>
            <a:endParaRPr b="0" lang="en-US" sz="3000" spc="-1" strike="noStrike">
              <a:solidFill>
                <a:srgbClr val="000000"/>
              </a:solidFill>
              <a:latin typeface="Arial"/>
            </a:endParaRPr>
          </a:p>
        </p:txBody>
      </p:sp>
      <p:sp>
        <p:nvSpPr>
          <p:cNvPr id="198" name="Slide Number Placeholder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EA8E-592D-4CDA-A65C-1B7F959B5BC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4D41-5C64-44E9-BBDE-1CAB125CBDC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200" name="Picture 2" descr=""/>
          <p:cNvPicPr/>
          <p:nvPr/>
        </p:nvPicPr>
        <p:blipFill>
          <a:blip r:embed="rId1"/>
          <a:stretch/>
        </p:blipFill>
        <p:spPr>
          <a:xfrm>
            <a:off x="0" y="0"/>
            <a:ext cx="9393120" cy="6858000"/>
          </a:xfrm>
          <a:prstGeom prst="rect">
            <a:avLst/>
          </a:prstGeom>
          <a:ln w="0">
            <a:noFill/>
          </a:ln>
        </p:spPr>
      </p:pic>
      <p:sp>
        <p:nvSpPr>
          <p:cNvPr id="201" name="Oval 4"/>
          <p:cNvSpPr/>
          <p:nvPr/>
        </p:nvSpPr>
        <p:spPr>
          <a:xfrm>
            <a:off x="1928880" y="4857840"/>
            <a:ext cx="2857320" cy="285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1"/>
                                        </p:tgtEl>
                                        <p:attrNameLst>
                                          <p:attrName>style.visibility</p:attrName>
                                        </p:attrNameLst>
                                      </p:cBhvr>
                                      <p:to>
                                        <p:strVal val="visible"/>
                                      </p:to>
                                    </p:set>
                                    <p:animEffect filter="blinds(horizontal)" transition="in">
                                      <p:cBhvr additive="repl">
                                        <p:cTn id="1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1927-D61A-4CC3-A510-E2F90D44B5E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2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arch system</a:t>
            </a:r>
            <a:endParaRPr b="0" lang="en-US" sz="4200" spc="-1" strike="noStrike">
              <a:solidFill>
                <a:srgbClr val="000000"/>
              </a:solidFill>
              <a:latin typeface="Arial"/>
            </a:endParaRPr>
          </a:p>
        </p:txBody>
      </p:sp>
      <p:sp>
        <p:nvSpPr>
          <p:cNvPr id="204" name="PlaceHolder 2"/>
          <p:cNvSpPr>
            <a:spLocks noGrp="1"/>
          </p:cNvSpPr>
          <p:nvPr>
            <p:ph/>
          </p:nvPr>
        </p:nvSpPr>
        <p:spPr>
          <a:xfrm>
            <a:off x="1523880" y="1905120"/>
            <a:ext cx="7010640" cy="4114800"/>
          </a:xfrm>
          <a:prstGeom prst="rect">
            <a:avLst/>
          </a:prstGeom>
          <a:noFill/>
          <a:ln w="0">
            <a:noFill/>
          </a:ln>
        </p:spPr>
        <p:txBody>
          <a:bodyPr anchor="t">
            <a:normAutofit fontScale="97000"/>
          </a:bodyPr>
          <a:p>
            <a:pPr marL="332640" indent="-33264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will be many indexes and catalogs in a digital library that can be searched to discover information before retrieving it from a repository. </a:t>
            </a:r>
            <a:endParaRPr b="0" lang="en-US" sz="2600" spc="-1" strike="noStrike">
              <a:solidFill>
                <a:srgbClr val="000000"/>
              </a:solidFill>
              <a:latin typeface="Arial"/>
            </a:endParaRPr>
          </a:p>
          <a:p>
            <a:pPr marL="332640" indent="-33264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indexes may be independently managed and support a wide range of protocols. </a:t>
            </a:r>
            <a:endParaRPr b="0" lang="en-US" sz="2600" spc="-1" strike="noStrike">
              <a:solidFill>
                <a:srgbClr val="000000"/>
              </a:solidFill>
              <a:latin typeface="Arial"/>
            </a:endParaRPr>
          </a:p>
          <a:p>
            <a:pPr marL="332640" indent="-33264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s, information retrieval systems, and content management systems are exampl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4ED9-FF63-4667-8576-F41BA4C4597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2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RADDL architecture</a:t>
            </a: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nell Reference Architecture for Distributed Digital Libraries (CRADDL - pronounced "cradle"), a set of components that form the core of a digital library infrastructur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FE55-6820-497F-B04E-239D664D069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2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RADDL architecture</a:t>
            </a:r>
            <a:endParaRPr b="0" lang="en-US" sz="4200" spc="-1" strike="noStrike">
              <a:solidFill>
                <a:srgbClr val="000000"/>
              </a:solidFill>
              <a:latin typeface="Arial"/>
            </a:endParaRPr>
          </a:p>
        </p:txBody>
      </p:sp>
      <p:sp>
        <p:nvSpPr>
          <p:cNvPr id="210" name="PlaceHolder 2"/>
          <p:cNvSpPr>
            <a:spLocks noGrp="1"/>
          </p:cNvSpPr>
          <p:nvPr>
            <p:ph/>
          </p:nvPr>
        </p:nvSpPr>
        <p:spPr>
          <a:xfrm>
            <a:off x="1331640" y="1712880"/>
            <a:ext cx="7010280" cy="4114800"/>
          </a:xfrm>
          <a:prstGeom prst="rect">
            <a:avLst/>
          </a:prstGeom>
          <a:noFill/>
          <a:ln w="0">
            <a:noFill/>
          </a:ln>
        </p:spPr>
        <p:txBody>
          <a:bodyPr anchor="t">
            <a:normAutofit fontScale="91000"/>
          </a:bodyPr>
          <a:p>
            <a:pPr marL="312120" indent="-31212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in the architecture is stored in the form of </a:t>
            </a:r>
            <a:r>
              <a:rPr b="0" i="1" lang="en-US" sz="2400" spc="-1" strike="noStrike">
                <a:solidFill>
                  <a:srgbClr val="000000"/>
                </a:solidFill>
                <a:latin typeface="Arial"/>
              </a:rPr>
              <a:t>digital objects</a:t>
            </a: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repository service</a:t>
            </a:r>
            <a:r>
              <a:rPr b="0" lang="en-US" sz="2400" spc="-1" strike="noStrike">
                <a:solidFill>
                  <a:srgbClr val="000000"/>
                </a:solidFill>
                <a:latin typeface="Arial"/>
              </a:rPr>
              <a:t> provides the mechanisms for the deposit, storage, and access to digital objects </a:t>
            </a:r>
            <a:endParaRPr b="0" lang="en-US" sz="2400" spc="-1" strike="noStrike">
              <a:solidFill>
                <a:srgbClr val="000000"/>
              </a:solidFill>
              <a:latin typeface="Arial"/>
            </a:endParaRPr>
          </a:p>
          <a:p>
            <a:pPr marL="312120" indent="-31212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Objects are identified by unique </a:t>
            </a:r>
            <a:r>
              <a:rPr b="1" lang="en-US" sz="2400" spc="-1" strike="noStrike">
                <a:solidFill>
                  <a:srgbClr val="000000"/>
                </a:solidFill>
                <a:latin typeface="Arial"/>
              </a:rPr>
              <a:t>URNs</a:t>
            </a: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index service</a:t>
            </a:r>
            <a:r>
              <a:rPr b="0" i="1" lang="en-US" sz="2400" spc="-1" strike="noStrike">
                <a:solidFill>
                  <a:srgbClr val="000000"/>
                </a:solidFill>
                <a:latin typeface="Arial"/>
              </a:rPr>
              <a:t> </a:t>
            </a:r>
            <a:r>
              <a:rPr b="0" lang="en-US" sz="2400" spc="-1" strike="noStrike">
                <a:solidFill>
                  <a:srgbClr val="000000"/>
                </a:solidFill>
                <a:latin typeface="Arial"/>
              </a:rPr>
              <a:t>provides the mechanism for discovery of digital objects via query </a:t>
            </a:r>
            <a:endParaRPr b="0" lang="en-US" sz="2400" spc="-1" strike="noStrike">
              <a:solidFill>
                <a:srgbClr val="000000"/>
              </a:solidFill>
              <a:latin typeface="Arial"/>
            </a:endParaRPr>
          </a:p>
          <a:p>
            <a:pPr marL="312120" indent="-31212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collection service</a:t>
            </a:r>
            <a:r>
              <a:rPr b="0" i="1" lang="en-US" sz="2400" spc="-1" strike="noStrike">
                <a:solidFill>
                  <a:srgbClr val="000000"/>
                </a:solidFill>
                <a:latin typeface="Arial"/>
              </a:rPr>
              <a:t> </a:t>
            </a:r>
            <a:r>
              <a:rPr b="0" lang="en-US" sz="2400" spc="-1" strike="noStrike">
                <a:solidFill>
                  <a:srgbClr val="000000"/>
                </a:solidFill>
                <a:latin typeface="Arial"/>
              </a:rPr>
              <a:t>provides the mechanisms for the aggregation of access to sets of digital objects </a:t>
            </a:r>
            <a:endParaRPr b="0" lang="en-US" sz="2400" spc="-1" strike="noStrike">
              <a:solidFill>
                <a:srgbClr val="000000"/>
              </a:solidFill>
              <a:latin typeface="Arial"/>
            </a:endParaRPr>
          </a:p>
          <a:p>
            <a:pPr marL="312120" indent="-31212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terface services or </a:t>
            </a:r>
            <a:r>
              <a:rPr b="1" lang="en-US" sz="2400" spc="-1" strike="noStrike">
                <a:solidFill>
                  <a:srgbClr val="000000"/>
                </a:solidFill>
                <a:latin typeface="Arial"/>
              </a:rPr>
              <a:t>gateways</a:t>
            </a:r>
            <a:r>
              <a:rPr b="0" i="1" lang="en-US" sz="2400" spc="-1" strike="noStrike">
                <a:solidFill>
                  <a:srgbClr val="000000"/>
                </a:solidFill>
                <a:latin typeface="Arial"/>
              </a:rPr>
              <a:t> </a:t>
            </a:r>
            <a:r>
              <a:rPr b="0" lang="en-US" sz="2400" spc="-1" strike="noStrike">
                <a:solidFill>
                  <a:srgbClr val="000000"/>
                </a:solidFill>
                <a:latin typeface="Arial"/>
              </a:rPr>
              <a:t>provide human-centered entry points to the functionality of the digital libr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19379-13EF-4ACB-BF60-AFAC7669600A}"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212" name="Picture 2" descr="Image2"/>
          <p:cNvPicPr/>
          <p:nvPr/>
        </p:nvPicPr>
        <p:blipFill>
          <a:blip r:embed="rId1"/>
          <a:stretch/>
        </p:blipFill>
        <p:spPr>
          <a:xfrm>
            <a:off x="539640" y="549360"/>
            <a:ext cx="8064720" cy="5329080"/>
          </a:xfrm>
          <a:prstGeom prst="rect">
            <a:avLst/>
          </a:prstGeom>
          <a:ln w="0">
            <a:noFill/>
          </a:ln>
        </p:spPr>
      </p:pic>
      <p:sp>
        <p:nvSpPr>
          <p:cNvPr id="213" name="Text Box 3"/>
          <p:cNvSpPr/>
          <p:nvPr/>
        </p:nvSpPr>
        <p:spPr>
          <a:xfrm>
            <a:off x="3421800" y="616572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CRADDL services </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06BD-AF04-4D5B-9408-36A89F736B0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grpSp>
        <p:nvGrpSpPr>
          <p:cNvPr id="215" name="Group 2"/>
          <p:cNvGrpSpPr/>
          <p:nvPr/>
        </p:nvGrpSpPr>
        <p:grpSpPr>
          <a:xfrm>
            <a:off x="1268280" y="4952880"/>
            <a:ext cx="6705720" cy="1846800"/>
            <a:chOff x="1268280" y="4952880"/>
            <a:chExt cx="6705720" cy="1846800"/>
          </a:xfrm>
        </p:grpSpPr>
        <p:sp>
          <p:nvSpPr>
            <p:cNvPr id="216" name="Rectangle 3"/>
            <p:cNvSpPr/>
            <p:nvPr/>
          </p:nvSpPr>
          <p:spPr>
            <a:xfrm>
              <a:off x="1268280" y="4952880"/>
              <a:ext cx="1828800" cy="1371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Rectangle 4"/>
            <p:cNvSpPr/>
            <p:nvPr/>
          </p:nvSpPr>
          <p:spPr>
            <a:xfrm>
              <a:off x="3630600" y="4952880"/>
              <a:ext cx="1828800" cy="13716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8" name="Rectangle 5"/>
            <p:cNvSpPr/>
            <p:nvPr/>
          </p:nvSpPr>
          <p:spPr>
            <a:xfrm>
              <a:off x="6221520" y="4952880"/>
              <a:ext cx="1752480" cy="129564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9" name="Text Box 6"/>
            <p:cNvSpPr/>
            <p:nvPr/>
          </p:nvSpPr>
          <p:spPr>
            <a:xfrm>
              <a:off x="3425760" y="6400800"/>
              <a:ext cx="222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pository Services</a:t>
              </a:r>
              <a:endParaRPr b="0" lang="en-US" sz="2000" spc="-1" strike="noStrike">
                <a:solidFill>
                  <a:srgbClr val="336666"/>
                </a:solidFill>
                <a:latin typeface="Arial"/>
              </a:endParaRPr>
            </a:p>
          </p:txBody>
        </p:sp>
      </p:grpSp>
      <p:sp>
        <p:nvSpPr>
          <p:cNvPr id="220" name="PlaceHolder 1"/>
          <p:cNvSpPr>
            <a:spLocks noGrp="1"/>
          </p:cNvSpPr>
          <p:nvPr>
            <p:ph type="title"/>
          </p:nvPr>
        </p:nvSpPr>
        <p:spPr>
          <a:xfrm>
            <a:off x="71424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Components of a Digital Library</a:t>
            </a:r>
            <a:endParaRPr b="0" lang="en-US" sz="3800" spc="-1" strike="noStrike">
              <a:solidFill>
                <a:srgbClr val="000000"/>
              </a:solidFill>
              <a:latin typeface="Arial"/>
            </a:endParaRPr>
          </a:p>
        </p:txBody>
      </p:sp>
      <p:grpSp>
        <p:nvGrpSpPr>
          <p:cNvPr id="221" name="Group 8"/>
          <p:cNvGrpSpPr/>
          <p:nvPr/>
        </p:nvGrpSpPr>
        <p:grpSpPr>
          <a:xfrm>
            <a:off x="1368360" y="5089680"/>
            <a:ext cx="1536840" cy="1098360"/>
            <a:chOff x="1368360" y="5089680"/>
            <a:chExt cx="1536840" cy="1098360"/>
          </a:xfrm>
        </p:grpSpPr>
        <p:grpSp>
          <p:nvGrpSpPr>
            <p:cNvPr id="222" name="Group 9"/>
            <p:cNvGrpSpPr/>
            <p:nvPr/>
          </p:nvGrpSpPr>
          <p:grpSpPr>
            <a:xfrm>
              <a:off x="1368360" y="5295960"/>
              <a:ext cx="731880" cy="549360"/>
              <a:chOff x="1368360" y="5295960"/>
              <a:chExt cx="731880" cy="549360"/>
            </a:xfrm>
          </p:grpSpPr>
          <p:sp>
            <p:nvSpPr>
              <p:cNvPr id="223" name="Freeform 10"/>
              <p:cNvSpPr/>
              <p:nvPr/>
            </p:nvSpPr>
            <p:spPr>
              <a:xfrm>
                <a:off x="1368360" y="5295960"/>
                <a:ext cx="731880" cy="549360"/>
              </a:xfrm>
              <a:custGeom>
                <a:avLst/>
                <a:gdLst>
                  <a:gd name="textAreaLeft" fmla="*/ 0 w 731880"/>
                  <a:gd name="textAreaRight" fmla="*/ 732240 w 731880"/>
                  <a:gd name="textAreaTop" fmla="*/ 0 h 549360"/>
                  <a:gd name="textAreaBottom" fmla="*/ 549720 h 549360"/>
                </a:gdLst>
                <a:ahLst/>
                <a:rect l="textAreaLeft" t="textAreaTop" r="textAreaRight" b="textAreaBottom"/>
                <a:pathLst>
                  <a:path w="3006" h="2390">
                    <a:moveTo>
                      <a:pt x="516" y="468"/>
                    </a:moveTo>
                    <a:lnTo>
                      <a:pt x="264" y="419"/>
                    </a:lnTo>
                    <a:lnTo>
                      <a:pt x="262" y="425"/>
                    </a:lnTo>
                    <a:lnTo>
                      <a:pt x="255" y="441"/>
                    </a:lnTo>
                    <a:lnTo>
                      <a:pt x="243" y="466"/>
                    </a:lnTo>
                    <a:lnTo>
                      <a:pt x="229" y="501"/>
                    </a:lnTo>
                    <a:lnTo>
                      <a:pt x="212" y="542"/>
                    </a:lnTo>
                    <a:lnTo>
                      <a:pt x="192" y="591"/>
                    </a:lnTo>
                    <a:lnTo>
                      <a:pt x="172" y="644"/>
                    </a:lnTo>
                    <a:lnTo>
                      <a:pt x="150" y="701"/>
                    </a:lnTo>
                    <a:lnTo>
                      <a:pt x="128" y="761"/>
                    </a:lnTo>
                    <a:lnTo>
                      <a:pt x="106" y="823"/>
                    </a:lnTo>
                    <a:lnTo>
                      <a:pt x="86" y="888"/>
                    </a:lnTo>
                    <a:lnTo>
                      <a:pt x="67" y="951"/>
                    </a:lnTo>
                    <a:lnTo>
                      <a:pt x="51" y="1012"/>
                    </a:lnTo>
                    <a:lnTo>
                      <a:pt x="37" y="1073"/>
                    </a:lnTo>
                    <a:lnTo>
                      <a:pt x="26" y="1130"/>
                    </a:lnTo>
                    <a:lnTo>
                      <a:pt x="20" y="1182"/>
                    </a:lnTo>
                    <a:lnTo>
                      <a:pt x="8" y="1446"/>
                    </a:lnTo>
                    <a:lnTo>
                      <a:pt x="2" y="1790"/>
                    </a:lnTo>
                    <a:lnTo>
                      <a:pt x="0" y="2088"/>
                    </a:lnTo>
                    <a:lnTo>
                      <a:pt x="0" y="2216"/>
                    </a:lnTo>
                    <a:lnTo>
                      <a:pt x="157" y="2001"/>
                    </a:lnTo>
                    <a:lnTo>
                      <a:pt x="48" y="2240"/>
                    </a:lnTo>
                    <a:lnTo>
                      <a:pt x="97" y="2251"/>
                    </a:lnTo>
                    <a:lnTo>
                      <a:pt x="60" y="2364"/>
                    </a:lnTo>
                    <a:lnTo>
                      <a:pt x="65" y="2363"/>
                    </a:lnTo>
                    <a:lnTo>
                      <a:pt x="79" y="2361"/>
                    </a:lnTo>
                    <a:lnTo>
                      <a:pt x="103" y="2357"/>
                    </a:lnTo>
                    <a:lnTo>
                      <a:pt x="134" y="2352"/>
                    </a:lnTo>
                    <a:lnTo>
                      <a:pt x="171" y="2346"/>
                    </a:lnTo>
                    <a:lnTo>
                      <a:pt x="213" y="2339"/>
                    </a:lnTo>
                    <a:lnTo>
                      <a:pt x="259" y="2332"/>
                    </a:lnTo>
                    <a:lnTo>
                      <a:pt x="309" y="2325"/>
                    </a:lnTo>
                    <a:lnTo>
                      <a:pt x="361" y="2318"/>
                    </a:lnTo>
                    <a:lnTo>
                      <a:pt x="412" y="2311"/>
                    </a:lnTo>
                    <a:lnTo>
                      <a:pt x="464" y="2304"/>
                    </a:lnTo>
                    <a:lnTo>
                      <a:pt x="515" y="2299"/>
                    </a:lnTo>
                    <a:lnTo>
                      <a:pt x="563" y="2294"/>
                    </a:lnTo>
                    <a:lnTo>
                      <a:pt x="609" y="2290"/>
                    </a:lnTo>
                    <a:lnTo>
                      <a:pt x="650" y="2288"/>
                    </a:lnTo>
                    <a:lnTo>
                      <a:pt x="684" y="2288"/>
                    </a:lnTo>
                    <a:lnTo>
                      <a:pt x="724" y="2288"/>
                    </a:lnTo>
                    <a:lnTo>
                      <a:pt x="762" y="2288"/>
                    </a:lnTo>
                    <a:lnTo>
                      <a:pt x="801" y="2287"/>
                    </a:lnTo>
                    <a:lnTo>
                      <a:pt x="839" y="2286"/>
                    </a:lnTo>
                    <a:lnTo>
                      <a:pt x="877" y="2285"/>
                    </a:lnTo>
                    <a:lnTo>
                      <a:pt x="913" y="2282"/>
                    </a:lnTo>
                    <a:lnTo>
                      <a:pt x="947" y="2281"/>
                    </a:lnTo>
                    <a:lnTo>
                      <a:pt x="979" y="2279"/>
                    </a:lnTo>
                    <a:lnTo>
                      <a:pt x="1009" y="2277"/>
                    </a:lnTo>
                    <a:lnTo>
                      <a:pt x="1037" y="2276"/>
                    </a:lnTo>
                    <a:lnTo>
                      <a:pt x="1061" y="2273"/>
                    </a:lnTo>
                    <a:lnTo>
                      <a:pt x="1082" y="2272"/>
                    </a:lnTo>
                    <a:lnTo>
                      <a:pt x="1098" y="2271"/>
                    </a:lnTo>
                    <a:lnTo>
                      <a:pt x="1111" y="2270"/>
                    </a:lnTo>
                    <a:lnTo>
                      <a:pt x="1119" y="2269"/>
                    </a:lnTo>
                    <a:lnTo>
                      <a:pt x="1121" y="2269"/>
                    </a:lnTo>
                    <a:lnTo>
                      <a:pt x="1487" y="2390"/>
                    </a:lnTo>
                    <a:lnTo>
                      <a:pt x="2037" y="2251"/>
                    </a:lnTo>
                    <a:lnTo>
                      <a:pt x="2040" y="2250"/>
                    </a:lnTo>
                    <a:lnTo>
                      <a:pt x="2050" y="2248"/>
                    </a:lnTo>
                    <a:lnTo>
                      <a:pt x="2066" y="2244"/>
                    </a:lnTo>
                    <a:lnTo>
                      <a:pt x="2085" y="2240"/>
                    </a:lnTo>
                    <a:lnTo>
                      <a:pt x="2111" y="2234"/>
                    </a:lnTo>
                    <a:lnTo>
                      <a:pt x="2138" y="2228"/>
                    </a:lnTo>
                    <a:lnTo>
                      <a:pt x="2168" y="2221"/>
                    </a:lnTo>
                    <a:lnTo>
                      <a:pt x="2202" y="2214"/>
                    </a:lnTo>
                    <a:lnTo>
                      <a:pt x="2235" y="2208"/>
                    </a:lnTo>
                    <a:lnTo>
                      <a:pt x="2270" y="2201"/>
                    </a:lnTo>
                    <a:lnTo>
                      <a:pt x="2303" y="2195"/>
                    </a:lnTo>
                    <a:lnTo>
                      <a:pt x="2337" y="2189"/>
                    </a:lnTo>
                    <a:lnTo>
                      <a:pt x="2369" y="2185"/>
                    </a:lnTo>
                    <a:lnTo>
                      <a:pt x="2398" y="2181"/>
                    </a:lnTo>
                    <a:lnTo>
                      <a:pt x="2424" y="2179"/>
                    </a:lnTo>
                    <a:lnTo>
                      <a:pt x="2446" y="2178"/>
                    </a:lnTo>
                    <a:lnTo>
                      <a:pt x="2470" y="2178"/>
                    </a:lnTo>
                    <a:lnTo>
                      <a:pt x="2501" y="2180"/>
                    </a:lnTo>
                    <a:lnTo>
                      <a:pt x="2538" y="2181"/>
                    </a:lnTo>
                    <a:lnTo>
                      <a:pt x="2580" y="2185"/>
                    </a:lnTo>
                    <a:lnTo>
                      <a:pt x="2625" y="2188"/>
                    </a:lnTo>
                    <a:lnTo>
                      <a:pt x="2672" y="2191"/>
                    </a:lnTo>
                    <a:lnTo>
                      <a:pt x="2719" y="2195"/>
                    </a:lnTo>
                    <a:lnTo>
                      <a:pt x="2768" y="2198"/>
                    </a:lnTo>
                    <a:lnTo>
                      <a:pt x="2814" y="2203"/>
                    </a:lnTo>
                    <a:lnTo>
                      <a:pt x="2857" y="2206"/>
                    </a:lnTo>
                    <a:lnTo>
                      <a:pt x="2898" y="2210"/>
                    </a:lnTo>
                    <a:lnTo>
                      <a:pt x="2933" y="2213"/>
                    </a:lnTo>
                    <a:lnTo>
                      <a:pt x="2963" y="2217"/>
                    </a:lnTo>
                    <a:lnTo>
                      <a:pt x="2986" y="2218"/>
                    </a:lnTo>
                    <a:lnTo>
                      <a:pt x="3001" y="2220"/>
                    </a:lnTo>
                    <a:lnTo>
                      <a:pt x="3006" y="2220"/>
                    </a:lnTo>
                    <a:lnTo>
                      <a:pt x="3004" y="2218"/>
                    </a:lnTo>
                    <a:lnTo>
                      <a:pt x="2998" y="2210"/>
                    </a:lnTo>
                    <a:lnTo>
                      <a:pt x="2988" y="2197"/>
                    </a:lnTo>
                    <a:lnTo>
                      <a:pt x="2976" y="2179"/>
                    </a:lnTo>
                    <a:lnTo>
                      <a:pt x="2962" y="2153"/>
                    </a:lnTo>
                    <a:lnTo>
                      <a:pt x="2946" y="2121"/>
                    </a:lnTo>
                    <a:lnTo>
                      <a:pt x="2930" y="2082"/>
                    </a:lnTo>
                    <a:lnTo>
                      <a:pt x="2915" y="2035"/>
                    </a:lnTo>
                    <a:lnTo>
                      <a:pt x="2900" y="1980"/>
                    </a:lnTo>
                    <a:lnTo>
                      <a:pt x="2886" y="1916"/>
                    </a:lnTo>
                    <a:lnTo>
                      <a:pt x="2876" y="1844"/>
                    </a:lnTo>
                    <a:lnTo>
                      <a:pt x="2867" y="1761"/>
                    </a:lnTo>
                    <a:lnTo>
                      <a:pt x="2862" y="1670"/>
                    </a:lnTo>
                    <a:lnTo>
                      <a:pt x="2862" y="1567"/>
                    </a:lnTo>
                    <a:lnTo>
                      <a:pt x="2867" y="1454"/>
                    </a:lnTo>
                    <a:lnTo>
                      <a:pt x="2877" y="1330"/>
                    </a:lnTo>
                    <a:lnTo>
                      <a:pt x="2902" y="1096"/>
                    </a:lnTo>
                    <a:lnTo>
                      <a:pt x="2923" y="913"/>
                    </a:lnTo>
                    <a:lnTo>
                      <a:pt x="2941" y="775"/>
                    </a:lnTo>
                    <a:lnTo>
                      <a:pt x="2955" y="674"/>
                    </a:lnTo>
                    <a:lnTo>
                      <a:pt x="2966" y="606"/>
                    </a:lnTo>
                    <a:lnTo>
                      <a:pt x="2973" y="565"/>
                    </a:lnTo>
                    <a:lnTo>
                      <a:pt x="2977" y="545"/>
                    </a:lnTo>
                    <a:lnTo>
                      <a:pt x="2978" y="539"/>
                    </a:lnTo>
                    <a:lnTo>
                      <a:pt x="2839" y="546"/>
                    </a:lnTo>
                    <a:lnTo>
                      <a:pt x="2853" y="456"/>
                    </a:lnTo>
                    <a:lnTo>
                      <a:pt x="2685" y="432"/>
                    </a:lnTo>
                    <a:lnTo>
                      <a:pt x="2690" y="312"/>
                    </a:lnTo>
                    <a:lnTo>
                      <a:pt x="2688" y="312"/>
                    </a:lnTo>
                    <a:lnTo>
                      <a:pt x="2682" y="313"/>
                    </a:lnTo>
                    <a:lnTo>
                      <a:pt x="2673" y="314"/>
                    </a:lnTo>
                    <a:lnTo>
                      <a:pt x="2660" y="316"/>
                    </a:lnTo>
                    <a:lnTo>
                      <a:pt x="2645" y="318"/>
                    </a:lnTo>
                    <a:lnTo>
                      <a:pt x="2627" y="320"/>
                    </a:lnTo>
                    <a:lnTo>
                      <a:pt x="2605" y="322"/>
                    </a:lnTo>
                    <a:lnTo>
                      <a:pt x="2582" y="326"/>
                    </a:lnTo>
                    <a:lnTo>
                      <a:pt x="2556" y="329"/>
                    </a:lnTo>
                    <a:lnTo>
                      <a:pt x="2528" y="333"/>
                    </a:lnTo>
                    <a:lnTo>
                      <a:pt x="2498" y="337"/>
                    </a:lnTo>
                    <a:lnTo>
                      <a:pt x="2467" y="342"/>
                    </a:lnTo>
                    <a:lnTo>
                      <a:pt x="2435" y="347"/>
                    </a:lnTo>
                    <a:lnTo>
                      <a:pt x="2401" y="351"/>
                    </a:lnTo>
                    <a:lnTo>
                      <a:pt x="2365" y="356"/>
                    </a:lnTo>
                    <a:lnTo>
                      <a:pt x="2331" y="362"/>
                    </a:lnTo>
                    <a:lnTo>
                      <a:pt x="2295" y="366"/>
                    </a:lnTo>
                    <a:lnTo>
                      <a:pt x="2258" y="372"/>
                    </a:lnTo>
                    <a:lnTo>
                      <a:pt x="2223" y="378"/>
                    </a:lnTo>
                    <a:lnTo>
                      <a:pt x="2186" y="383"/>
                    </a:lnTo>
                    <a:lnTo>
                      <a:pt x="2150" y="389"/>
                    </a:lnTo>
                    <a:lnTo>
                      <a:pt x="2115" y="396"/>
                    </a:lnTo>
                    <a:lnTo>
                      <a:pt x="2081" y="402"/>
                    </a:lnTo>
                    <a:lnTo>
                      <a:pt x="2047" y="408"/>
                    </a:lnTo>
                    <a:lnTo>
                      <a:pt x="2015" y="413"/>
                    </a:lnTo>
                    <a:lnTo>
                      <a:pt x="1985" y="420"/>
                    </a:lnTo>
                    <a:lnTo>
                      <a:pt x="1956" y="426"/>
                    </a:lnTo>
                    <a:lnTo>
                      <a:pt x="1929" y="432"/>
                    </a:lnTo>
                    <a:lnTo>
                      <a:pt x="1905" y="439"/>
                    </a:lnTo>
                    <a:lnTo>
                      <a:pt x="1881" y="445"/>
                    </a:lnTo>
                    <a:lnTo>
                      <a:pt x="1862" y="450"/>
                    </a:lnTo>
                    <a:lnTo>
                      <a:pt x="1845" y="456"/>
                    </a:lnTo>
                    <a:lnTo>
                      <a:pt x="1814" y="469"/>
                    </a:lnTo>
                    <a:lnTo>
                      <a:pt x="1781" y="483"/>
                    </a:lnTo>
                    <a:lnTo>
                      <a:pt x="1750" y="500"/>
                    </a:lnTo>
                    <a:lnTo>
                      <a:pt x="1720" y="517"/>
                    </a:lnTo>
                    <a:lnTo>
                      <a:pt x="1690" y="535"/>
                    </a:lnTo>
                    <a:lnTo>
                      <a:pt x="1661" y="554"/>
                    </a:lnTo>
                    <a:lnTo>
                      <a:pt x="1634" y="573"/>
                    </a:lnTo>
                    <a:lnTo>
                      <a:pt x="1608" y="592"/>
                    </a:lnTo>
                    <a:lnTo>
                      <a:pt x="1585" y="610"/>
                    </a:lnTo>
                    <a:lnTo>
                      <a:pt x="1563" y="628"/>
                    </a:lnTo>
                    <a:lnTo>
                      <a:pt x="1545" y="644"/>
                    </a:lnTo>
                    <a:lnTo>
                      <a:pt x="1529" y="656"/>
                    </a:lnTo>
                    <a:lnTo>
                      <a:pt x="1515" y="668"/>
                    </a:lnTo>
                    <a:lnTo>
                      <a:pt x="1506" y="677"/>
                    </a:lnTo>
                    <a:lnTo>
                      <a:pt x="1500" y="682"/>
                    </a:lnTo>
                    <a:lnTo>
                      <a:pt x="1498" y="684"/>
                    </a:lnTo>
                    <a:lnTo>
                      <a:pt x="1494" y="693"/>
                    </a:lnTo>
                    <a:lnTo>
                      <a:pt x="1490" y="698"/>
                    </a:lnTo>
                    <a:lnTo>
                      <a:pt x="1484" y="699"/>
                    </a:lnTo>
                    <a:lnTo>
                      <a:pt x="1477" y="698"/>
                    </a:lnTo>
                    <a:lnTo>
                      <a:pt x="1468" y="693"/>
                    </a:lnTo>
                    <a:lnTo>
                      <a:pt x="1457" y="685"/>
                    </a:lnTo>
                    <a:lnTo>
                      <a:pt x="1445" y="676"/>
                    </a:lnTo>
                    <a:lnTo>
                      <a:pt x="1430" y="664"/>
                    </a:lnTo>
                    <a:lnTo>
                      <a:pt x="1413" y="651"/>
                    </a:lnTo>
                    <a:lnTo>
                      <a:pt x="1392" y="636"/>
                    </a:lnTo>
                    <a:lnTo>
                      <a:pt x="1370" y="620"/>
                    </a:lnTo>
                    <a:lnTo>
                      <a:pt x="1345" y="602"/>
                    </a:lnTo>
                    <a:lnTo>
                      <a:pt x="1317" y="584"/>
                    </a:lnTo>
                    <a:lnTo>
                      <a:pt x="1286" y="565"/>
                    </a:lnTo>
                    <a:lnTo>
                      <a:pt x="1251" y="547"/>
                    </a:lnTo>
                    <a:lnTo>
                      <a:pt x="1213" y="529"/>
                    </a:lnTo>
                    <a:lnTo>
                      <a:pt x="1180" y="515"/>
                    </a:lnTo>
                    <a:lnTo>
                      <a:pt x="1150" y="504"/>
                    </a:lnTo>
                    <a:lnTo>
                      <a:pt x="1121" y="495"/>
                    </a:lnTo>
                    <a:lnTo>
                      <a:pt x="1093" y="489"/>
                    </a:lnTo>
                    <a:lnTo>
                      <a:pt x="1068" y="485"/>
                    </a:lnTo>
                    <a:lnTo>
                      <a:pt x="1044" y="483"/>
                    </a:lnTo>
                    <a:lnTo>
                      <a:pt x="1022" y="480"/>
                    </a:lnTo>
                    <a:lnTo>
                      <a:pt x="1001" y="478"/>
                    </a:lnTo>
                    <a:lnTo>
                      <a:pt x="980" y="476"/>
                    </a:lnTo>
                    <a:lnTo>
                      <a:pt x="962" y="473"/>
                    </a:lnTo>
                    <a:lnTo>
                      <a:pt x="945" y="470"/>
                    </a:lnTo>
                    <a:lnTo>
                      <a:pt x="927" y="465"/>
                    </a:lnTo>
                    <a:lnTo>
                      <a:pt x="911" y="458"/>
                    </a:lnTo>
                    <a:lnTo>
                      <a:pt x="896" y="450"/>
                    </a:lnTo>
                    <a:lnTo>
                      <a:pt x="881" y="439"/>
                    </a:lnTo>
                    <a:lnTo>
                      <a:pt x="868" y="424"/>
                    </a:lnTo>
                    <a:lnTo>
                      <a:pt x="848" y="351"/>
                    </a:lnTo>
                    <a:lnTo>
                      <a:pt x="836" y="278"/>
                    </a:lnTo>
                    <a:lnTo>
                      <a:pt x="833" y="206"/>
                    </a:lnTo>
                    <a:lnTo>
                      <a:pt x="834" y="140"/>
                    </a:lnTo>
                    <a:lnTo>
                      <a:pt x="838" y="84"/>
                    </a:lnTo>
                    <a:lnTo>
                      <a:pt x="842" y="40"/>
                    </a:lnTo>
                    <a:lnTo>
                      <a:pt x="845" y="10"/>
                    </a:lnTo>
                    <a:lnTo>
                      <a:pt x="843" y="0"/>
                    </a:lnTo>
                    <a:lnTo>
                      <a:pt x="5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Freeform 11"/>
              <p:cNvSpPr/>
              <p:nvPr/>
            </p:nvSpPr>
            <p:spPr>
              <a:xfrm>
                <a:off x="1401480" y="5457240"/>
                <a:ext cx="403200" cy="375120"/>
              </a:xfrm>
              <a:custGeom>
                <a:avLst/>
                <a:gdLst>
                  <a:gd name="textAreaLeft" fmla="*/ 0 w 403200"/>
                  <a:gd name="textAreaRight" fmla="*/ 403560 w 403200"/>
                  <a:gd name="textAreaTop" fmla="*/ 0 h 375120"/>
                  <a:gd name="textAreaBottom" fmla="*/ 375480 h 37512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Freeform 12"/>
              <p:cNvSpPr/>
              <p:nvPr/>
            </p:nvSpPr>
            <p:spPr>
              <a:xfrm>
                <a:off x="1401480" y="5457240"/>
                <a:ext cx="403200" cy="375120"/>
              </a:xfrm>
              <a:custGeom>
                <a:avLst/>
                <a:gdLst>
                  <a:gd name="textAreaLeft" fmla="*/ 0 w 403200"/>
                  <a:gd name="textAreaRight" fmla="*/ 403560 w 403200"/>
                  <a:gd name="textAreaTop" fmla="*/ 0 h 375120"/>
                  <a:gd name="textAreaBottom" fmla="*/ 375480 h 37512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6" name="Freeform 13"/>
              <p:cNvSpPr/>
              <p:nvPr/>
            </p:nvSpPr>
            <p:spPr>
              <a:xfrm>
                <a:off x="1391040" y="5434560"/>
                <a:ext cx="403200" cy="375480"/>
              </a:xfrm>
              <a:custGeom>
                <a:avLst/>
                <a:gdLst>
                  <a:gd name="textAreaLeft" fmla="*/ 0 w 403200"/>
                  <a:gd name="textAreaRight" fmla="*/ 403560 w 403200"/>
                  <a:gd name="textAreaTop" fmla="*/ 0 h 375480"/>
                  <a:gd name="textAreaBottom" fmla="*/ 375840 h 37548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Freeform 14"/>
              <p:cNvSpPr/>
              <p:nvPr/>
            </p:nvSpPr>
            <p:spPr>
              <a:xfrm>
                <a:off x="1391040" y="5434560"/>
                <a:ext cx="403200" cy="375480"/>
              </a:xfrm>
              <a:custGeom>
                <a:avLst/>
                <a:gdLst>
                  <a:gd name="textAreaLeft" fmla="*/ 0 w 403200"/>
                  <a:gd name="textAreaRight" fmla="*/ 403560 w 403200"/>
                  <a:gd name="textAreaTop" fmla="*/ 0 h 375480"/>
                  <a:gd name="textAreaBottom" fmla="*/ 375840 h 37548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Freeform 15"/>
              <p:cNvSpPr/>
              <p:nvPr/>
            </p:nvSpPr>
            <p:spPr>
              <a:xfrm>
                <a:off x="1375200" y="5403240"/>
                <a:ext cx="429480" cy="435960"/>
              </a:xfrm>
              <a:custGeom>
                <a:avLst/>
                <a:gdLst>
                  <a:gd name="textAreaLeft" fmla="*/ 0 w 429480"/>
                  <a:gd name="textAreaRight" fmla="*/ 429840 w 429480"/>
                  <a:gd name="textAreaTop" fmla="*/ 0 h 435960"/>
                  <a:gd name="textAreaBottom" fmla="*/ 436320 h 43596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Freeform 16"/>
              <p:cNvSpPr/>
              <p:nvPr/>
            </p:nvSpPr>
            <p:spPr>
              <a:xfrm>
                <a:off x="1375200" y="5403240"/>
                <a:ext cx="429480" cy="435960"/>
              </a:xfrm>
              <a:custGeom>
                <a:avLst/>
                <a:gdLst>
                  <a:gd name="textAreaLeft" fmla="*/ 0 w 429480"/>
                  <a:gd name="textAreaRight" fmla="*/ 429840 w 429480"/>
                  <a:gd name="textAreaTop" fmla="*/ 0 h 435960"/>
                  <a:gd name="textAreaBottom" fmla="*/ 436320 h 43596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Freeform 17"/>
              <p:cNvSpPr/>
              <p:nvPr/>
            </p:nvSpPr>
            <p:spPr>
              <a:xfrm>
                <a:off x="1736280" y="5425560"/>
                <a:ext cx="353520" cy="411480"/>
              </a:xfrm>
              <a:custGeom>
                <a:avLst/>
                <a:gdLst>
                  <a:gd name="textAreaLeft" fmla="*/ 0 w 353520"/>
                  <a:gd name="textAreaRight" fmla="*/ 353880 w 353520"/>
                  <a:gd name="textAreaTop" fmla="*/ 0 h 411480"/>
                  <a:gd name="textAreaBottom" fmla="*/ 411840 h 41148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Freeform 18"/>
              <p:cNvSpPr/>
              <p:nvPr/>
            </p:nvSpPr>
            <p:spPr>
              <a:xfrm>
                <a:off x="1736280" y="5425560"/>
                <a:ext cx="353520" cy="411480"/>
              </a:xfrm>
              <a:custGeom>
                <a:avLst/>
                <a:gdLst>
                  <a:gd name="textAreaLeft" fmla="*/ 0 w 353520"/>
                  <a:gd name="textAreaRight" fmla="*/ 353880 w 353520"/>
                  <a:gd name="textAreaTop" fmla="*/ 0 h 411480"/>
                  <a:gd name="textAreaBottom" fmla="*/ 411840 h 41148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Freeform 19"/>
              <p:cNvSpPr/>
              <p:nvPr/>
            </p:nvSpPr>
            <p:spPr>
              <a:xfrm>
                <a:off x="1725120" y="5402160"/>
                <a:ext cx="327600" cy="437040"/>
              </a:xfrm>
              <a:custGeom>
                <a:avLst/>
                <a:gdLst>
                  <a:gd name="textAreaLeft" fmla="*/ 0 w 327600"/>
                  <a:gd name="textAreaRight" fmla="*/ 327960 w 327600"/>
                  <a:gd name="textAreaTop" fmla="*/ 0 h 437040"/>
                  <a:gd name="textAreaBottom" fmla="*/ 437400 h 43704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Freeform 20"/>
              <p:cNvSpPr/>
              <p:nvPr/>
            </p:nvSpPr>
            <p:spPr>
              <a:xfrm>
                <a:off x="1725120" y="5402160"/>
                <a:ext cx="327600" cy="437040"/>
              </a:xfrm>
              <a:custGeom>
                <a:avLst/>
                <a:gdLst>
                  <a:gd name="textAreaLeft" fmla="*/ 0 w 327600"/>
                  <a:gd name="textAreaRight" fmla="*/ 327960 w 327600"/>
                  <a:gd name="textAreaTop" fmla="*/ 0 h 437040"/>
                  <a:gd name="textAreaBottom" fmla="*/ 437400 h 43704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Freeform 21"/>
              <p:cNvSpPr/>
              <p:nvPr/>
            </p:nvSpPr>
            <p:spPr>
              <a:xfrm>
                <a:off x="1465200" y="5399280"/>
                <a:ext cx="140040" cy="398520"/>
              </a:xfrm>
              <a:custGeom>
                <a:avLst/>
                <a:gdLst>
                  <a:gd name="textAreaLeft" fmla="*/ 0 w 140040"/>
                  <a:gd name="textAreaRight" fmla="*/ 140400 w 140040"/>
                  <a:gd name="textAreaTop" fmla="*/ 0 h 398520"/>
                  <a:gd name="textAreaBottom" fmla="*/ 398880 h 398520"/>
                </a:gdLst>
                <a:ahLst/>
                <a:rect l="textAreaLeft" t="textAreaTop" r="textAreaRight" b="textAreaBottom"/>
                <a:pathLst>
                  <a:path w="578" h="1736">
                    <a:moveTo>
                      <a:pt x="111" y="43"/>
                    </a:moveTo>
                    <a:lnTo>
                      <a:pt x="106" y="54"/>
                    </a:lnTo>
                    <a:lnTo>
                      <a:pt x="94" y="85"/>
                    </a:lnTo>
                    <a:lnTo>
                      <a:pt x="77" y="136"/>
                    </a:lnTo>
                    <a:lnTo>
                      <a:pt x="56" y="203"/>
                    </a:lnTo>
                    <a:lnTo>
                      <a:pt x="35" y="285"/>
                    </a:lnTo>
                    <a:lnTo>
                      <a:pt x="18" y="378"/>
                    </a:lnTo>
                    <a:lnTo>
                      <a:pt x="5" y="480"/>
                    </a:lnTo>
                    <a:lnTo>
                      <a:pt x="0" y="592"/>
                    </a:lnTo>
                    <a:lnTo>
                      <a:pt x="3" y="705"/>
                    </a:lnTo>
                    <a:lnTo>
                      <a:pt x="10" y="813"/>
                    </a:lnTo>
                    <a:lnTo>
                      <a:pt x="21" y="916"/>
                    </a:lnTo>
                    <a:lnTo>
                      <a:pt x="37" y="1012"/>
                    </a:lnTo>
                    <a:lnTo>
                      <a:pt x="58" y="1104"/>
                    </a:lnTo>
                    <a:lnTo>
                      <a:pt x="85" y="1191"/>
                    </a:lnTo>
                    <a:lnTo>
                      <a:pt x="116" y="1270"/>
                    </a:lnTo>
                    <a:lnTo>
                      <a:pt x="153" y="1345"/>
                    </a:lnTo>
                    <a:lnTo>
                      <a:pt x="174" y="1381"/>
                    </a:lnTo>
                    <a:lnTo>
                      <a:pt x="202" y="1418"/>
                    </a:lnTo>
                    <a:lnTo>
                      <a:pt x="232" y="1452"/>
                    </a:lnTo>
                    <a:lnTo>
                      <a:pt x="264" y="1487"/>
                    </a:lnTo>
                    <a:lnTo>
                      <a:pt x="299" y="1521"/>
                    </a:lnTo>
                    <a:lnTo>
                      <a:pt x="335" y="1554"/>
                    </a:lnTo>
                    <a:lnTo>
                      <a:pt x="370" y="1584"/>
                    </a:lnTo>
                    <a:lnTo>
                      <a:pt x="405" y="1612"/>
                    </a:lnTo>
                    <a:lnTo>
                      <a:pt x="439" y="1639"/>
                    </a:lnTo>
                    <a:lnTo>
                      <a:pt x="472" y="1663"/>
                    </a:lnTo>
                    <a:lnTo>
                      <a:pt x="501" y="1684"/>
                    </a:lnTo>
                    <a:lnTo>
                      <a:pt x="526" y="1702"/>
                    </a:lnTo>
                    <a:lnTo>
                      <a:pt x="548" y="1716"/>
                    </a:lnTo>
                    <a:lnTo>
                      <a:pt x="564" y="1726"/>
                    </a:lnTo>
                    <a:lnTo>
                      <a:pt x="574" y="1733"/>
                    </a:lnTo>
                    <a:lnTo>
                      <a:pt x="578" y="1736"/>
                    </a:lnTo>
                    <a:lnTo>
                      <a:pt x="492" y="1632"/>
                    </a:lnTo>
                    <a:lnTo>
                      <a:pt x="489" y="1630"/>
                    </a:lnTo>
                    <a:lnTo>
                      <a:pt x="477" y="1623"/>
                    </a:lnTo>
                    <a:lnTo>
                      <a:pt x="461" y="1610"/>
                    </a:lnTo>
                    <a:lnTo>
                      <a:pt x="438" y="1594"/>
                    </a:lnTo>
                    <a:lnTo>
                      <a:pt x="413" y="1573"/>
                    </a:lnTo>
                    <a:lnTo>
                      <a:pt x="383" y="1549"/>
                    </a:lnTo>
                    <a:lnTo>
                      <a:pt x="352" y="1520"/>
                    </a:lnTo>
                    <a:lnTo>
                      <a:pt x="318" y="1488"/>
                    </a:lnTo>
                    <a:lnTo>
                      <a:pt x="285" y="1451"/>
                    </a:lnTo>
                    <a:lnTo>
                      <a:pt x="253" y="1412"/>
                    </a:lnTo>
                    <a:lnTo>
                      <a:pt x="222" y="1369"/>
                    </a:lnTo>
                    <a:lnTo>
                      <a:pt x="193" y="1323"/>
                    </a:lnTo>
                    <a:lnTo>
                      <a:pt x="168" y="1275"/>
                    </a:lnTo>
                    <a:lnTo>
                      <a:pt x="147" y="1223"/>
                    </a:lnTo>
                    <a:lnTo>
                      <a:pt x="131" y="1169"/>
                    </a:lnTo>
                    <a:lnTo>
                      <a:pt x="121" y="1113"/>
                    </a:lnTo>
                    <a:lnTo>
                      <a:pt x="108" y="996"/>
                    </a:lnTo>
                    <a:lnTo>
                      <a:pt x="92" y="882"/>
                    </a:lnTo>
                    <a:lnTo>
                      <a:pt x="75" y="771"/>
                    </a:lnTo>
                    <a:lnTo>
                      <a:pt x="62" y="665"/>
                    </a:lnTo>
                    <a:lnTo>
                      <a:pt x="49" y="567"/>
                    </a:lnTo>
                    <a:lnTo>
                      <a:pt x="42" y="480"/>
                    </a:lnTo>
                    <a:lnTo>
                      <a:pt x="41" y="407"/>
                    </a:lnTo>
                    <a:lnTo>
                      <a:pt x="47" y="349"/>
                    </a:lnTo>
                    <a:lnTo>
                      <a:pt x="59" y="305"/>
                    </a:lnTo>
                    <a:lnTo>
                      <a:pt x="79" y="252"/>
                    </a:lnTo>
                    <a:lnTo>
                      <a:pt x="103" y="195"/>
                    </a:lnTo>
                    <a:lnTo>
                      <a:pt x="128" y="137"/>
                    </a:lnTo>
                    <a:lnTo>
                      <a:pt x="154" y="84"/>
                    </a:lnTo>
                    <a:lnTo>
                      <a:pt x="174" y="40"/>
                    </a:lnTo>
                    <a:lnTo>
                      <a:pt x="189" y="10"/>
                    </a:lnTo>
                    <a:lnTo>
                      <a:pt x="195" y="0"/>
                    </a:lnTo>
                    <a:lnTo>
                      <a:pt x="11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Freeform 22"/>
              <p:cNvSpPr/>
              <p:nvPr/>
            </p:nvSpPr>
            <p:spPr>
              <a:xfrm>
                <a:off x="1475640" y="5478120"/>
                <a:ext cx="152280" cy="324000"/>
              </a:xfrm>
              <a:custGeom>
                <a:avLst/>
                <a:gdLst>
                  <a:gd name="textAreaLeft" fmla="*/ 0 w 152280"/>
                  <a:gd name="textAreaRight" fmla="*/ 152640 w 152280"/>
                  <a:gd name="textAreaTop" fmla="*/ 0 h 324000"/>
                  <a:gd name="textAreaBottom" fmla="*/ 324000 h 324000"/>
                </a:gdLst>
                <a:ahLst/>
                <a:rect l="textAreaLeft" t="textAreaTop" r="textAreaRight" b="textAreaBottom"/>
                <a:pathLst>
                  <a:path w="626" h="1411">
                    <a:moveTo>
                      <a:pt x="0" y="0"/>
                    </a:moveTo>
                    <a:lnTo>
                      <a:pt x="0" y="27"/>
                    </a:lnTo>
                    <a:lnTo>
                      <a:pt x="2" y="100"/>
                    </a:lnTo>
                    <a:lnTo>
                      <a:pt x="4" y="209"/>
                    </a:lnTo>
                    <a:lnTo>
                      <a:pt x="12" y="343"/>
                    </a:lnTo>
                    <a:lnTo>
                      <a:pt x="26" y="492"/>
                    </a:lnTo>
                    <a:lnTo>
                      <a:pt x="48" y="645"/>
                    </a:lnTo>
                    <a:lnTo>
                      <a:pt x="80" y="793"/>
                    </a:lnTo>
                    <a:lnTo>
                      <a:pt x="123" y="922"/>
                    </a:lnTo>
                    <a:lnTo>
                      <a:pt x="150" y="978"/>
                    </a:lnTo>
                    <a:lnTo>
                      <a:pt x="182" y="1032"/>
                    </a:lnTo>
                    <a:lnTo>
                      <a:pt x="218" y="1083"/>
                    </a:lnTo>
                    <a:lnTo>
                      <a:pt x="256" y="1130"/>
                    </a:lnTo>
                    <a:lnTo>
                      <a:pt x="298" y="1174"/>
                    </a:lnTo>
                    <a:lnTo>
                      <a:pt x="339" y="1214"/>
                    </a:lnTo>
                    <a:lnTo>
                      <a:pt x="382" y="1250"/>
                    </a:lnTo>
                    <a:lnTo>
                      <a:pt x="423" y="1283"/>
                    </a:lnTo>
                    <a:lnTo>
                      <a:pt x="464" y="1313"/>
                    </a:lnTo>
                    <a:lnTo>
                      <a:pt x="502" y="1338"/>
                    </a:lnTo>
                    <a:lnTo>
                      <a:pt x="536" y="1360"/>
                    </a:lnTo>
                    <a:lnTo>
                      <a:pt x="566" y="1379"/>
                    </a:lnTo>
                    <a:lnTo>
                      <a:pt x="590" y="1393"/>
                    </a:lnTo>
                    <a:lnTo>
                      <a:pt x="610" y="1403"/>
                    </a:lnTo>
                    <a:lnTo>
                      <a:pt x="621" y="1409"/>
                    </a:lnTo>
                    <a:lnTo>
                      <a:pt x="626" y="1411"/>
                    </a:lnTo>
                    <a:lnTo>
                      <a:pt x="600" y="5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Freeform 23"/>
              <p:cNvSpPr/>
              <p:nvPr/>
            </p:nvSpPr>
            <p:spPr>
              <a:xfrm>
                <a:off x="1474920" y="5478120"/>
                <a:ext cx="153360" cy="324000"/>
              </a:xfrm>
              <a:custGeom>
                <a:avLst/>
                <a:gdLst>
                  <a:gd name="textAreaLeft" fmla="*/ 0 w 153360"/>
                  <a:gd name="textAreaRight" fmla="*/ 153720 w 153360"/>
                  <a:gd name="textAreaTop" fmla="*/ 0 h 324000"/>
                  <a:gd name="textAreaBottom" fmla="*/ 324000 h 324000"/>
                </a:gdLst>
                <a:ahLst/>
                <a:rect l="textAreaLeft" t="textAreaTop" r="textAreaRight" b="textAreaBottom"/>
                <a:pathLst>
                  <a:path w="629" h="1411">
                    <a:moveTo>
                      <a:pt x="3" y="0"/>
                    </a:moveTo>
                    <a:lnTo>
                      <a:pt x="2" y="26"/>
                    </a:lnTo>
                    <a:lnTo>
                      <a:pt x="0" y="96"/>
                    </a:lnTo>
                    <a:lnTo>
                      <a:pt x="0" y="202"/>
                    </a:lnTo>
                    <a:lnTo>
                      <a:pt x="3" y="332"/>
                    </a:lnTo>
                    <a:lnTo>
                      <a:pt x="15" y="479"/>
                    </a:lnTo>
                    <a:lnTo>
                      <a:pt x="37" y="632"/>
                    </a:lnTo>
                    <a:lnTo>
                      <a:pt x="70" y="783"/>
                    </a:lnTo>
                    <a:lnTo>
                      <a:pt x="120" y="922"/>
                    </a:lnTo>
                    <a:lnTo>
                      <a:pt x="151" y="983"/>
                    </a:lnTo>
                    <a:lnTo>
                      <a:pt x="185" y="1039"/>
                    </a:lnTo>
                    <a:lnTo>
                      <a:pt x="222" y="1092"/>
                    </a:lnTo>
                    <a:lnTo>
                      <a:pt x="263" y="1140"/>
                    </a:lnTo>
                    <a:lnTo>
                      <a:pt x="305" y="1184"/>
                    </a:lnTo>
                    <a:lnTo>
                      <a:pt x="347" y="1224"/>
                    </a:lnTo>
                    <a:lnTo>
                      <a:pt x="389" y="1260"/>
                    </a:lnTo>
                    <a:lnTo>
                      <a:pt x="431" y="1292"/>
                    </a:lnTo>
                    <a:lnTo>
                      <a:pt x="471" y="1320"/>
                    </a:lnTo>
                    <a:lnTo>
                      <a:pt x="508" y="1345"/>
                    </a:lnTo>
                    <a:lnTo>
                      <a:pt x="541" y="1365"/>
                    </a:lnTo>
                    <a:lnTo>
                      <a:pt x="570" y="1382"/>
                    </a:lnTo>
                    <a:lnTo>
                      <a:pt x="594" y="1395"/>
                    </a:lnTo>
                    <a:lnTo>
                      <a:pt x="613" y="1404"/>
                    </a:lnTo>
                    <a:lnTo>
                      <a:pt x="624" y="1409"/>
                    </a:lnTo>
                    <a:lnTo>
                      <a:pt x="629" y="1411"/>
                    </a:lnTo>
                    <a:lnTo>
                      <a:pt x="603" y="543"/>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Freeform 24"/>
              <p:cNvSpPr/>
              <p:nvPr/>
            </p:nvSpPr>
            <p:spPr>
              <a:xfrm>
                <a:off x="1478880" y="5303160"/>
                <a:ext cx="289080" cy="536040"/>
              </a:xfrm>
              <a:custGeom>
                <a:avLst/>
                <a:gdLst>
                  <a:gd name="textAreaLeft" fmla="*/ 0 w 289080"/>
                  <a:gd name="textAreaRight" fmla="*/ 289440 w 289080"/>
                  <a:gd name="textAreaTop" fmla="*/ 0 h 536040"/>
                  <a:gd name="textAreaBottom" fmla="*/ 536400 h 53604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Freeform 25"/>
              <p:cNvSpPr/>
              <p:nvPr/>
            </p:nvSpPr>
            <p:spPr>
              <a:xfrm>
                <a:off x="1478880" y="5303160"/>
                <a:ext cx="289080" cy="536040"/>
              </a:xfrm>
              <a:custGeom>
                <a:avLst/>
                <a:gdLst>
                  <a:gd name="textAreaLeft" fmla="*/ 0 w 289080"/>
                  <a:gd name="textAreaRight" fmla="*/ 289440 w 289080"/>
                  <a:gd name="textAreaTop" fmla="*/ 0 h 536040"/>
                  <a:gd name="textAreaBottom" fmla="*/ 536400 h 53604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9" name="Freeform 26"/>
              <p:cNvSpPr/>
              <p:nvPr/>
            </p:nvSpPr>
            <p:spPr>
              <a:xfrm>
                <a:off x="1712520" y="5379480"/>
                <a:ext cx="303120" cy="459720"/>
              </a:xfrm>
              <a:custGeom>
                <a:avLst/>
                <a:gdLst>
                  <a:gd name="textAreaLeft" fmla="*/ 0 w 303120"/>
                  <a:gd name="textAreaRight" fmla="*/ 303480 w 303120"/>
                  <a:gd name="textAreaTop" fmla="*/ 0 h 459720"/>
                  <a:gd name="textAreaBottom" fmla="*/ 460080 h 45972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0" name="Freeform 27"/>
              <p:cNvSpPr/>
              <p:nvPr/>
            </p:nvSpPr>
            <p:spPr>
              <a:xfrm>
                <a:off x="1712520" y="5379480"/>
                <a:ext cx="303120" cy="459720"/>
              </a:xfrm>
              <a:custGeom>
                <a:avLst/>
                <a:gdLst>
                  <a:gd name="textAreaLeft" fmla="*/ 0 w 303120"/>
                  <a:gd name="textAreaRight" fmla="*/ 303480 w 303120"/>
                  <a:gd name="textAreaTop" fmla="*/ 0 h 459720"/>
                  <a:gd name="textAreaBottom" fmla="*/ 460080 h 45972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Freeform 28"/>
              <p:cNvSpPr/>
              <p:nvPr/>
            </p:nvSpPr>
            <p:spPr>
              <a:xfrm>
                <a:off x="1405080" y="5719680"/>
                <a:ext cx="123480" cy="38160"/>
              </a:xfrm>
              <a:custGeom>
                <a:avLst/>
                <a:gdLst>
                  <a:gd name="textAreaLeft" fmla="*/ 0 w 123480"/>
                  <a:gd name="textAreaRight" fmla="*/ 123840 w 123480"/>
                  <a:gd name="textAreaTop" fmla="*/ 0 h 38160"/>
                  <a:gd name="textAreaBottom" fmla="*/ 38520 h 38160"/>
                </a:gdLst>
                <a:ahLst/>
                <a:rect l="textAreaLeft" t="textAreaTop" r="textAreaRight" b="textAreaBottom"/>
                <a:pathLst>
                  <a:path w="508" h="167">
                    <a:moveTo>
                      <a:pt x="0" y="167"/>
                    </a:moveTo>
                    <a:lnTo>
                      <a:pt x="1" y="165"/>
                    </a:lnTo>
                    <a:lnTo>
                      <a:pt x="5" y="162"/>
                    </a:lnTo>
                    <a:lnTo>
                      <a:pt x="10" y="156"/>
                    </a:lnTo>
                    <a:lnTo>
                      <a:pt x="17" y="149"/>
                    </a:lnTo>
                    <a:lnTo>
                      <a:pt x="28" y="141"/>
                    </a:lnTo>
                    <a:lnTo>
                      <a:pt x="39" y="132"/>
                    </a:lnTo>
                    <a:lnTo>
                      <a:pt x="52" y="122"/>
                    </a:lnTo>
                    <a:lnTo>
                      <a:pt x="68" y="111"/>
                    </a:lnTo>
                    <a:lnTo>
                      <a:pt x="84" y="102"/>
                    </a:lnTo>
                    <a:lnTo>
                      <a:pt x="103" y="92"/>
                    </a:lnTo>
                    <a:lnTo>
                      <a:pt x="122" y="83"/>
                    </a:lnTo>
                    <a:lnTo>
                      <a:pt x="143" y="75"/>
                    </a:lnTo>
                    <a:lnTo>
                      <a:pt x="165" y="68"/>
                    </a:lnTo>
                    <a:lnTo>
                      <a:pt x="189" y="62"/>
                    </a:lnTo>
                    <a:lnTo>
                      <a:pt x="213" y="58"/>
                    </a:lnTo>
                    <a:lnTo>
                      <a:pt x="239" y="57"/>
                    </a:lnTo>
                    <a:lnTo>
                      <a:pt x="264" y="57"/>
                    </a:lnTo>
                    <a:lnTo>
                      <a:pt x="290" y="57"/>
                    </a:lnTo>
                    <a:lnTo>
                      <a:pt x="315" y="56"/>
                    </a:lnTo>
                    <a:lnTo>
                      <a:pt x="339" y="56"/>
                    </a:lnTo>
                    <a:lnTo>
                      <a:pt x="362" y="55"/>
                    </a:lnTo>
                    <a:lnTo>
                      <a:pt x="385" y="54"/>
                    </a:lnTo>
                    <a:lnTo>
                      <a:pt x="406" y="53"/>
                    </a:lnTo>
                    <a:lnTo>
                      <a:pt x="425" y="51"/>
                    </a:lnTo>
                    <a:lnTo>
                      <a:pt x="444" y="51"/>
                    </a:lnTo>
                    <a:lnTo>
                      <a:pt x="460" y="50"/>
                    </a:lnTo>
                    <a:lnTo>
                      <a:pt x="474" y="49"/>
                    </a:lnTo>
                    <a:lnTo>
                      <a:pt x="485" y="48"/>
                    </a:lnTo>
                    <a:lnTo>
                      <a:pt x="496" y="48"/>
                    </a:lnTo>
                    <a:lnTo>
                      <a:pt x="502" y="47"/>
                    </a:lnTo>
                    <a:lnTo>
                      <a:pt x="507" y="47"/>
                    </a:lnTo>
                    <a:lnTo>
                      <a:pt x="508" y="47"/>
                    </a:lnTo>
                    <a:lnTo>
                      <a:pt x="460" y="5"/>
                    </a:lnTo>
                    <a:lnTo>
                      <a:pt x="459" y="5"/>
                    </a:lnTo>
                    <a:lnTo>
                      <a:pt x="454" y="5"/>
                    </a:lnTo>
                    <a:lnTo>
                      <a:pt x="446" y="4"/>
                    </a:lnTo>
                    <a:lnTo>
                      <a:pt x="437" y="4"/>
                    </a:lnTo>
                    <a:lnTo>
                      <a:pt x="425" y="3"/>
                    </a:lnTo>
                    <a:lnTo>
                      <a:pt x="411" y="2"/>
                    </a:lnTo>
                    <a:lnTo>
                      <a:pt x="396" y="2"/>
                    </a:lnTo>
                    <a:lnTo>
                      <a:pt x="379" y="1"/>
                    </a:lnTo>
                    <a:lnTo>
                      <a:pt x="362" y="1"/>
                    </a:lnTo>
                    <a:lnTo>
                      <a:pt x="343" y="0"/>
                    </a:lnTo>
                    <a:lnTo>
                      <a:pt x="324" y="0"/>
                    </a:lnTo>
                    <a:lnTo>
                      <a:pt x="304" y="0"/>
                    </a:lnTo>
                    <a:lnTo>
                      <a:pt x="285" y="1"/>
                    </a:lnTo>
                    <a:lnTo>
                      <a:pt x="265" y="1"/>
                    </a:lnTo>
                    <a:lnTo>
                      <a:pt x="247" y="3"/>
                    </a:lnTo>
                    <a:lnTo>
                      <a:pt x="228" y="4"/>
                    </a:lnTo>
                    <a:lnTo>
                      <a:pt x="210" y="7"/>
                    </a:lnTo>
                    <a:lnTo>
                      <a:pt x="191" y="11"/>
                    </a:lnTo>
                    <a:lnTo>
                      <a:pt x="173" y="16"/>
                    </a:lnTo>
                    <a:lnTo>
                      <a:pt x="154" y="22"/>
                    </a:lnTo>
                    <a:lnTo>
                      <a:pt x="136" y="28"/>
                    </a:lnTo>
                    <a:lnTo>
                      <a:pt x="119" y="35"/>
                    </a:lnTo>
                    <a:lnTo>
                      <a:pt x="101" y="42"/>
                    </a:lnTo>
                    <a:lnTo>
                      <a:pt x="85" y="49"/>
                    </a:lnTo>
                    <a:lnTo>
                      <a:pt x="70" y="57"/>
                    </a:lnTo>
                    <a:lnTo>
                      <a:pt x="58" y="64"/>
                    </a:lnTo>
                    <a:lnTo>
                      <a:pt x="45" y="70"/>
                    </a:lnTo>
                    <a:lnTo>
                      <a:pt x="35" y="76"/>
                    </a:lnTo>
                    <a:lnTo>
                      <a:pt x="27" y="80"/>
                    </a:lnTo>
                    <a:lnTo>
                      <a:pt x="21" y="84"/>
                    </a:lnTo>
                    <a:lnTo>
                      <a:pt x="16" y="86"/>
                    </a:lnTo>
                    <a:lnTo>
                      <a:pt x="15" y="87"/>
                    </a:lnTo>
                    <a:lnTo>
                      <a:pt x="0" y="16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336666"/>
                  </a:solidFill>
                  <a:latin typeface="Arial"/>
                </a:endParaRPr>
              </a:p>
            </p:txBody>
          </p:sp>
          <p:sp>
            <p:nvSpPr>
              <p:cNvPr id="242" name="Freeform 29"/>
              <p:cNvSpPr/>
              <p:nvPr/>
            </p:nvSpPr>
            <p:spPr>
              <a:xfrm>
                <a:off x="1400400" y="5777280"/>
                <a:ext cx="203400" cy="30960"/>
              </a:xfrm>
              <a:custGeom>
                <a:avLst/>
                <a:gdLst>
                  <a:gd name="textAreaLeft" fmla="*/ 0 w 203400"/>
                  <a:gd name="textAreaRight" fmla="*/ 203760 w 203400"/>
                  <a:gd name="textAreaTop" fmla="*/ 0 h 30960"/>
                  <a:gd name="textAreaBottom" fmla="*/ 31320 h 30960"/>
                </a:gdLst>
                <a:ahLst/>
                <a:rect l="textAreaLeft" t="textAreaTop" r="textAreaRight" b="textAreaBottom"/>
                <a:pathLst>
                  <a:path w="837" h="137">
                    <a:moveTo>
                      <a:pt x="39" y="137"/>
                    </a:moveTo>
                    <a:lnTo>
                      <a:pt x="41" y="135"/>
                    </a:lnTo>
                    <a:lnTo>
                      <a:pt x="49" y="133"/>
                    </a:lnTo>
                    <a:lnTo>
                      <a:pt x="62" y="130"/>
                    </a:lnTo>
                    <a:lnTo>
                      <a:pt x="78" y="124"/>
                    </a:lnTo>
                    <a:lnTo>
                      <a:pt x="98" y="118"/>
                    </a:lnTo>
                    <a:lnTo>
                      <a:pt x="123" y="111"/>
                    </a:lnTo>
                    <a:lnTo>
                      <a:pt x="149" y="104"/>
                    </a:lnTo>
                    <a:lnTo>
                      <a:pt x="178" y="96"/>
                    </a:lnTo>
                    <a:lnTo>
                      <a:pt x="208" y="89"/>
                    </a:lnTo>
                    <a:lnTo>
                      <a:pt x="240" y="81"/>
                    </a:lnTo>
                    <a:lnTo>
                      <a:pt x="274" y="74"/>
                    </a:lnTo>
                    <a:lnTo>
                      <a:pt x="306" y="68"/>
                    </a:lnTo>
                    <a:lnTo>
                      <a:pt x="339" y="61"/>
                    </a:lnTo>
                    <a:lnTo>
                      <a:pt x="373" y="56"/>
                    </a:lnTo>
                    <a:lnTo>
                      <a:pt x="405" y="51"/>
                    </a:lnTo>
                    <a:lnTo>
                      <a:pt x="435" y="49"/>
                    </a:lnTo>
                    <a:lnTo>
                      <a:pt x="465" y="48"/>
                    </a:lnTo>
                    <a:lnTo>
                      <a:pt x="497" y="47"/>
                    </a:lnTo>
                    <a:lnTo>
                      <a:pt x="530" y="47"/>
                    </a:lnTo>
                    <a:lnTo>
                      <a:pt x="564" y="48"/>
                    </a:lnTo>
                    <a:lnTo>
                      <a:pt x="597" y="49"/>
                    </a:lnTo>
                    <a:lnTo>
                      <a:pt x="631" y="51"/>
                    </a:lnTo>
                    <a:lnTo>
                      <a:pt x="663" y="54"/>
                    </a:lnTo>
                    <a:lnTo>
                      <a:pt x="695" y="57"/>
                    </a:lnTo>
                    <a:lnTo>
                      <a:pt x="724" y="59"/>
                    </a:lnTo>
                    <a:lnTo>
                      <a:pt x="751" y="63"/>
                    </a:lnTo>
                    <a:lnTo>
                      <a:pt x="775" y="65"/>
                    </a:lnTo>
                    <a:lnTo>
                      <a:pt x="797" y="68"/>
                    </a:lnTo>
                    <a:lnTo>
                      <a:pt x="813" y="70"/>
                    </a:lnTo>
                    <a:lnTo>
                      <a:pt x="827" y="72"/>
                    </a:lnTo>
                    <a:lnTo>
                      <a:pt x="835" y="73"/>
                    </a:lnTo>
                    <a:lnTo>
                      <a:pt x="837" y="73"/>
                    </a:lnTo>
                    <a:lnTo>
                      <a:pt x="792" y="42"/>
                    </a:lnTo>
                    <a:lnTo>
                      <a:pt x="790" y="42"/>
                    </a:lnTo>
                    <a:lnTo>
                      <a:pt x="783" y="40"/>
                    </a:lnTo>
                    <a:lnTo>
                      <a:pt x="772" y="38"/>
                    </a:lnTo>
                    <a:lnTo>
                      <a:pt x="760" y="35"/>
                    </a:lnTo>
                    <a:lnTo>
                      <a:pt x="742" y="32"/>
                    </a:lnTo>
                    <a:lnTo>
                      <a:pt x="723" y="28"/>
                    </a:lnTo>
                    <a:lnTo>
                      <a:pt x="701" y="24"/>
                    </a:lnTo>
                    <a:lnTo>
                      <a:pt x="678" y="20"/>
                    </a:lnTo>
                    <a:lnTo>
                      <a:pt x="653" y="16"/>
                    </a:lnTo>
                    <a:lnTo>
                      <a:pt x="626" y="12"/>
                    </a:lnTo>
                    <a:lnTo>
                      <a:pt x="600" y="9"/>
                    </a:lnTo>
                    <a:lnTo>
                      <a:pt x="572" y="5"/>
                    </a:lnTo>
                    <a:lnTo>
                      <a:pt x="544" y="3"/>
                    </a:lnTo>
                    <a:lnTo>
                      <a:pt x="518" y="1"/>
                    </a:lnTo>
                    <a:lnTo>
                      <a:pt x="491" y="0"/>
                    </a:lnTo>
                    <a:lnTo>
                      <a:pt x="467" y="0"/>
                    </a:lnTo>
                    <a:lnTo>
                      <a:pt x="431" y="1"/>
                    </a:lnTo>
                    <a:lnTo>
                      <a:pt x="393" y="4"/>
                    </a:lnTo>
                    <a:lnTo>
                      <a:pt x="354" y="10"/>
                    </a:lnTo>
                    <a:lnTo>
                      <a:pt x="315" y="17"/>
                    </a:lnTo>
                    <a:lnTo>
                      <a:pt x="276" y="25"/>
                    </a:lnTo>
                    <a:lnTo>
                      <a:pt x="237" y="33"/>
                    </a:lnTo>
                    <a:lnTo>
                      <a:pt x="200" y="42"/>
                    </a:lnTo>
                    <a:lnTo>
                      <a:pt x="163" y="53"/>
                    </a:lnTo>
                    <a:lnTo>
                      <a:pt x="130" y="62"/>
                    </a:lnTo>
                    <a:lnTo>
                      <a:pt x="98" y="71"/>
                    </a:lnTo>
                    <a:lnTo>
                      <a:pt x="71" y="80"/>
                    </a:lnTo>
                    <a:lnTo>
                      <a:pt x="47" y="88"/>
                    </a:lnTo>
                    <a:lnTo>
                      <a:pt x="27" y="95"/>
                    </a:lnTo>
                    <a:lnTo>
                      <a:pt x="13" y="100"/>
                    </a:lnTo>
                    <a:lnTo>
                      <a:pt x="4" y="103"/>
                    </a:lnTo>
                    <a:lnTo>
                      <a:pt x="0" y="104"/>
                    </a:lnTo>
                    <a:lnTo>
                      <a:pt x="39" y="13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336666"/>
                  </a:solidFill>
                  <a:latin typeface="Arial"/>
                </a:endParaRPr>
              </a:p>
            </p:txBody>
          </p:sp>
          <p:sp>
            <p:nvSpPr>
              <p:cNvPr id="243" name="Freeform 30"/>
              <p:cNvSpPr/>
              <p:nvPr/>
            </p:nvSpPr>
            <p:spPr>
              <a:xfrm>
                <a:off x="1759680" y="5392440"/>
                <a:ext cx="263880" cy="429480"/>
              </a:xfrm>
              <a:custGeom>
                <a:avLst/>
                <a:gdLst>
                  <a:gd name="textAreaLeft" fmla="*/ 0 w 263880"/>
                  <a:gd name="textAreaRight" fmla="*/ 264240 w 263880"/>
                  <a:gd name="textAreaTop" fmla="*/ 0 h 429480"/>
                  <a:gd name="textAreaBottom" fmla="*/ 429840 h 429480"/>
                </a:gdLst>
                <a:ahLst/>
                <a:rect l="textAreaLeft" t="textAreaTop" r="textAreaRight" b="textAreaBottom"/>
                <a:pathLst>
                  <a:path w="1083" h="1869">
                    <a:moveTo>
                      <a:pt x="999" y="62"/>
                    </a:moveTo>
                    <a:lnTo>
                      <a:pt x="997" y="82"/>
                    </a:lnTo>
                    <a:lnTo>
                      <a:pt x="990" y="135"/>
                    </a:lnTo>
                    <a:lnTo>
                      <a:pt x="981" y="216"/>
                    </a:lnTo>
                    <a:lnTo>
                      <a:pt x="968" y="316"/>
                    </a:lnTo>
                    <a:lnTo>
                      <a:pt x="956" y="430"/>
                    </a:lnTo>
                    <a:lnTo>
                      <a:pt x="943" y="548"/>
                    </a:lnTo>
                    <a:lnTo>
                      <a:pt x="933" y="666"/>
                    </a:lnTo>
                    <a:lnTo>
                      <a:pt x="923" y="774"/>
                    </a:lnTo>
                    <a:lnTo>
                      <a:pt x="915" y="984"/>
                    </a:lnTo>
                    <a:lnTo>
                      <a:pt x="922" y="1156"/>
                    </a:lnTo>
                    <a:lnTo>
                      <a:pt x="941" y="1296"/>
                    </a:lnTo>
                    <a:lnTo>
                      <a:pt x="966" y="1404"/>
                    </a:lnTo>
                    <a:lnTo>
                      <a:pt x="992" y="1485"/>
                    </a:lnTo>
                    <a:lnTo>
                      <a:pt x="1017" y="1539"/>
                    </a:lnTo>
                    <a:lnTo>
                      <a:pt x="1035" y="1570"/>
                    </a:lnTo>
                    <a:lnTo>
                      <a:pt x="1042" y="1579"/>
                    </a:lnTo>
                    <a:lnTo>
                      <a:pt x="1039" y="1579"/>
                    </a:lnTo>
                    <a:lnTo>
                      <a:pt x="1029" y="1579"/>
                    </a:lnTo>
                    <a:lnTo>
                      <a:pt x="1013" y="1579"/>
                    </a:lnTo>
                    <a:lnTo>
                      <a:pt x="992" y="1579"/>
                    </a:lnTo>
                    <a:lnTo>
                      <a:pt x="967" y="1579"/>
                    </a:lnTo>
                    <a:lnTo>
                      <a:pt x="937" y="1579"/>
                    </a:lnTo>
                    <a:lnTo>
                      <a:pt x="905" y="1580"/>
                    </a:lnTo>
                    <a:lnTo>
                      <a:pt x="869" y="1580"/>
                    </a:lnTo>
                    <a:lnTo>
                      <a:pt x="831" y="1581"/>
                    </a:lnTo>
                    <a:lnTo>
                      <a:pt x="792" y="1584"/>
                    </a:lnTo>
                    <a:lnTo>
                      <a:pt x="752" y="1585"/>
                    </a:lnTo>
                    <a:lnTo>
                      <a:pt x="711" y="1587"/>
                    </a:lnTo>
                    <a:lnTo>
                      <a:pt x="671" y="1589"/>
                    </a:lnTo>
                    <a:lnTo>
                      <a:pt x="632" y="1592"/>
                    </a:lnTo>
                    <a:lnTo>
                      <a:pt x="594" y="1596"/>
                    </a:lnTo>
                    <a:lnTo>
                      <a:pt x="558" y="1600"/>
                    </a:lnTo>
                    <a:lnTo>
                      <a:pt x="510" y="1608"/>
                    </a:lnTo>
                    <a:lnTo>
                      <a:pt x="460" y="1620"/>
                    </a:lnTo>
                    <a:lnTo>
                      <a:pt x="412" y="1637"/>
                    </a:lnTo>
                    <a:lnTo>
                      <a:pt x="363" y="1656"/>
                    </a:lnTo>
                    <a:lnTo>
                      <a:pt x="315" y="1677"/>
                    </a:lnTo>
                    <a:lnTo>
                      <a:pt x="269" y="1700"/>
                    </a:lnTo>
                    <a:lnTo>
                      <a:pt x="225" y="1723"/>
                    </a:lnTo>
                    <a:lnTo>
                      <a:pt x="184" y="1747"/>
                    </a:lnTo>
                    <a:lnTo>
                      <a:pt x="144" y="1770"/>
                    </a:lnTo>
                    <a:lnTo>
                      <a:pt x="110" y="1793"/>
                    </a:lnTo>
                    <a:lnTo>
                      <a:pt x="79" y="1814"/>
                    </a:lnTo>
                    <a:lnTo>
                      <a:pt x="51" y="1832"/>
                    </a:lnTo>
                    <a:lnTo>
                      <a:pt x="30" y="1847"/>
                    </a:lnTo>
                    <a:lnTo>
                      <a:pt x="14" y="1859"/>
                    </a:lnTo>
                    <a:lnTo>
                      <a:pt x="4" y="1867"/>
                    </a:lnTo>
                    <a:lnTo>
                      <a:pt x="0" y="1869"/>
                    </a:lnTo>
                    <a:lnTo>
                      <a:pt x="3" y="1868"/>
                    </a:lnTo>
                    <a:lnTo>
                      <a:pt x="12" y="1863"/>
                    </a:lnTo>
                    <a:lnTo>
                      <a:pt x="25" y="1857"/>
                    </a:lnTo>
                    <a:lnTo>
                      <a:pt x="42" y="1847"/>
                    </a:lnTo>
                    <a:lnTo>
                      <a:pt x="63" y="1836"/>
                    </a:lnTo>
                    <a:lnTo>
                      <a:pt x="87" y="1823"/>
                    </a:lnTo>
                    <a:lnTo>
                      <a:pt x="114" y="1809"/>
                    </a:lnTo>
                    <a:lnTo>
                      <a:pt x="144" y="1794"/>
                    </a:lnTo>
                    <a:lnTo>
                      <a:pt x="176" y="1779"/>
                    </a:lnTo>
                    <a:lnTo>
                      <a:pt x="208" y="1763"/>
                    </a:lnTo>
                    <a:lnTo>
                      <a:pt x="240" y="1748"/>
                    </a:lnTo>
                    <a:lnTo>
                      <a:pt x="273" y="1733"/>
                    </a:lnTo>
                    <a:lnTo>
                      <a:pt x="307" y="1719"/>
                    </a:lnTo>
                    <a:lnTo>
                      <a:pt x="338" y="1706"/>
                    </a:lnTo>
                    <a:lnTo>
                      <a:pt x="369" y="1694"/>
                    </a:lnTo>
                    <a:lnTo>
                      <a:pt x="398" y="1685"/>
                    </a:lnTo>
                    <a:lnTo>
                      <a:pt x="430" y="1676"/>
                    </a:lnTo>
                    <a:lnTo>
                      <a:pt x="469" y="1666"/>
                    </a:lnTo>
                    <a:lnTo>
                      <a:pt x="515" y="1658"/>
                    </a:lnTo>
                    <a:lnTo>
                      <a:pt x="567" y="1650"/>
                    </a:lnTo>
                    <a:lnTo>
                      <a:pt x="621" y="1643"/>
                    </a:lnTo>
                    <a:lnTo>
                      <a:pt x="679" y="1637"/>
                    </a:lnTo>
                    <a:lnTo>
                      <a:pt x="738" y="1630"/>
                    </a:lnTo>
                    <a:lnTo>
                      <a:pt x="795" y="1624"/>
                    </a:lnTo>
                    <a:lnTo>
                      <a:pt x="852" y="1618"/>
                    </a:lnTo>
                    <a:lnTo>
                      <a:pt x="905" y="1614"/>
                    </a:lnTo>
                    <a:lnTo>
                      <a:pt x="954" y="1610"/>
                    </a:lnTo>
                    <a:lnTo>
                      <a:pt x="997" y="1607"/>
                    </a:lnTo>
                    <a:lnTo>
                      <a:pt x="1033" y="1603"/>
                    </a:lnTo>
                    <a:lnTo>
                      <a:pt x="1060" y="1601"/>
                    </a:lnTo>
                    <a:lnTo>
                      <a:pt x="1078" y="1600"/>
                    </a:lnTo>
                    <a:lnTo>
                      <a:pt x="1083" y="1600"/>
                    </a:lnTo>
                    <a:lnTo>
                      <a:pt x="1077" y="1587"/>
                    </a:lnTo>
                    <a:lnTo>
                      <a:pt x="1059" y="1551"/>
                    </a:lnTo>
                    <a:lnTo>
                      <a:pt x="1034" y="1495"/>
                    </a:lnTo>
                    <a:lnTo>
                      <a:pt x="1007" y="1420"/>
                    </a:lnTo>
                    <a:lnTo>
                      <a:pt x="981" y="1328"/>
                    </a:lnTo>
                    <a:lnTo>
                      <a:pt x="960" y="1222"/>
                    </a:lnTo>
                    <a:lnTo>
                      <a:pt x="949" y="1105"/>
                    </a:lnTo>
                    <a:lnTo>
                      <a:pt x="951" y="978"/>
                    </a:lnTo>
                    <a:lnTo>
                      <a:pt x="964" y="818"/>
                    </a:lnTo>
                    <a:lnTo>
                      <a:pt x="979" y="651"/>
                    </a:lnTo>
                    <a:lnTo>
                      <a:pt x="994" y="487"/>
                    </a:lnTo>
                    <a:lnTo>
                      <a:pt x="1009" y="334"/>
                    </a:lnTo>
                    <a:lnTo>
                      <a:pt x="1021" y="201"/>
                    </a:lnTo>
                    <a:lnTo>
                      <a:pt x="1033" y="95"/>
                    </a:lnTo>
                    <a:lnTo>
                      <a:pt x="1040" y="26"/>
                    </a:lnTo>
                    <a:lnTo>
                      <a:pt x="1042" y="0"/>
                    </a:lnTo>
                    <a:lnTo>
                      <a:pt x="99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4" name="Freeform 31"/>
              <p:cNvSpPr/>
              <p:nvPr/>
            </p:nvSpPr>
            <p:spPr>
              <a:xfrm>
                <a:off x="1751400" y="5407920"/>
                <a:ext cx="309600" cy="418320"/>
              </a:xfrm>
              <a:custGeom>
                <a:avLst/>
                <a:gdLst>
                  <a:gd name="textAreaLeft" fmla="*/ 0 w 309600"/>
                  <a:gd name="textAreaRight" fmla="*/ 309960 w 309600"/>
                  <a:gd name="textAreaTop" fmla="*/ 0 h 418320"/>
                  <a:gd name="textAreaBottom" fmla="*/ 418680 h 418320"/>
                </a:gdLst>
                <a:ahLst/>
                <a:rect l="textAreaLeft" t="textAreaTop" r="textAreaRight" b="textAreaBottom"/>
                <a:pathLst>
                  <a:path w="1272" h="1820">
                    <a:moveTo>
                      <a:pt x="1237" y="92"/>
                    </a:moveTo>
                    <a:lnTo>
                      <a:pt x="1235" y="113"/>
                    </a:lnTo>
                    <a:lnTo>
                      <a:pt x="1227" y="168"/>
                    </a:lnTo>
                    <a:lnTo>
                      <a:pt x="1215" y="252"/>
                    </a:lnTo>
                    <a:lnTo>
                      <a:pt x="1203" y="355"/>
                    </a:lnTo>
                    <a:lnTo>
                      <a:pt x="1188" y="468"/>
                    </a:lnTo>
                    <a:lnTo>
                      <a:pt x="1174" y="584"/>
                    </a:lnTo>
                    <a:lnTo>
                      <a:pt x="1161" y="694"/>
                    </a:lnTo>
                    <a:lnTo>
                      <a:pt x="1152" y="790"/>
                    </a:lnTo>
                    <a:lnTo>
                      <a:pt x="1146" y="884"/>
                    </a:lnTo>
                    <a:lnTo>
                      <a:pt x="1145" y="984"/>
                    </a:lnTo>
                    <a:lnTo>
                      <a:pt x="1147" y="1089"/>
                    </a:lnTo>
                    <a:lnTo>
                      <a:pt x="1152" y="1190"/>
                    </a:lnTo>
                    <a:lnTo>
                      <a:pt x="1160" y="1284"/>
                    </a:lnTo>
                    <a:lnTo>
                      <a:pt x="1169" y="1365"/>
                    </a:lnTo>
                    <a:lnTo>
                      <a:pt x="1181" y="1428"/>
                    </a:lnTo>
                    <a:lnTo>
                      <a:pt x="1194" y="1469"/>
                    </a:lnTo>
                    <a:lnTo>
                      <a:pt x="1207" y="1495"/>
                    </a:lnTo>
                    <a:lnTo>
                      <a:pt x="1221" y="1521"/>
                    </a:lnTo>
                    <a:lnTo>
                      <a:pt x="1235" y="1548"/>
                    </a:lnTo>
                    <a:lnTo>
                      <a:pt x="1247" y="1571"/>
                    </a:lnTo>
                    <a:lnTo>
                      <a:pt x="1257" y="1592"/>
                    </a:lnTo>
                    <a:lnTo>
                      <a:pt x="1265" y="1608"/>
                    </a:lnTo>
                    <a:lnTo>
                      <a:pt x="1270" y="1619"/>
                    </a:lnTo>
                    <a:lnTo>
                      <a:pt x="1272" y="1623"/>
                    </a:lnTo>
                    <a:lnTo>
                      <a:pt x="1266" y="1623"/>
                    </a:lnTo>
                    <a:lnTo>
                      <a:pt x="1252" y="1622"/>
                    </a:lnTo>
                    <a:lnTo>
                      <a:pt x="1228" y="1621"/>
                    </a:lnTo>
                    <a:lnTo>
                      <a:pt x="1198" y="1619"/>
                    </a:lnTo>
                    <a:lnTo>
                      <a:pt x="1161" y="1618"/>
                    </a:lnTo>
                    <a:lnTo>
                      <a:pt x="1121" y="1617"/>
                    </a:lnTo>
                    <a:lnTo>
                      <a:pt x="1076" y="1616"/>
                    </a:lnTo>
                    <a:lnTo>
                      <a:pt x="1029" y="1615"/>
                    </a:lnTo>
                    <a:lnTo>
                      <a:pt x="980" y="1615"/>
                    </a:lnTo>
                    <a:lnTo>
                      <a:pt x="932" y="1614"/>
                    </a:lnTo>
                    <a:lnTo>
                      <a:pt x="885" y="1614"/>
                    </a:lnTo>
                    <a:lnTo>
                      <a:pt x="841" y="1614"/>
                    </a:lnTo>
                    <a:lnTo>
                      <a:pt x="799" y="1615"/>
                    </a:lnTo>
                    <a:lnTo>
                      <a:pt x="764" y="1617"/>
                    </a:lnTo>
                    <a:lnTo>
                      <a:pt x="734" y="1619"/>
                    </a:lnTo>
                    <a:lnTo>
                      <a:pt x="712" y="1623"/>
                    </a:lnTo>
                    <a:lnTo>
                      <a:pt x="688" y="1629"/>
                    </a:lnTo>
                    <a:lnTo>
                      <a:pt x="653" y="1638"/>
                    </a:lnTo>
                    <a:lnTo>
                      <a:pt x="609" y="1648"/>
                    </a:lnTo>
                    <a:lnTo>
                      <a:pt x="559" y="1662"/>
                    </a:lnTo>
                    <a:lnTo>
                      <a:pt x="503" y="1678"/>
                    </a:lnTo>
                    <a:lnTo>
                      <a:pt x="443" y="1694"/>
                    </a:lnTo>
                    <a:lnTo>
                      <a:pt x="381" y="1712"/>
                    </a:lnTo>
                    <a:lnTo>
                      <a:pt x="319" y="1729"/>
                    </a:lnTo>
                    <a:lnTo>
                      <a:pt x="258" y="1746"/>
                    </a:lnTo>
                    <a:lnTo>
                      <a:pt x="199" y="1763"/>
                    </a:lnTo>
                    <a:lnTo>
                      <a:pt x="145" y="1778"/>
                    </a:lnTo>
                    <a:lnTo>
                      <a:pt x="97" y="1792"/>
                    </a:lnTo>
                    <a:lnTo>
                      <a:pt x="57" y="1804"/>
                    </a:lnTo>
                    <a:lnTo>
                      <a:pt x="26" y="1812"/>
                    </a:lnTo>
                    <a:lnTo>
                      <a:pt x="7" y="1817"/>
                    </a:lnTo>
                    <a:lnTo>
                      <a:pt x="0" y="1820"/>
                    </a:lnTo>
                    <a:lnTo>
                      <a:pt x="6" y="1817"/>
                    </a:lnTo>
                    <a:lnTo>
                      <a:pt x="21" y="1811"/>
                    </a:lnTo>
                    <a:lnTo>
                      <a:pt x="44" y="1801"/>
                    </a:lnTo>
                    <a:lnTo>
                      <a:pt x="76" y="1788"/>
                    </a:lnTo>
                    <a:lnTo>
                      <a:pt x="115" y="1773"/>
                    </a:lnTo>
                    <a:lnTo>
                      <a:pt x="160" y="1755"/>
                    </a:lnTo>
                    <a:lnTo>
                      <a:pt x="210" y="1736"/>
                    </a:lnTo>
                    <a:lnTo>
                      <a:pt x="265" y="1716"/>
                    </a:lnTo>
                    <a:lnTo>
                      <a:pt x="322" y="1697"/>
                    </a:lnTo>
                    <a:lnTo>
                      <a:pt x="382" y="1677"/>
                    </a:lnTo>
                    <a:lnTo>
                      <a:pt x="445" y="1659"/>
                    </a:lnTo>
                    <a:lnTo>
                      <a:pt x="507" y="1640"/>
                    </a:lnTo>
                    <a:lnTo>
                      <a:pt x="570" y="1625"/>
                    </a:lnTo>
                    <a:lnTo>
                      <a:pt x="631" y="1611"/>
                    </a:lnTo>
                    <a:lnTo>
                      <a:pt x="690" y="1602"/>
                    </a:lnTo>
                    <a:lnTo>
                      <a:pt x="746" y="1595"/>
                    </a:lnTo>
                    <a:lnTo>
                      <a:pt x="779" y="1593"/>
                    </a:lnTo>
                    <a:lnTo>
                      <a:pt x="814" y="1591"/>
                    </a:lnTo>
                    <a:lnTo>
                      <a:pt x="851" y="1588"/>
                    </a:lnTo>
                    <a:lnTo>
                      <a:pt x="888" y="1586"/>
                    </a:lnTo>
                    <a:lnTo>
                      <a:pt x="926" y="1585"/>
                    </a:lnTo>
                    <a:lnTo>
                      <a:pt x="964" y="1583"/>
                    </a:lnTo>
                    <a:lnTo>
                      <a:pt x="1001" y="1581"/>
                    </a:lnTo>
                    <a:lnTo>
                      <a:pt x="1037" y="1579"/>
                    </a:lnTo>
                    <a:lnTo>
                      <a:pt x="1070" y="1578"/>
                    </a:lnTo>
                    <a:lnTo>
                      <a:pt x="1101" y="1578"/>
                    </a:lnTo>
                    <a:lnTo>
                      <a:pt x="1129" y="1577"/>
                    </a:lnTo>
                    <a:lnTo>
                      <a:pt x="1153" y="1576"/>
                    </a:lnTo>
                    <a:lnTo>
                      <a:pt x="1173" y="1576"/>
                    </a:lnTo>
                    <a:lnTo>
                      <a:pt x="1188" y="1574"/>
                    </a:lnTo>
                    <a:lnTo>
                      <a:pt x="1197" y="1574"/>
                    </a:lnTo>
                    <a:lnTo>
                      <a:pt x="1200" y="1574"/>
                    </a:lnTo>
                    <a:lnTo>
                      <a:pt x="1195" y="1564"/>
                    </a:lnTo>
                    <a:lnTo>
                      <a:pt x="1181" y="1533"/>
                    </a:lnTo>
                    <a:lnTo>
                      <a:pt x="1161" y="1479"/>
                    </a:lnTo>
                    <a:lnTo>
                      <a:pt x="1139" y="1402"/>
                    </a:lnTo>
                    <a:lnTo>
                      <a:pt x="1120" y="1300"/>
                    </a:lnTo>
                    <a:lnTo>
                      <a:pt x="1107" y="1171"/>
                    </a:lnTo>
                    <a:lnTo>
                      <a:pt x="1102" y="1016"/>
                    </a:lnTo>
                    <a:lnTo>
                      <a:pt x="1111" y="832"/>
                    </a:lnTo>
                    <a:lnTo>
                      <a:pt x="1124" y="682"/>
                    </a:lnTo>
                    <a:lnTo>
                      <a:pt x="1139" y="533"/>
                    </a:lnTo>
                    <a:lnTo>
                      <a:pt x="1155" y="394"/>
                    </a:lnTo>
                    <a:lnTo>
                      <a:pt x="1172" y="266"/>
                    </a:lnTo>
                    <a:lnTo>
                      <a:pt x="1185" y="158"/>
                    </a:lnTo>
                    <a:lnTo>
                      <a:pt x="1197" y="74"/>
                    </a:lnTo>
                    <a:lnTo>
                      <a:pt x="1205" y="20"/>
                    </a:lnTo>
                    <a:lnTo>
                      <a:pt x="1207" y="0"/>
                    </a:lnTo>
                    <a:lnTo>
                      <a:pt x="123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Freeform 32"/>
              <p:cNvSpPr/>
              <p:nvPr/>
            </p:nvSpPr>
            <p:spPr>
              <a:xfrm>
                <a:off x="1712520" y="5459400"/>
                <a:ext cx="166680" cy="379800"/>
              </a:xfrm>
              <a:custGeom>
                <a:avLst/>
                <a:gdLst>
                  <a:gd name="textAreaLeft" fmla="*/ 0 w 166680"/>
                  <a:gd name="textAreaRight" fmla="*/ 167040 w 166680"/>
                  <a:gd name="textAreaTop" fmla="*/ 0 h 379800"/>
                  <a:gd name="textAreaBottom" fmla="*/ 380160 h 379800"/>
                </a:gdLst>
                <a:ahLst/>
                <a:rect l="textAreaLeft" t="textAreaTop" r="textAreaRight" b="textAreaBottom"/>
                <a:pathLst>
                  <a:path w="685" h="1651">
                    <a:moveTo>
                      <a:pt x="685" y="1337"/>
                    </a:moveTo>
                    <a:lnTo>
                      <a:pt x="685" y="1337"/>
                    </a:lnTo>
                    <a:lnTo>
                      <a:pt x="635" y="1348"/>
                    </a:lnTo>
                    <a:lnTo>
                      <a:pt x="584" y="1364"/>
                    </a:lnTo>
                    <a:lnTo>
                      <a:pt x="532" y="1384"/>
                    </a:lnTo>
                    <a:lnTo>
                      <a:pt x="481" y="1406"/>
                    </a:lnTo>
                    <a:lnTo>
                      <a:pt x="431" y="1431"/>
                    </a:lnTo>
                    <a:lnTo>
                      <a:pt x="382" y="1458"/>
                    </a:lnTo>
                    <a:lnTo>
                      <a:pt x="335" y="1484"/>
                    </a:lnTo>
                    <a:lnTo>
                      <a:pt x="291" y="1512"/>
                    </a:lnTo>
                    <a:lnTo>
                      <a:pt x="250" y="1539"/>
                    </a:lnTo>
                    <a:lnTo>
                      <a:pt x="213" y="1565"/>
                    </a:lnTo>
                    <a:lnTo>
                      <a:pt x="180" y="1588"/>
                    </a:lnTo>
                    <a:lnTo>
                      <a:pt x="151" y="1609"/>
                    </a:lnTo>
                    <a:lnTo>
                      <a:pt x="128" y="1626"/>
                    </a:lnTo>
                    <a:lnTo>
                      <a:pt x="110" y="1640"/>
                    </a:lnTo>
                    <a:lnTo>
                      <a:pt x="100" y="1648"/>
                    </a:lnTo>
                    <a:lnTo>
                      <a:pt x="97" y="1651"/>
                    </a:lnTo>
                    <a:lnTo>
                      <a:pt x="92" y="1622"/>
                    </a:lnTo>
                    <a:lnTo>
                      <a:pt x="82" y="1546"/>
                    </a:lnTo>
                    <a:lnTo>
                      <a:pt x="66" y="1435"/>
                    </a:lnTo>
                    <a:lnTo>
                      <a:pt x="48" y="1302"/>
                    </a:lnTo>
                    <a:lnTo>
                      <a:pt x="31" y="1162"/>
                    </a:lnTo>
                    <a:lnTo>
                      <a:pt x="15" y="1026"/>
                    </a:lnTo>
                    <a:lnTo>
                      <a:pt x="4" y="907"/>
                    </a:lnTo>
                    <a:lnTo>
                      <a:pt x="0" y="821"/>
                    </a:lnTo>
                    <a:lnTo>
                      <a:pt x="3" y="653"/>
                    </a:lnTo>
                    <a:lnTo>
                      <a:pt x="10" y="455"/>
                    </a:lnTo>
                    <a:lnTo>
                      <a:pt x="17" y="291"/>
                    </a:lnTo>
                    <a:lnTo>
                      <a:pt x="21" y="223"/>
                    </a:lnTo>
                    <a:lnTo>
                      <a:pt x="21" y="219"/>
                    </a:lnTo>
                    <a:lnTo>
                      <a:pt x="21" y="204"/>
                    </a:lnTo>
                    <a:lnTo>
                      <a:pt x="23" y="182"/>
                    </a:lnTo>
                    <a:lnTo>
                      <a:pt x="29" y="154"/>
                    </a:lnTo>
                    <a:lnTo>
                      <a:pt x="37" y="120"/>
                    </a:lnTo>
                    <a:lnTo>
                      <a:pt x="49" y="83"/>
                    </a:lnTo>
                    <a:lnTo>
                      <a:pt x="69" y="41"/>
                    </a:lnTo>
                    <a:lnTo>
                      <a:pt x="9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6" name="Freeform 33"/>
              <p:cNvSpPr/>
              <p:nvPr/>
            </p:nvSpPr>
            <p:spPr>
              <a:xfrm>
                <a:off x="1471320" y="5465880"/>
                <a:ext cx="145440" cy="338760"/>
              </a:xfrm>
              <a:custGeom>
                <a:avLst/>
                <a:gdLst>
                  <a:gd name="textAreaLeft" fmla="*/ 0 w 145440"/>
                  <a:gd name="textAreaRight" fmla="*/ 145800 w 145440"/>
                  <a:gd name="textAreaTop" fmla="*/ 0 h 338760"/>
                  <a:gd name="textAreaBottom" fmla="*/ 339120 h 338760"/>
                </a:gdLst>
                <a:ahLst/>
                <a:rect l="textAreaLeft" t="textAreaTop" r="textAreaRight" b="textAreaBottom"/>
                <a:pathLst>
                  <a:path w="598" h="1474">
                    <a:moveTo>
                      <a:pt x="15" y="0"/>
                    </a:moveTo>
                    <a:lnTo>
                      <a:pt x="15" y="8"/>
                    </a:lnTo>
                    <a:lnTo>
                      <a:pt x="17" y="29"/>
                    </a:lnTo>
                    <a:lnTo>
                      <a:pt x="22" y="62"/>
                    </a:lnTo>
                    <a:lnTo>
                      <a:pt x="32" y="105"/>
                    </a:lnTo>
                    <a:lnTo>
                      <a:pt x="50" y="156"/>
                    </a:lnTo>
                    <a:lnTo>
                      <a:pt x="74" y="212"/>
                    </a:lnTo>
                    <a:lnTo>
                      <a:pt x="109" y="272"/>
                    </a:lnTo>
                    <a:lnTo>
                      <a:pt x="157" y="333"/>
                    </a:lnTo>
                    <a:lnTo>
                      <a:pt x="184" y="363"/>
                    </a:lnTo>
                    <a:lnTo>
                      <a:pt x="212" y="393"/>
                    </a:lnTo>
                    <a:lnTo>
                      <a:pt x="240" y="421"/>
                    </a:lnTo>
                    <a:lnTo>
                      <a:pt x="267" y="447"/>
                    </a:lnTo>
                    <a:lnTo>
                      <a:pt x="294" y="471"/>
                    </a:lnTo>
                    <a:lnTo>
                      <a:pt x="320" y="494"/>
                    </a:lnTo>
                    <a:lnTo>
                      <a:pt x="346" y="516"/>
                    </a:lnTo>
                    <a:lnTo>
                      <a:pt x="370" y="536"/>
                    </a:lnTo>
                    <a:lnTo>
                      <a:pt x="392" y="554"/>
                    </a:lnTo>
                    <a:lnTo>
                      <a:pt x="412" y="569"/>
                    </a:lnTo>
                    <a:lnTo>
                      <a:pt x="431" y="583"/>
                    </a:lnTo>
                    <a:lnTo>
                      <a:pt x="446" y="595"/>
                    </a:lnTo>
                    <a:lnTo>
                      <a:pt x="459" y="604"/>
                    </a:lnTo>
                    <a:lnTo>
                      <a:pt x="468" y="609"/>
                    </a:lnTo>
                    <a:lnTo>
                      <a:pt x="474" y="614"/>
                    </a:lnTo>
                    <a:lnTo>
                      <a:pt x="476" y="615"/>
                    </a:lnTo>
                    <a:lnTo>
                      <a:pt x="474" y="627"/>
                    </a:lnTo>
                    <a:lnTo>
                      <a:pt x="469" y="660"/>
                    </a:lnTo>
                    <a:lnTo>
                      <a:pt x="462" y="709"/>
                    </a:lnTo>
                    <a:lnTo>
                      <a:pt x="455" y="771"/>
                    </a:lnTo>
                    <a:lnTo>
                      <a:pt x="447" y="840"/>
                    </a:lnTo>
                    <a:lnTo>
                      <a:pt x="441" y="914"/>
                    </a:lnTo>
                    <a:lnTo>
                      <a:pt x="438" y="987"/>
                    </a:lnTo>
                    <a:lnTo>
                      <a:pt x="438" y="1056"/>
                    </a:lnTo>
                    <a:lnTo>
                      <a:pt x="446" y="1124"/>
                    </a:lnTo>
                    <a:lnTo>
                      <a:pt x="464" y="1194"/>
                    </a:lnTo>
                    <a:lnTo>
                      <a:pt x="491" y="1265"/>
                    </a:lnTo>
                    <a:lnTo>
                      <a:pt x="520" y="1330"/>
                    </a:lnTo>
                    <a:lnTo>
                      <a:pt x="548" y="1388"/>
                    </a:lnTo>
                    <a:lnTo>
                      <a:pt x="574" y="1434"/>
                    </a:lnTo>
                    <a:lnTo>
                      <a:pt x="591" y="1464"/>
                    </a:lnTo>
                    <a:lnTo>
                      <a:pt x="598" y="1474"/>
                    </a:lnTo>
                    <a:lnTo>
                      <a:pt x="591" y="1470"/>
                    </a:lnTo>
                    <a:lnTo>
                      <a:pt x="570" y="1454"/>
                    </a:lnTo>
                    <a:lnTo>
                      <a:pt x="543" y="1426"/>
                    </a:lnTo>
                    <a:lnTo>
                      <a:pt x="510" y="1383"/>
                    </a:lnTo>
                    <a:lnTo>
                      <a:pt x="478" y="1327"/>
                    </a:lnTo>
                    <a:lnTo>
                      <a:pt x="449" y="1253"/>
                    </a:lnTo>
                    <a:lnTo>
                      <a:pt x="429" y="1161"/>
                    </a:lnTo>
                    <a:lnTo>
                      <a:pt x="419" y="1051"/>
                    </a:lnTo>
                    <a:lnTo>
                      <a:pt x="419" y="940"/>
                    </a:lnTo>
                    <a:lnTo>
                      <a:pt x="423" y="850"/>
                    </a:lnTo>
                    <a:lnTo>
                      <a:pt x="430" y="778"/>
                    </a:lnTo>
                    <a:lnTo>
                      <a:pt x="438" y="722"/>
                    </a:lnTo>
                    <a:lnTo>
                      <a:pt x="446" y="682"/>
                    </a:lnTo>
                    <a:lnTo>
                      <a:pt x="453" y="656"/>
                    </a:lnTo>
                    <a:lnTo>
                      <a:pt x="457" y="641"/>
                    </a:lnTo>
                    <a:lnTo>
                      <a:pt x="460" y="636"/>
                    </a:lnTo>
                    <a:lnTo>
                      <a:pt x="457" y="635"/>
                    </a:lnTo>
                    <a:lnTo>
                      <a:pt x="452" y="631"/>
                    </a:lnTo>
                    <a:lnTo>
                      <a:pt x="444" y="624"/>
                    </a:lnTo>
                    <a:lnTo>
                      <a:pt x="431" y="616"/>
                    </a:lnTo>
                    <a:lnTo>
                      <a:pt x="416" y="606"/>
                    </a:lnTo>
                    <a:lnTo>
                      <a:pt x="399" y="593"/>
                    </a:lnTo>
                    <a:lnTo>
                      <a:pt x="379" y="578"/>
                    </a:lnTo>
                    <a:lnTo>
                      <a:pt x="357" y="561"/>
                    </a:lnTo>
                    <a:lnTo>
                      <a:pt x="334" y="543"/>
                    </a:lnTo>
                    <a:lnTo>
                      <a:pt x="310" y="522"/>
                    </a:lnTo>
                    <a:lnTo>
                      <a:pt x="283" y="499"/>
                    </a:lnTo>
                    <a:lnTo>
                      <a:pt x="257" y="475"/>
                    </a:lnTo>
                    <a:lnTo>
                      <a:pt x="229" y="448"/>
                    </a:lnTo>
                    <a:lnTo>
                      <a:pt x="203" y="421"/>
                    </a:lnTo>
                    <a:lnTo>
                      <a:pt x="175" y="391"/>
                    </a:lnTo>
                    <a:lnTo>
                      <a:pt x="147" y="360"/>
                    </a:lnTo>
                    <a:lnTo>
                      <a:pt x="100" y="299"/>
                    </a:lnTo>
                    <a:lnTo>
                      <a:pt x="65" y="244"/>
                    </a:lnTo>
                    <a:lnTo>
                      <a:pt x="38" y="197"/>
                    </a:lnTo>
                    <a:lnTo>
                      <a:pt x="21" y="157"/>
                    </a:lnTo>
                    <a:lnTo>
                      <a:pt x="9" y="125"/>
                    </a:lnTo>
                    <a:lnTo>
                      <a:pt x="3" y="102"/>
                    </a:lnTo>
                    <a:lnTo>
                      <a:pt x="0" y="87"/>
                    </a:lnTo>
                    <a:lnTo>
                      <a:pt x="0" y="82"/>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47" name="Group 34"/>
            <p:cNvGrpSpPr/>
            <p:nvPr/>
          </p:nvGrpSpPr>
          <p:grpSpPr>
            <a:xfrm>
              <a:off x="2100240" y="5638680"/>
              <a:ext cx="731880" cy="549360"/>
              <a:chOff x="2100240" y="5638680"/>
              <a:chExt cx="731880" cy="549360"/>
            </a:xfrm>
          </p:grpSpPr>
          <p:sp>
            <p:nvSpPr>
              <p:cNvPr id="248" name="Freeform 35"/>
              <p:cNvSpPr/>
              <p:nvPr/>
            </p:nvSpPr>
            <p:spPr>
              <a:xfrm>
                <a:off x="2100240" y="5638680"/>
                <a:ext cx="731880" cy="549360"/>
              </a:xfrm>
              <a:custGeom>
                <a:avLst/>
                <a:gdLst>
                  <a:gd name="textAreaLeft" fmla="*/ 0 w 731880"/>
                  <a:gd name="textAreaRight" fmla="*/ 732240 w 731880"/>
                  <a:gd name="textAreaTop" fmla="*/ 0 h 549360"/>
                  <a:gd name="textAreaBottom" fmla="*/ 549720 h 549360"/>
                </a:gdLst>
                <a:ahLst/>
                <a:rect l="textAreaLeft" t="textAreaTop" r="textAreaRight" b="textAreaBottom"/>
                <a:pathLst>
                  <a:path w="3006" h="2390">
                    <a:moveTo>
                      <a:pt x="516" y="468"/>
                    </a:moveTo>
                    <a:lnTo>
                      <a:pt x="264" y="419"/>
                    </a:lnTo>
                    <a:lnTo>
                      <a:pt x="262" y="425"/>
                    </a:lnTo>
                    <a:lnTo>
                      <a:pt x="255" y="441"/>
                    </a:lnTo>
                    <a:lnTo>
                      <a:pt x="243" y="466"/>
                    </a:lnTo>
                    <a:lnTo>
                      <a:pt x="229" y="501"/>
                    </a:lnTo>
                    <a:lnTo>
                      <a:pt x="212" y="542"/>
                    </a:lnTo>
                    <a:lnTo>
                      <a:pt x="192" y="591"/>
                    </a:lnTo>
                    <a:lnTo>
                      <a:pt x="172" y="644"/>
                    </a:lnTo>
                    <a:lnTo>
                      <a:pt x="150" y="701"/>
                    </a:lnTo>
                    <a:lnTo>
                      <a:pt x="128" y="761"/>
                    </a:lnTo>
                    <a:lnTo>
                      <a:pt x="106" y="823"/>
                    </a:lnTo>
                    <a:lnTo>
                      <a:pt x="86" y="888"/>
                    </a:lnTo>
                    <a:lnTo>
                      <a:pt x="67" y="951"/>
                    </a:lnTo>
                    <a:lnTo>
                      <a:pt x="51" y="1012"/>
                    </a:lnTo>
                    <a:lnTo>
                      <a:pt x="37" y="1073"/>
                    </a:lnTo>
                    <a:lnTo>
                      <a:pt x="26" y="1130"/>
                    </a:lnTo>
                    <a:lnTo>
                      <a:pt x="20" y="1182"/>
                    </a:lnTo>
                    <a:lnTo>
                      <a:pt x="8" y="1446"/>
                    </a:lnTo>
                    <a:lnTo>
                      <a:pt x="2" y="1790"/>
                    </a:lnTo>
                    <a:lnTo>
                      <a:pt x="0" y="2088"/>
                    </a:lnTo>
                    <a:lnTo>
                      <a:pt x="0" y="2216"/>
                    </a:lnTo>
                    <a:lnTo>
                      <a:pt x="157" y="2001"/>
                    </a:lnTo>
                    <a:lnTo>
                      <a:pt x="48" y="2240"/>
                    </a:lnTo>
                    <a:lnTo>
                      <a:pt x="97" y="2251"/>
                    </a:lnTo>
                    <a:lnTo>
                      <a:pt x="60" y="2364"/>
                    </a:lnTo>
                    <a:lnTo>
                      <a:pt x="65" y="2363"/>
                    </a:lnTo>
                    <a:lnTo>
                      <a:pt x="79" y="2361"/>
                    </a:lnTo>
                    <a:lnTo>
                      <a:pt x="103" y="2357"/>
                    </a:lnTo>
                    <a:lnTo>
                      <a:pt x="134" y="2352"/>
                    </a:lnTo>
                    <a:lnTo>
                      <a:pt x="171" y="2346"/>
                    </a:lnTo>
                    <a:lnTo>
                      <a:pt x="213" y="2339"/>
                    </a:lnTo>
                    <a:lnTo>
                      <a:pt x="259" y="2332"/>
                    </a:lnTo>
                    <a:lnTo>
                      <a:pt x="309" y="2325"/>
                    </a:lnTo>
                    <a:lnTo>
                      <a:pt x="361" y="2318"/>
                    </a:lnTo>
                    <a:lnTo>
                      <a:pt x="412" y="2311"/>
                    </a:lnTo>
                    <a:lnTo>
                      <a:pt x="464" y="2304"/>
                    </a:lnTo>
                    <a:lnTo>
                      <a:pt x="515" y="2299"/>
                    </a:lnTo>
                    <a:lnTo>
                      <a:pt x="563" y="2294"/>
                    </a:lnTo>
                    <a:lnTo>
                      <a:pt x="609" y="2290"/>
                    </a:lnTo>
                    <a:lnTo>
                      <a:pt x="650" y="2288"/>
                    </a:lnTo>
                    <a:lnTo>
                      <a:pt x="684" y="2288"/>
                    </a:lnTo>
                    <a:lnTo>
                      <a:pt x="724" y="2288"/>
                    </a:lnTo>
                    <a:lnTo>
                      <a:pt x="762" y="2288"/>
                    </a:lnTo>
                    <a:lnTo>
                      <a:pt x="801" y="2287"/>
                    </a:lnTo>
                    <a:lnTo>
                      <a:pt x="839" y="2286"/>
                    </a:lnTo>
                    <a:lnTo>
                      <a:pt x="877" y="2285"/>
                    </a:lnTo>
                    <a:lnTo>
                      <a:pt x="913" y="2282"/>
                    </a:lnTo>
                    <a:lnTo>
                      <a:pt x="947" y="2281"/>
                    </a:lnTo>
                    <a:lnTo>
                      <a:pt x="979" y="2279"/>
                    </a:lnTo>
                    <a:lnTo>
                      <a:pt x="1009" y="2277"/>
                    </a:lnTo>
                    <a:lnTo>
                      <a:pt x="1037" y="2276"/>
                    </a:lnTo>
                    <a:lnTo>
                      <a:pt x="1061" y="2273"/>
                    </a:lnTo>
                    <a:lnTo>
                      <a:pt x="1082" y="2272"/>
                    </a:lnTo>
                    <a:lnTo>
                      <a:pt x="1098" y="2271"/>
                    </a:lnTo>
                    <a:lnTo>
                      <a:pt x="1111" y="2270"/>
                    </a:lnTo>
                    <a:lnTo>
                      <a:pt x="1119" y="2269"/>
                    </a:lnTo>
                    <a:lnTo>
                      <a:pt x="1121" y="2269"/>
                    </a:lnTo>
                    <a:lnTo>
                      <a:pt x="1487" y="2390"/>
                    </a:lnTo>
                    <a:lnTo>
                      <a:pt x="2037" y="2251"/>
                    </a:lnTo>
                    <a:lnTo>
                      <a:pt x="2040" y="2250"/>
                    </a:lnTo>
                    <a:lnTo>
                      <a:pt x="2050" y="2248"/>
                    </a:lnTo>
                    <a:lnTo>
                      <a:pt x="2066" y="2244"/>
                    </a:lnTo>
                    <a:lnTo>
                      <a:pt x="2085" y="2240"/>
                    </a:lnTo>
                    <a:lnTo>
                      <a:pt x="2111" y="2234"/>
                    </a:lnTo>
                    <a:lnTo>
                      <a:pt x="2138" y="2228"/>
                    </a:lnTo>
                    <a:lnTo>
                      <a:pt x="2168" y="2221"/>
                    </a:lnTo>
                    <a:lnTo>
                      <a:pt x="2202" y="2214"/>
                    </a:lnTo>
                    <a:lnTo>
                      <a:pt x="2235" y="2208"/>
                    </a:lnTo>
                    <a:lnTo>
                      <a:pt x="2270" y="2201"/>
                    </a:lnTo>
                    <a:lnTo>
                      <a:pt x="2303" y="2195"/>
                    </a:lnTo>
                    <a:lnTo>
                      <a:pt x="2337" y="2189"/>
                    </a:lnTo>
                    <a:lnTo>
                      <a:pt x="2369" y="2185"/>
                    </a:lnTo>
                    <a:lnTo>
                      <a:pt x="2398" y="2181"/>
                    </a:lnTo>
                    <a:lnTo>
                      <a:pt x="2424" y="2179"/>
                    </a:lnTo>
                    <a:lnTo>
                      <a:pt x="2446" y="2178"/>
                    </a:lnTo>
                    <a:lnTo>
                      <a:pt x="2470" y="2178"/>
                    </a:lnTo>
                    <a:lnTo>
                      <a:pt x="2501" y="2180"/>
                    </a:lnTo>
                    <a:lnTo>
                      <a:pt x="2538" y="2181"/>
                    </a:lnTo>
                    <a:lnTo>
                      <a:pt x="2580" y="2185"/>
                    </a:lnTo>
                    <a:lnTo>
                      <a:pt x="2625" y="2188"/>
                    </a:lnTo>
                    <a:lnTo>
                      <a:pt x="2672" y="2191"/>
                    </a:lnTo>
                    <a:lnTo>
                      <a:pt x="2719" y="2195"/>
                    </a:lnTo>
                    <a:lnTo>
                      <a:pt x="2768" y="2198"/>
                    </a:lnTo>
                    <a:lnTo>
                      <a:pt x="2814" y="2203"/>
                    </a:lnTo>
                    <a:lnTo>
                      <a:pt x="2857" y="2206"/>
                    </a:lnTo>
                    <a:lnTo>
                      <a:pt x="2898" y="2210"/>
                    </a:lnTo>
                    <a:lnTo>
                      <a:pt x="2933" y="2213"/>
                    </a:lnTo>
                    <a:lnTo>
                      <a:pt x="2963" y="2217"/>
                    </a:lnTo>
                    <a:lnTo>
                      <a:pt x="2986" y="2218"/>
                    </a:lnTo>
                    <a:lnTo>
                      <a:pt x="3001" y="2220"/>
                    </a:lnTo>
                    <a:lnTo>
                      <a:pt x="3006" y="2220"/>
                    </a:lnTo>
                    <a:lnTo>
                      <a:pt x="3004" y="2218"/>
                    </a:lnTo>
                    <a:lnTo>
                      <a:pt x="2998" y="2210"/>
                    </a:lnTo>
                    <a:lnTo>
                      <a:pt x="2988" y="2197"/>
                    </a:lnTo>
                    <a:lnTo>
                      <a:pt x="2976" y="2179"/>
                    </a:lnTo>
                    <a:lnTo>
                      <a:pt x="2962" y="2153"/>
                    </a:lnTo>
                    <a:lnTo>
                      <a:pt x="2946" y="2121"/>
                    </a:lnTo>
                    <a:lnTo>
                      <a:pt x="2930" y="2082"/>
                    </a:lnTo>
                    <a:lnTo>
                      <a:pt x="2915" y="2035"/>
                    </a:lnTo>
                    <a:lnTo>
                      <a:pt x="2900" y="1980"/>
                    </a:lnTo>
                    <a:lnTo>
                      <a:pt x="2886" y="1916"/>
                    </a:lnTo>
                    <a:lnTo>
                      <a:pt x="2876" y="1844"/>
                    </a:lnTo>
                    <a:lnTo>
                      <a:pt x="2867" y="1761"/>
                    </a:lnTo>
                    <a:lnTo>
                      <a:pt x="2862" y="1670"/>
                    </a:lnTo>
                    <a:lnTo>
                      <a:pt x="2862" y="1567"/>
                    </a:lnTo>
                    <a:lnTo>
                      <a:pt x="2867" y="1454"/>
                    </a:lnTo>
                    <a:lnTo>
                      <a:pt x="2877" y="1330"/>
                    </a:lnTo>
                    <a:lnTo>
                      <a:pt x="2902" y="1096"/>
                    </a:lnTo>
                    <a:lnTo>
                      <a:pt x="2923" y="913"/>
                    </a:lnTo>
                    <a:lnTo>
                      <a:pt x="2941" y="775"/>
                    </a:lnTo>
                    <a:lnTo>
                      <a:pt x="2955" y="674"/>
                    </a:lnTo>
                    <a:lnTo>
                      <a:pt x="2966" y="606"/>
                    </a:lnTo>
                    <a:lnTo>
                      <a:pt x="2973" y="565"/>
                    </a:lnTo>
                    <a:lnTo>
                      <a:pt x="2977" y="545"/>
                    </a:lnTo>
                    <a:lnTo>
                      <a:pt x="2978" y="539"/>
                    </a:lnTo>
                    <a:lnTo>
                      <a:pt x="2839" y="546"/>
                    </a:lnTo>
                    <a:lnTo>
                      <a:pt x="2853" y="456"/>
                    </a:lnTo>
                    <a:lnTo>
                      <a:pt x="2685" y="432"/>
                    </a:lnTo>
                    <a:lnTo>
                      <a:pt x="2690" y="312"/>
                    </a:lnTo>
                    <a:lnTo>
                      <a:pt x="2688" y="312"/>
                    </a:lnTo>
                    <a:lnTo>
                      <a:pt x="2682" y="313"/>
                    </a:lnTo>
                    <a:lnTo>
                      <a:pt x="2673" y="314"/>
                    </a:lnTo>
                    <a:lnTo>
                      <a:pt x="2660" y="316"/>
                    </a:lnTo>
                    <a:lnTo>
                      <a:pt x="2645" y="318"/>
                    </a:lnTo>
                    <a:lnTo>
                      <a:pt x="2627" y="320"/>
                    </a:lnTo>
                    <a:lnTo>
                      <a:pt x="2605" y="322"/>
                    </a:lnTo>
                    <a:lnTo>
                      <a:pt x="2582" y="326"/>
                    </a:lnTo>
                    <a:lnTo>
                      <a:pt x="2556" y="329"/>
                    </a:lnTo>
                    <a:lnTo>
                      <a:pt x="2528" y="333"/>
                    </a:lnTo>
                    <a:lnTo>
                      <a:pt x="2498" y="337"/>
                    </a:lnTo>
                    <a:lnTo>
                      <a:pt x="2467" y="342"/>
                    </a:lnTo>
                    <a:lnTo>
                      <a:pt x="2435" y="347"/>
                    </a:lnTo>
                    <a:lnTo>
                      <a:pt x="2401" y="351"/>
                    </a:lnTo>
                    <a:lnTo>
                      <a:pt x="2365" y="356"/>
                    </a:lnTo>
                    <a:lnTo>
                      <a:pt x="2331" y="362"/>
                    </a:lnTo>
                    <a:lnTo>
                      <a:pt x="2295" y="366"/>
                    </a:lnTo>
                    <a:lnTo>
                      <a:pt x="2258" y="372"/>
                    </a:lnTo>
                    <a:lnTo>
                      <a:pt x="2223" y="378"/>
                    </a:lnTo>
                    <a:lnTo>
                      <a:pt x="2186" y="383"/>
                    </a:lnTo>
                    <a:lnTo>
                      <a:pt x="2150" y="389"/>
                    </a:lnTo>
                    <a:lnTo>
                      <a:pt x="2115" y="396"/>
                    </a:lnTo>
                    <a:lnTo>
                      <a:pt x="2081" y="402"/>
                    </a:lnTo>
                    <a:lnTo>
                      <a:pt x="2047" y="408"/>
                    </a:lnTo>
                    <a:lnTo>
                      <a:pt x="2015" y="413"/>
                    </a:lnTo>
                    <a:lnTo>
                      <a:pt x="1985" y="420"/>
                    </a:lnTo>
                    <a:lnTo>
                      <a:pt x="1956" y="426"/>
                    </a:lnTo>
                    <a:lnTo>
                      <a:pt x="1929" y="432"/>
                    </a:lnTo>
                    <a:lnTo>
                      <a:pt x="1905" y="439"/>
                    </a:lnTo>
                    <a:lnTo>
                      <a:pt x="1881" y="445"/>
                    </a:lnTo>
                    <a:lnTo>
                      <a:pt x="1862" y="450"/>
                    </a:lnTo>
                    <a:lnTo>
                      <a:pt x="1845" y="456"/>
                    </a:lnTo>
                    <a:lnTo>
                      <a:pt x="1814" y="469"/>
                    </a:lnTo>
                    <a:lnTo>
                      <a:pt x="1781" y="483"/>
                    </a:lnTo>
                    <a:lnTo>
                      <a:pt x="1750" y="500"/>
                    </a:lnTo>
                    <a:lnTo>
                      <a:pt x="1720" y="517"/>
                    </a:lnTo>
                    <a:lnTo>
                      <a:pt x="1690" y="535"/>
                    </a:lnTo>
                    <a:lnTo>
                      <a:pt x="1661" y="554"/>
                    </a:lnTo>
                    <a:lnTo>
                      <a:pt x="1634" y="573"/>
                    </a:lnTo>
                    <a:lnTo>
                      <a:pt x="1608" y="592"/>
                    </a:lnTo>
                    <a:lnTo>
                      <a:pt x="1585" y="610"/>
                    </a:lnTo>
                    <a:lnTo>
                      <a:pt x="1563" y="628"/>
                    </a:lnTo>
                    <a:lnTo>
                      <a:pt x="1545" y="644"/>
                    </a:lnTo>
                    <a:lnTo>
                      <a:pt x="1529" y="656"/>
                    </a:lnTo>
                    <a:lnTo>
                      <a:pt x="1515" y="668"/>
                    </a:lnTo>
                    <a:lnTo>
                      <a:pt x="1506" y="677"/>
                    </a:lnTo>
                    <a:lnTo>
                      <a:pt x="1500" y="682"/>
                    </a:lnTo>
                    <a:lnTo>
                      <a:pt x="1498" y="684"/>
                    </a:lnTo>
                    <a:lnTo>
                      <a:pt x="1494" y="693"/>
                    </a:lnTo>
                    <a:lnTo>
                      <a:pt x="1490" y="698"/>
                    </a:lnTo>
                    <a:lnTo>
                      <a:pt x="1484" y="699"/>
                    </a:lnTo>
                    <a:lnTo>
                      <a:pt x="1477" y="698"/>
                    </a:lnTo>
                    <a:lnTo>
                      <a:pt x="1468" y="693"/>
                    </a:lnTo>
                    <a:lnTo>
                      <a:pt x="1457" y="685"/>
                    </a:lnTo>
                    <a:lnTo>
                      <a:pt x="1445" y="676"/>
                    </a:lnTo>
                    <a:lnTo>
                      <a:pt x="1430" y="664"/>
                    </a:lnTo>
                    <a:lnTo>
                      <a:pt x="1413" y="651"/>
                    </a:lnTo>
                    <a:lnTo>
                      <a:pt x="1392" y="636"/>
                    </a:lnTo>
                    <a:lnTo>
                      <a:pt x="1370" y="620"/>
                    </a:lnTo>
                    <a:lnTo>
                      <a:pt x="1345" y="602"/>
                    </a:lnTo>
                    <a:lnTo>
                      <a:pt x="1317" y="584"/>
                    </a:lnTo>
                    <a:lnTo>
                      <a:pt x="1286" y="565"/>
                    </a:lnTo>
                    <a:lnTo>
                      <a:pt x="1251" y="547"/>
                    </a:lnTo>
                    <a:lnTo>
                      <a:pt x="1213" y="529"/>
                    </a:lnTo>
                    <a:lnTo>
                      <a:pt x="1180" y="515"/>
                    </a:lnTo>
                    <a:lnTo>
                      <a:pt x="1150" y="504"/>
                    </a:lnTo>
                    <a:lnTo>
                      <a:pt x="1121" y="495"/>
                    </a:lnTo>
                    <a:lnTo>
                      <a:pt x="1093" y="489"/>
                    </a:lnTo>
                    <a:lnTo>
                      <a:pt x="1068" y="485"/>
                    </a:lnTo>
                    <a:lnTo>
                      <a:pt x="1044" y="483"/>
                    </a:lnTo>
                    <a:lnTo>
                      <a:pt x="1022" y="480"/>
                    </a:lnTo>
                    <a:lnTo>
                      <a:pt x="1001" y="478"/>
                    </a:lnTo>
                    <a:lnTo>
                      <a:pt x="980" y="476"/>
                    </a:lnTo>
                    <a:lnTo>
                      <a:pt x="962" y="473"/>
                    </a:lnTo>
                    <a:lnTo>
                      <a:pt x="945" y="470"/>
                    </a:lnTo>
                    <a:lnTo>
                      <a:pt x="927" y="465"/>
                    </a:lnTo>
                    <a:lnTo>
                      <a:pt x="911" y="458"/>
                    </a:lnTo>
                    <a:lnTo>
                      <a:pt x="896" y="450"/>
                    </a:lnTo>
                    <a:lnTo>
                      <a:pt x="881" y="439"/>
                    </a:lnTo>
                    <a:lnTo>
                      <a:pt x="868" y="424"/>
                    </a:lnTo>
                    <a:lnTo>
                      <a:pt x="848" y="351"/>
                    </a:lnTo>
                    <a:lnTo>
                      <a:pt x="836" y="278"/>
                    </a:lnTo>
                    <a:lnTo>
                      <a:pt x="833" y="206"/>
                    </a:lnTo>
                    <a:lnTo>
                      <a:pt x="834" y="140"/>
                    </a:lnTo>
                    <a:lnTo>
                      <a:pt x="838" y="84"/>
                    </a:lnTo>
                    <a:lnTo>
                      <a:pt x="842" y="40"/>
                    </a:lnTo>
                    <a:lnTo>
                      <a:pt x="845" y="10"/>
                    </a:lnTo>
                    <a:lnTo>
                      <a:pt x="843" y="0"/>
                    </a:lnTo>
                    <a:lnTo>
                      <a:pt x="5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Freeform 36"/>
              <p:cNvSpPr/>
              <p:nvPr/>
            </p:nvSpPr>
            <p:spPr>
              <a:xfrm>
                <a:off x="2133360" y="5799960"/>
                <a:ext cx="403200" cy="375120"/>
              </a:xfrm>
              <a:custGeom>
                <a:avLst/>
                <a:gdLst>
                  <a:gd name="textAreaLeft" fmla="*/ 0 w 403200"/>
                  <a:gd name="textAreaRight" fmla="*/ 403560 w 403200"/>
                  <a:gd name="textAreaTop" fmla="*/ 0 h 375120"/>
                  <a:gd name="textAreaBottom" fmla="*/ 375480 h 37512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Freeform 37"/>
              <p:cNvSpPr/>
              <p:nvPr/>
            </p:nvSpPr>
            <p:spPr>
              <a:xfrm>
                <a:off x="2133360" y="5799960"/>
                <a:ext cx="403200" cy="375120"/>
              </a:xfrm>
              <a:custGeom>
                <a:avLst/>
                <a:gdLst>
                  <a:gd name="textAreaLeft" fmla="*/ 0 w 403200"/>
                  <a:gd name="textAreaRight" fmla="*/ 403560 w 403200"/>
                  <a:gd name="textAreaTop" fmla="*/ 0 h 375120"/>
                  <a:gd name="textAreaBottom" fmla="*/ 375480 h 37512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Freeform 38"/>
              <p:cNvSpPr/>
              <p:nvPr/>
            </p:nvSpPr>
            <p:spPr>
              <a:xfrm>
                <a:off x="2122920" y="5777280"/>
                <a:ext cx="403200" cy="375480"/>
              </a:xfrm>
              <a:custGeom>
                <a:avLst/>
                <a:gdLst>
                  <a:gd name="textAreaLeft" fmla="*/ 0 w 403200"/>
                  <a:gd name="textAreaRight" fmla="*/ 403560 w 403200"/>
                  <a:gd name="textAreaTop" fmla="*/ 0 h 375480"/>
                  <a:gd name="textAreaBottom" fmla="*/ 375840 h 37548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Freeform 39"/>
              <p:cNvSpPr/>
              <p:nvPr/>
            </p:nvSpPr>
            <p:spPr>
              <a:xfrm>
                <a:off x="2122920" y="5777280"/>
                <a:ext cx="403200" cy="375480"/>
              </a:xfrm>
              <a:custGeom>
                <a:avLst/>
                <a:gdLst>
                  <a:gd name="textAreaLeft" fmla="*/ 0 w 403200"/>
                  <a:gd name="textAreaRight" fmla="*/ 403560 w 403200"/>
                  <a:gd name="textAreaTop" fmla="*/ 0 h 375480"/>
                  <a:gd name="textAreaBottom" fmla="*/ 375840 h 37548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Freeform 40"/>
              <p:cNvSpPr/>
              <p:nvPr/>
            </p:nvSpPr>
            <p:spPr>
              <a:xfrm>
                <a:off x="2107080" y="5745960"/>
                <a:ext cx="429480" cy="435960"/>
              </a:xfrm>
              <a:custGeom>
                <a:avLst/>
                <a:gdLst>
                  <a:gd name="textAreaLeft" fmla="*/ 0 w 429480"/>
                  <a:gd name="textAreaRight" fmla="*/ 429840 w 429480"/>
                  <a:gd name="textAreaTop" fmla="*/ 0 h 435960"/>
                  <a:gd name="textAreaBottom" fmla="*/ 436320 h 43596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Freeform 41"/>
              <p:cNvSpPr/>
              <p:nvPr/>
            </p:nvSpPr>
            <p:spPr>
              <a:xfrm>
                <a:off x="2107080" y="5745960"/>
                <a:ext cx="429480" cy="435960"/>
              </a:xfrm>
              <a:custGeom>
                <a:avLst/>
                <a:gdLst>
                  <a:gd name="textAreaLeft" fmla="*/ 0 w 429480"/>
                  <a:gd name="textAreaRight" fmla="*/ 429840 w 429480"/>
                  <a:gd name="textAreaTop" fmla="*/ 0 h 435960"/>
                  <a:gd name="textAreaBottom" fmla="*/ 436320 h 43596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Freeform 42"/>
              <p:cNvSpPr/>
              <p:nvPr/>
            </p:nvSpPr>
            <p:spPr>
              <a:xfrm>
                <a:off x="2468160" y="5768280"/>
                <a:ext cx="353520" cy="411480"/>
              </a:xfrm>
              <a:custGeom>
                <a:avLst/>
                <a:gdLst>
                  <a:gd name="textAreaLeft" fmla="*/ 0 w 353520"/>
                  <a:gd name="textAreaRight" fmla="*/ 353880 w 353520"/>
                  <a:gd name="textAreaTop" fmla="*/ 0 h 411480"/>
                  <a:gd name="textAreaBottom" fmla="*/ 411840 h 41148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Freeform 43"/>
              <p:cNvSpPr/>
              <p:nvPr/>
            </p:nvSpPr>
            <p:spPr>
              <a:xfrm>
                <a:off x="2468160" y="5768280"/>
                <a:ext cx="353520" cy="411480"/>
              </a:xfrm>
              <a:custGeom>
                <a:avLst/>
                <a:gdLst>
                  <a:gd name="textAreaLeft" fmla="*/ 0 w 353520"/>
                  <a:gd name="textAreaRight" fmla="*/ 353880 w 353520"/>
                  <a:gd name="textAreaTop" fmla="*/ 0 h 411480"/>
                  <a:gd name="textAreaBottom" fmla="*/ 411840 h 41148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Freeform 44"/>
              <p:cNvSpPr/>
              <p:nvPr/>
            </p:nvSpPr>
            <p:spPr>
              <a:xfrm>
                <a:off x="2457000" y="5744880"/>
                <a:ext cx="327600" cy="437040"/>
              </a:xfrm>
              <a:custGeom>
                <a:avLst/>
                <a:gdLst>
                  <a:gd name="textAreaLeft" fmla="*/ 0 w 327600"/>
                  <a:gd name="textAreaRight" fmla="*/ 327960 w 327600"/>
                  <a:gd name="textAreaTop" fmla="*/ 0 h 437040"/>
                  <a:gd name="textAreaBottom" fmla="*/ 437400 h 43704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Freeform 45"/>
              <p:cNvSpPr/>
              <p:nvPr/>
            </p:nvSpPr>
            <p:spPr>
              <a:xfrm>
                <a:off x="2457000" y="5744880"/>
                <a:ext cx="327600" cy="437040"/>
              </a:xfrm>
              <a:custGeom>
                <a:avLst/>
                <a:gdLst>
                  <a:gd name="textAreaLeft" fmla="*/ 0 w 327600"/>
                  <a:gd name="textAreaRight" fmla="*/ 327960 w 327600"/>
                  <a:gd name="textAreaTop" fmla="*/ 0 h 437040"/>
                  <a:gd name="textAreaBottom" fmla="*/ 437400 h 43704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9" name="Freeform 46"/>
              <p:cNvSpPr/>
              <p:nvPr/>
            </p:nvSpPr>
            <p:spPr>
              <a:xfrm>
                <a:off x="2197080" y="5742000"/>
                <a:ext cx="140040" cy="398520"/>
              </a:xfrm>
              <a:custGeom>
                <a:avLst/>
                <a:gdLst>
                  <a:gd name="textAreaLeft" fmla="*/ 0 w 140040"/>
                  <a:gd name="textAreaRight" fmla="*/ 140400 w 140040"/>
                  <a:gd name="textAreaTop" fmla="*/ 0 h 398520"/>
                  <a:gd name="textAreaBottom" fmla="*/ 398880 h 398520"/>
                </a:gdLst>
                <a:ahLst/>
                <a:rect l="textAreaLeft" t="textAreaTop" r="textAreaRight" b="textAreaBottom"/>
                <a:pathLst>
                  <a:path w="578" h="1736">
                    <a:moveTo>
                      <a:pt x="111" y="43"/>
                    </a:moveTo>
                    <a:lnTo>
                      <a:pt x="106" y="54"/>
                    </a:lnTo>
                    <a:lnTo>
                      <a:pt x="94" y="85"/>
                    </a:lnTo>
                    <a:lnTo>
                      <a:pt x="77" y="136"/>
                    </a:lnTo>
                    <a:lnTo>
                      <a:pt x="56" y="203"/>
                    </a:lnTo>
                    <a:lnTo>
                      <a:pt x="35" y="285"/>
                    </a:lnTo>
                    <a:lnTo>
                      <a:pt x="18" y="378"/>
                    </a:lnTo>
                    <a:lnTo>
                      <a:pt x="5" y="480"/>
                    </a:lnTo>
                    <a:lnTo>
                      <a:pt x="0" y="592"/>
                    </a:lnTo>
                    <a:lnTo>
                      <a:pt x="3" y="705"/>
                    </a:lnTo>
                    <a:lnTo>
                      <a:pt x="10" y="813"/>
                    </a:lnTo>
                    <a:lnTo>
                      <a:pt x="21" y="916"/>
                    </a:lnTo>
                    <a:lnTo>
                      <a:pt x="37" y="1012"/>
                    </a:lnTo>
                    <a:lnTo>
                      <a:pt x="58" y="1104"/>
                    </a:lnTo>
                    <a:lnTo>
                      <a:pt x="85" y="1191"/>
                    </a:lnTo>
                    <a:lnTo>
                      <a:pt x="116" y="1270"/>
                    </a:lnTo>
                    <a:lnTo>
                      <a:pt x="153" y="1345"/>
                    </a:lnTo>
                    <a:lnTo>
                      <a:pt x="174" y="1381"/>
                    </a:lnTo>
                    <a:lnTo>
                      <a:pt x="202" y="1418"/>
                    </a:lnTo>
                    <a:lnTo>
                      <a:pt x="232" y="1452"/>
                    </a:lnTo>
                    <a:lnTo>
                      <a:pt x="264" y="1487"/>
                    </a:lnTo>
                    <a:lnTo>
                      <a:pt x="299" y="1521"/>
                    </a:lnTo>
                    <a:lnTo>
                      <a:pt x="335" y="1554"/>
                    </a:lnTo>
                    <a:lnTo>
                      <a:pt x="370" y="1584"/>
                    </a:lnTo>
                    <a:lnTo>
                      <a:pt x="405" y="1612"/>
                    </a:lnTo>
                    <a:lnTo>
                      <a:pt x="439" y="1639"/>
                    </a:lnTo>
                    <a:lnTo>
                      <a:pt x="472" y="1663"/>
                    </a:lnTo>
                    <a:lnTo>
                      <a:pt x="501" y="1684"/>
                    </a:lnTo>
                    <a:lnTo>
                      <a:pt x="526" y="1702"/>
                    </a:lnTo>
                    <a:lnTo>
                      <a:pt x="548" y="1716"/>
                    </a:lnTo>
                    <a:lnTo>
                      <a:pt x="564" y="1726"/>
                    </a:lnTo>
                    <a:lnTo>
                      <a:pt x="574" y="1733"/>
                    </a:lnTo>
                    <a:lnTo>
                      <a:pt x="578" y="1736"/>
                    </a:lnTo>
                    <a:lnTo>
                      <a:pt x="492" y="1632"/>
                    </a:lnTo>
                    <a:lnTo>
                      <a:pt x="489" y="1630"/>
                    </a:lnTo>
                    <a:lnTo>
                      <a:pt x="477" y="1623"/>
                    </a:lnTo>
                    <a:lnTo>
                      <a:pt x="461" y="1610"/>
                    </a:lnTo>
                    <a:lnTo>
                      <a:pt x="438" y="1594"/>
                    </a:lnTo>
                    <a:lnTo>
                      <a:pt x="413" y="1573"/>
                    </a:lnTo>
                    <a:lnTo>
                      <a:pt x="383" y="1549"/>
                    </a:lnTo>
                    <a:lnTo>
                      <a:pt x="352" y="1520"/>
                    </a:lnTo>
                    <a:lnTo>
                      <a:pt x="318" y="1488"/>
                    </a:lnTo>
                    <a:lnTo>
                      <a:pt x="285" y="1451"/>
                    </a:lnTo>
                    <a:lnTo>
                      <a:pt x="253" y="1412"/>
                    </a:lnTo>
                    <a:lnTo>
                      <a:pt x="222" y="1369"/>
                    </a:lnTo>
                    <a:lnTo>
                      <a:pt x="193" y="1323"/>
                    </a:lnTo>
                    <a:lnTo>
                      <a:pt x="168" y="1275"/>
                    </a:lnTo>
                    <a:lnTo>
                      <a:pt x="147" y="1223"/>
                    </a:lnTo>
                    <a:lnTo>
                      <a:pt x="131" y="1169"/>
                    </a:lnTo>
                    <a:lnTo>
                      <a:pt x="121" y="1113"/>
                    </a:lnTo>
                    <a:lnTo>
                      <a:pt x="108" y="996"/>
                    </a:lnTo>
                    <a:lnTo>
                      <a:pt x="92" y="882"/>
                    </a:lnTo>
                    <a:lnTo>
                      <a:pt x="75" y="771"/>
                    </a:lnTo>
                    <a:lnTo>
                      <a:pt x="62" y="665"/>
                    </a:lnTo>
                    <a:lnTo>
                      <a:pt x="49" y="567"/>
                    </a:lnTo>
                    <a:lnTo>
                      <a:pt x="42" y="480"/>
                    </a:lnTo>
                    <a:lnTo>
                      <a:pt x="41" y="407"/>
                    </a:lnTo>
                    <a:lnTo>
                      <a:pt x="47" y="349"/>
                    </a:lnTo>
                    <a:lnTo>
                      <a:pt x="59" y="305"/>
                    </a:lnTo>
                    <a:lnTo>
                      <a:pt x="79" y="252"/>
                    </a:lnTo>
                    <a:lnTo>
                      <a:pt x="103" y="195"/>
                    </a:lnTo>
                    <a:lnTo>
                      <a:pt x="128" y="137"/>
                    </a:lnTo>
                    <a:lnTo>
                      <a:pt x="154" y="84"/>
                    </a:lnTo>
                    <a:lnTo>
                      <a:pt x="174" y="40"/>
                    </a:lnTo>
                    <a:lnTo>
                      <a:pt x="189" y="10"/>
                    </a:lnTo>
                    <a:lnTo>
                      <a:pt x="195" y="0"/>
                    </a:lnTo>
                    <a:lnTo>
                      <a:pt x="11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Freeform 47"/>
              <p:cNvSpPr/>
              <p:nvPr/>
            </p:nvSpPr>
            <p:spPr>
              <a:xfrm>
                <a:off x="2207520" y="5820840"/>
                <a:ext cx="152280" cy="324000"/>
              </a:xfrm>
              <a:custGeom>
                <a:avLst/>
                <a:gdLst>
                  <a:gd name="textAreaLeft" fmla="*/ 0 w 152280"/>
                  <a:gd name="textAreaRight" fmla="*/ 152640 w 152280"/>
                  <a:gd name="textAreaTop" fmla="*/ 0 h 324000"/>
                  <a:gd name="textAreaBottom" fmla="*/ 324000 h 324000"/>
                </a:gdLst>
                <a:ahLst/>
                <a:rect l="textAreaLeft" t="textAreaTop" r="textAreaRight" b="textAreaBottom"/>
                <a:pathLst>
                  <a:path w="626" h="1411">
                    <a:moveTo>
                      <a:pt x="0" y="0"/>
                    </a:moveTo>
                    <a:lnTo>
                      <a:pt x="0" y="27"/>
                    </a:lnTo>
                    <a:lnTo>
                      <a:pt x="2" y="100"/>
                    </a:lnTo>
                    <a:lnTo>
                      <a:pt x="4" y="209"/>
                    </a:lnTo>
                    <a:lnTo>
                      <a:pt x="12" y="343"/>
                    </a:lnTo>
                    <a:lnTo>
                      <a:pt x="26" y="492"/>
                    </a:lnTo>
                    <a:lnTo>
                      <a:pt x="48" y="645"/>
                    </a:lnTo>
                    <a:lnTo>
                      <a:pt x="80" y="793"/>
                    </a:lnTo>
                    <a:lnTo>
                      <a:pt x="123" y="922"/>
                    </a:lnTo>
                    <a:lnTo>
                      <a:pt x="150" y="978"/>
                    </a:lnTo>
                    <a:lnTo>
                      <a:pt x="182" y="1032"/>
                    </a:lnTo>
                    <a:lnTo>
                      <a:pt x="218" y="1083"/>
                    </a:lnTo>
                    <a:lnTo>
                      <a:pt x="256" y="1130"/>
                    </a:lnTo>
                    <a:lnTo>
                      <a:pt x="298" y="1174"/>
                    </a:lnTo>
                    <a:lnTo>
                      <a:pt x="339" y="1214"/>
                    </a:lnTo>
                    <a:lnTo>
                      <a:pt x="382" y="1250"/>
                    </a:lnTo>
                    <a:lnTo>
                      <a:pt x="423" y="1283"/>
                    </a:lnTo>
                    <a:lnTo>
                      <a:pt x="464" y="1313"/>
                    </a:lnTo>
                    <a:lnTo>
                      <a:pt x="502" y="1338"/>
                    </a:lnTo>
                    <a:lnTo>
                      <a:pt x="536" y="1360"/>
                    </a:lnTo>
                    <a:lnTo>
                      <a:pt x="566" y="1379"/>
                    </a:lnTo>
                    <a:lnTo>
                      <a:pt x="590" y="1393"/>
                    </a:lnTo>
                    <a:lnTo>
                      <a:pt x="610" y="1403"/>
                    </a:lnTo>
                    <a:lnTo>
                      <a:pt x="621" y="1409"/>
                    </a:lnTo>
                    <a:lnTo>
                      <a:pt x="626" y="1411"/>
                    </a:lnTo>
                    <a:lnTo>
                      <a:pt x="600" y="5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1" name="Freeform 48"/>
              <p:cNvSpPr/>
              <p:nvPr/>
            </p:nvSpPr>
            <p:spPr>
              <a:xfrm>
                <a:off x="2206800" y="5820840"/>
                <a:ext cx="153360" cy="324000"/>
              </a:xfrm>
              <a:custGeom>
                <a:avLst/>
                <a:gdLst>
                  <a:gd name="textAreaLeft" fmla="*/ 0 w 153360"/>
                  <a:gd name="textAreaRight" fmla="*/ 153720 w 153360"/>
                  <a:gd name="textAreaTop" fmla="*/ 0 h 324000"/>
                  <a:gd name="textAreaBottom" fmla="*/ 324000 h 324000"/>
                </a:gdLst>
                <a:ahLst/>
                <a:rect l="textAreaLeft" t="textAreaTop" r="textAreaRight" b="textAreaBottom"/>
                <a:pathLst>
                  <a:path w="629" h="1411">
                    <a:moveTo>
                      <a:pt x="3" y="0"/>
                    </a:moveTo>
                    <a:lnTo>
                      <a:pt x="2" y="26"/>
                    </a:lnTo>
                    <a:lnTo>
                      <a:pt x="0" y="96"/>
                    </a:lnTo>
                    <a:lnTo>
                      <a:pt x="0" y="202"/>
                    </a:lnTo>
                    <a:lnTo>
                      <a:pt x="3" y="332"/>
                    </a:lnTo>
                    <a:lnTo>
                      <a:pt x="15" y="479"/>
                    </a:lnTo>
                    <a:lnTo>
                      <a:pt x="37" y="632"/>
                    </a:lnTo>
                    <a:lnTo>
                      <a:pt x="70" y="783"/>
                    </a:lnTo>
                    <a:lnTo>
                      <a:pt x="120" y="922"/>
                    </a:lnTo>
                    <a:lnTo>
                      <a:pt x="151" y="983"/>
                    </a:lnTo>
                    <a:lnTo>
                      <a:pt x="185" y="1039"/>
                    </a:lnTo>
                    <a:lnTo>
                      <a:pt x="222" y="1092"/>
                    </a:lnTo>
                    <a:lnTo>
                      <a:pt x="263" y="1140"/>
                    </a:lnTo>
                    <a:lnTo>
                      <a:pt x="305" y="1184"/>
                    </a:lnTo>
                    <a:lnTo>
                      <a:pt x="347" y="1224"/>
                    </a:lnTo>
                    <a:lnTo>
                      <a:pt x="389" y="1260"/>
                    </a:lnTo>
                    <a:lnTo>
                      <a:pt x="431" y="1292"/>
                    </a:lnTo>
                    <a:lnTo>
                      <a:pt x="471" y="1320"/>
                    </a:lnTo>
                    <a:lnTo>
                      <a:pt x="508" y="1345"/>
                    </a:lnTo>
                    <a:lnTo>
                      <a:pt x="541" y="1365"/>
                    </a:lnTo>
                    <a:lnTo>
                      <a:pt x="570" y="1382"/>
                    </a:lnTo>
                    <a:lnTo>
                      <a:pt x="594" y="1395"/>
                    </a:lnTo>
                    <a:lnTo>
                      <a:pt x="613" y="1404"/>
                    </a:lnTo>
                    <a:lnTo>
                      <a:pt x="624" y="1409"/>
                    </a:lnTo>
                    <a:lnTo>
                      <a:pt x="629" y="1411"/>
                    </a:lnTo>
                    <a:lnTo>
                      <a:pt x="603" y="543"/>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Freeform 49"/>
              <p:cNvSpPr/>
              <p:nvPr/>
            </p:nvSpPr>
            <p:spPr>
              <a:xfrm>
                <a:off x="2210760" y="5645880"/>
                <a:ext cx="289080" cy="536040"/>
              </a:xfrm>
              <a:custGeom>
                <a:avLst/>
                <a:gdLst>
                  <a:gd name="textAreaLeft" fmla="*/ 0 w 289080"/>
                  <a:gd name="textAreaRight" fmla="*/ 289440 w 289080"/>
                  <a:gd name="textAreaTop" fmla="*/ 0 h 536040"/>
                  <a:gd name="textAreaBottom" fmla="*/ 536400 h 53604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Freeform 50"/>
              <p:cNvSpPr/>
              <p:nvPr/>
            </p:nvSpPr>
            <p:spPr>
              <a:xfrm>
                <a:off x="2210760" y="5645880"/>
                <a:ext cx="289080" cy="536040"/>
              </a:xfrm>
              <a:custGeom>
                <a:avLst/>
                <a:gdLst>
                  <a:gd name="textAreaLeft" fmla="*/ 0 w 289080"/>
                  <a:gd name="textAreaRight" fmla="*/ 289440 w 289080"/>
                  <a:gd name="textAreaTop" fmla="*/ 0 h 536040"/>
                  <a:gd name="textAreaBottom" fmla="*/ 536400 h 53604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Freeform 51"/>
              <p:cNvSpPr/>
              <p:nvPr/>
            </p:nvSpPr>
            <p:spPr>
              <a:xfrm>
                <a:off x="2444400" y="5722200"/>
                <a:ext cx="303120" cy="459720"/>
              </a:xfrm>
              <a:custGeom>
                <a:avLst/>
                <a:gdLst>
                  <a:gd name="textAreaLeft" fmla="*/ 0 w 303120"/>
                  <a:gd name="textAreaRight" fmla="*/ 303480 w 303120"/>
                  <a:gd name="textAreaTop" fmla="*/ 0 h 459720"/>
                  <a:gd name="textAreaBottom" fmla="*/ 460080 h 45972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Freeform 52"/>
              <p:cNvSpPr/>
              <p:nvPr/>
            </p:nvSpPr>
            <p:spPr>
              <a:xfrm>
                <a:off x="2444400" y="5722200"/>
                <a:ext cx="303120" cy="459720"/>
              </a:xfrm>
              <a:custGeom>
                <a:avLst/>
                <a:gdLst>
                  <a:gd name="textAreaLeft" fmla="*/ 0 w 303120"/>
                  <a:gd name="textAreaRight" fmla="*/ 303480 w 303120"/>
                  <a:gd name="textAreaTop" fmla="*/ 0 h 459720"/>
                  <a:gd name="textAreaBottom" fmla="*/ 460080 h 45972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Freeform 53"/>
              <p:cNvSpPr/>
              <p:nvPr/>
            </p:nvSpPr>
            <p:spPr>
              <a:xfrm>
                <a:off x="2136960" y="6062400"/>
                <a:ext cx="123480" cy="38160"/>
              </a:xfrm>
              <a:custGeom>
                <a:avLst/>
                <a:gdLst>
                  <a:gd name="textAreaLeft" fmla="*/ 0 w 123480"/>
                  <a:gd name="textAreaRight" fmla="*/ 123840 w 123480"/>
                  <a:gd name="textAreaTop" fmla="*/ 0 h 38160"/>
                  <a:gd name="textAreaBottom" fmla="*/ 38520 h 38160"/>
                </a:gdLst>
                <a:ahLst/>
                <a:rect l="textAreaLeft" t="textAreaTop" r="textAreaRight" b="textAreaBottom"/>
                <a:pathLst>
                  <a:path w="508" h="167">
                    <a:moveTo>
                      <a:pt x="0" y="167"/>
                    </a:moveTo>
                    <a:lnTo>
                      <a:pt x="1" y="165"/>
                    </a:lnTo>
                    <a:lnTo>
                      <a:pt x="5" y="162"/>
                    </a:lnTo>
                    <a:lnTo>
                      <a:pt x="10" y="156"/>
                    </a:lnTo>
                    <a:lnTo>
                      <a:pt x="17" y="149"/>
                    </a:lnTo>
                    <a:lnTo>
                      <a:pt x="28" y="141"/>
                    </a:lnTo>
                    <a:lnTo>
                      <a:pt x="39" y="132"/>
                    </a:lnTo>
                    <a:lnTo>
                      <a:pt x="52" y="122"/>
                    </a:lnTo>
                    <a:lnTo>
                      <a:pt x="68" y="111"/>
                    </a:lnTo>
                    <a:lnTo>
                      <a:pt x="84" y="102"/>
                    </a:lnTo>
                    <a:lnTo>
                      <a:pt x="103" y="92"/>
                    </a:lnTo>
                    <a:lnTo>
                      <a:pt x="122" y="83"/>
                    </a:lnTo>
                    <a:lnTo>
                      <a:pt x="143" y="75"/>
                    </a:lnTo>
                    <a:lnTo>
                      <a:pt x="165" y="68"/>
                    </a:lnTo>
                    <a:lnTo>
                      <a:pt x="189" y="62"/>
                    </a:lnTo>
                    <a:lnTo>
                      <a:pt x="213" y="58"/>
                    </a:lnTo>
                    <a:lnTo>
                      <a:pt x="239" y="57"/>
                    </a:lnTo>
                    <a:lnTo>
                      <a:pt x="264" y="57"/>
                    </a:lnTo>
                    <a:lnTo>
                      <a:pt x="290" y="57"/>
                    </a:lnTo>
                    <a:lnTo>
                      <a:pt x="315" y="56"/>
                    </a:lnTo>
                    <a:lnTo>
                      <a:pt x="339" y="56"/>
                    </a:lnTo>
                    <a:lnTo>
                      <a:pt x="362" y="55"/>
                    </a:lnTo>
                    <a:lnTo>
                      <a:pt x="385" y="54"/>
                    </a:lnTo>
                    <a:lnTo>
                      <a:pt x="406" y="53"/>
                    </a:lnTo>
                    <a:lnTo>
                      <a:pt x="425" y="51"/>
                    </a:lnTo>
                    <a:lnTo>
                      <a:pt x="444" y="51"/>
                    </a:lnTo>
                    <a:lnTo>
                      <a:pt x="460" y="50"/>
                    </a:lnTo>
                    <a:lnTo>
                      <a:pt x="474" y="49"/>
                    </a:lnTo>
                    <a:lnTo>
                      <a:pt x="485" y="48"/>
                    </a:lnTo>
                    <a:lnTo>
                      <a:pt x="496" y="48"/>
                    </a:lnTo>
                    <a:lnTo>
                      <a:pt x="502" y="47"/>
                    </a:lnTo>
                    <a:lnTo>
                      <a:pt x="507" y="47"/>
                    </a:lnTo>
                    <a:lnTo>
                      <a:pt x="508" y="47"/>
                    </a:lnTo>
                    <a:lnTo>
                      <a:pt x="460" y="5"/>
                    </a:lnTo>
                    <a:lnTo>
                      <a:pt x="459" y="5"/>
                    </a:lnTo>
                    <a:lnTo>
                      <a:pt x="454" y="5"/>
                    </a:lnTo>
                    <a:lnTo>
                      <a:pt x="446" y="4"/>
                    </a:lnTo>
                    <a:lnTo>
                      <a:pt x="437" y="4"/>
                    </a:lnTo>
                    <a:lnTo>
                      <a:pt x="425" y="3"/>
                    </a:lnTo>
                    <a:lnTo>
                      <a:pt x="411" y="2"/>
                    </a:lnTo>
                    <a:lnTo>
                      <a:pt x="396" y="2"/>
                    </a:lnTo>
                    <a:lnTo>
                      <a:pt x="379" y="1"/>
                    </a:lnTo>
                    <a:lnTo>
                      <a:pt x="362" y="1"/>
                    </a:lnTo>
                    <a:lnTo>
                      <a:pt x="343" y="0"/>
                    </a:lnTo>
                    <a:lnTo>
                      <a:pt x="324" y="0"/>
                    </a:lnTo>
                    <a:lnTo>
                      <a:pt x="304" y="0"/>
                    </a:lnTo>
                    <a:lnTo>
                      <a:pt x="285" y="1"/>
                    </a:lnTo>
                    <a:lnTo>
                      <a:pt x="265" y="1"/>
                    </a:lnTo>
                    <a:lnTo>
                      <a:pt x="247" y="3"/>
                    </a:lnTo>
                    <a:lnTo>
                      <a:pt x="228" y="4"/>
                    </a:lnTo>
                    <a:lnTo>
                      <a:pt x="210" y="7"/>
                    </a:lnTo>
                    <a:lnTo>
                      <a:pt x="191" y="11"/>
                    </a:lnTo>
                    <a:lnTo>
                      <a:pt x="173" y="16"/>
                    </a:lnTo>
                    <a:lnTo>
                      <a:pt x="154" y="22"/>
                    </a:lnTo>
                    <a:lnTo>
                      <a:pt x="136" y="28"/>
                    </a:lnTo>
                    <a:lnTo>
                      <a:pt x="119" y="35"/>
                    </a:lnTo>
                    <a:lnTo>
                      <a:pt x="101" y="42"/>
                    </a:lnTo>
                    <a:lnTo>
                      <a:pt x="85" y="49"/>
                    </a:lnTo>
                    <a:lnTo>
                      <a:pt x="70" y="57"/>
                    </a:lnTo>
                    <a:lnTo>
                      <a:pt x="58" y="64"/>
                    </a:lnTo>
                    <a:lnTo>
                      <a:pt x="45" y="70"/>
                    </a:lnTo>
                    <a:lnTo>
                      <a:pt x="35" y="76"/>
                    </a:lnTo>
                    <a:lnTo>
                      <a:pt x="27" y="80"/>
                    </a:lnTo>
                    <a:lnTo>
                      <a:pt x="21" y="84"/>
                    </a:lnTo>
                    <a:lnTo>
                      <a:pt x="16" y="86"/>
                    </a:lnTo>
                    <a:lnTo>
                      <a:pt x="15" y="87"/>
                    </a:lnTo>
                    <a:lnTo>
                      <a:pt x="0" y="16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336666"/>
                  </a:solidFill>
                  <a:latin typeface="Arial"/>
                </a:endParaRPr>
              </a:p>
            </p:txBody>
          </p:sp>
          <p:sp>
            <p:nvSpPr>
              <p:cNvPr id="267" name="Freeform 54"/>
              <p:cNvSpPr/>
              <p:nvPr/>
            </p:nvSpPr>
            <p:spPr>
              <a:xfrm>
                <a:off x="2132280" y="6120000"/>
                <a:ext cx="203400" cy="30960"/>
              </a:xfrm>
              <a:custGeom>
                <a:avLst/>
                <a:gdLst>
                  <a:gd name="textAreaLeft" fmla="*/ 0 w 203400"/>
                  <a:gd name="textAreaRight" fmla="*/ 203760 w 203400"/>
                  <a:gd name="textAreaTop" fmla="*/ 0 h 30960"/>
                  <a:gd name="textAreaBottom" fmla="*/ 31320 h 30960"/>
                </a:gdLst>
                <a:ahLst/>
                <a:rect l="textAreaLeft" t="textAreaTop" r="textAreaRight" b="textAreaBottom"/>
                <a:pathLst>
                  <a:path w="837" h="137">
                    <a:moveTo>
                      <a:pt x="39" y="137"/>
                    </a:moveTo>
                    <a:lnTo>
                      <a:pt x="41" y="135"/>
                    </a:lnTo>
                    <a:lnTo>
                      <a:pt x="49" y="133"/>
                    </a:lnTo>
                    <a:lnTo>
                      <a:pt x="62" y="130"/>
                    </a:lnTo>
                    <a:lnTo>
                      <a:pt x="78" y="124"/>
                    </a:lnTo>
                    <a:lnTo>
                      <a:pt x="98" y="118"/>
                    </a:lnTo>
                    <a:lnTo>
                      <a:pt x="123" y="111"/>
                    </a:lnTo>
                    <a:lnTo>
                      <a:pt x="149" y="104"/>
                    </a:lnTo>
                    <a:lnTo>
                      <a:pt x="178" y="96"/>
                    </a:lnTo>
                    <a:lnTo>
                      <a:pt x="208" y="89"/>
                    </a:lnTo>
                    <a:lnTo>
                      <a:pt x="240" y="81"/>
                    </a:lnTo>
                    <a:lnTo>
                      <a:pt x="274" y="74"/>
                    </a:lnTo>
                    <a:lnTo>
                      <a:pt x="306" y="68"/>
                    </a:lnTo>
                    <a:lnTo>
                      <a:pt x="339" y="61"/>
                    </a:lnTo>
                    <a:lnTo>
                      <a:pt x="373" y="56"/>
                    </a:lnTo>
                    <a:lnTo>
                      <a:pt x="405" y="51"/>
                    </a:lnTo>
                    <a:lnTo>
                      <a:pt x="435" y="49"/>
                    </a:lnTo>
                    <a:lnTo>
                      <a:pt x="465" y="48"/>
                    </a:lnTo>
                    <a:lnTo>
                      <a:pt x="497" y="47"/>
                    </a:lnTo>
                    <a:lnTo>
                      <a:pt x="530" y="47"/>
                    </a:lnTo>
                    <a:lnTo>
                      <a:pt x="564" y="48"/>
                    </a:lnTo>
                    <a:lnTo>
                      <a:pt x="597" y="49"/>
                    </a:lnTo>
                    <a:lnTo>
                      <a:pt x="631" y="51"/>
                    </a:lnTo>
                    <a:lnTo>
                      <a:pt x="663" y="54"/>
                    </a:lnTo>
                    <a:lnTo>
                      <a:pt x="695" y="57"/>
                    </a:lnTo>
                    <a:lnTo>
                      <a:pt x="724" y="59"/>
                    </a:lnTo>
                    <a:lnTo>
                      <a:pt x="751" y="63"/>
                    </a:lnTo>
                    <a:lnTo>
                      <a:pt x="775" y="65"/>
                    </a:lnTo>
                    <a:lnTo>
                      <a:pt x="797" y="68"/>
                    </a:lnTo>
                    <a:lnTo>
                      <a:pt x="813" y="70"/>
                    </a:lnTo>
                    <a:lnTo>
                      <a:pt x="827" y="72"/>
                    </a:lnTo>
                    <a:lnTo>
                      <a:pt x="835" y="73"/>
                    </a:lnTo>
                    <a:lnTo>
                      <a:pt x="837" y="73"/>
                    </a:lnTo>
                    <a:lnTo>
                      <a:pt x="792" y="42"/>
                    </a:lnTo>
                    <a:lnTo>
                      <a:pt x="790" y="42"/>
                    </a:lnTo>
                    <a:lnTo>
                      <a:pt x="783" y="40"/>
                    </a:lnTo>
                    <a:lnTo>
                      <a:pt x="772" y="38"/>
                    </a:lnTo>
                    <a:lnTo>
                      <a:pt x="760" y="35"/>
                    </a:lnTo>
                    <a:lnTo>
                      <a:pt x="742" y="32"/>
                    </a:lnTo>
                    <a:lnTo>
                      <a:pt x="723" y="28"/>
                    </a:lnTo>
                    <a:lnTo>
                      <a:pt x="701" y="24"/>
                    </a:lnTo>
                    <a:lnTo>
                      <a:pt x="678" y="20"/>
                    </a:lnTo>
                    <a:lnTo>
                      <a:pt x="653" y="16"/>
                    </a:lnTo>
                    <a:lnTo>
                      <a:pt x="626" y="12"/>
                    </a:lnTo>
                    <a:lnTo>
                      <a:pt x="600" y="9"/>
                    </a:lnTo>
                    <a:lnTo>
                      <a:pt x="572" y="5"/>
                    </a:lnTo>
                    <a:lnTo>
                      <a:pt x="544" y="3"/>
                    </a:lnTo>
                    <a:lnTo>
                      <a:pt x="518" y="1"/>
                    </a:lnTo>
                    <a:lnTo>
                      <a:pt x="491" y="0"/>
                    </a:lnTo>
                    <a:lnTo>
                      <a:pt x="467" y="0"/>
                    </a:lnTo>
                    <a:lnTo>
                      <a:pt x="431" y="1"/>
                    </a:lnTo>
                    <a:lnTo>
                      <a:pt x="393" y="4"/>
                    </a:lnTo>
                    <a:lnTo>
                      <a:pt x="354" y="10"/>
                    </a:lnTo>
                    <a:lnTo>
                      <a:pt x="315" y="17"/>
                    </a:lnTo>
                    <a:lnTo>
                      <a:pt x="276" y="25"/>
                    </a:lnTo>
                    <a:lnTo>
                      <a:pt x="237" y="33"/>
                    </a:lnTo>
                    <a:lnTo>
                      <a:pt x="200" y="42"/>
                    </a:lnTo>
                    <a:lnTo>
                      <a:pt x="163" y="53"/>
                    </a:lnTo>
                    <a:lnTo>
                      <a:pt x="130" y="62"/>
                    </a:lnTo>
                    <a:lnTo>
                      <a:pt x="98" y="71"/>
                    </a:lnTo>
                    <a:lnTo>
                      <a:pt x="71" y="80"/>
                    </a:lnTo>
                    <a:lnTo>
                      <a:pt x="47" y="88"/>
                    </a:lnTo>
                    <a:lnTo>
                      <a:pt x="27" y="95"/>
                    </a:lnTo>
                    <a:lnTo>
                      <a:pt x="13" y="100"/>
                    </a:lnTo>
                    <a:lnTo>
                      <a:pt x="4" y="103"/>
                    </a:lnTo>
                    <a:lnTo>
                      <a:pt x="0" y="104"/>
                    </a:lnTo>
                    <a:lnTo>
                      <a:pt x="39" y="13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336666"/>
                  </a:solidFill>
                  <a:latin typeface="Arial"/>
                </a:endParaRPr>
              </a:p>
            </p:txBody>
          </p:sp>
          <p:sp>
            <p:nvSpPr>
              <p:cNvPr id="268" name="Freeform 55"/>
              <p:cNvSpPr/>
              <p:nvPr/>
            </p:nvSpPr>
            <p:spPr>
              <a:xfrm>
                <a:off x="2491560" y="5735160"/>
                <a:ext cx="263880" cy="429480"/>
              </a:xfrm>
              <a:custGeom>
                <a:avLst/>
                <a:gdLst>
                  <a:gd name="textAreaLeft" fmla="*/ 0 w 263880"/>
                  <a:gd name="textAreaRight" fmla="*/ 264240 w 263880"/>
                  <a:gd name="textAreaTop" fmla="*/ 0 h 429480"/>
                  <a:gd name="textAreaBottom" fmla="*/ 429840 h 429480"/>
                </a:gdLst>
                <a:ahLst/>
                <a:rect l="textAreaLeft" t="textAreaTop" r="textAreaRight" b="textAreaBottom"/>
                <a:pathLst>
                  <a:path w="1083" h="1869">
                    <a:moveTo>
                      <a:pt x="999" y="62"/>
                    </a:moveTo>
                    <a:lnTo>
                      <a:pt x="997" y="82"/>
                    </a:lnTo>
                    <a:lnTo>
                      <a:pt x="990" y="135"/>
                    </a:lnTo>
                    <a:lnTo>
                      <a:pt x="981" y="216"/>
                    </a:lnTo>
                    <a:lnTo>
                      <a:pt x="968" y="316"/>
                    </a:lnTo>
                    <a:lnTo>
                      <a:pt x="956" y="430"/>
                    </a:lnTo>
                    <a:lnTo>
                      <a:pt x="943" y="548"/>
                    </a:lnTo>
                    <a:lnTo>
                      <a:pt x="933" y="666"/>
                    </a:lnTo>
                    <a:lnTo>
                      <a:pt x="923" y="774"/>
                    </a:lnTo>
                    <a:lnTo>
                      <a:pt x="915" y="984"/>
                    </a:lnTo>
                    <a:lnTo>
                      <a:pt x="922" y="1156"/>
                    </a:lnTo>
                    <a:lnTo>
                      <a:pt x="941" y="1296"/>
                    </a:lnTo>
                    <a:lnTo>
                      <a:pt x="966" y="1404"/>
                    </a:lnTo>
                    <a:lnTo>
                      <a:pt x="992" y="1485"/>
                    </a:lnTo>
                    <a:lnTo>
                      <a:pt x="1017" y="1539"/>
                    </a:lnTo>
                    <a:lnTo>
                      <a:pt x="1035" y="1570"/>
                    </a:lnTo>
                    <a:lnTo>
                      <a:pt x="1042" y="1579"/>
                    </a:lnTo>
                    <a:lnTo>
                      <a:pt x="1039" y="1579"/>
                    </a:lnTo>
                    <a:lnTo>
                      <a:pt x="1029" y="1579"/>
                    </a:lnTo>
                    <a:lnTo>
                      <a:pt x="1013" y="1579"/>
                    </a:lnTo>
                    <a:lnTo>
                      <a:pt x="992" y="1579"/>
                    </a:lnTo>
                    <a:lnTo>
                      <a:pt x="967" y="1579"/>
                    </a:lnTo>
                    <a:lnTo>
                      <a:pt x="937" y="1579"/>
                    </a:lnTo>
                    <a:lnTo>
                      <a:pt x="905" y="1580"/>
                    </a:lnTo>
                    <a:lnTo>
                      <a:pt x="869" y="1580"/>
                    </a:lnTo>
                    <a:lnTo>
                      <a:pt x="831" y="1581"/>
                    </a:lnTo>
                    <a:lnTo>
                      <a:pt x="792" y="1584"/>
                    </a:lnTo>
                    <a:lnTo>
                      <a:pt x="752" y="1585"/>
                    </a:lnTo>
                    <a:lnTo>
                      <a:pt x="711" y="1587"/>
                    </a:lnTo>
                    <a:lnTo>
                      <a:pt x="671" y="1589"/>
                    </a:lnTo>
                    <a:lnTo>
                      <a:pt x="632" y="1592"/>
                    </a:lnTo>
                    <a:lnTo>
                      <a:pt x="594" y="1596"/>
                    </a:lnTo>
                    <a:lnTo>
                      <a:pt x="558" y="1600"/>
                    </a:lnTo>
                    <a:lnTo>
                      <a:pt x="510" y="1608"/>
                    </a:lnTo>
                    <a:lnTo>
                      <a:pt x="460" y="1620"/>
                    </a:lnTo>
                    <a:lnTo>
                      <a:pt x="412" y="1637"/>
                    </a:lnTo>
                    <a:lnTo>
                      <a:pt x="363" y="1656"/>
                    </a:lnTo>
                    <a:lnTo>
                      <a:pt x="315" y="1677"/>
                    </a:lnTo>
                    <a:lnTo>
                      <a:pt x="269" y="1700"/>
                    </a:lnTo>
                    <a:lnTo>
                      <a:pt x="225" y="1723"/>
                    </a:lnTo>
                    <a:lnTo>
                      <a:pt x="184" y="1747"/>
                    </a:lnTo>
                    <a:lnTo>
                      <a:pt x="144" y="1770"/>
                    </a:lnTo>
                    <a:lnTo>
                      <a:pt x="110" y="1793"/>
                    </a:lnTo>
                    <a:lnTo>
                      <a:pt x="79" y="1814"/>
                    </a:lnTo>
                    <a:lnTo>
                      <a:pt x="51" y="1832"/>
                    </a:lnTo>
                    <a:lnTo>
                      <a:pt x="30" y="1847"/>
                    </a:lnTo>
                    <a:lnTo>
                      <a:pt x="14" y="1859"/>
                    </a:lnTo>
                    <a:lnTo>
                      <a:pt x="4" y="1867"/>
                    </a:lnTo>
                    <a:lnTo>
                      <a:pt x="0" y="1869"/>
                    </a:lnTo>
                    <a:lnTo>
                      <a:pt x="3" y="1868"/>
                    </a:lnTo>
                    <a:lnTo>
                      <a:pt x="12" y="1863"/>
                    </a:lnTo>
                    <a:lnTo>
                      <a:pt x="25" y="1857"/>
                    </a:lnTo>
                    <a:lnTo>
                      <a:pt x="42" y="1847"/>
                    </a:lnTo>
                    <a:lnTo>
                      <a:pt x="63" y="1836"/>
                    </a:lnTo>
                    <a:lnTo>
                      <a:pt x="87" y="1823"/>
                    </a:lnTo>
                    <a:lnTo>
                      <a:pt x="114" y="1809"/>
                    </a:lnTo>
                    <a:lnTo>
                      <a:pt x="144" y="1794"/>
                    </a:lnTo>
                    <a:lnTo>
                      <a:pt x="176" y="1779"/>
                    </a:lnTo>
                    <a:lnTo>
                      <a:pt x="208" y="1763"/>
                    </a:lnTo>
                    <a:lnTo>
                      <a:pt x="240" y="1748"/>
                    </a:lnTo>
                    <a:lnTo>
                      <a:pt x="273" y="1733"/>
                    </a:lnTo>
                    <a:lnTo>
                      <a:pt x="307" y="1719"/>
                    </a:lnTo>
                    <a:lnTo>
                      <a:pt x="338" y="1706"/>
                    </a:lnTo>
                    <a:lnTo>
                      <a:pt x="369" y="1694"/>
                    </a:lnTo>
                    <a:lnTo>
                      <a:pt x="398" y="1685"/>
                    </a:lnTo>
                    <a:lnTo>
                      <a:pt x="430" y="1676"/>
                    </a:lnTo>
                    <a:lnTo>
                      <a:pt x="469" y="1666"/>
                    </a:lnTo>
                    <a:lnTo>
                      <a:pt x="515" y="1658"/>
                    </a:lnTo>
                    <a:lnTo>
                      <a:pt x="567" y="1650"/>
                    </a:lnTo>
                    <a:lnTo>
                      <a:pt x="621" y="1643"/>
                    </a:lnTo>
                    <a:lnTo>
                      <a:pt x="679" y="1637"/>
                    </a:lnTo>
                    <a:lnTo>
                      <a:pt x="738" y="1630"/>
                    </a:lnTo>
                    <a:lnTo>
                      <a:pt x="795" y="1624"/>
                    </a:lnTo>
                    <a:lnTo>
                      <a:pt x="852" y="1618"/>
                    </a:lnTo>
                    <a:lnTo>
                      <a:pt x="905" y="1614"/>
                    </a:lnTo>
                    <a:lnTo>
                      <a:pt x="954" y="1610"/>
                    </a:lnTo>
                    <a:lnTo>
                      <a:pt x="997" y="1607"/>
                    </a:lnTo>
                    <a:lnTo>
                      <a:pt x="1033" y="1603"/>
                    </a:lnTo>
                    <a:lnTo>
                      <a:pt x="1060" y="1601"/>
                    </a:lnTo>
                    <a:lnTo>
                      <a:pt x="1078" y="1600"/>
                    </a:lnTo>
                    <a:lnTo>
                      <a:pt x="1083" y="1600"/>
                    </a:lnTo>
                    <a:lnTo>
                      <a:pt x="1077" y="1587"/>
                    </a:lnTo>
                    <a:lnTo>
                      <a:pt x="1059" y="1551"/>
                    </a:lnTo>
                    <a:lnTo>
                      <a:pt x="1034" y="1495"/>
                    </a:lnTo>
                    <a:lnTo>
                      <a:pt x="1007" y="1420"/>
                    </a:lnTo>
                    <a:lnTo>
                      <a:pt x="981" y="1328"/>
                    </a:lnTo>
                    <a:lnTo>
                      <a:pt x="960" y="1222"/>
                    </a:lnTo>
                    <a:lnTo>
                      <a:pt x="949" y="1105"/>
                    </a:lnTo>
                    <a:lnTo>
                      <a:pt x="951" y="978"/>
                    </a:lnTo>
                    <a:lnTo>
                      <a:pt x="964" y="818"/>
                    </a:lnTo>
                    <a:lnTo>
                      <a:pt x="979" y="651"/>
                    </a:lnTo>
                    <a:lnTo>
                      <a:pt x="994" y="487"/>
                    </a:lnTo>
                    <a:lnTo>
                      <a:pt x="1009" y="334"/>
                    </a:lnTo>
                    <a:lnTo>
                      <a:pt x="1021" y="201"/>
                    </a:lnTo>
                    <a:lnTo>
                      <a:pt x="1033" y="95"/>
                    </a:lnTo>
                    <a:lnTo>
                      <a:pt x="1040" y="26"/>
                    </a:lnTo>
                    <a:lnTo>
                      <a:pt x="1042" y="0"/>
                    </a:lnTo>
                    <a:lnTo>
                      <a:pt x="99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Freeform 56"/>
              <p:cNvSpPr/>
              <p:nvPr/>
            </p:nvSpPr>
            <p:spPr>
              <a:xfrm>
                <a:off x="2483280" y="5750640"/>
                <a:ext cx="309600" cy="418320"/>
              </a:xfrm>
              <a:custGeom>
                <a:avLst/>
                <a:gdLst>
                  <a:gd name="textAreaLeft" fmla="*/ 0 w 309600"/>
                  <a:gd name="textAreaRight" fmla="*/ 309960 w 309600"/>
                  <a:gd name="textAreaTop" fmla="*/ 0 h 418320"/>
                  <a:gd name="textAreaBottom" fmla="*/ 418680 h 418320"/>
                </a:gdLst>
                <a:ahLst/>
                <a:rect l="textAreaLeft" t="textAreaTop" r="textAreaRight" b="textAreaBottom"/>
                <a:pathLst>
                  <a:path w="1272" h="1820">
                    <a:moveTo>
                      <a:pt x="1237" y="92"/>
                    </a:moveTo>
                    <a:lnTo>
                      <a:pt x="1235" y="113"/>
                    </a:lnTo>
                    <a:lnTo>
                      <a:pt x="1227" y="168"/>
                    </a:lnTo>
                    <a:lnTo>
                      <a:pt x="1215" y="252"/>
                    </a:lnTo>
                    <a:lnTo>
                      <a:pt x="1203" y="355"/>
                    </a:lnTo>
                    <a:lnTo>
                      <a:pt x="1188" y="468"/>
                    </a:lnTo>
                    <a:lnTo>
                      <a:pt x="1174" y="584"/>
                    </a:lnTo>
                    <a:lnTo>
                      <a:pt x="1161" y="694"/>
                    </a:lnTo>
                    <a:lnTo>
                      <a:pt x="1152" y="790"/>
                    </a:lnTo>
                    <a:lnTo>
                      <a:pt x="1146" y="884"/>
                    </a:lnTo>
                    <a:lnTo>
                      <a:pt x="1145" y="984"/>
                    </a:lnTo>
                    <a:lnTo>
                      <a:pt x="1147" y="1089"/>
                    </a:lnTo>
                    <a:lnTo>
                      <a:pt x="1152" y="1190"/>
                    </a:lnTo>
                    <a:lnTo>
                      <a:pt x="1160" y="1284"/>
                    </a:lnTo>
                    <a:lnTo>
                      <a:pt x="1169" y="1365"/>
                    </a:lnTo>
                    <a:lnTo>
                      <a:pt x="1181" y="1428"/>
                    </a:lnTo>
                    <a:lnTo>
                      <a:pt x="1194" y="1469"/>
                    </a:lnTo>
                    <a:lnTo>
                      <a:pt x="1207" y="1495"/>
                    </a:lnTo>
                    <a:lnTo>
                      <a:pt x="1221" y="1521"/>
                    </a:lnTo>
                    <a:lnTo>
                      <a:pt x="1235" y="1548"/>
                    </a:lnTo>
                    <a:lnTo>
                      <a:pt x="1247" y="1571"/>
                    </a:lnTo>
                    <a:lnTo>
                      <a:pt x="1257" y="1592"/>
                    </a:lnTo>
                    <a:lnTo>
                      <a:pt x="1265" y="1608"/>
                    </a:lnTo>
                    <a:lnTo>
                      <a:pt x="1270" y="1619"/>
                    </a:lnTo>
                    <a:lnTo>
                      <a:pt x="1272" y="1623"/>
                    </a:lnTo>
                    <a:lnTo>
                      <a:pt x="1266" y="1623"/>
                    </a:lnTo>
                    <a:lnTo>
                      <a:pt x="1252" y="1622"/>
                    </a:lnTo>
                    <a:lnTo>
                      <a:pt x="1228" y="1621"/>
                    </a:lnTo>
                    <a:lnTo>
                      <a:pt x="1198" y="1619"/>
                    </a:lnTo>
                    <a:lnTo>
                      <a:pt x="1161" y="1618"/>
                    </a:lnTo>
                    <a:lnTo>
                      <a:pt x="1121" y="1617"/>
                    </a:lnTo>
                    <a:lnTo>
                      <a:pt x="1076" y="1616"/>
                    </a:lnTo>
                    <a:lnTo>
                      <a:pt x="1029" y="1615"/>
                    </a:lnTo>
                    <a:lnTo>
                      <a:pt x="980" y="1615"/>
                    </a:lnTo>
                    <a:lnTo>
                      <a:pt x="932" y="1614"/>
                    </a:lnTo>
                    <a:lnTo>
                      <a:pt x="885" y="1614"/>
                    </a:lnTo>
                    <a:lnTo>
                      <a:pt x="841" y="1614"/>
                    </a:lnTo>
                    <a:lnTo>
                      <a:pt x="799" y="1615"/>
                    </a:lnTo>
                    <a:lnTo>
                      <a:pt x="764" y="1617"/>
                    </a:lnTo>
                    <a:lnTo>
                      <a:pt x="734" y="1619"/>
                    </a:lnTo>
                    <a:lnTo>
                      <a:pt x="712" y="1623"/>
                    </a:lnTo>
                    <a:lnTo>
                      <a:pt x="688" y="1629"/>
                    </a:lnTo>
                    <a:lnTo>
                      <a:pt x="653" y="1638"/>
                    </a:lnTo>
                    <a:lnTo>
                      <a:pt x="609" y="1648"/>
                    </a:lnTo>
                    <a:lnTo>
                      <a:pt x="559" y="1662"/>
                    </a:lnTo>
                    <a:lnTo>
                      <a:pt x="503" y="1678"/>
                    </a:lnTo>
                    <a:lnTo>
                      <a:pt x="443" y="1694"/>
                    </a:lnTo>
                    <a:lnTo>
                      <a:pt x="381" y="1712"/>
                    </a:lnTo>
                    <a:lnTo>
                      <a:pt x="319" y="1729"/>
                    </a:lnTo>
                    <a:lnTo>
                      <a:pt x="258" y="1746"/>
                    </a:lnTo>
                    <a:lnTo>
                      <a:pt x="199" y="1763"/>
                    </a:lnTo>
                    <a:lnTo>
                      <a:pt x="145" y="1778"/>
                    </a:lnTo>
                    <a:lnTo>
                      <a:pt x="97" y="1792"/>
                    </a:lnTo>
                    <a:lnTo>
                      <a:pt x="57" y="1804"/>
                    </a:lnTo>
                    <a:lnTo>
                      <a:pt x="26" y="1812"/>
                    </a:lnTo>
                    <a:lnTo>
                      <a:pt x="7" y="1817"/>
                    </a:lnTo>
                    <a:lnTo>
                      <a:pt x="0" y="1820"/>
                    </a:lnTo>
                    <a:lnTo>
                      <a:pt x="6" y="1817"/>
                    </a:lnTo>
                    <a:lnTo>
                      <a:pt x="21" y="1811"/>
                    </a:lnTo>
                    <a:lnTo>
                      <a:pt x="44" y="1801"/>
                    </a:lnTo>
                    <a:lnTo>
                      <a:pt x="76" y="1788"/>
                    </a:lnTo>
                    <a:lnTo>
                      <a:pt x="115" y="1773"/>
                    </a:lnTo>
                    <a:lnTo>
                      <a:pt x="160" y="1755"/>
                    </a:lnTo>
                    <a:lnTo>
                      <a:pt x="210" y="1736"/>
                    </a:lnTo>
                    <a:lnTo>
                      <a:pt x="265" y="1716"/>
                    </a:lnTo>
                    <a:lnTo>
                      <a:pt x="322" y="1697"/>
                    </a:lnTo>
                    <a:lnTo>
                      <a:pt x="382" y="1677"/>
                    </a:lnTo>
                    <a:lnTo>
                      <a:pt x="445" y="1659"/>
                    </a:lnTo>
                    <a:lnTo>
                      <a:pt x="507" y="1640"/>
                    </a:lnTo>
                    <a:lnTo>
                      <a:pt x="570" y="1625"/>
                    </a:lnTo>
                    <a:lnTo>
                      <a:pt x="631" y="1611"/>
                    </a:lnTo>
                    <a:lnTo>
                      <a:pt x="690" y="1602"/>
                    </a:lnTo>
                    <a:lnTo>
                      <a:pt x="746" y="1595"/>
                    </a:lnTo>
                    <a:lnTo>
                      <a:pt x="779" y="1593"/>
                    </a:lnTo>
                    <a:lnTo>
                      <a:pt x="814" y="1591"/>
                    </a:lnTo>
                    <a:lnTo>
                      <a:pt x="851" y="1588"/>
                    </a:lnTo>
                    <a:lnTo>
                      <a:pt x="888" y="1586"/>
                    </a:lnTo>
                    <a:lnTo>
                      <a:pt x="926" y="1585"/>
                    </a:lnTo>
                    <a:lnTo>
                      <a:pt x="964" y="1583"/>
                    </a:lnTo>
                    <a:lnTo>
                      <a:pt x="1001" y="1581"/>
                    </a:lnTo>
                    <a:lnTo>
                      <a:pt x="1037" y="1579"/>
                    </a:lnTo>
                    <a:lnTo>
                      <a:pt x="1070" y="1578"/>
                    </a:lnTo>
                    <a:lnTo>
                      <a:pt x="1101" y="1578"/>
                    </a:lnTo>
                    <a:lnTo>
                      <a:pt x="1129" y="1577"/>
                    </a:lnTo>
                    <a:lnTo>
                      <a:pt x="1153" y="1576"/>
                    </a:lnTo>
                    <a:lnTo>
                      <a:pt x="1173" y="1576"/>
                    </a:lnTo>
                    <a:lnTo>
                      <a:pt x="1188" y="1574"/>
                    </a:lnTo>
                    <a:lnTo>
                      <a:pt x="1197" y="1574"/>
                    </a:lnTo>
                    <a:lnTo>
                      <a:pt x="1200" y="1574"/>
                    </a:lnTo>
                    <a:lnTo>
                      <a:pt x="1195" y="1564"/>
                    </a:lnTo>
                    <a:lnTo>
                      <a:pt x="1181" y="1533"/>
                    </a:lnTo>
                    <a:lnTo>
                      <a:pt x="1161" y="1479"/>
                    </a:lnTo>
                    <a:lnTo>
                      <a:pt x="1139" y="1402"/>
                    </a:lnTo>
                    <a:lnTo>
                      <a:pt x="1120" y="1300"/>
                    </a:lnTo>
                    <a:lnTo>
                      <a:pt x="1107" y="1171"/>
                    </a:lnTo>
                    <a:lnTo>
                      <a:pt x="1102" y="1016"/>
                    </a:lnTo>
                    <a:lnTo>
                      <a:pt x="1111" y="832"/>
                    </a:lnTo>
                    <a:lnTo>
                      <a:pt x="1124" y="682"/>
                    </a:lnTo>
                    <a:lnTo>
                      <a:pt x="1139" y="533"/>
                    </a:lnTo>
                    <a:lnTo>
                      <a:pt x="1155" y="394"/>
                    </a:lnTo>
                    <a:lnTo>
                      <a:pt x="1172" y="266"/>
                    </a:lnTo>
                    <a:lnTo>
                      <a:pt x="1185" y="158"/>
                    </a:lnTo>
                    <a:lnTo>
                      <a:pt x="1197" y="74"/>
                    </a:lnTo>
                    <a:lnTo>
                      <a:pt x="1205" y="20"/>
                    </a:lnTo>
                    <a:lnTo>
                      <a:pt x="1207" y="0"/>
                    </a:lnTo>
                    <a:lnTo>
                      <a:pt x="123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0" name="Freeform 57"/>
              <p:cNvSpPr/>
              <p:nvPr/>
            </p:nvSpPr>
            <p:spPr>
              <a:xfrm>
                <a:off x="2444400" y="5802120"/>
                <a:ext cx="166680" cy="379800"/>
              </a:xfrm>
              <a:custGeom>
                <a:avLst/>
                <a:gdLst>
                  <a:gd name="textAreaLeft" fmla="*/ 0 w 166680"/>
                  <a:gd name="textAreaRight" fmla="*/ 167040 w 166680"/>
                  <a:gd name="textAreaTop" fmla="*/ 0 h 379800"/>
                  <a:gd name="textAreaBottom" fmla="*/ 380160 h 379800"/>
                </a:gdLst>
                <a:ahLst/>
                <a:rect l="textAreaLeft" t="textAreaTop" r="textAreaRight" b="textAreaBottom"/>
                <a:pathLst>
                  <a:path w="685" h="1651">
                    <a:moveTo>
                      <a:pt x="685" y="1337"/>
                    </a:moveTo>
                    <a:lnTo>
                      <a:pt x="685" y="1337"/>
                    </a:lnTo>
                    <a:lnTo>
                      <a:pt x="635" y="1348"/>
                    </a:lnTo>
                    <a:lnTo>
                      <a:pt x="584" y="1364"/>
                    </a:lnTo>
                    <a:lnTo>
                      <a:pt x="532" y="1384"/>
                    </a:lnTo>
                    <a:lnTo>
                      <a:pt x="481" y="1406"/>
                    </a:lnTo>
                    <a:lnTo>
                      <a:pt x="431" y="1431"/>
                    </a:lnTo>
                    <a:lnTo>
                      <a:pt x="382" y="1458"/>
                    </a:lnTo>
                    <a:lnTo>
                      <a:pt x="335" y="1484"/>
                    </a:lnTo>
                    <a:lnTo>
                      <a:pt x="291" y="1512"/>
                    </a:lnTo>
                    <a:lnTo>
                      <a:pt x="250" y="1539"/>
                    </a:lnTo>
                    <a:lnTo>
                      <a:pt x="213" y="1565"/>
                    </a:lnTo>
                    <a:lnTo>
                      <a:pt x="180" y="1588"/>
                    </a:lnTo>
                    <a:lnTo>
                      <a:pt x="151" y="1609"/>
                    </a:lnTo>
                    <a:lnTo>
                      <a:pt x="128" y="1626"/>
                    </a:lnTo>
                    <a:lnTo>
                      <a:pt x="110" y="1640"/>
                    </a:lnTo>
                    <a:lnTo>
                      <a:pt x="100" y="1648"/>
                    </a:lnTo>
                    <a:lnTo>
                      <a:pt x="97" y="1651"/>
                    </a:lnTo>
                    <a:lnTo>
                      <a:pt x="92" y="1622"/>
                    </a:lnTo>
                    <a:lnTo>
                      <a:pt x="82" y="1546"/>
                    </a:lnTo>
                    <a:lnTo>
                      <a:pt x="66" y="1435"/>
                    </a:lnTo>
                    <a:lnTo>
                      <a:pt x="48" y="1302"/>
                    </a:lnTo>
                    <a:lnTo>
                      <a:pt x="31" y="1162"/>
                    </a:lnTo>
                    <a:lnTo>
                      <a:pt x="15" y="1026"/>
                    </a:lnTo>
                    <a:lnTo>
                      <a:pt x="4" y="907"/>
                    </a:lnTo>
                    <a:lnTo>
                      <a:pt x="0" y="821"/>
                    </a:lnTo>
                    <a:lnTo>
                      <a:pt x="3" y="653"/>
                    </a:lnTo>
                    <a:lnTo>
                      <a:pt x="10" y="455"/>
                    </a:lnTo>
                    <a:lnTo>
                      <a:pt x="17" y="291"/>
                    </a:lnTo>
                    <a:lnTo>
                      <a:pt x="21" y="223"/>
                    </a:lnTo>
                    <a:lnTo>
                      <a:pt x="21" y="219"/>
                    </a:lnTo>
                    <a:lnTo>
                      <a:pt x="21" y="204"/>
                    </a:lnTo>
                    <a:lnTo>
                      <a:pt x="23" y="182"/>
                    </a:lnTo>
                    <a:lnTo>
                      <a:pt x="29" y="154"/>
                    </a:lnTo>
                    <a:lnTo>
                      <a:pt x="37" y="120"/>
                    </a:lnTo>
                    <a:lnTo>
                      <a:pt x="49" y="83"/>
                    </a:lnTo>
                    <a:lnTo>
                      <a:pt x="69" y="41"/>
                    </a:lnTo>
                    <a:lnTo>
                      <a:pt x="9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Freeform 58"/>
              <p:cNvSpPr/>
              <p:nvPr/>
            </p:nvSpPr>
            <p:spPr>
              <a:xfrm>
                <a:off x="2203200" y="5808600"/>
                <a:ext cx="145440" cy="338760"/>
              </a:xfrm>
              <a:custGeom>
                <a:avLst/>
                <a:gdLst>
                  <a:gd name="textAreaLeft" fmla="*/ 0 w 145440"/>
                  <a:gd name="textAreaRight" fmla="*/ 145800 w 145440"/>
                  <a:gd name="textAreaTop" fmla="*/ 0 h 338760"/>
                  <a:gd name="textAreaBottom" fmla="*/ 339120 h 338760"/>
                </a:gdLst>
                <a:ahLst/>
                <a:rect l="textAreaLeft" t="textAreaTop" r="textAreaRight" b="textAreaBottom"/>
                <a:pathLst>
                  <a:path w="598" h="1474">
                    <a:moveTo>
                      <a:pt x="15" y="0"/>
                    </a:moveTo>
                    <a:lnTo>
                      <a:pt x="15" y="8"/>
                    </a:lnTo>
                    <a:lnTo>
                      <a:pt x="17" y="29"/>
                    </a:lnTo>
                    <a:lnTo>
                      <a:pt x="22" y="62"/>
                    </a:lnTo>
                    <a:lnTo>
                      <a:pt x="32" y="105"/>
                    </a:lnTo>
                    <a:lnTo>
                      <a:pt x="50" y="156"/>
                    </a:lnTo>
                    <a:lnTo>
                      <a:pt x="74" y="212"/>
                    </a:lnTo>
                    <a:lnTo>
                      <a:pt x="109" y="272"/>
                    </a:lnTo>
                    <a:lnTo>
                      <a:pt x="157" y="333"/>
                    </a:lnTo>
                    <a:lnTo>
                      <a:pt x="184" y="363"/>
                    </a:lnTo>
                    <a:lnTo>
                      <a:pt x="212" y="393"/>
                    </a:lnTo>
                    <a:lnTo>
                      <a:pt x="240" y="421"/>
                    </a:lnTo>
                    <a:lnTo>
                      <a:pt x="267" y="447"/>
                    </a:lnTo>
                    <a:lnTo>
                      <a:pt x="294" y="471"/>
                    </a:lnTo>
                    <a:lnTo>
                      <a:pt x="320" y="494"/>
                    </a:lnTo>
                    <a:lnTo>
                      <a:pt x="346" y="516"/>
                    </a:lnTo>
                    <a:lnTo>
                      <a:pt x="370" y="536"/>
                    </a:lnTo>
                    <a:lnTo>
                      <a:pt x="392" y="554"/>
                    </a:lnTo>
                    <a:lnTo>
                      <a:pt x="412" y="569"/>
                    </a:lnTo>
                    <a:lnTo>
                      <a:pt x="431" y="583"/>
                    </a:lnTo>
                    <a:lnTo>
                      <a:pt x="446" y="595"/>
                    </a:lnTo>
                    <a:lnTo>
                      <a:pt x="459" y="604"/>
                    </a:lnTo>
                    <a:lnTo>
                      <a:pt x="468" y="609"/>
                    </a:lnTo>
                    <a:lnTo>
                      <a:pt x="474" y="614"/>
                    </a:lnTo>
                    <a:lnTo>
                      <a:pt x="476" y="615"/>
                    </a:lnTo>
                    <a:lnTo>
                      <a:pt x="474" y="627"/>
                    </a:lnTo>
                    <a:lnTo>
                      <a:pt x="469" y="660"/>
                    </a:lnTo>
                    <a:lnTo>
                      <a:pt x="462" y="709"/>
                    </a:lnTo>
                    <a:lnTo>
                      <a:pt x="455" y="771"/>
                    </a:lnTo>
                    <a:lnTo>
                      <a:pt x="447" y="840"/>
                    </a:lnTo>
                    <a:lnTo>
                      <a:pt x="441" y="914"/>
                    </a:lnTo>
                    <a:lnTo>
                      <a:pt x="438" y="987"/>
                    </a:lnTo>
                    <a:lnTo>
                      <a:pt x="438" y="1056"/>
                    </a:lnTo>
                    <a:lnTo>
                      <a:pt x="446" y="1124"/>
                    </a:lnTo>
                    <a:lnTo>
                      <a:pt x="464" y="1194"/>
                    </a:lnTo>
                    <a:lnTo>
                      <a:pt x="491" y="1265"/>
                    </a:lnTo>
                    <a:lnTo>
                      <a:pt x="520" y="1330"/>
                    </a:lnTo>
                    <a:lnTo>
                      <a:pt x="548" y="1388"/>
                    </a:lnTo>
                    <a:lnTo>
                      <a:pt x="574" y="1434"/>
                    </a:lnTo>
                    <a:lnTo>
                      <a:pt x="591" y="1464"/>
                    </a:lnTo>
                    <a:lnTo>
                      <a:pt x="598" y="1474"/>
                    </a:lnTo>
                    <a:lnTo>
                      <a:pt x="591" y="1470"/>
                    </a:lnTo>
                    <a:lnTo>
                      <a:pt x="570" y="1454"/>
                    </a:lnTo>
                    <a:lnTo>
                      <a:pt x="543" y="1426"/>
                    </a:lnTo>
                    <a:lnTo>
                      <a:pt x="510" y="1383"/>
                    </a:lnTo>
                    <a:lnTo>
                      <a:pt x="478" y="1327"/>
                    </a:lnTo>
                    <a:lnTo>
                      <a:pt x="449" y="1253"/>
                    </a:lnTo>
                    <a:lnTo>
                      <a:pt x="429" y="1161"/>
                    </a:lnTo>
                    <a:lnTo>
                      <a:pt x="419" y="1051"/>
                    </a:lnTo>
                    <a:lnTo>
                      <a:pt x="419" y="940"/>
                    </a:lnTo>
                    <a:lnTo>
                      <a:pt x="423" y="850"/>
                    </a:lnTo>
                    <a:lnTo>
                      <a:pt x="430" y="778"/>
                    </a:lnTo>
                    <a:lnTo>
                      <a:pt x="438" y="722"/>
                    </a:lnTo>
                    <a:lnTo>
                      <a:pt x="446" y="682"/>
                    </a:lnTo>
                    <a:lnTo>
                      <a:pt x="453" y="656"/>
                    </a:lnTo>
                    <a:lnTo>
                      <a:pt x="457" y="641"/>
                    </a:lnTo>
                    <a:lnTo>
                      <a:pt x="460" y="636"/>
                    </a:lnTo>
                    <a:lnTo>
                      <a:pt x="457" y="635"/>
                    </a:lnTo>
                    <a:lnTo>
                      <a:pt x="452" y="631"/>
                    </a:lnTo>
                    <a:lnTo>
                      <a:pt x="444" y="624"/>
                    </a:lnTo>
                    <a:lnTo>
                      <a:pt x="431" y="616"/>
                    </a:lnTo>
                    <a:lnTo>
                      <a:pt x="416" y="606"/>
                    </a:lnTo>
                    <a:lnTo>
                      <a:pt x="399" y="593"/>
                    </a:lnTo>
                    <a:lnTo>
                      <a:pt x="379" y="578"/>
                    </a:lnTo>
                    <a:lnTo>
                      <a:pt x="357" y="561"/>
                    </a:lnTo>
                    <a:lnTo>
                      <a:pt x="334" y="543"/>
                    </a:lnTo>
                    <a:lnTo>
                      <a:pt x="310" y="522"/>
                    </a:lnTo>
                    <a:lnTo>
                      <a:pt x="283" y="499"/>
                    </a:lnTo>
                    <a:lnTo>
                      <a:pt x="257" y="475"/>
                    </a:lnTo>
                    <a:lnTo>
                      <a:pt x="229" y="448"/>
                    </a:lnTo>
                    <a:lnTo>
                      <a:pt x="203" y="421"/>
                    </a:lnTo>
                    <a:lnTo>
                      <a:pt x="175" y="391"/>
                    </a:lnTo>
                    <a:lnTo>
                      <a:pt x="147" y="360"/>
                    </a:lnTo>
                    <a:lnTo>
                      <a:pt x="100" y="299"/>
                    </a:lnTo>
                    <a:lnTo>
                      <a:pt x="65" y="244"/>
                    </a:lnTo>
                    <a:lnTo>
                      <a:pt x="38" y="197"/>
                    </a:lnTo>
                    <a:lnTo>
                      <a:pt x="21" y="157"/>
                    </a:lnTo>
                    <a:lnTo>
                      <a:pt x="9" y="125"/>
                    </a:lnTo>
                    <a:lnTo>
                      <a:pt x="3" y="102"/>
                    </a:lnTo>
                    <a:lnTo>
                      <a:pt x="0" y="87"/>
                    </a:lnTo>
                    <a:lnTo>
                      <a:pt x="0" y="82"/>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272" name="Group 59"/>
            <p:cNvGrpSpPr/>
            <p:nvPr/>
          </p:nvGrpSpPr>
          <p:grpSpPr>
            <a:xfrm>
              <a:off x="2173320" y="5089680"/>
              <a:ext cx="731880" cy="549000"/>
              <a:chOff x="2173320" y="5089680"/>
              <a:chExt cx="731880" cy="549000"/>
            </a:xfrm>
          </p:grpSpPr>
          <p:sp>
            <p:nvSpPr>
              <p:cNvPr id="273" name="Freeform 60"/>
              <p:cNvSpPr/>
              <p:nvPr/>
            </p:nvSpPr>
            <p:spPr>
              <a:xfrm>
                <a:off x="2173320" y="5089680"/>
                <a:ext cx="731880" cy="549000"/>
              </a:xfrm>
              <a:custGeom>
                <a:avLst/>
                <a:gdLst>
                  <a:gd name="textAreaLeft" fmla="*/ 0 w 731880"/>
                  <a:gd name="textAreaRight" fmla="*/ 732240 w 731880"/>
                  <a:gd name="textAreaTop" fmla="*/ 0 h 549000"/>
                  <a:gd name="textAreaBottom" fmla="*/ 549360 h 549000"/>
                </a:gdLst>
                <a:ahLst/>
                <a:rect l="textAreaLeft" t="textAreaTop" r="textAreaRight" b="textAreaBottom"/>
                <a:pathLst>
                  <a:path w="3006" h="2390">
                    <a:moveTo>
                      <a:pt x="516" y="468"/>
                    </a:moveTo>
                    <a:lnTo>
                      <a:pt x="264" y="419"/>
                    </a:lnTo>
                    <a:lnTo>
                      <a:pt x="262" y="425"/>
                    </a:lnTo>
                    <a:lnTo>
                      <a:pt x="255" y="441"/>
                    </a:lnTo>
                    <a:lnTo>
                      <a:pt x="243" y="466"/>
                    </a:lnTo>
                    <a:lnTo>
                      <a:pt x="229" y="501"/>
                    </a:lnTo>
                    <a:lnTo>
                      <a:pt x="212" y="542"/>
                    </a:lnTo>
                    <a:lnTo>
                      <a:pt x="192" y="591"/>
                    </a:lnTo>
                    <a:lnTo>
                      <a:pt x="172" y="644"/>
                    </a:lnTo>
                    <a:lnTo>
                      <a:pt x="150" y="701"/>
                    </a:lnTo>
                    <a:lnTo>
                      <a:pt x="128" y="761"/>
                    </a:lnTo>
                    <a:lnTo>
                      <a:pt x="106" y="823"/>
                    </a:lnTo>
                    <a:lnTo>
                      <a:pt x="86" y="888"/>
                    </a:lnTo>
                    <a:lnTo>
                      <a:pt x="67" y="951"/>
                    </a:lnTo>
                    <a:lnTo>
                      <a:pt x="51" y="1012"/>
                    </a:lnTo>
                    <a:lnTo>
                      <a:pt x="37" y="1073"/>
                    </a:lnTo>
                    <a:lnTo>
                      <a:pt x="26" y="1130"/>
                    </a:lnTo>
                    <a:lnTo>
                      <a:pt x="20" y="1182"/>
                    </a:lnTo>
                    <a:lnTo>
                      <a:pt x="8" y="1446"/>
                    </a:lnTo>
                    <a:lnTo>
                      <a:pt x="2" y="1790"/>
                    </a:lnTo>
                    <a:lnTo>
                      <a:pt x="0" y="2088"/>
                    </a:lnTo>
                    <a:lnTo>
                      <a:pt x="0" y="2216"/>
                    </a:lnTo>
                    <a:lnTo>
                      <a:pt x="157" y="2001"/>
                    </a:lnTo>
                    <a:lnTo>
                      <a:pt x="48" y="2240"/>
                    </a:lnTo>
                    <a:lnTo>
                      <a:pt x="97" y="2251"/>
                    </a:lnTo>
                    <a:lnTo>
                      <a:pt x="60" y="2364"/>
                    </a:lnTo>
                    <a:lnTo>
                      <a:pt x="65" y="2363"/>
                    </a:lnTo>
                    <a:lnTo>
                      <a:pt x="79" y="2361"/>
                    </a:lnTo>
                    <a:lnTo>
                      <a:pt x="103" y="2357"/>
                    </a:lnTo>
                    <a:lnTo>
                      <a:pt x="134" y="2352"/>
                    </a:lnTo>
                    <a:lnTo>
                      <a:pt x="171" y="2346"/>
                    </a:lnTo>
                    <a:lnTo>
                      <a:pt x="213" y="2339"/>
                    </a:lnTo>
                    <a:lnTo>
                      <a:pt x="259" y="2332"/>
                    </a:lnTo>
                    <a:lnTo>
                      <a:pt x="309" y="2325"/>
                    </a:lnTo>
                    <a:lnTo>
                      <a:pt x="361" y="2318"/>
                    </a:lnTo>
                    <a:lnTo>
                      <a:pt x="412" y="2311"/>
                    </a:lnTo>
                    <a:lnTo>
                      <a:pt x="464" y="2304"/>
                    </a:lnTo>
                    <a:lnTo>
                      <a:pt x="515" y="2299"/>
                    </a:lnTo>
                    <a:lnTo>
                      <a:pt x="563" y="2294"/>
                    </a:lnTo>
                    <a:lnTo>
                      <a:pt x="609" y="2290"/>
                    </a:lnTo>
                    <a:lnTo>
                      <a:pt x="650" y="2288"/>
                    </a:lnTo>
                    <a:lnTo>
                      <a:pt x="684" y="2288"/>
                    </a:lnTo>
                    <a:lnTo>
                      <a:pt x="724" y="2288"/>
                    </a:lnTo>
                    <a:lnTo>
                      <a:pt x="762" y="2288"/>
                    </a:lnTo>
                    <a:lnTo>
                      <a:pt x="801" y="2287"/>
                    </a:lnTo>
                    <a:lnTo>
                      <a:pt x="839" y="2286"/>
                    </a:lnTo>
                    <a:lnTo>
                      <a:pt x="877" y="2285"/>
                    </a:lnTo>
                    <a:lnTo>
                      <a:pt x="913" y="2282"/>
                    </a:lnTo>
                    <a:lnTo>
                      <a:pt x="947" y="2281"/>
                    </a:lnTo>
                    <a:lnTo>
                      <a:pt x="979" y="2279"/>
                    </a:lnTo>
                    <a:lnTo>
                      <a:pt x="1009" y="2277"/>
                    </a:lnTo>
                    <a:lnTo>
                      <a:pt x="1037" y="2276"/>
                    </a:lnTo>
                    <a:lnTo>
                      <a:pt x="1061" y="2273"/>
                    </a:lnTo>
                    <a:lnTo>
                      <a:pt x="1082" y="2272"/>
                    </a:lnTo>
                    <a:lnTo>
                      <a:pt x="1098" y="2271"/>
                    </a:lnTo>
                    <a:lnTo>
                      <a:pt x="1111" y="2270"/>
                    </a:lnTo>
                    <a:lnTo>
                      <a:pt x="1119" y="2269"/>
                    </a:lnTo>
                    <a:lnTo>
                      <a:pt x="1121" y="2269"/>
                    </a:lnTo>
                    <a:lnTo>
                      <a:pt x="1487" y="2390"/>
                    </a:lnTo>
                    <a:lnTo>
                      <a:pt x="2037" y="2251"/>
                    </a:lnTo>
                    <a:lnTo>
                      <a:pt x="2040" y="2250"/>
                    </a:lnTo>
                    <a:lnTo>
                      <a:pt x="2050" y="2248"/>
                    </a:lnTo>
                    <a:lnTo>
                      <a:pt x="2066" y="2244"/>
                    </a:lnTo>
                    <a:lnTo>
                      <a:pt x="2085" y="2240"/>
                    </a:lnTo>
                    <a:lnTo>
                      <a:pt x="2111" y="2234"/>
                    </a:lnTo>
                    <a:lnTo>
                      <a:pt x="2138" y="2228"/>
                    </a:lnTo>
                    <a:lnTo>
                      <a:pt x="2168" y="2221"/>
                    </a:lnTo>
                    <a:lnTo>
                      <a:pt x="2202" y="2214"/>
                    </a:lnTo>
                    <a:lnTo>
                      <a:pt x="2235" y="2208"/>
                    </a:lnTo>
                    <a:lnTo>
                      <a:pt x="2270" y="2201"/>
                    </a:lnTo>
                    <a:lnTo>
                      <a:pt x="2303" y="2195"/>
                    </a:lnTo>
                    <a:lnTo>
                      <a:pt x="2337" y="2189"/>
                    </a:lnTo>
                    <a:lnTo>
                      <a:pt x="2369" y="2185"/>
                    </a:lnTo>
                    <a:lnTo>
                      <a:pt x="2398" y="2181"/>
                    </a:lnTo>
                    <a:lnTo>
                      <a:pt x="2424" y="2179"/>
                    </a:lnTo>
                    <a:lnTo>
                      <a:pt x="2446" y="2178"/>
                    </a:lnTo>
                    <a:lnTo>
                      <a:pt x="2470" y="2178"/>
                    </a:lnTo>
                    <a:lnTo>
                      <a:pt x="2501" y="2180"/>
                    </a:lnTo>
                    <a:lnTo>
                      <a:pt x="2538" y="2181"/>
                    </a:lnTo>
                    <a:lnTo>
                      <a:pt x="2580" y="2185"/>
                    </a:lnTo>
                    <a:lnTo>
                      <a:pt x="2625" y="2188"/>
                    </a:lnTo>
                    <a:lnTo>
                      <a:pt x="2672" y="2191"/>
                    </a:lnTo>
                    <a:lnTo>
                      <a:pt x="2719" y="2195"/>
                    </a:lnTo>
                    <a:lnTo>
                      <a:pt x="2768" y="2198"/>
                    </a:lnTo>
                    <a:lnTo>
                      <a:pt x="2814" y="2203"/>
                    </a:lnTo>
                    <a:lnTo>
                      <a:pt x="2857" y="2206"/>
                    </a:lnTo>
                    <a:lnTo>
                      <a:pt x="2898" y="2210"/>
                    </a:lnTo>
                    <a:lnTo>
                      <a:pt x="2933" y="2213"/>
                    </a:lnTo>
                    <a:lnTo>
                      <a:pt x="2963" y="2217"/>
                    </a:lnTo>
                    <a:lnTo>
                      <a:pt x="2986" y="2218"/>
                    </a:lnTo>
                    <a:lnTo>
                      <a:pt x="3001" y="2220"/>
                    </a:lnTo>
                    <a:lnTo>
                      <a:pt x="3006" y="2220"/>
                    </a:lnTo>
                    <a:lnTo>
                      <a:pt x="3004" y="2218"/>
                    </a:lnTo>
                    <a:lnTo>
                      <a:pt x="2998" y="2210"/>
                    </a:lnTo>
                    <a:lnTo>
                      <a:pt x="2988" y="2197"/>
                    </a:lnTo>
                    <a:lnTo>
                      <a:pt x="2976" y="2179"/>
                    </a:lnTo>
                    <a:lnTo>
                      <a:pt x="2962" y="2153"/>
                    </a:lnTo>
                    <a:lnTo>
                      <a:pt x="2946" y="2121"/>
                    </a:lnTo>
                    <a:lnTo>
                      <a:pt x="2930" y="2082"/>
                    </a:lnTo>
                    <a:lnTo>
                      <a:pt x="2915" y="2035"/>
                    </a:lnTo>
                    <a:lnTo>
                      <a:pt x="2900" y="1980"/>
                    </a:lnTo>
                    <a:lnTo>
                      <a:pt x="2886" y="1916"/>
                    </a:lnTo>
                    <a:lnTo>
                      <a:pt x="2876" y="1844"/>
                    </a:lnTo>
                    <a:lnTo>
                      <a:pt x="2867" y="1761"/>
                    </a:lnTo>
                    <a:lnTo>
                      <a:pt x="2862" y="1670"/>
                    </a:lnTo>
                    <a:lnTo>
                      <a:pt x="2862" y="1567"/>
                    </a:lnTo>
                    <a:lnTo>
                      <a:pt x="2867" y="1454"/>
                    </a:lnTo>
                    <a:lnTo>
                      <a:pt x="2877" y="1330"/>
                    </a:lnTo>
                    <a:lnTo>
                      <a:pt x="2902" y="1096"/>
                    </a:lnTo>
                    <a:lnTo>
                      <a:pt x="2923" y="913"/>
                    </a:lnTo>
                    <a:lnTo>
                      <a:pt x="2941" y="775"/>
                    </a:lnTo>
                    <a:lnTo>
                      <a:pt x="2955" y="674"/>
                    </a:lnTo>
                    <a:lnTo>
                      <a:pt x="2966" y="606"/>
                    </a:lnTo>
                    <a:lnTo>
                      <a:pt x="2973" y="565"/>
                    </a:lnTo>
                    <a:lnTo>
                      <a:pt x="2977" y="545"/>
                    </a:lnTo>
                    <a:lnTo>
                      <a:pt x="2978" y="539"/>
                    </a:lnTo>
                    <a:lnTo>
                      <a:pt x="2839" y="546"/>
                    </a:lnTo>
                    <a:lnTo>
                      <a:pt x="2853" y="456"/>
                    </a:lnTo>
                    <a:lnTo>
                      <a:pt x="2685" y="432"/>
                    </a:lnTo>
                    <a:lnTo>
                      <a:pt x="2690" y="312"/>
                    </a:lnTo>
                    <a:lnTo>
                      <a:pt x="2688" y="312"/>
                    </a:lnTo>
                    <a:lnTo>
                      <a:pt x="2682" y="313"/>
                    </a:lnTo>
                    <a:lnTo>
                      <a:pt x="2673" y="314"/>
                    </a:lnTo>
                    <a:lnTo>
                      <a:pt x="2660" y="316"/>
                    </a:lnTo>
                    <a:lnTo>
                      <a:pt x="2645" y="318"/>
                    </a:lnTo>
                    <a:lnTo>
                      <a:pt x="2627" y="320"/>
                    </a:lnTo>
                    <a:lnTo>
                      <a:pt x="2605" y="322"/>
                    </a:lnTo>
                    <a:lnTo>
                      <a:pt x="2582" y="326"/>
                    </a:lnTo>
                    <a:lnTo>
                      <a:pt x="2556" y="329"/>
                    </a:lnTo>
                    <a:lnTo>
                      <a:pt x="2528" y="333"/>
                    </a:lnTo>
                    <a:lnTo>
                      <a:pt x="2498" y="337"/>
                    </a:lnTo>
                    <a:lnTo>
                      <a:pt x="2467" y="342"/>
                    </a:lnTo>
                    <a:lnTo>
                      <a:pt x="2435" y="347"/>
                    </a:lnTo>
                    <a:lnTo>
                      <a:pt x="2401" y="351"/>
                    </a:lnTo>
                    <a:lnTo>
                      <a:pt x="2365" y="356"/>
                    </a:lnTo>
                    <a:lnTo>
                      <a:pt x="2331" y="362"/>
                    </a:lnTo>
                    <a:lnTo>
                      <a:pt x="2295" y="366"/>
                    </a:lnTo>
                    <a:lnTo>
                      <a:pt x="2258" y="372"/>
                    </a:lnTo>
                    <a:lnTo>
                      <a:pt x="2223" y="378"/>
                    </a:lnTo>
                    <a:lnTo>
                      <a:pt x="2186" y="383"/>
                    </a:lnTo>
                    <a:lnTo>
                      <a:pt x="2150" y="389"/>
                    </a:lnTo>
                    <a:lnTo>
                      <a:pt x="2115" y="396"/>
                    </a:lnTo>
                    <a:lnTo>
                      <a:pt x="2081" y="402"/>
                    </a:lnTo>
                    <a:lnTo>
                      <a:pt x="2047" y="408"/>
                    </a:lnTo>
                    <a:lnTo>
                      <a:pt x="2015" y="413"/>
                    </a:lnTo>
                    <a:lnTo>
                      <a:pt x="1985" y="420"/>
                    </a:lnTo>
                    <a:lnTo>
                      <a:pt x="1956" y="426"/>
                    </a:lnTo>
                    <a:lnTo>
                      <a:pt x="1929" y="432"/>
                    </a:lnTo>
                    <a:lnTo>
                      <a:pt x="1905" y="439"/>
                    </a:lnTo>
                    <a:lnTo>
                      <a:pt x="1881" y="445"/>
                    </a:lnTo>
                    <a:lnTo>
                      <a:pt x="1862" y="450"/>
                    </a:lnTo>
                    <a:lnTo>
                      <a:pt x="1845" y="456"/>
                    </a:lnTo>
                    <a:lnTo>
                      <a:pt x="1814" y="469"/>
                    </a:lnTo>
                    <a:lnTo>
                      <a:pt x="1781" y="483"/>
                    </a:lnTo>
                    <a:lnTo>
                      <a:pt x="1750" y="500"/>
                    </a:lnTo>
                    <a:lnTo>
                      <a:pt x="1720" y="517"/>
                    </a:lnTo>
                    <a:lnTo>
                      <a:pt x="1690" y="535"/>
                    </a:lnTo>
                    <a:lnTo>
                      <a:pt x="1661" y="554"/>
                    </a:lnTo>
                    <a:lnTo>
                      <a:pt x="1634" y="573"/>
                    </a:lnTo>
                    <a:lnTo>
                      <a:pt x="1608" y="592"/>
                    </a:lnTo>
                    <a:lnTo>
                      <a:pt x="1585" y="610"/>
                    </a:lnTo>
                    <a:lnTo>
                      <a:pt x="1563" y="628"/>
                    </a:lnTo>
                    <a:lnTo>
                      <a:pt x="1545" y="644"/>
                    </a:lnTo>
                    <a:lnTo>
                      <a:pt x="1529" y="656"/>
                    </a:lnTo>
                    <a:lnTo>
                      <a:pt x="1515" y="668"/>
                    </a:lnTo>
                    <a:lnTo>
                      <a:pt x="1506" y="677"/>
                    </a:lnTo>
                    <a:lnTo>
                      <a:pt x="1500" y="682"/>
                    </a:lnTo>
                    <a:lnTo>
                      <a:pt x="1498" y="684"/>
                    </a:lnTo>
                    <a:lnTo>
                      <a:pt x="1494" y="693"/>
                    </a:lnTo>
                    <a:lnTo>
                      <a:pt x="1490" y="698"/>
                    </a:lnTo>
                    <a:lnTo>
                      <a:pt x="1484" y="699"/>
                    </a:lnTo>
                    <a:lnTo>
                      <a:pt x="1477" y="698"/>
                    </a:lnTo>
                    <a:lnTo>
                      <a:pt x="1468" y="693"/>
                    </a:lnTo>
                    <a:lnTo>
                      <a:pt x="1457" y="685"/>
                    </a:lnTo>
                    <a:lnTo>
                      <a:pt x="1445" y="676"/>
                    </a:lnTo>
                    <a:lnTo>
                      <a:pt x="1430" y="664"/>
                    </a:lnTo>
                    <a:lnTo>
                      <a:pt x="1413" y="651"/>
                    </a:lnTo>
                    <a:lnTo>
                      <a:pt x="1392" y="636"/>
                    </a:lnTo>
                    <a:lnTo>
                      <a:pt x="1370" y="620"/>
                    </a:lnTo>
                    <a:lnTo>
                      <a:pt x="1345" y="602"/>
                    </a:lnTo>
                    <a:lnTo>
                      <a:pt x="1317" y="584"/>
                    </a:lnTo>
                    <a:lnTo>
                      <a:pt x="1286" y="565"/>
                    </a:lnTo>
                    <a:lnTo>
                      <a:pt x="1251" y="547"/>
                    </a:lnTo>
                    <a:lnTo>
                      <a:pt x="1213" y="529"/>
                    </a:lnTo>
                    <a:lnTo>
                      <a:pt x="1180" y="515"/>
                    </a:lnTo>
                    <a:lnTo>
                      <a:pt x="1150" y="504"/>
                    </a:lnTo>
                    <a:lnTo>
                      <a:pt x="1121" y="495"/>
                    </a:lnTo>
                    <a:lnTo>
                      <a:pt x="1093" y="489"/>
                    </a:lnTo>
                    <a:lnTo>
                      <a:pt x="1068" y="485"/>
                    </a:lnTo>
                    <a:lnTo>
                      <a:pt x="1044" y="483"/>
                    </a:lnTo>
                    <a:lnTo>
                      <a:pt x="1022" y="480"/>
                    </a:lnTo>
                    <a:lnTo>
                      <a:pt x="1001" y="478"/>
                    </a:lnTo>
                    <a:lnTo>
                      <a:pt x="980" y="476"/>
                    </a:lnTo>
                    <a:lnTo>
                      <a:pt x="962" y="473"/>
                    </a:lnTo>
                    <a:lnTo>
                      <a:pt x="945" y="470"/>
                    </a:lnTo>
                    <a:lnTo>
                      <a:pt x="927" y="465"/>
                    </a:lnTo>
                    <a:lnTo>
                      <a:pt x="911" y="458"/>
                    </a:lnTo>
                    <a:lnTo>
                      <a:pt x="896" y="450"/>
                    </a:lnTo>
                    <a:lnTo>
                      <a:pt x="881" y="439"/>
                    </a:lnTo>
                    <a:lnTo>
                      <a:pt x="868" y="424"/>
                    </a:lnTo>
                    <a:lnTo>
                      <a:pt x="848" y="351"/>
                    </a:lnTo>
                    <a:lnTo>
                      <a:pt x="836" y="278"/>
                    </a:lnTo>
                    <a:lnTo>
                      <a:pt x="833" y="206"/>
                    </a:lnTo>
                    <a:lnTo>
                      <a:pt x="834" y="140"/>
                    </a:lnTo>
                    <a:lnTo>
                      <a:pt x="838" y="84"/>
                    </a:lnTo>
                    <a:lnTo>
                      <a:pt x="842" y="40"/>
                    </a:lnTo>
                    <a:lnTo>
                      <a:pt x="845" y="10"/>
                    </a:lnTo>
                    <a:lnTo>
                      <a:pt x="843" y="0"/>
                    </a:lnTo>
                    <a:lnTo>
                      <a:pt x="5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Freeform 61"/>
              <p:cNvSpPr/>
              <p:nvPr/>
            </p:nvSpPr>
            <p:spPr>
              <a:xfrm>
                <a:off x="2206440" y="5250960"/>
                <a:ext cx="403200" cy="374760"/>
              </a:xfrm>
              <a:custGeom>
                <a:avLst/>
                <a:gdLst>
                  <a:gd name="textAreaLeft" fmla="*/ 0 w 403200"/>
                  <a:gd name="textAreaRight" fmla="*/ 403560 w 403200"/>
                  <a:gd name="textAreaTop" fmla="*/ 0 h 374760"/>
                  <a:gd name="textAreaBottom" fmla="*/ 375120 h 37476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Freeform 62"/>
              <p:cNvSpPr/>
              <p:nvPr/>
            </p:nvSpPr>
            <p:spPr>
              <a:xfrm>
                <a:off x="2206440" y="5250960"/>
                <a:ext cx="403200" cy="374760"/>
              </a:xfrm>
              <a:custGeom>
                <a:avLst/>
                <a:gdLst>
                  <a:gd name="textAreaLeft" fmla="*/ 0 w 403200"/>
                  <a:gd name="textAreaRight" fmla="*/ 403560 w 403200"/>
                  <a:gd name="textAreaTop" fmla="*/ 0 h 374760"/>
                  <a:gd name="textAreaBottom" fmla="*/ 375120 h 37476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Freeform 63"/>
              <p:cNvSpPr/>
              <p:nvPr/>
            </p:nvSpPr>
            <p:spPr>
              <a:xfrm>
                <a:off x="2196000" y="5228280"/>
                <a:ext cx="403200" cy="375480"/>
              </a:xfrm>
              <a:custGeom>
                <a:avLst/>
                <a:gdLst>
                  <a:gd name="textAreaLeft" fmla="*/ 0 w 403200"/>
                  <a:gd name="textAreaRight" fmla="*/ 403560 w 403200"/>
                  <a:gd name="textAreaTop" fmla="*/ 0 h 375480"/>
                  <a:gd name="textAreaBottom" fmla="*/ 375840 h 37548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Freeform 64"/>
              <p:cNvSpPr/>
              <p:nvPr/>
            </p:nvSpPr>
            <p:spPr>
              <a:xfrm>
                <a:off x="2196000" y="5228280"/>
                <a:ext cx="403200" cy="375480"/>
              </a:xfrm>
              <a:custGeom>
                <a:avLst/>
                <a:gdLst>
                  <a:gd name="textAreaLeft" fmla="*/ 0 w 403200"/>
                  <a:gd name="textAreaRight" fmla="*/ 403560 w 403200"/>
                  <a:gd name="textAreaTop" fmla="*/ 0 h 375480"/>
                  <a:gd name="textAreaBottom" fmla="*/ 375840 h 37548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8" name="Freeform 65"/>
              <p:cNvSpPr/>
              <p:nvPr/>
            </p:nvSpPr>
            <p:spPr>
              <a:xfrm>
                <a:off x="2180160" y="5196960"/>
                <a:ext cx="429480" cy="435600"/>
              </a:xfrm>
              <a:custGeom>
                <a:avLst/>
                <a:gdLst>
                  <a:gd name="textAreaLeft" fmla="*/ 0 w 429480"/>
                  <a:gd name="textAreaRight" fmla="*/ 429840 w 429480"/>
                  <a:gd name="textAreaTop" fmla="*/ 0 h 435600"/>
                  <a:gd name="textAreaBottom" fmla="*/ 435960 h 43560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Freeform 66"/>
              <p:cNvSpPr/>
              <p:nvPr/>
            </p:nvSpPr>
            <p:spPr>
              <a:xfrm>
                <a:off x="2180160" y="5196960"/>
                <a:ext cx="429480" cy="435600"/>
              </a:xfrm>
              <a:custGeom>
                <a:avLst/>
                <a:gdLst>
                  <a:gd name="textAreaLeft" fmla="*/ 0 w 429480"/>
                  <a:gd name="textAreaRight" fmla="*/ 429840 w 429480"/>
                  <a:gd name="textAreaTop" fmla="*/ 0 h 435600"/>
                  <a:gd name="textAreaBottom" fmla="*/ 435960 h 43560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0" name="Freeform 67"/>
              <p:cNvSpPr/>
              <p:nvPr/>
            </p:nvSpPr>
            <p:spPr>
              <a:xfrm>
                <a:off x="2541240" y="5219280"/>
                <a:ext cx="353520" cy="411120"/>
              </a:xfrm>
              <a:custGeom>
                <a:avLst/>
                <a:gdLst>
                  <a:gd name="textAreaLeft" fmla="*/ 0 w 353520"/>
                  <a:gd name="textAreaRight" fmla="*/ 353880 w 353520"/>
                  <a:gd name="textAreaTop" fmla="*/ 0 h 411120"/>
                  <a:gd name="textAreaBottom" fmla="*/ 411480 h 41112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1" name="Freeform 68"/>
              <p:cNvSpPr/>
              <p:nvPr/>
            </p:nvSpPr>
            <p:spPr>
              <a:xfrm>
                <a:off x="2541240" y="5219280"/>
                <a:ext cx="353520" cy="411120"/>
              </a:xfrm>
              <a:custGeom>
                <a:avLst/>
                <a:gdLst>
                  <a:gd name="textAreaLeft" fmla="*/ 0 w 353520"/>
                  <a:gd name="textAreaRight" fmla="*/ 353880 w 353520"/>
                  <a:gd name="textAreaTop" fmla="*/ 0 h 411120"/>
                  <a:gd name="textAreaBottom" fmla="*/ 411480 h 41112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2" name="Freeform 69"/>
              <p:cNvSpPr/>
              <p:nvPr/>
            </p:nvSpPr>
            <p:spPr>
              <a:xfrm>
                <a:off x="2530080" y="5195880"/>
                <a:ext cx="327600" cy="437040"/>
              </a:xfrm>
              <a:custGeom>
                <a:avLst/>
                <a:gdLst>
                  <a:gd name="textAreaLeft" fmla="*/ 0 w 327600"/>
                  <a:gd name="textAreaRight" fmla="*/ 327960 w 327600"/>
                  <a:gd name="textAreaTop" fmla="*/ 0 h 437040"/>
                  <a:gd name="textAreaBottom" fmla="*/ 437400 h 43704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3" name="Freeform 70"/>
              <p:cNvSpPr/>
              <p:nvPr/>
            </p:nvSpPr>
            <p:spPr>
              <a:xfrm>
                <a:off x="2530080" y="5195880"/>
                <a:ext cx="327600" cy="437040"/>
              </a:xfrm>
              <a:custGeom>
                <a:avLst/>
                <a:gdLst>
                  <a:gd name="textAreaLeft" fmla="*/ 0 w 327600"/>
                  <a:gd name="textAreaRight" fmla="*/ 327960 w 327600"/>
                  <a:gd name="textAreaTop" fmla="*/ 0 h 437040"/>
                  <a:gd name="textAreaBottom" fmla="*/ 437400 h 43704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4" name="Freeform 71"/>
              <p:cNvSpPr/>
              <p:nvPr/>
            </p:nvSpPr>
            <p:spPr>
              <a:xfrm>
                <a:off x="2270160" y="5193000"/>
                <a:ext cx="140040" cy="398160"/>
              </a:xfrm>
              <a:custGeom>
                <a:avLst/>
                <a:gdLst>
                  <a:gd name="textAreaLeft" fmla="*/ 0 w 140040"/>
                  <a:gd name="textAreaRight" fmla="*/ 140400 w 140040"/>
                  <a:gd name="textAreaTop" fmla="*/ 0 h 398160"/>
                  <a:gd name="textAreaBottom" fmla="*/ 398520 h 398160"/>
                </a:gdLst>
                <a:ahLst/>
                <a:rect l="textAreaLeft" t="textAreaTop" r="textAreaRight" b="textAreaBottom"/>
                <a:pathLst>
                  <a:path w="578" h="1736">
                    <a:moveTo>
                      <a:pt x="111" y="43"/>
                    </a:moveTo>
                    <a:lnTo>
                      <a:pt x="106" y="54"/>
                    </a:lnTo>
                    <a:lnTo>
                      <a:pt x="94" y="85"/>
                    </a:lnTo>
                    <a:lnTo>
                      <a:pt x="77" y="136"/>
                    </a:lnTo>
                    <a:lnTo>
                      <a:pt x="56" y="203"/>
                    </a:lnTo>
                    <a:lnTo>
                      <a:pt x="35" y="285"/>
                    </a:lnTo>
                    <a:lnTo>
                      <a:pt x="18" y="378"/>
                    </a:lnTo>
                    <a:lnTo>
                      <a:pt x="5" y="480"/>
                    </a:lnTo>
                    <a:lnTo>
                      <a:pt x="0" y="592"/>
                    </a:lnTo>
                    <a:lnTo>
                      <a:pt x="3" y="705"/>
                    </a:lnTo>
                    <a:lnTo>
                      <a:pt x="10" y="813"/>
                    </a:lnTo>
                    <a:lnTo>
                      <a:pt x="21" y="916"/>
                    </a:lnTo>
                    <a:lnTo>
                      <a:pt x="37" y="1012"/>
                    </a:lnTo>
                    <a:lnTo>
                      <a:pt x="58" y="1104"/>
                    </a:lnTo>
                    <a:lnTo>
                      <a:pt x="85" y="1191"/>
                    </a:lnTo>
                    <a:lnTo>
                      <a:pt x="116" y="1270"/>
                    </a:lnTo>
                    <a:lnTo>
                      <a:pt x="153" y="1345"/>
                    </a:lnTo>
                    <a:lnTo>
                      <a:pt x="174" y="1381"/>
                    </a:lnTo>
                    <a:lnTo>
                      <a:pt x="202" y="1418"/>
                    </a:lnTo>
                    <a:lnTo>
                      <a:pt x="232" y="1452"/>
                    </a:lnTo>
                    <a:lnTo>
                      <a:pt x="264" y="1487"/>
                    </a:lnTo>
                    <a:lnTo>
                      <a:pt x="299" y="1521"/>
                    </a:lnTo>
                    <a:lnTo>
                      <a:pt x="335" y="1554"/>
                    </a:lnTo>
                    <a:lnTo>
                      <a:pt x="370" y="1584"/>
                    </a:lnTo>
                    <a:lnTo>
                      <a:pt x="405" y="1612"/>
                    </a:lnTo>
                    <a:lnTo>
                      <a:pt x="439" y="1639"/>
                    </a:lnTo>
                    <a:lnTo>
                      <a:pt x="472" y="1663"/>
                    </a:lnTo>
                    <a:lnTo>
                      <a:pt x="501" y="1684"/>
                    </a:lnTo>
                    <a:lnTo>
                      <a:pt x="526" y="1702"/>
                    </a:lnTo>
                    <a:lnTo>
                      <a:pt x="548" y="1716"/>
                    </a:lnTo>
                    <a:lnTo>
                      <a:pt x="564" y="1726"/>
                    </a:lnTo>
                    <a:lnTo>
                      <a:pt x="574" y="1733"/>
                    </a:lnTo>
                    <a:lnTo>
                      <a:pt x="578" y="1736"/>
                    </a:lnTo>
                    <a:lnTo>
                      <a:pt x="492" y="1632"/>
                    </a:lnTo>
                    <a:lnTo>
                      <a:pt x="489" y="1630"/>
                    </a:lnTo>
                    <a:lnTo>
                      <a:pt x="477" y="1623"/>
                    </a:lnTo>
                    <a:lnTo>
                      <a:pt x="461" y="1610"/>
                    </a:lnTo>
                    <a:lnTo>
                      <a:pt x="438" y="1594"/>
                    </a:lnTo>
                    <a:lnTo>
                      <a:pt x="413" y="1573"/>
                    </a:lnTo>
                    <a:lnTo>
                      <a:pt x="383" y="1549"/>
                    </a:lnTo>
                    <a:lnTo>
                      <a:pt x="352" y="1520"/>
                    </a:lnTo>
                    <a:lnTo>
                      <a:pt x="318" y="1488"/>
                    </a:lnTo>
                    <a:lnTo>
                      <a:pt x="285" y="1451"/>
                    </a:lnTo>
                    <a:lnTo>
                      <a:pt x="253" y="1412"/>
                    </a:lnTo>
                    <a:lnTo>
                      <a:pt x="222" y="1369"/>
                    </a:lnTo>
                    <a:lnTo>
                      <a:pt x="193" y="1323"/>
                    </a:lnTo>
                    <a:lnTo>
                      <a:pt x="168" y="1275"/>
                    </a:lnTo>
                    <a:lnTo>
                      <a:pt x="147" y="1223"/>
                    </a:lnTo>
                    <a:lnTo>
                      <a:pt x="131" y="1169"/>
                    </a:lnTo>
                    <a:lnTo>
                      <a:pt x="121" y="1113"/>
                    </a:lnTo>
                    <a:lnTo>
                      <a:pt x="108" y="996"/>
                    </a:lnTo>
                    <a:lnTo>
                      <a:pt x="92" y="882"/>
                    </a:lnTo>
                    <a:lnTo>
                      <a:pt x="75" y="771"/>
                    </a:lnTo>
                    <a:lnTo>
                      <a:pt x="62" y="665"/>
                    </a:lnTo>
                    <a:lnTo>
                      <a:pt x="49" y="567"/>
                    </a:lnTo>
                    <a:lnTo>
                      <a:pt x="42" y="480"/>
                    </a:lnTo>
                    <a:lnTo>
                      <a:pt x="41" y="407"/>
                    </a:lnTo>
                    <a:lnTo>
                      <a:pt x="47" y="349"/>
                    </a:lnTo>
                    <a:lnTo>
                      <a:pt x="59" y="305"/>
                    </a:lnTo>
                    <a:lnTo>
                      <a:pt x="79" y="252"/>
                    </a:lnTo>
                    <a:lnTo>
                      <a:pt x="103" y="195"/>
                    </a:lnTo>
                    <a:lnTo>
                      <a:pt x="128" y="137"/>
                    </a:lnTo>
                    <a:lnTo>
                      <a:pt x="154" y="84"/>
                    </a:lnTo>
                    <a:lnTo>
                      <a:pt x="174" y="40"/>
                    </a:lnTo>
                    <a:lnTo>
                      <a:pt x="189" y="10"/>
                    </a:lnTo>
                    <a:lnTo>
                      <a:pt x="195" y="0"/>
                    </a:lnTo>
                    <a:lnTo>
                      <a:pt x="11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5" name="Freeform 72"/>
              <p:cNvSpPr/>
              <p:nvPr/>
            </p:nvSpPr>
            <p:spPr>
              <a:xfrm>
                <a:off x="2280600" y="5271480"/>
                <a:ext cx="152280" cy="324000"/>
              </a:xfrm>
              <a:custGeom>
                <a:avLst/>
                <a:gdLst>
                  <a:gd name="textAreaLeft" fmla="*/ 0 w 152280"/>
                  <a:gd name="textAreaRight" fmla="*/ 152640 w 152280"/>
                  <a:gd name="textAreaTop" fmla="*/ 0 h 324000"/>
                  <a:gd name="textAreaBottom" fmla="*/ 324000 h 324000"/>
                </a:gdLst>
                <a:ahLst/>
                <a:rect l="textAreaLeft" t="textAreaTop" r="textAreaRight" b="textAreaBottom"/>
                <a:pathLst>
                  <a:path w="626" h="1411">
                    <a:moveTo>
                      <a:pt x="0" y="0"/>
                    </a:moveTo>
                    <a:lnTo>
                      <a:pt x="0" y="27"/>
                    </a:lnTo>
                    <a:lnTo>
                      <a:pt x="2" y="100"/>
                    </a:lnTo>
                    <a:lnTo>
                      <a:pt x="4" y="209"/>
                    </a:lnTo>
                    <a:lnTo>
                      <a:pt x="12" y="343"/>
                    </a:lnTo>
                    <a:lnTo>
                      <a:pt x="26" y="492"/>
                    </a:lnTo>
                    <a:lnTo>
                      <a:pt x="48" y="645"/>
                    </a:lnTo>
                    <a:lnTo>
                      <a:pt x="80" y="793"/>
                    </a:lnTo>
                    <a:lnTo>
                      <a:pt x="123" y="922"/>
                    </a:lnTo>
                    <a:lnTo>
                      <a:pt x="150" y="978"/>
                    </a:lnTo>
                    <a:lnTo>
                      <a:pt x="182" y="1032"/>
                    </a:lnTo>
                    <a:lnTo>
                      <a:pt x="218" y="1083"/>
                    </a:lnTo>
                    <a:lnTo>
                      <a:pt x="256" y="1130"/>
                    </a:lnTo>
                    <a:lnTo>
                      <a:pt x="298" y="1174"/>
                    </a:lnTo>
                    <a:lnTo>
                      <a:pt x="339" y="1214"/>
                    </a:lnTo>
                    <a:lnTo>
                      <a:pt x="382" y="1250"/>
                    </a:lnTo>
                    <a:lnTo>
                      <a:pt x="423" y="1283"/>
                    </a:lnTo>
                    <a:lnTo>
                      <a:pt x="464" y="1313"/>
                    </a:lnTo>
                    <a:lnTo>
                      <a:pt x="502" y="1338"/>
                    </a:lnTo>
                    <a:lnTo>
                      <a:pt x="536" y="1360"/>
                    </a:lnTo>
                    <a:lnTo>
                      <a:pt x="566" y="1379"/>
                    </a:lnTo>
                    <a:lnTo>
                      <a:pt x="590" y="1393"/>
                    </a:lnTo>
                    <a:lnTo>
                      <a:pt x="610" y="1403"/>
                    </a:lnTo>
                    <a:lnTo>
                      <a:pt x="621" y="1409"/>
                    </a:lnTo>
                    <a:lnTo>
                      <a:pt x="626" y="1411"/>
                    </a:lnTo>
                    <a:lnTo>
                      <a:pt x="600" y="5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6" name="Freeform 73"/>
              <p:cNvSpPr/>
              <p:nvPr/>
            </p:nvSpPr>
            <p:spPr>
              <a:xfrm>
                <a:off x="2279880" y="5271480"/>
                <a:ext cx="153360" cy="324000"/>
              </a:xfrm>
              <a:custGeom>
                <a:avLst/>
                <a:gdLst>
                  <a:gd name="textAreaLeft" fmla="*/ 0 w 153360"/>
                  <a:gd name="textAreaRight" fmla="*/ 153720 w 153360"/>
                  <a:gd name="textAreaTop" fmla="*/ 0 h 324000"/>
                  <a:gd name="textAreaBottom" fmla="*/ 324000 h 324000"/>
                </a:gdLst>
                <a:ahLst/>
                <a:rect l="textAreaLeft" t="textAreaTop" r="textAreaRight" b="textAreaBottom"/>
                <a:pathLst>
                  <a:path w="629" h="1411">
                    <a:moveTo>
                      <a:pt x="3" y="0"/>
                    </a:moveTo>
                    <a:lnTo>
                      <a:pt x="2" y="26"/>
                    </a:lnTo>
                    <a:lnTo>
                      <a:pt x="0" y="96"/>
                    </a:lnTo>
                    <a:lnTo>
                      <a:pt x="0" y="202"/>
                    </a:lnTo>
                    <a:lnTo>
                      <a:pt x="3" y="332"/>
                    </a:lnTo>
                    <a:lnTo>
                      <a:pt x="15" y="479"/>
                    </a:lnTo>
                    <a:lnTo>
                      <a:pt x="37" y="632"/>
                    </a:lnTo>
                    <a:lnTo>
                      <a:pt x="70" y="783"/>
                    </a:lnTo>
                    <a:lnTo>
                      <a:pt x="120" y="922"/>
                    </a:lnTo>
                    <a:lnTo>
                      <a:pt x="151" y="983"/>
                    </a:lnTo>
                    <a:lnTo>
                      <a:pt x="185" y="1039"/>
                    </a:lnTo>
                    <a:lnTo>
                      <a:pt x="222" y="1092"/>
                    </a:lnTo>
                    <a:lnTo>
                      <a:pt x="263" y="1140"/>
                    </a:lnTo>
                    <a:lnTo>
                      <a:pt x="305" y="1184"/>
                    </a:lnTo>
                    <a:lnTo>
                      <a:pt x="347" y="1224"/>
                    </a:lnTo>
                    <a:lnTo>
                      <a:pt x="389" y="1260"/>
                    </a:lnTo>
                    <a:lnTo>
                      <a:pt x="431" y="1292"/>
                    </a:lnTo>
                    <a:lnTo>
                      <a:pt x="471" y="1320"/>
                    </a:lnTo>
                    <a:lnTo>
                      <a:pt x="508" y="1345"/>
                    </a:lnTo>
                    <a:lnTo>
                      <a:pt x="541" y="1365"/>
                    </a:lnTo>
                    <a:lnTo>
                      <a:pt x="570" y="1382"/>
                    </a:lnTo>
                    <a:lnTo>
                      <a:pt x="594" y="1395"/>
                    </a:lnTo>
                    <a:lnTo>
                      <a:pt x="613" y="1404"/>
                    </a:lnTo>
                    <a:lnTo>
                      <a:pt x="624" y="1409"/>
                    </a:lnTo>
                    <a:lnTo>
                      <a:pt x="629" y="1411"/>
                    </a:lnTo>
                    <a:lnTo>
                      <a:pt x="603" y="543"/>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Freeform 74"/>
              <p:cNvSpPr/>
              <p:nvPr/>
            </p:nvSpPr>
            <p:spPr>
              <a:xfrm>
                <a:off x="2283840" y="5096880"/>
                <a:ext cx="289080" cy="535680"/>
              </a:xfrm>
              <a:custGeom>
                <a:avLst/>
                <a:gdLst>
                  <a:gd name="textAreaLeft" fmla="*/ 0 w 289080"/>
                  <a:gd name="textAreaRight" fmla="*/ 289440 w 289080"/>
                  <a:gd name="textAreaTop" fmla="*/ 0 h 535680"/>
                  <a:gd name="textAreaBottom" fmla="*/ 536040 h 53568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Freeform 75"/>
              <p:cNvSpPr/>
              <p:nvPr/>
            </p:nvSpPr>
            <p:spPr>
              <a:xfrm>
                <a:off x="2283840" y="5096880"/>
                <a:ext cx="289080" cy="535680"/>
              </a:xfrm>
              <a:custGeom>
                <a:avLst/>
                <a:gdLst>
                  <a:gd name="textAreaLeft" fmla="*/ 0 w 289080"/>
                  <a:gd name="textAreaRight" fmla="*/ 289440 w 289080"/>
                  <a:gd name="textAreaTop" fmla="*/ 0 h 535680"/>
                  <a:gd name="textAreaBottom" fmla="*/ 536040 h 53568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Freeform 76"/>
              <p:cNvSpPr/>
              <p:nvPr/>
            </p:nvSpPr>
            <p:spPr>
              <a:xfrm>
                <a:off x="2517480" y="5173200"/>
                <a:ext cx="303120" cy="459360"/>
              </a:xfrm>
              <a:custGeom>
                <a:avLst/>
                <a:gdLst>
                  <a:gd name="textAreaLeft" fmla="*/ 0 w 303120"/>
                  <a:gd name="textAreaRight" fmla="*/ 303480 w 303120"/>
                  <a:gd name="textAreaTop" fmla="*/ 0 h 459360"/>
                  <a:gd name="textAreaBottom" fmla="*/ 459720 h 45936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Freeform 77"/>
              <p:cNvSpPr/>
              <p:nvPr/>
            </p:nvSpPr>
            <p:spPr>
              <a:xfrm>
                <a:off x="2517480" y="5173200"/>
                <a:ext cx="303120" cy="459360"/>
              </a:xfrm>
              <a:custGeom>
                <a:avLst/>
                <a:gdLst>
                  <a:gd name="textAreaLeft" fmla="*/ 0 w 303120"/>
                  <a:gd name="textAreaRight" fmla="*/ 303480 w 303120"/>
                  <a:gd name="textAreaTop" fmla="*/ 0 h 459360"/>
                  <a:gd name="textAreaBottom" fmla="*/ 459720 h 45936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Freeform 78"/>
              <p:cNvSpPr/>
              <p:nvPr/>
            </p:nvSpPr>
            <p:spPr>
              <a:xfrm>
                <a:off x="2210040" y="5513400"/>
                <a:ext cx="123480" cy="37800"/>
              </a:xfrm>
              <a:custGeom>
                <a:avLst/>
                <a:gdLst>
                  <a:gd name="textAreaLeft" fmla="*/ 0 w 123480"/>
                  <a:gd name="textAreaRight" fmla="*/ 123840 w 123480"/>
                  <a:gd name="textAreaTop" fmla="*/ 0 h 37800"/>
                  <a:gd name="textAreaBottom" fmla="*/ 38160 h 37800"/>
                </a:gdLst>
                <a:ahLst/>
                <a:rect l="textAreaLeft" t="textAreaTop" r="textAreaRight" b="textAreaBottom"/>
                <a:pathLst>
                  <a:path w="508" h="167">
                    <a:moveTo>
                      <a:pt x="0" y="167"/>
                    </a:moveTo>
                    <a:lnTo>
                      <a:pt x="1" y="165"/>
                    </a:lnTo>
                    <a:lnTo>
                      <a:pt x="5" y="162"/>
                    </a:lnTo>
                    <a:lnTo>
                      <a:pt x="10" y="156"/>
                    </a:lnTo>
                    <a:lnTo>
                      <a:pt x="17" y="149"/>
                    </a:lnTo>
                    <a:lnTo>
                      <a:pt x="28" y="141"/>
                    </a:lnTo>
                    <a:lnTo>
                      <a:pt x="39" y="132"/>
                    </a:lnTo>
                    <a:lnTo>
                      <a:pt x="52" y="122"/>
                    </a:lnTo>
                    <a:lnTo>
                      <a:pt x="68" y="111"/>
                    </a:lnTo>
                    <a:lnTo>
                      <a:pt x="84" y="102"/>
                    </a:lnTo>
                    <a:lnTo>
                      <a:pt x="103" y="92"/>
                    </a:lnTo>
                    <a:lnTo>
                      <a:pt x="122" y="83"/>
                    </a:lnTo>
                    <a:lnTo>
                      <a:pt x="143" y="75"/>
                    </a:lnTo>
                    <a:lnTo>
                      <a:pt x="165" y="68"/>
                    </a:lnTo>
                    <a:lnTo>
                      <a:pt x="189" y="62"/>
                    </a:lnTo>
                    <a:lnTo>
                      <a:pt x="213" y="58"/>
                    </a:lnTo>
                    <a:lnTo>
                      <a:pt x="239" y="57"/>
                    </a:lnTo>
                    <a:lnTo>
                      <a:pt x="264" y="57"/>
                    </a:lnTo>
                    <a:lnTo>
                      <a:pt x="290" y="57"/>
                    </a:lnTo>
                    <a:lnTo>
                      <a:pt x="315" y="56"/>
                    </a:lnTo>
                    <a:lnTo>
                      <a:pt x="339" y="56"/>
                    </a:lnTo>
                    <a:lnTo>
                      <a:pt x="362" y="55"/>
                    </a:lnTo>
                    <a:lnTo>
                      <a:pt x="385" y="54"/>
                    </a:lnTo>
                    <a:lnTo>
                      <a:pt x="406" y="53"/>
                    </a:lnTo>
                    <a:lnTo>
                      <a:pt x="425" y="51"/>
                    </a:lnTo>
                    <a:lnTo>
                      <a:pt x="444" y="51"/>
                    </a:lnTo>
                    <a:lnTo>
                      <a:pt x="460" y="50"/>
                    </a:lnTo>
                    <a:lnTo>
                      <a:pt x="474" y="49"/>
                    </a:lnTo>
                    <a:lnTo>
                      <a:pt x="485" y="48"/>
                    </a:lnTo>
                    <a:lnTo>
                      <a:pt x="496" y="48"/>
                    </a:lnTo>
                    <a:lnTo>
                      <a:pt x="502" y="47"/>
                    </a:lnTo>
                    <a:lnTo>
                      <a:pt x="507" y="47"/>
                    </a:lnTo>
                    <a:lnTo>
                      <a:pt x="508" y="47"/>
                    </a:lnTo>
                    <a:lnTo>
                      <a:pt x="460" y="5"/>
                    </a:lnTo>
                    <a:lnTo>
                      <a:pt x="459" y="5"/>
                    </a:lnTo>
                    <a:lnTo>
                      <a:pt x="454" y="5"/>
                    </a:lnTo>
                    <a:lnTo>
                      <a:pt x="446" y="4"/>
                    </a:lnTo>
                    <a:lnTo>
                      <a:pt x="437" y="4"/>
                    </a:lnTo>
                    <a:lnTo>
                      <a:pt x="425" y="3"/>
                    </a:lnTo>
                    <a:lnTo>
                      <a:pt x="411" y="2"/>
                    </a:lnTo>
                    <a:lnTo>
                      <a:pt x="396" y="2"/>
                    </a:lnTo>
                    <a:lnTo>
                      <a:pt x="379" y="1"/>
                    </a:lnTo>
                    <a:lnTo>
                      <a:pt x="362" y="1"/>
                    </a:lnTo>
                    <a:lnTo>
                      <a:pt x="343" y="0"/>
                    </a:lnTo>
                    <a:lnTo>
                      <a:pt x="324" y="0"/>
                    </a:lnTo>
                    <a:lnTo>
                      <a:pt x="304" y="0"/>
                    </a:lnTo>
                    <a:lnTo>
                      <a:pt x="285" y="1"/>
                    </a:lnTo>
                    <a:lnTo>
                      <a:pt x="265" y="1"/>
                    </a:lnTo>
                    <a:lnTo>
                      <a:pt x="247" y="3"/>
                    </a:lnTo>
                    <a:lnTo>
                      <a:pt x="228" y="4"/>
                    </a:lnTo>
                    <a:lnTo>
                      <a:pt x="210" y="7"/>
                    </a:lnTo>
                    <a:lnTo>
                      <a:pt x="191" y="11"/>
                    </a:lnTo>
                    <a:lnTo>
                      <a:pt x="173" y="16"/>
                    </a:lnTo>
                    <a:lnTo>
                      <a:pt x="154" y="22"/>
                    </a:lnTo>
                    <a:lnTo>
                      <a:pt x="136" y="28"/>
                    </a:lnTo>
                    <a:lnTo>
                      <a:pt x="119" y="35"/>
                    </a:lnTo>
                    <a:lnTo>
                      <a:pt x="101" y="42"/>
                    </a:lnTo>
                    <a:lnTo>
                      <a:pt x="85" y="49"/>
                    </a:lnTo>
                    <a:lnTo>
                      <a:pt x="70" y="57"/>
                    </a:lnTo>
                    <a:lnTo>
                      <a:pt x="58" y="64"/>
                    </a:lnTo>
                    <a:lnTo>
                      <a:pt x="45" y="70"/>
                    </a:lnTo>
                    <a:lnTo>
                      <a:pt x="35" y="76"/>
                    </a:lnTo>
                    <a:lnTo>
                      <a:pt x="27" y="80"/>
                    </a:lnTo>
                    <a:lnTo>
                      <a:pt x="21" y="84"/>
                    </a:lnTo>
                    <a:lnTo>
                      <a:pt x="16" y="86"/>
                    </a:lnTo>
                    <a:lnTo>
                      <a:pt x="15" y="87"/>
                    </a:lnTo>
                    <a:lnTo>
                      <a:pt x="0" y="16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336666"/>
                  </a:solidFill>
                  <a:latin typeface="Arial"/>
                </a:endParaRPr>
              </a:p>
            </p:txBody>
          </p:sp>
          <p:sp>
            <p:nvSpPr>
              <p:cNvPr id="292" name="Freeform 79"/>
              <p:cNvSpPr/>
              <p:nvPr/>
            </p:nvSpPr>
            <p:spPr>
              <a:xfrm>
                <a:off x="2205360" y="5570640"/>
                <a:ext cx="203400" cy="30960"/>
              </a:xfrm>
              <a:custGeom>
                <a:avLst/>
                <a:gdLst>
                  <a:gd name="textAreaLeft" fmla="*/ 0 w 203400"/>
                  <a:gd name="textAreaRight" fmla="*/ 203760 w 203400"/>
                  <a:gd name="textAreaTop" fmla="*/ 0 h 30960"/>
                  <a:gd name="textAreaBottom" fmla="*/ 31320 h 30960"/>
                </a:gdLst>
                <a:ahLst/>
                <a:rect l="textAreaLeft" t="textAreaTop" r="textAreaRight" b="textAreaBottom"/>
                <a:pathLst>
                  <a:path w="837" h="137">
                    <a:moveTo>
                      <a:pt x="39" y="137"/>
                    </a:moveTo>
                    <a:lnTo>
                      <a:pt x="41" y="135"/>
                    </a:lnTo>
                    <a:lnTo>
                      <a:pt x="49" y="133"/>
                    </a:lnTo>
                    <a:lnTo>
                      <a:pt x="62" y="130"/>
                    </a:lnTo>
                    <a:lnTo>
                      <a:pt x="78" y="124"/>
                    </a:lnTo>
                    <a:lnTo>
                      <a:pt x="98" y="118"/>
                    </a:lnTo>
                    <a:lnTo>
                      <a:pt x="123" y="111"/>
                    </a:lnTo>
                    <a:lnTo>
                      <a:pt x="149" y="104"/>
                    </a:lnTo>
                    <a:lnTo>
                      <a:pt x="178" y="96"/>
                    </a:lnTo>
                    <a:lnTo>
                      <a:pt x="208" y="89"/>
                    </a:lnTo>
                    <a:lnTo>
                      <a:pt x="240" y="81"/>
                    </a:lnTo>
                    <a:lnTo>
                      <a:pt x="274" y="74"/>
                    </a:lnTo>
                    <a:lnTo>
                      <a:pt x="306" y="68"/>
                    </a:lnTo>
                    <a:lnTo>
                      <a:pt x="339" y="61"/>
                    </a:lnTo>
                    <a:lnTo>
                      <a:pt x="373" y="56"/>
                    </a:lnTo>
                    <a:lnTo>
                      <a:pt x="405" y="51"/>
                    </a:lnTo>
                    <a:lnTo>
                      <a:pt x="435" y="49"/>
                    </a:lnTo>
                    <a:lnTo>
                      <a:pt x="465" y="48"/>
                    </a:lnTo>
                    <a:lnTo>
                      <a:pt x="497" y="47"/>
                    </a:lnTo>
                    <a:lnTo>
                      <a:pt x="530" y="47"/>
                    </a:lnTo>
                    <a:lnTo>
                      <a:pt x="564" y="48"/>
                    </a:lnTo>
                    <a:lnTo>
                      <a:pt x="597" y="49"/>
                    </a:lnTo>
                    <a:lnTo>
                      <a:pt x="631" y="51"/>
                    </a:lnTo>
                    <a:lnTo>
                      <a:pt x="663" y="54"/>
                    </a:lnTo>
                    <a:lnTo>
                      <a:pt x="695" y="57"/>
                    </a:lnTo>
                    <a:lnTo>
                      <a:pt x="724" y="59"/>
                    </a:lnTo>
                    <a:lnTo>
                      <a:pt x="751" y="63"/>
                    </a:lnTo>
                    <a:lnTo>
                      <a:pt x="775" y="65"/>
                    </a:lnTo>
                    <a:lnTo>
                      <a:pt x="797" y="68"/>
                    </a:lnTo>
                    <a:lnTo>
                      <a:pt x="813" y="70"/>
                    </a:lnTo>
                    <a:lnTo>
                      <a:pt x="827" y="72"/>
                    </a:lnTo>
                    <a:lnTo>
                      <a:pt x="835" y="73"/>
                    </a:lnTo>
                    <a:lnTo>
                      <a:pt x="837" y="73"/>
                    </a:lnTo>
                    <a:lnTo>
                      <a:pt x="792" y="42"/>
                    </a:lnTo>
                    <a:lnTo>
                      <a:pt x="790" y="42"/>
                    </a:lnTo>
                    <a:lnTo>
                      <a:pt x="783" y="40"/>
                    </a:lnTo>
                    <a:lnTo>
                      <a:pt x="772" y="38"/>
                    </a:lnTo>
                    <a:lnTo>
                      <a:pt x="760" y="35"/>
                    </a:lnTo>
                    <a:lnTo>
                      <a:pt x="742" y="32"/>
                    </a:lnTo>
                    <a:lnTo>
                      <a:pt x="723" y="28"/>
                    </a:lnTo>
                    <a:lnTo>
                      <a:pt x="701" y="24"/>
                    </a:lnTo>
                    <a:lnTo>
                      <a:pt x="678" y="20"/>
                    </a:lnTo>
                    <a:lnTo>
                      <a:pt x="653" y="16"/>
                    </a:lnTo>
                    <a:lnTo>
                      <a:pt x="626" y="12"/>
                    </a:lnTo>
                    <a:lnTo>
                      <a:pt x="600" y="9"/>
                    </a:lnTo>
                    <a:lnTo>
                      <a:pt x="572" y="5"/>
                    </a:lnTo>
                    <a:lnTo>
                      <a:pt x="544" y="3"/>
                    </a:lnTo>
                    <a:lnTo>
                      <a:pt x="518" y="1"/>
                    </a:lnTo>
                    <a:lnTo>
                      <a:pt x="491" y="0"/>
                    </a:lnTo>
                    <a:lnTo>
                      <a:pt x="467" y="0"/>
                    </a:lnTo>
                    <a:lnTo>
                      <a:pt x="431" y="1"/>
                    </a:lnTo>
                    <a:lnTo>
                      <a:pt x="393" y="4"/>
                    </a:lnTo>
                    <a:lnTo>
                      <a:pt x="354" y="10"/>
                    </a:lnTo>
                    <a:lnTo>
                      <a:pt x="315" y="17"/>
                    </a:lnTo>
                    <a:lnTo>
                      <a:pt x="276" y="25"/>
                    </a:lnTo>
                    <a:lnTo>
                      <a:pt x="237" y="33"/>
                    </a:lnTo>
                    <a:lnTo>
                      <a:pt x="200" y="42"/>
                    </a:lnTo>
                    <a:lnTo>
                      <a:pt x="163" y="53"/>
                    </a:lnTo>
                    <a:lnTo>
                      <a:pt x="130" y="62"/>
                    </a:lnTo>
                    <a:lnTo>
                      <a:pt x="98" y="71"/>
                    </a:lnTo>
                    <a:lnTo>
                      <a:pt x="71" y="80"/>
                    </a:lnTo>
                    <a:lnTo>
                      <a:pt x="47" y="88"/>
                    </a:lnTo>
                    <a:lnTo>
                      <a:pt x="27" y="95"/>
                    </a:lnTo>
                    <a:lnTo>
                      <a:pt x="13" y="100"/>
                    </a:lnTo>
                    <a:lnTo>
                      <a:pt x="4" y="103"/>
                    </a:lnTo>
                    <a:lnTo>
                      <a:pt x="0" y="104"/>
                    </a:lnTo>
                    <a:lnTo>
                      <a:pt x="39" y="13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336666"/>
                  </a:solidFill>
                  <a:latin typeface="Arial"/>
                </a:endParaRPr>
              </a:p>
            </p:txBody>
          </p:sp>
          <p:sp>
            <p:nvSpPr>
              <p:cNvPr id="293" name="Freeform 80"/>
              <p:cNvSpPr/>
              <p:nvPr/>
            </p:nvSpPr>
            <p:spPr>
              <a:xfrm>
                <a:off x="2564640" y="5186160"/>
                <a:ext cx="263880" cy="429120"/>
              </a:xfrm>
              <a:custGeom>
                <a:avLst/>
                <a:gdLst>
                  <a:gd name="textAreaLeft" fmla="*/ 0 w 263880"/>
                  <a:gd name="textAreaRight" fmla="*/ 264240 w 263880"/>
                  <a:gd name="textAreaTop" fmla="*/ 0 h 429120"/>
                  <a:gd name="textAreaBottom" fmla="*/ 429480 h 429120"/>
                </a:gdLst>
                <a:ahLst/>
                <a:rect l="textAreaLeft" t="textAreaTop" r="textAreaRight" b="textAreaBottom"/>
                <a:pathLst>
                  <a:path w="1083" h="1869">
                    <a:moveTo>
                      <a:pt x="999" y="62"/>
                    </a:moveTo>
                    <a:lnTo>
                      <a:pt x="997" y="82"/>
                    </a:lnTo>
                    <a:lnTo>
                      <a:pt x="990" y="135"/>
                    </a:lnTo>
                    <a:lnTo>
                      <a:pt x="981" y="216"/>
                    </a:lnTo>
                    <a:lnTo>
                      <a:pt x="968" y="316"/>
                    </a:lnTo>
                    <a:lnTo>
                      <a:pt x="956" y="430"/>
                    </a:lnTo>
                    <a:lnTo>
                      <a:pt x="943" y="548"/>
                    </a:lnTo>
                    <a:lnTo>
                      <a:pt x="933" y="666"/>
                    </a:lnTo>
                    <a:lnTo>
                      <a:pt x="923" y="774"/>
                    </a:lnTo>
                    <a:lnTo>
                      <a:pt x="915" y="984"/>
                    </a:lnTo>
                    <a:lnTo>
                      <a:pt x="922" y="1156"/>
                    </a:lnTo>
                    <a:lnTo>
                      <a:pt x="941" y="1296"/>
                    </a:lnTo>
                    <a:lnTo>
                      <a:pt x="966" y="1404"/>
                    </a:lnTo>
                    <a:lnTo>
                      <a:pt x="992" y="1485"/>
                    </a:lnTo>
                    <a:lnTo>
                      <a:pt x="1017" y="1539"/>
                    </a:lnTo>
                    <a:lnTo>
                      <a:pt x="1035" y="1570"/>
                    </a:lnTo>
                    <a:lnTo>
                      <a:pt x="1042" y="1579"/>
                    </a:lnTo>
                    <a:lnTo>
                      <a:pt x="1039" y="1579"/>
                    </a:lnTo>
                    <a:lnTo>
                      <a:pt x="1029" y="1579"/>
                    </a:lnTo>
                    <a:lnTo>
                      <a:pt x="1013" y="1579"/>
                    </a:lnTo>
                    <a:lnTo>
                      <a:pt x="992" y="1579"/>
                    </a:lnTo>
                    <a:lnTo>
                      <a:pt x="967" y="1579"/>
                    </a:lnTo>
                    <a:lnTo>
                      <a:pt x="937" y="1579"/>
                    </a:lnTo>
                    <a:lnTo>
                      <a:pt x="905" y="1580"/>
                    </a:lnTo>
                    <a:lnTo>
                      <a:pt x="869" y="1580"/>
                    </a:lnTo>
                    <a:lnTo>
                      <a:pt x="831" y="1581"/>
                    </a:lnTo>
                    <a:lnTo>
                      <a:pt x="792" y="1584"/>
                    </a:lnTo>
                    <a:lnTo>
                      <a:pt x="752" y="1585"/>
                    </a:lnTo>
                    <a:lnTo>
                      <a:pt x="711" y="1587"/>
                    </a:lnTo>
                    <a:lnTo>
                      <a:pt x="671" y="1589"/>
                    </a:lnTo>
                    <a:lnTo>
                      <a:pt x="632" y="1592"/>
                    </a:lnTo>
                    <a:lnTo>
                      <a:pt x="594" y="1596"/>
                    </a:lnTo>
                    <a:lnTo>
                      <a:pt x="558" y="1600"/>
                    </a:lnTo>
                    <a:lnTo>
                      <a:pt x="510" y="1608"/>
                    </a:lnTo>
                    <a:lnTo>
                      <a:pt x="460" y="1620"/>
                    </a:lnTo>
                    <a:lnTo>
                      <a:pt x="412" y="1637"/>
                    </a:lnTo>
                    <a:lnTo>
                      <a:pt x="363" y="1656"/>
                    </a:lnTo>
                    <a:lnTo>
                      <a:pt x="315" y="1677"/>
                    </a:lnTo>
                    <a:lnTo>
                      <a:pt x="269" y="1700"/>
                    </a:lnTo>
                    <a:lnTo>
                      <a:pt x="225" y="1723"/>
                    </a:lnTo>
                    <a:lnTo>
                      <a:pt x="184" y="1747"/>
                    </a:lnTo>
                    <a:lnTo>
                      <a:pt x="144" y="1770"/>
                    </a:lnTo>
                    <a:lnTo>
                      <a:pt x="110" y="1793"/>
                    </a:lnTo>
                    <a:lnTo>
                      <a:pt x="79" y="1814"/>
                    </a:lnTo>
                    <a:lnTo>
                      <a:pt x="51" y="1832"/>
                    </a:lnTo>
                    <a:lnTo>
                      <a:pt x="30" y="1847"/>
                    </a:lnTo>
                    <a:lnTo>
                      <a:pt x="14" y="1859"/>
                    </a:lnTo>
                    <a:lnTo>
                      <a:pt x="4" y="1867"/>
                    </a:lnTo>
                    <a:lnTo>
                      <a:pt x="0" y="1869"/>
                    </a:lnTo>
                    <a:lnTo>
                      <a:pt x="3" y="1868"/>
                    </a:lnTo>
                    <a:lnTo>
                      <a:pt x="12" y="1863"/>
                    </a:lnTo>
                    <a:lnTo>
                      <a:pt x="25" y="1857"/>
                    </a:lnTo>
                    <a:lnTo>
                      <a:pt x="42" y="1847"/>
                    </a:lnTo>
                    <a:lnTo>
                      <a:pt x="63" y="1836"/>
                    </a:lnTo>
                    <a:lnTo>
                      <a:pt x="87" y="1823"/>
                    </a:lnTo>
                    <a:lnTo>
                      <a:pt x="114" y="1809"/>
                    </a:lnTo>
                    <a:lnTo>
                      <a:pt x="144" y="1794"/>
                    </a:lnTo>
                    <a:lnTo>
                      <a:pt x="176" y="1779"/>
                    </a:lnTo>
                    <a:lnTo>
                      <a:pt x="208" y="1763"/>
                    </a:lnTo>
                    <a:lnTo>
                      <a:pt x="240" y="1748"/>
                    </a:lnTo>
                    <a:lnTo>
                      <a:pt x="273" y="1733"/>
                    </a:lnTo>
                    <a:lnTo>
                      <a:pt x="307" y="1719"/>
                    </a:lnTo>
                    <a:lnTo>
                      <a:pt x="338" y="1706"/>
                    </a:lnTo>
                    <a:lnTo>
                      <a:pt x="369" y="1694"/>
                    </a:lnTo>
                    <a:lnTo>
                      <a:pt x="398" y="1685"/>
                    </a:lnTo>
                    <a:lnTo>
                      <a:pt x="430" y="1676"/>
                    </a:lnTo>
                    <a:lnTo>
                      <a:pt x="469" y="1666"/>
                    </a:lnTo>
                    <a:lnTo>
                      <a:pt x="515" y="1658"/>
                    </a:lnTo>
                    <a:lnTo>
                      <a:pt x="567" y="1650"/>
                    </a:lnTo>
                    <a:lnTo>
                      <a:pt x="621" y="1643"/>
                    </a:lnTo>
                    <a:lnTo>
                      <a:pt x="679" y="1637"/>
                    </a:lnTo>
                    <a:lnTo>
                      <a:pt x="738" y="1630"/>
                    </a:lnTo>
                    <a:lnTo>
                      <a:pt x="795" y="1624"/>
                    </a:lnTo>
                    <a:lnTo>
                      <a:pt x="852" y="1618"/>
                    </a:lnTo>
                    <a:lnTo>
                      <a:pt x="905" y="1614"/>
                    </a:lnTo>
                    <a:lnTo>
                      <a:pt x="954" y="1610"/>
                    </a:lnTo>
                    <a:lnTo>
                      <a:pt x="997" y="1607"/>
                    </a:lnTo>
                    <a:lnTo>
                      <a:pt x="1033" y="1603"/>
                    </a:lnTo>
                    <a:lnTo>
                      <a:pt x="1060" y="1601"/>
                    </a:lnTo>
                    <a:lnTo>
                      <a:pt x="1078" y="1600"/>
                    </a:lnTo>
                    <a:lnTo>
                      <a:pt x="1083" y="1600"/>
                    </a:lnTo>
                    <a:lnTo>
                      <a:pt x="1077" y="1587"/>
                    </a:lnTo>
                    <a:lnTo>
                      <a:pt x="1059" y="1551"/>
                    </a:lnTo>
                    <a:lnTo>
                      <a:pt x="1034" y="1495"/>
                    </a:lnTo>
                    <a:lnTo>
                      <a:pt x="1007" y="1420"/>
                    </a:lnTo>
                    <a:lnTo>
                      <a:pt x="981" y="1328"/>
                    </a:lnTo>
                    <a:lnTo>
                      <a:pt x="960" y="1222"/>
                    </a:lnTo>
                    <a:lnTo>
                      <a:pt x="949" y="1105"/>
                    </a:lnTo>
                    <a:lnTo>
                      <a:pt x="951" y="978"/>
                    </a:lnTo>
                    <a:lnTo>
                      <a:pt x="964" y="818"/>
                    </a:lnTo>
                    <a:lnTo>
                      <a:pt x="979" y="651"/>
                    </a:lnTo>
                    <a:lnTo>
                      <a:pt x="994" y="487"/>
                    </a:lnTo>
                    <a:lnTo>
                      <a:pt x="1009" y="334"/>
                    </a:lnTo>
                    <a:lnTo>
                      <a:pt x="1021" y="201"/>
                    </a:lnTo>
                    <a:lnTo>
                      <a:pt x="1033" y="95"/>
                    </a:lnTo>
                    <a:lnTo>
                      <a:pt x="1040" y="26"/>
                    </a:lnTo>
                    <a:lnTo>
                      <a:pt x="1042" y="0"/>
                    </a:lnTo>
                    <a:lnTo>
                      <a:pt x="99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Freeform 81"/>
              <p:cNvSpPr/>
              <p:nvPr/>
            </p:nvSpPr>
            <p:spPr>
              <a:xfrm>
                <a:off x="2556360" y="5201640"/>
                <a:ext cx="309600" cy="417960"/>
              </a:xfrm>
              <a:custGeom>
                <a:avLst/>
                <a:gdLst>
                  <a:gd name="textAreaLeft" fmla="*/ 0 w 309600"/>
                  <a:gd name="textAreaRight" fmla="*/ 309960 w 309600"/>
                  <a:gd name="textAreaTop" fmla="*/ 0 h 417960"/>
                  <a:gd name="textAreaBottom" fmla="*/ 418320 h 417960"/>
                </a:gdLst>
                <a:ahLst/>
                <a:rect l="textAreaLeft" t="textAreaTop" r="textAreaRight" b="textAreaBottom"/>
                <a:pathLst>
                  <a:path w="1272" h="1820">
                    <a:moveTo>
                      <a:pt x="1237" y="92"/>
                    </a:moveTo>
                    <a:lnTo>
                      <a:pt x="1235" y="113"/>
                    </a:lnTo>
                    <a:lnTo>
                      <a:pt x="1227" y="168"/>
                    </a:lnTo>
                    <a:lnTo>
                      <a:pt x="1215" y="252"/>
                    </a:lnTo>
                    <a:lnTo>
                      <a:pt x="1203" y="355"/>
                    </a:lnTo>
                    <a:lnTo>
                      <a:pt x="1188" y="468"/>
                    </a:lnTo>
                    <a:lnTo>
                      <a:pt x="1174" y="584"/>
                    </a:lnTo>
                    <a:lnTo>
                      <a:pt x="1161" y="694"/>
                    </a:lnTo>
                    <a:lnTo>
                      <a:pt x="1152" y="790"/>
                    </a:lnTo>
                    <a:lnTo>
                      <a:pt x="1146" y="884"/>
                    </a:lnTo>
                    <a:lnTo>
                      <a:pt x="1145" y="984"/>
                    </a:lnTo>
                    <a:lnTo>
                      <a:pt x="1147" y="1089"/>
                    </a:lnTo>
                    <a:lnTo>
                      <a:pt x="1152" y="1190"/>
                    </a:lnTo>
                    <a:lnTo>
                      <a:pt x="1160" y="1284"/>
                    </a:lnTo>
                    <a:lnTo>
                      <a:pt x="1169" y="1365"/>
                    </a:lnTo>
                    <a:lnTo>
                      <a:pt x="1181" y="1428"/>
                    </a:lnTo>
                    <a:lnTo>
                      <a:pt x="1194" y="1469"/>
                    </a:lnTo>
                    <a:lnTo>
                      <a:pt x="1207" y="1495"/>
                    </a:lnTo>
                    <a:lnTo>
                      <a:pt x="1221" y="1521"/>
                    </a:lnTo>
                    <a:lnTo>
                      <a:pt x="1235" y="1548"/>
                    </a:lnTo>
                    <a:lnTo>
                      <a:pt x="1247" y="1571"/>
                    </a:lnTo>
                    <a:lnTo>
                      <a:pt x="1257" y="1592"/>
                    </a:lnTo>
                    <a:lnTo>
                      <a:pt x="1265" y="1608"/>
                    </a:lnTo>
                    <a:lnTo>
                      <a:pt x="1270" y="1619"/>
                    </a:lnTo>
                    <a:lnTo>
                      <a:pt x="1272" y="1623"/>
                    </a:lnTo>
                    <a:lnTo>
                      <a:pt x="1266" y="1623"/>
                    </a:lnTo>
                    <a:lnTo>
                      <a:pt x="1252" y="1622"/>
                    </a:lnTo>
                    <a:lnTo>
                      <a:pt x="1228" y="1621"/>
                    </a:lnTo>
                    <a:lnTo>
                      <a:pt x="1198" y="1619"/>
                    </a:lnTo>
                    <a:lnTo>
                      <a:pt x="1161" y="1618"/>
                    </a:lnTo>
                    <a:lnTo>
                      <a:pt x="1121" y="1617"/>
                    </a:lnTo>
                    <a:lnTo>
                      <a:pt x="1076" y="1616"/>
                    </a:lnTo>
                    <a:lnTo>
                      <a:pt x="1029" y="1615"/>
                    </a:lnTo>
                    <a:lnTo>
                      <a:pt x="980" y="1615"/>
                    </a:lnTo>
                    <a:lnTo>
                      <a:pt x="932" y="1614"/>
                    </a:lnTo>
                    <a:lnTo>
                      <a:pt x="885" y="1614"/>
                    </a:lnTo>
                    <a:lnTo>
                      <a:pt x="841" y="1614"/>
                    </a:lnTo>
                    <a:lnTo>
                      <a:pt x="799" y="1615"/>
                    </a:lnTo>
                    <a:lnTo>
                      <a:pt x="764" y="1617"/>
                    </a:lnTo>
                    <a:lnTo>
                      <a:pt x="734" y="1619"/>
                    </a:lnTo>
                    <a:lnTo>
                      <a:pt x="712" y="1623"/>
                    </a:lnTo>
                    <a:lnTo>
                      <a:pt x="688" y="1629"/>
                    </a:lnTo>
                    <a:lnTo>
                      <a:pt x="653" y="1638"/>
                    </a:lnTo>
                    <a:lnTo>
                      <a:pt x="609" y="1648"/>
                    </a:lnTo>
                    <a:lnTo>
                      <a:pt x="559" y="1662"/>
                    </a:lnTo>
                    <a:lnTo>
                      <a:pt x="503" y="1678"/>
                    </a:lnTo>
                    <a:lnTo>
                      <a:pt x="443" y="1694"/>
                    </a:lnTo>
                    <a:lnTo>
                      <a:pt x="381" y="1712"/>
                    </a:lnTo>
                    <a:lnTo>
                      <a:pt x="319" y="1729"/>
                    </a:lnTo>
                    <a:lnTo>
                      <a:pt x="258" y="1746"/>
                    </a:lnTo>
                    <a:lnTo>
                      <a:pt x="199" y="1763"/>
                    </a:lnTo>
                    <a:lnTo>
                      <a:pt x="145" y="1778"/>
                    </a:lnTo>
                    <a:lnTo>
                      <a:pt x="97" y="1792"/>
                    </a:lnTo>
                    <a:lnTo>
                      <a:pt x="57" y="1804"/>
                    </a:lnTo>
                    <a:lnTo>
                      <a:pt x="26" y="1812"/>
                    </a:lnTo>
                    <a:lnTo>
                      <a:pt x="7" y="1817"/>
                    </a:lnTo>
                    <a:lnTo>
                      <a:pt x="0" y="1820"/>
                    </a:lnTo>
                    <a:lnTo>
                      <a:pt x="6" y="1817"/>
                    </a:lnTo>
                    <a:lnTo>
                      <a:pt x="21" y="1811"/>
                    </a:lnTo>
                    <a:lnTo>
                      <a:pt x="44" y="1801"/>
                    </a:lnTo>
                    <a:lnTo>
                      <a:pt x="76" y="1788"/>
                    </a:lnTo>
                    <a:lnTo>
                      <a:pt x="115" y="1773"/>
                    </a:lnTo>
                    <a:lnTo>
                      <a:pt x="160" y="1755"/>
                    </a:lnTo>
                    <a:lnTo>
                      <a:pt x="210" y="1736"/>
                    </a:lnTo>
                    <a:lnTo>
                      <a:pt x="265" y="1716"/>
                    </a:lnTo>
                    <a:lnTo>
                      <a:pt x="322" y="1697"/>
                    </a:lnTo>
                    <a:lnTo>
                      <a:pt x="382" y="1677"/>
                    </a:lnTo>
                    <a:lnTo>
                      <a:pt x="445" y="1659"/>
                    </a:lnTo>
                    <a:lnTo>
                      <a:pt x="507" y="1640"/>
                    </a:lnTo>
                    <a:lnTo>
                      <a:pt x="570" y="1625"/>
                    </a:lnTo>
                    <a:lnTo>
                      <a:pt x="631" y="1611"/>
                    </a:lnTo>
                    <a:lnTo>
                      <a:pt x="690" y="1602"/>
                    </a:lnTo>
                    <a:lnTo>
                      <a:pt x="746" y="1595"/>
                    </a:lnTo>
                    <a:lnTo>
                      <a:pt x="779" y="1593"/>
                    </a:lnTo>
                    <a:lnTo>
                      <a:pt x="814" y="1591"/>
                    </a:lnTo>
                    <a:lnTo>
                      <a:pt x="851" y="1588"/>
                    </a:lnTo>
                    <a:lnTo>
                      <a:pt x="888" y="1586"/>
                    </a:lnTo>
                    <a:lnTo>
                      <a:pt x="926" y="1585"/>
                    </a:lnTo>
                    <a:lnTo>
                      <a:pt x="964" y="1583"/>
                    </a:lnTo>
                    <a:lnTo>
                      <a:pt x="1001" y="1581"/>
                    </a:lnTo>
                    <a:lnTo>
                      <a:pt x="1037" y="1579"/>
                    </a:lnTo>
                    <a:lnTo>
                      <a:pt x="1070" y="1578"/>
                    </a:lnTo>
                    <a:lnTo>
                      <a:pt x="1101" y="1578"/>
                    </a:lnTo>
                    <a:lnTo>
                      <a:pt x="1129" y="1577"/>
                    </a:lnTo>
                    <a:lnTo>
                      <a:pt x="1153" y="1576"/>
                    </a:lnTo>
                    <a:lnTo>
                      <a:pt x="1173" y="1576"/>
                    </a:lnTo>
                    <a:lnTo>
                      <a:pt x="1188" y="1574"/>
                    </a:lnTo>
                    <a:lnTo>
                      <a:pt x="1197" y="1574"/>
                    </a:lnTo>
                    <a:lnTo>
                      <a:pt x="1200" y="1574"/>
                    </a:lnTo>
                    <a:lnTo>
                      <a:pt x="1195" y="1564"/>
                    </a:lnTo>
                    <a:lnTo>
                      <a:pt x="1181" y="1533"/>
                    </a:lnTo>
                    <a:lnTo>
                      <a:pt x="1161" y="1479"/>
                    </a:lnTo>
                    <a:lnTo>
                      <a:pt x="1139" y="1402"/>
                    </a:lnTo>
                    <a:lnTo>
                      <a:pt x="1120" y="1300"/>
                    </a:lnTo>
                    <a:lnTo>
                      <a:pt x="1107" y="1171"/>
                    </a:lnTo>
                    <a:lnTo>
                      <a:pt x="1102" y="1016"/>
                    </a:lnTo>
                    <a:lnTo>
                      <a:pt x="1111" y="832"/>
                    </a:lnTo>
                    <a:lnTo>
                      <a:pt x="1124" y="682"/>
                    </a:lnTo>
                    <a:lnTo>
                      <a:pt x="1139" y="533"/>
                    </a:lnTo>
                    <a:lnTo>
                      <a:pt x="1155" y="394"/>
                    </a:lnTo>
                    <a:lnTo>
                      <a:pt x="1172" y="266"/>
                    </a:lnTo>
                    <a:lnTo>
                      <a:pt x="1185" y="158"/>
                    </a:lnTo>
                    <a:lnTo>
                      <a:pt x="1197" y="74"/>
                    </a:lnTo>
                    <a:lnTo>
                      <a:pt x="1205" y="20"/>
                    </a:lnTo>
                    <a:lnTo>
                      <a:pt x="1207" y="0"/>
                    </a:lnTo>
                    <a:lnTo>
                      <a:pt x="123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Freeform 82"/>
              <p:cNvSpPr/>
              <p:nvPr/>
            </p:nvSpPr>
            <p:spPr>
              <a:xfrm>
                <a:off x="2517480" y="5253120"/>
                <a:ext cx="166680" cy="379440"/>
              </a:xfrm>
              <a:custGeom>
                <a:avLst/>
                <a:gdLst>
                  <a:gd name="textAreaLeft" fmla="*/ 0 w 166680"/>
                  <a:gd name="textAreaRight" fmla="*/ 167040 w 166680"/>
                  <a:gd name="textAreaTop" fmla="*/ 0 h 379440"/>
                  <a:gd name="textAreaBottom" fmla="*/ 379800 h 379440"/>
                </a:gdLst>
                <a:ahLst/>
                <a:rect l="textAreaLeft" t="textAreaTop" r="textAreaRight" b="textAreaBottom"/>
                <a:pathLst>
                  <a:path w="685" h="1651">
                    <a:moveTo>
                      <a:pt x="685" y="1337"/>
                    </a:moveTo>
                    <a:lnTo>
                      <a:pt x="685" y="1337"/>
                    </a:lnTo>
                    <a:lnTo>
                      <a:pt x="635" y="1348"/>
                    </a:lnTo>
                    <a:lnTo>
                      <a:pt x="584" y="1364"/>
                    </a:lnTo>
                    <a:lnTo>
                      <a:pt x="532" y="1384"/>
                    </a:lnTo>
                    <a:lnTo>
                      <a:pt x="481" y="1406"/>
                    </a:lnTo>
                    <a:lnTo>
                      <a:pt x="431" y="1431"/>
                    </a:lnTo>
                    <a:lnTo>
                      <a:pt x="382" y="1458"/>
                    </a:lnTo>
                    <a:lnTo>
                      <a:pt x="335" y="1484"/>
                    </a:lnTo>
                    <a:lnTo>
                      <a:pt x="291" y="1512"/>
                    </a:lnTo>
                    <a:lnTo>
                      <a:pt x="250" y="1539"/>
                    </a:lnTo>
                    <a:lnTo>
                      <a:pt x="213" y="1565"/>
                    </a:lnTo>
                    <a:lnTo>
                      <a:pt x="180" y="1588"/>
                    </a:lnTo>
                    <a:lnTo>
                      <a:pt x="151" y="1609"/>
                    </a:lnTo>
                    <a:lnTo>
                      <a:pt x="128" y="1626"/>
                    </a:lnTo>
                    <a:lnTo>
                      <a:pt x="110" y="1640"/>
                    </a:lnTo>
                    <a:lnTo>
                      <a:pt x="100" y="1648"/>
                    </a:lnTo>
                    <a:lnTo>
                      <a:pt x="97" y="1651"/>
                    </a:lnTo>
                    <a:lnTo>
                      <a:pt x="92" y="1622"/>
                    </a:lnTo>
                    <a:lnTo>
                      <a:pt x="82" y="1546"/>
                    </a:lnTo>
                    <a:lnTo>
                      <a:pt x="66" y="1435"/>
                    </a:lnTo>
                    <a:lnTo>
                      <a:pt x="48" y="1302"/>
                    </a:lnTo>
                    <a:lnTo>
                      <a:pt x="31" y="1162"/>
                    </a:lnTo>
                    <a:lnTo>
                      <a:pt x="15" y="1026"/>
                    </a:lnTo>
                    <a:lnTo>
                      <a:pt x="4" y="907"/>
                    </a:lnTo>
                    <a:lnTo>
                      <a:pt x="0" y="821"/>
                    </a:lnTo>
                    <a:lnTo>
                      <a:pt x="3" y="653"/>
                    </a:lnTo>
                    <a:lnTo>
                      <a:pt x="10" y="455"/>
                    </a:lnTo>
                    <a:lnTo>
                      <a:pt x="17" y="291"/>
                    </a:lnTo>
                    <a:lnTo>
                      <a:pt x="21" y="223"/>
                    </a:lnTo>
                    <a:lnTo>
                      <a:pt x="21" y="219"/>
                    </a:lnTo>
                    <a:lnTo>
                      <a:pt x="21" y="204"/>
                    </a:lnTo>
                    <a:lnTo>
                      <a:pt x="23" y="182"/>
                    </a:lnTo>
                    <a:lnTo>
                      <a:pt x="29" y="154"/>
                    </a:lnTo>
                    <a:lnTo>
                      <a:pt x="37" y="120"/>
                    </a:lnTo>
                    <a:lnTo>
                      <a:pt x="49" y="83"/>
                    </a:lnTo>
                    <a:lnTo>
                      <a:pt x="69" y="41"/>
                    </a:lnTo>
                    <a:lnTo>
                      <a:pt x="9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6" name="Freeform 83"/>
              <p:cNvSpPr/>
              <p:nvPr/>
            </p:nvSpPr>
            <p:spPr>
              <a:xfrm>
                <a:off x="2276280" y="5259600"/>
                <a:ext cx="145440" cy="338400"/>
              </a:xfrm>
              <a:custGeom>
                <a:avLst/>
                <a:gdLst>
                  <a:gd name="textAreaLeft" fmla="*/ 0 w 145440"/>
                  <a:gd name="textAreaRight" fmla="*/ 145800 w 145440"/>
                  <a:gd name="textAreaTop" fmla="*/ 0 h 338400"/>
                  <a:gd name="textAreaBottom" fmla="*/ 338760 h 338400"/>
                </a:gdLst>
                <a:ahLst/>
                <a:rect l="textAreaLeft" t="textAreaTop" r="textAreaRight" b="textAreaBottom"/>
                <a:pathLst>
                  <a:path w="598" h="1474">
                    <a:moveTo>
                      <a:pt x="15" y="0"/>
                    </a:moveTo>
                    <a:lnTo>
                      <a:pt x="15" y="8"/>
                    </a:lnTo>
                    <a:lnTo>
                      <a:pt x="17" y="29"/>
                    </a:lnTo>
                    <a:lnTo>
                      <a:pt x="22" y="62"/>
                    </a:lnTo>
                    <a:lnTo>
                      <a:pt x="32" y="105"/>
                    </a:lnTo>
                    <a:lnTo>
                      <a:pt x="50" y="156"/>
                    </a:lnTo>
                    <a:lnTo>
                      <a:pt x="74" y="212"/>
                    </a:lnTo>
                    <a:lnTo>
                      <a:pt x="109" y="272"/>
                    </a:lnTo>
                    <a:lnTo>
                      <a:pt x="157" y="333"/>
                    </a:lnTo>
                    <a:lnTo>
                      <a:pt x="184" y="363"/>
                    </a:lnTo>
                    <a:lnTo>
                      <a:pt x="212" y="393"/>
                    </a:lnTo>
                    <a:lnTo>
                      <a:pt x="240" y="421"/>
                    </a:lnTo>
                    <a:lnTo>
                      <a:pt x="267" y="447"/>
                    </a:lnTo>
                    <a:lnTo>
                      <a:pt x="294" y="471"/>
                    </a:lnTo>
                    <a:lnTo>
                      <a:pt x="320" y="494"/>
                    </a:lnTo>
                    <a:lnTo>
                      <a:pt x="346" y="516"/>
                    </a:lnTo>
                    <a:lnTo>
                      <a:pt x="370" y="536"/>
                    </a:lnTo>
                    <a:lnTo>
                      <a:pt x="392" y="554"/>
                    </a:lnTo>
                    <a:lnTo>
                      <a:pt x="412" y="569"/>
                    </a:lnTo>
                    <a:lnTo>
                      <a:pt x="431" y="583"/>
                    </a:lnTo>
                    <a:lnTo>
                      <a:pt x="446" y="595"/>
                    </a:lnTo>
                    <a:lnTo>
                      <a:pt x="459" y="604"/>
                    </a:lnTo>
                    <a:lnTo>
                      <a:pt x="468" y="609"/>
                    </a:lnTo>
                    <a:lnTo>
                      <a:pt x="474" y="614"/>
                    </a:lnTo>
                    <a:lnTo>
                      <a:pt x="476" y="615"/>
                    </a:lnTo>
                    <a:lnTo>
                      <a:pt x="474" y="627"/>
                    </a:lnTo>
                    <a:lnTo>
                      <a:pt x="469" y="660"/>
                    </a:lnTo>
                    <a:lnTo>
                      <a:pt x="462" y="709"/>
                    </a:lnTo>
                    <a:lnTo>
                      <a:pt x="455" y="771"/>
                    </a:lnTo>
                    <a:lnTo>
                      <a:pt x="447" y="840"/>
                    </a:lnTo>
                    <a:lnTo>
                      <a:pt x="441" y="914"/>
                    </a:lnTo>
                    <a:lnTo>
                      <a:pt x="438" y="987"/>
                    </a:lnTo>
                    <a:lnTo>
                      <a:pt x="438" y="1056"/>
                    </a:lnTo>
                    <a:lnTo>
                      <a:pt x="446" y="1124"/>
                    </a:lnTo>
                    <a:lnTo>
                      <a:pt x="464" y="1194"/>
                    </a:lnTo>
                    <a:lnTo>
                      <a:pt x="491" y="1265"/>
                    </a:lnTo>
                    <a:lnTo>
                      <a:pt x="520" y="1330"/>
                    </a:lnTo>
                    <a:lnTo>
                      <a:pt x="548" y="1388"/>
                    </a:lnTo>
                    <a:lnTo>
                      <a:pt x="574" y="1434"/>
                    </a:lnTo>
                    <a:lnTo>
                      <a:pt x="591" y="1464"/>
                    </a:lnTo>
                    <a:lnTo>
                      <a:pt x="598" y="1474"/>
                    </a:lnTo>
                    <a:lnTo>
                      <a:pt x="591" y="1470"/>
                    </a:lnTo>
                    <a:lnTo>
                      <a:pt x="570" y="1454"/>
                    </a:lnTo>
                    <a:lnTo>
                      <a:pt x="543" y="1426"/>
                    </a:lnTo>
                    <a:lnTo>
                      <a:pt x="510" y="1383"/>
                    </a:lnTo>
                    <a:lnTo>
                      <a:pt x="478" y="1327"/>
                    </a:lnTo>
                    <a:lnTo>
                      <a:pt x="449" y="1253"/>
                    </a:lnTo>
                    <a:lnTo>
                      <a:pt x="429" y="1161"/>
                    </a:lnTo>
                    <a:lnTo>
                      <a:pt x="419" y="1051"/>
                    </a:lnTo>
                    <a:lnTo>
                      <a:pt x="419" y="940"/>
                    </a:lnTo>
                    <a:lnTo>
                      <a:pt x="423" y="850"/>
                    </a:lnTo>
                    <a:lnTo>
                      <a:pt x="430" y="778"/>
                    </a:lnTo>
                    <a:lnTo>
                      <a:pt x="438" y="722"/>
                    </a:lnTo>
                    <a:lnTo>
                      <a:pt x="446" y="682"/>
                    </a:lnTo>
                    <a:lnTo>
                      <a:pt x="453" y="656"/>
                    </a:lnTo>
                    <a:lnTo>
                      <a:pt x="457" y="641"/>
                    </a:lnTo>
                    <a:lnTo>
                      <a:pt x="460" y="636"/>
                    </a:lnTo>
                    <a:lnTo>
                      <a:pt x="457" y="635"/>
                    </a:lnTo>
                    <a:lnTo>
                      <a:pt x="452" y="631"/>
                    </a:lnTo>
                    <a:lnTo>
                      <a:pt x="444" y="624"/>
                    </a:lnTo>
                    <a:lnTo>
                      <a:pt x="431" y="616"/>
                    </a:lnTo>
                    <a:lnTo>
                      <a:pt x="416" y="606"/>
                    </a:lnTo>
                    <a:lnTo>
                      <a:pt x="399" y="593"/>
                    </a:lnTo>
                    <a:lnTo>
                      <a:pt x="379" y="578"/>
                    </a:lnTo>
                    <a:lnTo>
                      <a:pt x="357" y="561"/>
                    </a:lnTo>
                    <a:lnTo>
                      <a:pt x="334" y="543"/>
                    </a:lnTo>
                    <a:lnTo>
                      <a:pt x="310" y="522"/>
                    </a:lnTo>
                    <a:lnTo>
                      <a:pt x="283" y="499"/>
                    </a:lnTo>
                    <a:lnTo>
                      <a:pt x="257" y="475"/>
                    </a:lnTo>
                    <a:lnTo>
                      <a:pt x="229" y="448"/>
                    </a:lnTo>
                    <a:lnTo>
                      <a:pt x="203" y="421"/>
                    </a:lnTo>
                    <a:lnTo>
                      <a:pt x="175" y="391"/>
                    </a:lnTo>
                    <a:lnTo>
                      <a:pt x="147" y="360"/>
                    </a:lnTo>
                    <a:lnTo>
                      <a:pt x="100" y="299"/>
                    </a:lnTo>
                    <a:lnTo>
                      <a:pt x="65" y="244"/>
                    </a:lnTo>
                    <a:lnTo>
                      <a:pt x="38" y="197"/>
                    </a:lnTo>
                    <a:lnTo>
                      <a:pt x="21" y="157"/>
                    </a:lnTo>
                    <a:lnTo>
                      <a:pt x="9" y="125"/>
                    </a:lnTo>
                    <a:lnTo>
                      <a:pt x="3" y="102"/>
                    </a:lnTo>
                    <a:lnTo>
                      <a:pt x="0" y="87"/>
                    </a:lnTo>
                    <a:lnTo>
                      <a:pt x="0" y="82"/>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pic>
        <p:nvPicPr>
          <p:cNvPr id="297" name="Object 84" descr=""/>
          <p:cNvPicPr/>
          <p:nvPr/>
        </p:nvPicPr>
        <p:blipFill>
          <a:blip r:embed="rId1"/>
          <a:stretch/>
        </p:blipFill>
        <p:spPr>
          <a:xfrm>
            <a:off x="3949560" y="5159520"/>
            <a:ext cx="1274760" cy="1004760"/>
          </a:xfrm>
          <a:prstGeom prst="rect">
            <a:avLst/>
          </a:prstGeom>
          <a:ln w="0">
            <a:noFill/>
          </a:ln>
        </p:spPr>
      </p:pic>
      <p:grpSp>
        <p:nvGrpSpPr>
          <p:cNvPr id="298" name="Group 85"/>
          <p:cNvGrpSpPr/>
          <p:nvPr/>
        </p:nvGrpSpPr>
        <p:grpSpPr>
          <a:xfrm>
            <a:off x="6529320" y="5083200"/>
            <a:ext cx="1332000" cy="1036440"/>
            <a:chOff x="6529320" y="5083200"/>
            <a:chExt cx="1332000" cy="1036440"/>
          </a:xfrm>
        </p:grpSpPr>
        <p:pic>
          <p:nvPicPr>
            <p:cNvPr id="299" name="Object 86" descr=""/>
            <p:cNvPicPr/>
            <p:nvPr/>
          </p:nvPicPr>
          <p:blipFill>
            <a:blip r:embed="rId2"/>
            <a:stretch/>
          </p:blipFill>
          <p:spPr>
            <a:xfrm>
              <a:off x="6529320" y="5083200"/>
              <a:ext cx="700200" cy="433440"/>
            </a:xfrm>
            <a:prstGeom prst="rect">
              <a:avLst/>
            </a:prstGeom>
            <a:ln w="0">
              <a:noFill/>
            </a:ln>
          </p:spPr>
        </p:pic>
        <p:pic>
          <p:nvPicPr>
            <p:cNvPr id="300" name="Object 87" descr=""/>
            <p:cNvPicPr/>
            <p:nvPr/>
          </p:nvPicPr>
          <p:blipFill>
            <a:blip r:embed="rId3"/>
            <a:stretch/>
          </p:blipFill>
          <p:spPr>
            <a:xfrm>
              <a:off x="7020000" y="5600880"/>
              <a:ext cx="841320" cy="518760"/>
            </a:xfrm>
            <a:prstGeom prst="rect">
              <a:avLst/>
            </a:prstGeom>
            <a:ln w="0">
              <a:noFill/>
            </a:ln>
          </p:spPr>
        </p:pic>
      </p:grpSp>
      <p:grpSp>
        <p:nvGrpSpPr>
          <p:cNvPr id="301" name="Group 88"/>
          <p:cNvGrpSpPr/>
          <p:nvPr/>
        </p:nvGrpSpPr>
        <p:grpSpPr>
          <a:xfrm>
            <a:off x="2286000" y="1066680"/>
            <a:ext cx="4495680" cy="1371600"/>
            <a:chOff x="2286000" y="1066680"/>
            <a:chExt cx="4495680" cy="1371600"/>
          </a:xfrm>
        </p:grpSpPr>
        <p:grpSp>
          <p:nvGrpSpPr>
            <p:cNvPr id="302" name="Group 89"/>
            <p:cNvGrpSpPr/>
            <p:nvPr/>
          </p:nvGrpSpPr>
          <p:grpSpPr>
            <a:xfrm>
              <a:off x="4267080" y="1447920"/>
              <a:ext cx="2514600" cy="533160"/>
              <a:chOff x="4267080" y="1447920"/>
              <a:chExt cx="2514600" cy="533160"/>
            </a:xfrm>
          </p:grpSpPr>
          <p:sp>
            <p:nvSpPr>
              <p:cNvPr id="303" name="Oval 90"/>
              <p:cNvSpPr/>
              <p:nvPr/>
            </p:nvSpPr>
            <p:spPr>
              <a:xfrm>
                <a:off x="4267080" y="1447920"/>
                <a:ext cx="2514600" cy="5331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04" name="Group 91"/>
              <p:cNvGrpSpPr/>
              <p:nvPr/>
            </p:nvGrpSpPr>
            <p:grpSpPr>
              <a:xfrm>
                <a:off x="4597920" y="1566360"/>
                <a:ext cx="396720" cy="295920"/>
                <a:chOff x="4597920" y="1566360"/>
                <a:chExt cx="396720" cy="295920"/>
              </a:xfrm>
            </p:grpSpPr>
            <p:sp>
              <p:nvSpPr>
                <p:cNvPr id="305" name="Freeform 92"/>
                <p:cNvSpPr/>
                <p:nvPr/>
              </p:nvSpPr>
              <p:spPr>
                <a:xfrm>
                  <a:off x="4597920" y="1566360"/>
                  <a:ext cx="396720" cy="295920"/>
                </a:xfrm>
                <a:custGeom>
                  <a:avLst/>
                  <a:gdLst>
                    <a:gd name="textAreaLeft" fmla="*/ 0 w 396720"/>
                    <a:gd name="textAreaRight" fmla="*/ 397080 w 396720"/>
                    <a:gd name="textAreaTop" fmla="*/ 0 h 295920"/>
                    <a:gd name="textAreaBottom" fmla="*/ 296280 h 295920"/>
                  </a:gdLst>
                  <a:ahLst/>
                  <a:rect l="textAreaLeft" t="textAreaTop" r="textAreaRight" b="textAreaBottom"/>
                  <a:pathLst>
                    <a:path w="3006" h="2390">
                      <a:moveTo>
                        <a:pt x="516" y="468"/>
                      </a:moveTo>
                      <a:lnTo>
                        <a:pt x="264" y="419"/>
                      </a:lnTo>
                      <a:lnTo>
                        <a:pt x="262" y="425"/>
                      </a:lnTo>
                      <a:lnTo>
                        <a:pt x="255" y="441"/>
                      </a:lnTo>
                      <a:lnTo>
                        <a:pt x="243" y="466"/>
                      </a:lnTo>
                      <a:lnTo>
                        <a:pt x="229" y="501"/>
                      </a:lnTo>
                      <a:lnTo>
                        <a:pt x="212" y="542"/>
                      </a:lnTo>
                      <a:lnTo>
                        <a:pt x="192" y="591"/>
                      </a:lnTo>
                      <a:lnTo>
                        <a:pt x="172" y="644"/>
                      </a:lnTo>
                      <a:lnTo>
                        <a:pt x="150" y="701"/>
                      </a:lnTo>
                      <a:lnTo>
                        <a:pt x="128" y="761"/>
                      </a:lnTo>
                      <a:lnTo>
                        <a:pt x="106" y="823"/>
                      </a:lnTo>
                      <a:lnTo>
                        <a:pt x="86" y="888"/>
                      </a:lnTo>
                      <a:lnTo>
                        <a:pt x="67" y="951"/>
                      </a:lnTo>
                      <a:lnTo>
                        <a:pt x="51" y="1012"/>
                      </a:lnTo>
                      <a:lnTo>
                        <a:pt x="37" y="1073"/>
                      </a:lnTo>
                      <a:lnTo>
                        <a:pt x="26" y="1130"/>
                      </a:lnTo>
                      <a:lnTo>
                        <a:pt x="20" y="1182"/>
                      </a:lnTo>
                      <a:lnTo>
                        <a:pt x="8" y="1446"/>
                      </a:lnTo>
                      <a:lnTo>
                        <a:pt x="2" y="1790"/>
                      </a:lnTo>
                      <a:lnTo>
                        <a:pt x="0" y="2088"/>
                      </a:lnTo>
                      <a:lnTo>
                        <a:pt x="0" y="2216"/>
                      </a:lnTo>
                      <a:lnTo>
                        <a:pt x="157" y="2001"/>
                      </a:lnTo>
                      <a:lnTo>
                        <a:pt x="48" y="2240"/>
                      </a:lnTo>
                      <a:lnTo>
                        <a:pt x="97" y="2251"/>
                      </a:lnTo>
                      <a:lnTo>
                        <a:pt x="60" y="2364"/>
                      </a:lnTo>
                      <a:lnTo>
                        <a:pt x="65" y="2363"/>
                      </a:lnTo>
                      <a:lnTo>
                        <a:pt x="79" y="2361"/>
                      </a:lnTo>
                      <a:lnTo>
                        <a:pt x="103" y="2357"/>
                      </a:lnTo>
                      <a:lnTo>
                        <a:pt x="134" y="2352"/>
                      </a:lnTo>
                      <a:lnTo>
                        <a:pt x="171" y="2346"/>
                      </a:lnTo>
                      <a:lnTo>
                        <a:pt x="213" y="2339"/>
                      </a:lnTo>
                      <a:lnTo>
                        <a:pt x="259" y="2332"/>
                      </a:lnTo>
                      <a:lnTo>
                        <a:pt x="309" y="2325"/>
                      </a:lnTo>
                      <a:lnTo>
                        <a:pt x="361" y="2318"/>
                      </a:lnTo>
                      <a:lnTo>
                        <a:pt x="412" y="2311"/>
                      </a:lnTo>
                      <a:lnTo>
                        <a:pt x="464" y="2304"/>
                      </a:lnTo>
                      <a:lnTo>
                        <a:pt x="515" y="2299"/>
                      </a:lnTo>
                      <a:lnTo>
                        <a:pt x="563" y="2294"/>
                      </a:lnTo>
                      <a:lnTo>
                        <a:pt x="609" y="2290"/>
                      </a:lnTo>
                      <a:lnTo>
                        <a:pt x="650" y="2288"/>
                      </a:lnTo>
                      <a:lnTo>
                        <a:pt x="684" y="2288"/>
                      </a:lnTo>
                      <a:lnTo>
                        <a:pt x="724" y="2288"/>
                      </a:lnTo>
                      <a:lnTo>
                        <a:pt x="762" y="2288"/>
                      </a:lnTo>
                      <a:lnTo>
                        <a:pt x="801" y="2287"/>
                      </a:lnTo>
                      <a:lnTo>
                        <a:pt x="839" y="2286"/>
                      </a:lnTo>
                      <a:lnTo>
                        <a:pt x="877" y="2285"/>
                      </a:lnTo>
                      <a:lnTo>
                        <a:pt x="913" y="2282"/>
                      </a:lnTo>
                      <a:lnTo>
                        <a:pt x="947" y="2281"/>
                      </a:lnTo>
                      <a:lnTo>
                        <a:pt x="979" y="2279"/>
                      </a:lnTo>
                      <a:lnTo>
                        <a:pt x="1009" y="2277"/>
                      </a:lnTo>
                      <a:lnTo>
                        <a:pt x="1037" y="2276"/>
                      </a:lnTo>
                      <a:lnTo>
                        <a:pt x="1061" y="2273"/>
                      </a:lnTo>
                      <a:lnTo>
                        <a:pt x="1082" y="2272"/>
                      </a:lnTo>
                      <a:lnTo>
                        <a:pt x="1098" y="2271"/>
                      </a:lnTo>
                      <a:lnTo>
                        <a:pt x="1111" y="2270"/>
                      </a:lnTo>
                      <a:lnTo>
                        <a:pt x="1119" y="2269"/>
                      </a:lnTo>
                      <a:lnTo>
                        <a:pt x="1121" y="2269"/>
                      </a:lnTo>
                      <a:lnTo>
                        <a:pt x="1487" y="2390"/>
                      </a:lnTo>
                      <a:lnTo>
                        <a:pt x="2037" y="2251"/>
                      </a:lnTo>
                      <a:lnTo>
                        <a:pt x="2040" y="2250"/>
                      </a:lnTo>
                      <a:lnTo>
                        <a:pt x="2050" y="2248"/>
                      </a:lnTo>
                      <a:lnTo>
                        <a:pt x="2066" y="2244"/>
                      </a:lnTo>
                      <a:lnTo>
                        <a:pt x="2085" y="2240"/>
                      </a:lnTo>
                      <a:lnTo>
                        <a:pt x="2111" y="2234"/>
                      </a:lnTo>
                      <a:lnTo>
                        <a:pt x="2138" y="2228"/>
                      </a:lnTo>
                      <a:lnTo>
                        <a:pt x="2168" y="2221"/>
                      </a:lnTo>
                      <a:lnTo>
                        <a:pt x="2202" y="2214"/>
                      </a:lnTo>
                      <a:lnTo>
                        <a:pt x="2235" y="2208"/>
                      </a:lnTo>
                      <a:lnTo>
                        <a:pt x="2270" y="2201"/>
                      </a:lnTo>
                      <a:lnTo>
                        <a:pt x="2303" y="2195"/>
                      </a:lnTo>
                      <a:lnTo>
                        <a:pt x="2337" y="2189"/>
                      </a:lnTo>
                      <a:lnTo>
                        <a:pt x="2369" y="2185"/>
                      </a:lnTo>
                      <a:lnTo>
                        <a:pt x="2398" y="2181"/>
                      </a:lnTo>
                      <a:lnTo>
                        <a:pt x="2424" y="2179"/>
                      </a:lnTo>
                      <a:lnTo>
                        <a:pt x="2446" y="2178"/>
                      </a:lnTo>
                      <a:lnTo>
                        <a:pt x="2470" y="2178"/>
                      </a:lnTo>
                      <a:lnTo>
                        <a:pt x="2501" y="2180"/>
                      </a:lnTo>
                      <a:lnTo>
                        <a:pt x="2538" y="2181"/>
                      </a:lnTo>
                      <a:lnTo>
                        <a:pt x="2580" y="2185"/>
                      </a:lnTo>
                      <a:lnTo>
                        <a:pt x="2625" y="2188"/>
                      </a:lnTo>
                      <a:lnTo>
                        <a:pt x="2672" y="2191"/>
                      </a:lnTo>
                      <a:lnTo>
                        <a:pt x="2719" y="2195"/>
                      </a:lnTo>
                      <a:lnTo>
                        <a:pt x="2768" y="2198"/>
                      </a:lnTo>
                      <a:lnTo>
                        <a:pt x="2814" y="2203"/>
                      </a:lnTo>
                      <a:lnTo>
                        <a:pt x="2857" y="2206"/>
                      </a:lnTo>
                      <a:lnTo>
                        <a:pt x="2898" y="2210"/>
                      </a:lnTo>
                      <a:lnTo>
                        <a:pt x="2933" y="2213"/>
                      </a:lnTo>
                      <a:lnTo>
                        <a:pt x="2963" y="2217"/>
                      </a:lnTo>
                      <a:lnTo>
                        <a:pt x="2986" y="2218"/>
                      </a:lnTo>
                      <a:lnTo>
                        <a:pt x="3001" y="2220"/>
                      </a:lnTo>
                      <a:lnTo>
                        <a:pt x="3006" y="2220"/>
                      </a:lnTo>
                      <a:lnTo>
                        <a:pt x="3004" y="2218"/>
                      </a:lnTo>
                      <a:lnTo>
                        <a:pt x="2998" y="2210"/>
                      </a:lnTo>
                      <a:lnTo>
                        <a:pt x="2988" y="2197"/>
                      </a:lnTo>
                      <a:lnTo>
                        <a:pt x="2976" y="2179"/>
                      </a:lnTo>
                      <a:lnTo>
                        <a:pt x="2962" y="2153"/>
                      </a:lnTo>
                      <a:lnTo>
                        <a:pt x="2946" y="2121"/>
                      </a:lnTo>
                      <a:lnTo>
                        <a:pt x="2930" y="2082"/>
                      </a:lnTo>
                      <a:lnTo>
                        <a:pt x="2915" y="2035"/>
                      </a:lnTo>
                      <a:lnTo>
                        <a:pt x="2900" y="1980"/>
                      </a:lnTo>
                      <a:lnTo>
                        <a:pt x="2886" y="1916"/>
                      </a:lnTo>
                      <a:lnTo>
                        <a:pt x="2876" y="1844"/>
                      </a:lnTo>
                      <a:lnTo>
                        <a:pt x="2867" y="1761"/>
                      </a:lnTo>
                      <a:lnTo>
                        <a:pt x="2862" y="1670"/>
                      </a:lnTo>
                      <a:lnTo>
                        <a:pt x="2862" y="1567"/>
                      </a:lnTo>
                      <a:lnTo>
                        <a:pt x="2867" y="1454"/>
                      </a:lnTo>
                      <a:lnTo>
                        <a:pt x="2877" y="1330"/>
                      </a:lnTo>
                      <a:lnTo>
                        <a:pt x="2902" y="1096"/>
                      </a:lnTo>
                      <a:lnTo>
                        <a:pt x="2923" y="913"/>
                      </a:lnTo>
                      <a:lnTo>
                        <a:pt x="2941" y="775"/>
                      </a:lnTo>
                      <a:lnTo>
                        <a:pt x="2955" y="674"/>
                      </a:lnTo>
                      <a:lnTo>
                        <a:pt x="2966" y="606"/>
                      </a:lnTo>
                      <a:lnTo>
                        <a:pt x="2973" y="565"/>
                      </a:lnTo>
                      <a:lnTo>
                        <a:pt x="2977" y="545"/>
                      </a:lnTo>
                      <a:lnTo>
                        <a:pt x="2978" y="539"/>
                      </a:lnTo>
                      <a:lnTo>
                        <a:pt x="2839" y="546"/>
                      </a:lnTo>
                      <a:lnTo>
                        <a:pt x="2853" y="456"/>
                      </a:lnTo>
                      <a:lnTo>
                        <a:pt x="2685" y="432"/>
                      </a:lnTo>
                      <a:lnTo>
                        <a:pt x="2690" y="312"/>
                      </a:lnTo>
                      <a:lnTo>
                        <a:pt x="2688" y="312"/>
                      </a:lnTo>
                      <a:lnTo>
                        <a:pt x="2682" y="313"/>
                      </a:lnTo>
                      <a:lnTo>
                        <a:pt x="2673" y="314"/>
                      </a:lnTo>
                      <a:lnTo>
                        <a:pt x="2660" y="316"/>
                      </a:lnTo>
                      <a:lnTo>
                        <a:pt x="2645" y="318"/>
                      </a:lnTo>
                      <a:lnTo>
                        <a:pt x="2627" y="320"/>
                      </a:lnTo>
                      <a:lnTo>
                        <a:pt x="2605" y="322"/>
                      </a:lnTo>
                      <a:lnTo>
                        <a:pt x="2582" y="326"/>
                      </a:lnTo>
                      <a:lnTo>
                        <a:pt x="2556" y="329"/>
                      </a:lnTo>
                      <a:lnTo>
                        <a:pt x="2528" y="333"/>
                      </a:lnTo>
                      <a:lnTo>
                        <a:pt x="2498" y="337"/>
                      </a:lnTo>
                      <a:lnTo>
                        <a:pt x="2467" y="342"/>
                      </a:lnTo>
                      <a:lnTo>
                        <a:pt x="2435" y="347"/>
                      </a:lnTo>
                      <a:lnTo>
                        <a:pt x="2401" y="351"/>
                      </a:lnTo>
                      <a:lnTo>
                        <a:pt x="2365" y="356"/>
                      </a:lnTo>
                      <a:lnTo>
                        <a:pt x="2331" y="362"/>
                      </a:lnTo>
                      <a:lnTo>
                        <a:pt x="2295" y="366"/>
                      </a:lnTo>
                      <a:lnTo>
                        <a:pt x="2258" y="372"/>
                      </a:lnTo>
                      <a:lnTo>
                        <a:pt x="2223" y="378"/>
                      </a:lnTo>
                      <a:lnTo>
                        <a:pt x="2186" y="383"/>
                      </a:lnTo>
                      <a:lnTo>
                        <a:pt x="2150" y="389"/>
                      </a:lnTo>
                      <a:lnTo>
                        <a:pt x="2115" y="396"/>
                      </a:lnTo>
                      <a:lnTo>
                        <a:pt x="2081" y="402"/>
                      </a:lnTo>
                      <a:lnTo>
                        <a:pt x="2047" y="408"/>
                      </a:lnTo>
                      <a:lnTo>
                        <a:pt x="2015" y="413"/>
                      </a:lnTo>
                      <a:lnTo>
                        <a:pt x="1985" y="420"/>
                      </a:lnTo>
                      <a:lnTo>
                        <a:pt x="1956" y="426"/>
                      </a:lnTo>
                      <a:lnTo>
                        <a:pt x="1929" y="432"/>
                      </a:lnTo>
                      <a:lnTo>
                        <a:pt x="1905" y="439"/>
                      </a:lnTo>
                      <a:lnTo>
                        <a:pt x="1881" y="445"/>
                      </a:lnTo>
                      <a:lnTo>
                        <a:pt x="1862" y="450"/>
                      </a:lnTo>
                      <a:lnTo>
                        <a:pt x="1845" y="456"/>
                      </a:lnTo>
                      <a:lnTo>
                        <a:pt x="1814" y="469"/>
                      </a:lnTo>
                      <a:lnTo>
                        <a:pt x="1781" y="483"/>
                      </a:lnTo>
                      <a:lnTo>
                        <a:pt x="1750" y="500"/>
                      </a:lnTo>
                      <a:lnTo>
                        <a:pt x="1720" y="517"/>
                      </a:lnTo>
                      <a:lnTo>
                        <a:pt x="1690" y="535"/>
                      </a:lnTo>
                      <a:lnTo>
                        <a:pt x="1661" y="554"/>
                      </a:lnTo>
                      <a:lnTo>
                        <a:pt x="1634" y="573"/>
                      </a:lnTo>
                      <a:lnTo>
                        <a:pt x="1608" y="592"/>
                      </a:lnTo>
                      <a:lnTo>
                        <a:pt x="1585" y="610"/>
                      </a:lnTo>
                      <a:lnTo>
                        <a:pt x="1563" y="628"/>
                      </a:lnTo>
                      <a:lnTo>
                        <a:pt x="1545" y="644"/>
                      </a:lnTo>
                      <a:lnTo>
                        <a:pt x="1529" y="656"/>
                      </a:lnTo>
                      <a:lnTo>
                        <a:pt x="1515" y="668"/>
                      </a:lnTo>
                      <a:lnTo>
                        <a:pt x="1506" y="677"/>
                      </a:lnTo>
                      <a:lnTo>
                        <a:pt x="1500" y="682"/>
                      </a:lnTo>
                      <a:lnTo>
                        <a:pt x="1498" y="684"/>
                      </a:lnTo>
                      <a:lnTo>
                        <a:pt x="1494" y="693"/>
                      </a:lnTo>
                      <a:lnTo>
                        <a:pt x="1490" y="698"/>
                      </a:lnTo>
                      <a:lnTo>
                        <a:pt x="1484" y="699"/>
                      </a:lnTo>
                      <a:lnTo>
                        <a:pt x="1477" y="698"/>
                      </a:lnTo>
                      <a:lnTo>
                        <a:pt x="1468" y="693"/>
                      </a:lnTo>
                      <a:lnTo>
                        <a:pt x="1457" y="685"/>
                      </a:lnTo>
                      <a:lnTo>
                        <a:pt x="1445" y="676"/>
                      </a:lnTo>
                      <a:lnTo>
                        <a:pt x="1430" y="664"/>
                      </a:lnTo>
                      <a:lnTo>
                        <a:pt x="1413" y="651"/>
                      </a:lnTo>
                      <a:lnTo>
                        <a:pt x="1392" y="636"/>
                      </a:lnTo>
                      <a:lnTo>
                        <a:pt x="1370" y="620"/>
                      </a:lnTo>
                      <a:lnTo>
                        <a:pt x="1345" y="602"/>
                      </a:lnTo>
                      <a:lnTo>
                        <a:pt x="1317" y="584"/>
                      </a:lnTo>
                      <a:lnTo>
                        <a:pt x="1286" y="565"/>
                      </a:lnTo>
                      <a:lnTo>
                        <a:pt x="1251" y="547"/>
                      </a:lnTo>
                      <a:lnTo>
                        <a:pt x="1213" y="529"/>
                      </a:lnTo>
                      <a:lnTo>
                        <a:pt x="1180" y="515"/>
                      </a:lnTo>
                      <a:lnTo>
                        <a:pt x="1150" y="504"/>
                      </a:lnTo>
                      <a:lnTo>
                        <a:pt x="1121" y="495"/>
                      </a:lnTo>
                      <a:lnTo>
                        <a:pt x="1093" y="489"/>
                      </a:lnTo>
                      <a:lnTo>
                        <a:pt x="1068" y="485"/>
                      </a:lnTo>
                      <a:lnTo>
                        <a:pt x="1044" y="483"/>
                      </a:lnTo>
                      <a:lnTo>
                        <a:pt x="1022" y="480"/>
                      </a:lnTo>
                      <a:lnTo>
                        <a:pt x="1001" y="478"/>
                      </a:lnTo>
                      <a:lnTo>
                        <a:pt x="980" y="476"/>
                      </a:lnTo>
                      <a:lnTo>
                        <a:pt x="962" y="473"/>
                      </a:lnTo>
                      <a:lnTo>
                        <a:pt x="945" y="470"/>
                      </a:lnTo>
                      <a:lnTo>
                        <a:pt x="927" y="465"/>
                      </a:lnTo>
                      <a:lnTo>
                        <a:pt x="911" y="458"/>
                      </a:lnTo>
                      <a:lnTo>
                        <a:pt x="896" y="450"/>
                      </a:lnTo>
                      <a:lnTo>
                        <a:pt x="881" y="439"/>
                      </a:lnTo>
                      <a:lnTo>
                        <a:pt x="868" y="424"/>
                      </a:lnTo>
                      <a:lnTo>
                        <a:pt x="848" y="351"/>
                      </a:lnTo>
                      <a:lnTo>
                        <a:pt x="836" y="278"/>
                      </a:lnTo>
                      <a:lnTo>
                        <a:pt x="833" y="206"/>
                      </a:lnTo>
                      <a:lnTo>
                        <a:pt x="834" y="140"/>
                      </a:lnTo>
                      <a:lnTo>
                        <a:pt x="838" y="84"/>
                      </a:lnTo>
                      <a:lnTo>
                        <a:pt x="842" y="40"/>
                      </a:lnTo>
                      <a:lnTo>
                        <a:pt x="845" y="10"/>
                      </a:lnTo>
                      <a:lnTo>
                        <a:pt x="843" y="0"/>
                      </a:lnTo>
                      <a:lnTo>
                        <a:pt x="5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Freeform 93"/>
                <p:cNvSpPr/>
                <p:nvPr/>
              </p:nvSpPr>
              <p:spPr>
                <a:xfrm>
                  <a:off x="4615560" y="1653120"/>
                  <a:ext cx="218520" cy="201960"/>
                </a:xfrm>
                <a:custGeom>
                  <a:avLst/>
                  <a:gdLst>
                    <a:gd name="textAreaLeft" fmla="*/ 0 w 218520"/>
                    <a:gd name="textAreaRight" fmla="*/ 218880 w 218520"/>
                    <a:gd name="textAreaTop" fmla="*/ 0 h 201960"/>
                    <a:gd name="textAreaBottom" fmla="*/ 202320 h 20196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Freeform 94"/>
                <p:cNvSpPr/>
                <p:nvPr/>
              </p:nvSpPr>
              <p:spPr>
                <a:xfrm>
                  <a:off x="4615560" y="1653120"/>
                  <a:ext cx="218520" cy="201960"/>
                </a:xfrm>
                <a:custGeom>
                  <a:avLst/>
                  <a:gdLst>
                    <a:gd name="textAreaLeft" fmla="*/ 0 w 218520"/>
                    <a:gd name="textAreaRight" fmla="*/ 218880 w 218520"/>
                    <a:gd name="textAreaTop" fmla="*/ 0 h 201960"/>
                    <a:gd name="textAreaBottom" fmla="*/ 202320 h 20196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Freeform 95"/>
                <p:cNvSpPr/>
                <p:nvPr/>
              </p:nvSpPr>
              <p:spPr>
                <a:xfrm>
                  <a:off x="4610160" y="1640880"/>
                  <a:ext cx="218520" cy="202320"/>
                </a:xfrm>
                <a:custGeom>
                  <a:avLst/>
                  <a:gdLst>
                    <a:gd name="textAreaLeft" fmla="*/ 0 w 218520"/>
                    <a:gd name="textAreaRight" fmla="*/ 218880 w 218520"/>
                    <a:gd name="textAreaTop" fmla="*/ 0 h 202320"/>
                    <a:gd name="textAreaBottom" fmla="*/ 202680 h 20232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Freeform 96"/>
                <p:cNvSpPr/>
                <p:nvPr/>
              </p:nvSpPr>
              <p:spPr>
                <a:xfrm>
                  <a:off x="4610160" y="1640880"/>
                  <a:ext cx="218520" cy="202320"/>
                </a:xfrm>
                <a:custGeom>
                  <a:avLst/>
                  <a:gdLst>
                    <a:gd name="textAreaLeft" fmla="*/ 0 w 218520"/>
                    <a:gd name="textAreaRight" fmla="*/ 218880 w 218520"/>
                    <a:gd name="textAreaTop" fmla="*/ 0 h 202320"/>
                    <a:gd name="textAreaBottom" fmla="*/ 202680 h 20232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Freeform 97"/>
                <p:cNvSpPr/>
                <p:nvPr/>
              </p:nvSpPr>
              <p:spPr>
                <a:xfrm>
                  <a:off x="4601520" y="1624320"/>
                  <a:ext cx="232920" cy="234720"/>
                </a:xfrm>
                <a:custGeom>
                  <a:avLst/>
                  <a:gdLst>
                    <a:gd name="textAreaLeft" fmla="*/ 0 w 232920"/>
                    <a:gd name="textAreaRight" fmla="*/ 233280 w 232920"/>
                    <a:gd name="textAreaTop" fmla="*/ 0 h 234720"/>
                    <a:gd name="textAreaBottom" fmla="*/ 235080 h 23472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Freeform 98"/>
                <p:cNvSpPr/>
                <p:nvPr/>
              </p:nvSpPr>
              <p:spPr>
                <a:xfrm>
                  <a:off x="4601520" y="1624320"/>
                  <a:ext cx="232920" cy="234720"/>
                </a:xfrm>
                <a:custGeom>
                  <a:avLst/>
                  <a:gdLst>
                    <a:gd name="textAreaLeft" fmla="*/ 0 w 232920"/>
                    <a:gd name="textAreaRight" fmla="*/ 233280 w 232920"/>
                    <a:gd name="textAreaTop" fmla="*/ 0 h 234720"/>
                    <a:gd name="textAreaBottom" fmla="*/ 235080 h 23472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Freeform 99"/>
                <p:cNvSpPr/>
                <p:nvPr/>
              </p:nvSpPr>
              <p:spPr>
                <a:xfrm>
                  <a:off x="4797360" y="1636200"/>
                  <a:ext cx="191520" cy="221760"/>
                </a:xfrm>
                <a:custGeom>
                  <a:avLst/>
                  <a:gdLst>
                    <a:gd name="textAreaLeft" fmla="*/ 0 w 191520"/>
                    <a:gd name="textAreaRight" fmla="*/ 191880 w 191520"/>
                    <a:gd name="textAreaTop" fmla="*/ 0 h 221760"/>
                    <a:gd name="textAreaBottom" fmla="*/ 222120 h 22176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Freeform 100"/>
                <p:cNvSpPr/>
                <p:nvPr/>
              </p:nvSpPr>
              <p:spPr>
                <a:xfrm>
                  <a:off x="4797360" y="1636200"/>
                  <a:ext cx="191520" cy="221760"/>
                </a:xfrm>
                <a:custGeom>
                  <a:avLst/>
                  <a:gdLst>
                    <a:gd name="textAreaLeft" fmla="*/ 0 w 191520"/>
                    <a:gd name="textAreaRight" fmla="*/ 191880 w 191520"/>
                    <a:gd name="textAreaTop" fmla="*/ 0 h 221760"/>
                    <a:gd name="textAreaBottom" fmla="*/ 222120 h 22176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Freeform 101"/>
                <p:cNvSpPr/>
                <p:nvPr/>
              </p:nvSpPr>
              <p:spPr>
                <a:xfrm>
                  <a:off x="4791240" y="1623600"/>
                  <a:ext cx="177480" cy="235440"/>
                </a:xfrm>
                <a:custGeom>
                  <a:avLst/>
                  <a:gdLst>
                    <a:gd name="textAreaLeft" fmla="*/ 0 w 177480"/>
                    <a:gd name="textAreaRight" fmla="*/ 177840 w 177480"/>
                    <a:gd name="textAreaTop" fmla="*/ 0 h 235440"/>
                    <a:gd name="textAreaBottom" fmla="*/ 235800 h 23544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5" name="Freeform 102"/>
                <p:cNvSpPr/>
                <p:nvPr/>
              </p:nvSpPr>
              <p:spPr>
                <a:xfrm>
                  <a:off x="4791240" y="1623600"/>
                  <a:ext cx="177480" cy="235440"/>
                </a:xfrm>
                <a:custGeom>
                  <a:avLst/>
                  <a:gdLst>
                    <a:gd name="textAreaLeft" fmla="*/ 0 w 177480"/>
                    <a:gd name="textAreaRight" fmla="*/ 177840 w 177480"/>
                    <a:gd name="textAreaTop" fmla="*/ 0 h 235440"/>
                    <a:gd name="textAreaBottom" fmla="*/ 235800 h 23544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Freeform 103"/>
                <p:cNvSpPr/>
                <p:nvPr/>
              </p:nvSpPr>
              <p:spPr>
                <a:xfrm>
                  <a:off x="4650120" y="1622160"/>
                  <a:ext cx="75960" cy="214560"/>
                </a:xfrm>
                <a:custGeom>
                  <a:avLst/>
                  <a:gdLst>
                    <a:gd name="textAreaLeft" fmla="*/ 0 w 75960"/>
                    <a:gd name="textAreaRight" fmla="*/ 76320 w 75960"/>
                    <a:gd name="textAreaTop" fmla="*/ 0 h 214560"/>
                    <a:gd name="textAreaBottom" fmla="*/ 214920 h 214560"/>
                  </a:gdLst>
                  <a:ahLst/>
                  <a:rect l="textAreaLeft" t="textAreaTop" r="textAreaRight" b="textAreaBottom"/>
                  <a:pathLst>
                    <a:path w="578" h="1736">
                      <a:moveTo>
                        <a:pt x="111" y="43"/>
                      </a:moveTo>
                      <a:lnTo>
                        <a:pt x="106" y="54"/>
                      </a:lnTo>
                      <a:lnTo>
                        <a:pt x="94" y="85"/>
                      </a:lnTo>
                      <a:lnTo>
                        <a:pt x="77" y="136"/>
                      </a:lnTo>
                      <a:lnTo>
                        <a:pt x="56" y="203"/>
                      </a:lnTo>
                      <a:lnTo>
                        <a:pt x="35" y="285"/>
                      </a:lnTo>
                      <a:lnTo>
                        <a:pt x="18" y="378"/>
                      </a:lnTo>
                      <a:lnTo>
                        <a:pt x="5" y="480"/>
                      </a:lnTo>
                      <a:lnTo>
                        <a:pt x="0" y="592"/>
                      </a:lnTo>
                      <a:lnTo>
                        <a:pt x="3" y="705"/>
                      </a:lnTo>
                      <a:lnTo>
                        <a:pt x="10" y="813"/>
                      </a:lnTo>
                      <a:lnTo>
                        <a:pt x="21" y="916"/>
                      </a:lnTo>
                      <a:lnTo>
                        <a:pt x="37" y="1012"/>
                      </a:lnTo>
                      <a:lnTo>
                        <a:pt x="58" y="1104"/>
                      </a:lnTo>
                      <a:lnTo>
                        <a:pt x="85" y="1191"/>
                      </a:lnTo>
                      <a:lnTo>
                        <a:pt x="116" y="1270"/>
                      </a:lnTo>
                      <a:lnTo>
                        <a:pt x="153" y="1345"/>
                      </a:lnTo>
                      <a:lnTo>
                        <a:pt x="174" y="1381"/>
                      </a:lnTo>
                      <a:lnTo>
                        <a:pt x="202" y="1418"/>
                      </a:lnTo>
                      <a:lnTo>
                        <a:pt x="232" y="1452"/>
                      </a:lnTo>
                      <a:lnTo>
                        <a:pt x="264" y="1487"/>
                      </a:lnTo>
                      <a:lnTo>
                        <a:pt x="299" y="1521"/>
                      </a:lnTo>
                      <a:lnTo>
                        <a:pt x="335" y="1554"/>
                      </a:lnTo>
                      <a:lnTo>
                        <a:pt x="370" y="1584"/>
                      </a:lnTo>
                      <a:lnTo>
                        <a:pt x="405" y="1612"/>
                      </a:lnTo>
                      <a:lnTo>
                        <a:pt x="439" y="1639"/>
                      </a:lnTo>
                      <a:lnTo>
                        <a:pt x="472" y="1663"/>
                      </a:lnTo>
                      <a:lnTo>
                        <a:pt x="501" y="1684"/>
                      </a:lnTo>
                      <a:lnTo>
                        <a:pt x="526" y="1702"/>
                      </a:lnTo>
                      <a:lnTo>
                        <a:pt x="548" y="1716"/>
                      </a:lnTo>
                      <a:lnTo>
                        <a:pt x="564" y="1726"/>
                      </a:lnTo>
                      <a:lnTo>
                        <a:pt x="574" y="1733"/>
                      </a:lnTo>
                      <a:lnTo>
                        <a:pt x="578" y="1736"/>
                      </a:lnTo>
                      <a:lnTo>
                        <a:pt x="492" y="1632"/>
                      </a:lnTo>
                      <a:lnTo>
                        <a:pt x="489" y="1630"/>
                      </a:lnTo>
                      <a:lnTo>
                        <a:pt x="477" y="1623"/>
                      </a:lnTo>
                      <a:lnTo>
                        <a:pt x="461" y="1610"/>
                      </a:lnTo>
                      <a:lnTo>
                        <a:pt x="438" y="1594"/>
                      </a:lnTo>
                      <a:lnTo>
                        <a:pt x="413" y="1573"/>
                      </a:lnTo>
                      <a:lnTo>
                        <a:pt x="383" y="1549"/>
                      </a:lnTo>
                      <a:lnTo>
                        <a:pt x="352" y="1520"/>
                      </a:lnTo>
                      <a:lnTo>
                        <a:pt x="318" y="1488"/>
                      </a:lnTo>
                      <a:lnTo>
                        <a:pt x="285" y="1451"/>
                      </a:lnTo>
                      <a:lnTo>
                        <a:pt x="253" y="1412"/>
                      </a:lnTo>
                      <a:lnTo>
                        <a:pt x="222" y="1369"/>
                      </a:lnTo>
                      <a:lnTo>
                        <a:pt x="193" y="1323"/>
                      </a:lnTo>
                      <a:lnTo>
                        <a:pt x="168" y="1275"/>
                      </a:lnTo>
                      <a:lnTo>
                        <a:pt x="147" y="1223"/>
                      </a:lnTo>
                      <a:lnTo>
                        <a:pt x="131" y="1169"/>
                      </a:lnTo>
                      <a:lnTo>
                        <a:pt x="121" y="1113"/>
                      </a:lnTo>
                      <a:lnTo>
                        <a:pt x="108" y="996"/>
                      </a:lnTo>
                      <a:lnTo>
                        <a:pt x="92" y="882"/>
                      </a:lnTo>
                      <a:lnTo>
                        <a:pt x="75" y="771"/>
                      </a:lnTo>
                      <a:lnTo>
                        <a:pt x="62" y="665"/>
                      </a:lnTo>
                      <a:lnTo>
                        <a:pt x="49" y="567"/>
                      </a:lnTo>
                      <a:lnTo>
                        <a:pt x="42" y="480"/>
                      </a:lnTo>
                      <a:lnTo>
                        <a:pt x="41" y="407"/>
                      </a:lnTo>
                      <a:lnTo>
                        <a:pt x="47" y="349"/>
                      </a:lnTo>
                      <a:lnTo>
                        <a:pt x="59" y="305"/>
                      </a:lnTo>
                      <a:lnTo>
                        <a:pt x="79" y="252"/>
                      </a:lnTo>
                      <a:lnTo>
                        <a:pt x="103" y="195"/>
                      </a:lnTo>
                      <a:lnTo>
                        <a:pt x="128" y="137"/>
                      </a:lnTo>
                      <a:lnTo>
                        <a:pt x="154" y="84"/>
                      </a:lnTo>
                      <a:lnTo>
                        <a:pt x="174" y="40"/>
                      </a:lnTo>
                      <a:lnTo>
                        <a:pt x="189" y="10"/>
                      </a:lnTo>
                      <a:lnTo>
                        <a:pt x="195" y="0"/>
                      </a:lnTo>
                      <a:lnTo>
                        <a:pt x="11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Freeform 104"/>
                <p:cNvSpPr/>
                <p:nvPr/>
              </p:nvSpPr>
              <p:spPr>
                <a:xfrm>
                  <a:off x="4656240" y="1664280"/>
                  <a:ext cx="82440" cy="174600"/>
                </a:xfrm>
                <a:custGeom>
                  <a:avLst/>
                  <a:gdLst>
                    <a:gd name="textAreaLeft" fmla="*/ 0 w 82440"/>
                    <a:gd name="textAreaRight" fmla="*/ 82800 w 82440"/>
                    <a:gd name="textAreaTop" fmla="*/ 0 h 174600"/>
                    <a:gd name="textAreaBottom" fmla="*/ 174960 h 174600"/>
                  </a:gdLst>
                  <a:ahLst/>
                  <a:rect l="textAreaLeft" t="textAreaTop" r="textAreaRight" b="textAreaBottom"/>
                  <a:pathLst>
                    <a:path w="626" h="1411">
                      <a:moveTo>
                        <a:pt x="0" y="0"/>
                      </a:moveTo>
                      <a:lnTo>
                        <a:pt x="0" y="27"/>
                      </a:lnTo>
                      <a:lnTo>
                        <a:pt x="2" y="100"/>
                      </a:lnTo>
                      <a:lnTo>
                        <a:pt x="4" y="209"/>
                      </a:lnTo>
                      <a:lnTo>
                        <a:pt x="12" y="343"/>
                      </a:lnTo>
                      <a:lnTo>
                        <a:pt x="26" y="492"/>
                      </a:lnTo>
                      <a:lnTo>
                        <a:pt x="48" y="645"/>
                      </a:lnTo>
                      <a:lnTo>
                        <a:pt x="80" y="793"/>
                      </a:lnTo>
                      <a:lnTo>
                        <a:pt x="123" y="922"/>
                      </a:lnTo>
                      <a:lnTo>
                        <a:pt x="150" y="978"/>
                      </a:lnTo>
                      <a:lnTo>
                        <a:pt x="182" y="1032"/>
                      </a:lnTo>
                      <a:lnTo>
                        <a:pt x="218" y="1083"/>
                      </a:lnTo>
                      <a:lnTo>
                        <a:pt x="256" y="1130"/>
                      </a:lnTo>
                      <a:lnTo>
                        <a:pt x="298" y="1174"/>
                      </a:lnTo>
                      <a:lnTo>
                        <a:pt x="339" y="1214"/>
                      </a:lnTo>
                      <a:lnTo>
                        <a:pt x="382" y="1250"/>
                      </a:lnTo>
                      <a:lnTo>
                        <a:pt x="423" y="1283"/>
                      </a:lnTo>
                      <a:lnTo>
                        <a:pt x="464" y="1313"/>
                      </a:lnTo>
                      <a:lnTo>
                        <a:pt x="502" y="1338"/>
                      </a:lnTo>
                      <a:lnTo>
                        <a:pt x="536" y="1360"/>
                      </a:lnTo>
                      <a:lnTo>
                        <a:pt x="566" y="1379"/>
                      </a:lnTo>
                      <a:lnTo>
                        <a:pt x="590" y="1393"/>
                      </a:lnTo>
                      <a:lnTo>
                        <a:pt x="610" y="1403"/>
                      </a:lnTo>
                      <a:lnTo>
                        <a:pt x="621" y="1409"/>
                      </a:lnTo>
                      <a:lnTo>
                        <a:pt x="626" y="1411"/>
                      </a:lnTo>
                      <a:lnTo>
                        <a:pt x="600" y="5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8" name="Freeform 105"/>
                <p:cNvSpPr/>
                <p:nvPr/>
              </p:nvSpPr>
              <p:spPr>
                <a:xfrm>
                  <a:off x="4655520" y="1664280"/>
                  <a:ext cx="83160" cy="174600"/>
                </a:xfrm>
                <a:custGeom>
                  <a:avLst/>
                  <a:gdLst>
                    <a:gd name="textAreaLeft" fmla="*/ 0 w 83160"/>
                    <a:gd name="textAreaRight" fmla="*/ 83520 w 83160"/>
                    <a:gd name="textAreaTop" fmla="*/ 0 h 174600"/>
                    <a:gd name="textAreaBottom" fmla="*/ 174960 h 174600"/>
                  </a:gdLst>
                  <a:ahLst/>
                  <a:rect l="textAreaLeft" t="textAreaTop" r="textAreaRight" b="textAreaBottom"/>
                  <a:pathLst>
                    <a:path w="629" h="1411">
                      <a:moveTo>
                        <a:pt x="3" y="0"/>
                      </a:moveTo>
                      <a:lnTo>
                        <a:pt x="2" y="26"/>
                      </a:lnTo>
                      <a:lnTo>
                        <a:pt x="0" y="96"/>
                      </a:lnTo>
                      <a:lnTo>
                        <a:pt x="0" y="202"/>
                      </a:lnTo>
                      <a:lnTo>
                        <a:pt x="3" y="332"/>
                      </a:lnTo>
                      <a:lnTo>
                        <a:pt x="15" y="479"/>
                      </a:lnTo>
                      <a:lnTo>
                        <a:pt x="37" y="632"/>
                      </a:lnTo>
                      <a:lnTo>
                        <a:pt x="70" y="783"/>
                      </a:lnTo>
                      <a:lnTo>
                        <a:pt x="120" y="922"/>
                      </a:lnTo>
                      <a:lnTo>
                        <a:pt x="151" y="983"/>
                      </a:lnTo>
                      <a:lnTo>
                        <a:pt x="185" y="1039"/>
                      </a:lnTo>
                      <a:lnTo>
                        <a:pt x="222" y="1092"/>
                      </a:lnTo>
                      <a:lnTo>
                        <a:pt x="263" y="1140"/>
                      </a:lnTo>
                      <a:lnTo>
                        <a:pt x="305" y="1184"/>
                      </a:lnTo>
                      <a:lnTo>
                        <a:pt x="347" y="1224"/>
                      </a:lnTo>
                      <a:lnTo>
                        <a:pt x="389" y="1260"/>
                      </a:lnTo>
                      <a:lnTo>
                        <a:pt x="431" y="1292"/>
                      </a:lnTo>
                      <a:lnTo>
                        <a:pt x="471" y="1320"/>
                      </a:lnTo>
                      <a:lnTo>
                        <a:pt x="508" y="1345"/>
                      </a:lnTo>
                      <a:lnTo>
                        <a:pt x="541" y="1365"/>
                      </a:lnTo>
                      <a:lnTo>
                        <a:pt x="570" y="1382"/>
                      </a:lnTo>
                      <a:lnTo>
                        <a:pt x="594" y="1395"/>
                      </a:lnTo>
                      <a:lnTo>
                        <a:pt x="613" y="1404"/>
                      </a:lnTo>
                      <a:lnTo>
                        <a:pt x="624" y="1409"/>
                      </a:lnTo>
                      <a:lnTo>
                        <a:pt x="629" y="1411"/>
                      </a:lnTo>
                      <a:lnTo>
                        <a:pt x="603" y="543"/>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Freeform 106"/>
                <p:cNvSpPr/>
                <p:nvPr/>
              </p:nvSpPr>
              <p:spPr>
                <a:xfrm>
                  <a:off x="4657680" y="1570320"/>
                  <a:ext cx="156600" cy="288720"/>
                </a:xfrm>
                <a:custGeom>
                  <a:avLst/>
                  <a:gdLst>
                    <a:gd name="textAreaLeft" fmla="*/ 0 w 156600"/>
                    <a:gd name="textAreaRight" fmla="*/ 156960 w 156600"/>
                    <a:gd name="textAreaTop" fmla="*/ 0 h 288720"/>
                    <a:gd name="textAreaBottom" fmla="*/ 289080 h 28872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Freeform 107"/>
                <p:cNvSpPr/>
                <p:nvPr/>
              </p:nvSpPr>
              <p:spPr>
                <a:xfrm>
                  <a:off x="4657680" y="1570320"/>
                  <a:ext cx="156600" cy="288720"/>
                </a:xfrm>
                <a:custGeom>
                  <a:avLst/>
                  <a:gdLst>
                    <a:gd name="textAreaLeft" fmla="*/ 0 w 156600"/>
                    <a:gd name="textAreaRight" fmla="*/ 156960 w 156600"/>
                    <a:gd name="textAreaTop" fmla="*/ 0 h 288720"/>
                    <a:gd name="textAreaBottom" fmla="*/ 289080 h 28872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1" name="Freeform 108"/>
                <p:cNvSpPr/>
                <p:nvPr/>
              </p:nvSpPr>
              <p:spPr>
                <a:xfrm>
                  <a:off x="4784400" y="1611360"/>
                  <a:ext cx="164520" cy="247680"/>
                </a:xfrm>
                <a:custGeom>
                  <a:avLst/>
                  <a:gdLst>
                    <a:gd name="textAreaLeft" fmla="*/ 0 w 164520"/>
                    <a:gd name="textAreaRight" fmla="*/ 164880 w 164520"/>
                    <a:gd name="textAreaTop" fmla="*/ 0 h 247680"/>
                    <a:gd name="textAreaBottom" fmla="*/ 248040 h 24768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Freeform 109"/>
                <p:cNvSpPr/>
                <p:nvPr/>
              </p:nvSpPr>
              <p:spPr>
                <a:xfrm>
                  <a:off x="4784400" y="1611360"/>
                  <a:ext cx="164520" cy="247680"/>
                </a:xfrm>
                <a:custGeom>
                  <a:avLst/>
                  <a:gdLst>
                    <a:gd name="textAreaLeft" fmla="*/ 0 w 164520"/>
                    <a:gd name="textAreaRight" fmla="*/ 164880 w 164520"/>
                    <a:gd name="textAreaTop" fmla="*/ 0 h 247680"/>
                    <a:gd name="textAreaBottom" fmla="*/ 248040 h 24768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Freeform 110"/>
                <p:cNvSpPr/>
                <p:nvPr/>
              </p:nvSpPr>
              <p:spPr>
                <a:xfrm>
                  <a:off x="4617720" y="1794600"/>
                  <a:ext cx="66960" cy="20520"/>
                </a:xfrm>
                <a:custGeom>
                  <a:avLst/>
                  <a:gdLst>
                    <a:gd name="textAreaLeft" fmla="*/ 0 w 66960"/>
                    <a:gd name="textAreaRight" fmla="*/ 67320 w 66960"/>
                    <a:gd name="textAreaTop" fmla="*/ 0 h 20520"/>
                    <a:gd name="textAreaBottom" fmla="*/ 20880 h 20520"/>
                  </a:gdLst>
                  <a:ahLst/>
                  <a:rect l="textAreaLeft" t="textAreaTop" r="textAreaRight" b="textAreaBottom"/>
                  <a:pathLst>
                    <a:path w="508" h="167">
                      <a:moveTo>
                        <a:pt x="0" y="167"/>
                      </a:moveTo>
                      <a:lnTo>
                        <a:pt x="1" y="165"/>
                      </a:lnTo>
                      <a:lnTo>
                        <a:pt x="5" y="162"/>
                      </a:lnTo>
                      <a:lnTo>
                        <a:pt x="10" y="156"/>
                      </a:lnTo>
                      <a:lnTo>
                        <a:pt x="17" y="149"/>
                      </a:lnTo>
                      <a:lnTo>
                        <a:pt x="28" y="141"/>
                      </a:lnTo>
                      <a:lnTo>
                        <a:pt x="39" y="132"/>
                      </a:lnTo>
                      <a:lnTo>
                        <a:pt x="52" y="122"/>
                      </a:lnTo>
                      <a:lnTo>
                        <a:pt x="68" y="111"/>
                      </a:lnTo>
                      <a:lnTo>
                        <a:pt x="84" y="102"/>
                      </a:lnTo>
                      <a:lnTo>
                        <a:pt x="103" y="92"/>
                      </a:lnTo>
                      <a:lnTo>
                        <a:pt x="122" y="83"/>
                      </a:lnTo>
                      <a:lnTo>
                        <a:pt x="143" y="75"/>
                      </a:lnTo>
                      <a:lnTo>
                        <a:pt x="165" y="68"/>
                      </a:lnTo>
                      <a:lnTo>
                        <a:pt x="189" y="62"/>
                      </a:lnTo>
                      <a:lnTo>
                        <a:pt x="213" y="58"/>
                      </a:lnTo>
                      <a:lnTo>
                        <a:pt x="239" y="57"/>
                      </a:lnTo>
                      <a:lnTo>
                        <a:pt x="264" y="57"/>
                      </a:lnTo>
                      <a:lnTo>
                        <a:pt x="290" y="57"/>
                      </a:lnTo>
                      <a:lnTo>
                        <a:pt x="315" y="56"/>
                      </a:lnTo>
                      <a:lnTo>
                        <a:pt x="339" y="56"/>
                      </a:lnTo>
                      <a:lnTo>
                        <a:pt x="362" y="55"/>
                      </a:lnTo>
                      <a:lnTo>
                        <a:pt x="385" y="54"/>
                      </a:lnTo>
                      <a:lnTo>
                        <a:pt x="406" y="53"/>
                      </a:lnTo>
                      <a:lnTo>
                        <a:pt x="425" y="51"/>
                      </a:lnTo>
                      <a:lnTo>
                        <a:pt x="444" y="51"/>
                      </a:lnTo>
                      <a:lnTo>
                        <a:pt x="460" y="50"/>
                      </a:lnTo>
                      <a:lnTo>
                        <a:pt x="474" y="49"/>
                      </a:lnTo>
                      <a:lnTo>
                        <a:pt x="485" y="48"/>
                      </a:lnTo>
                      <a:lnTo>
                        <a:pt x="496" y="48"/>
                      </a:lnTo>
                      <a:lnTo>
                        <a:pt x="502" y="47"/>
                      </a:lnTo>
                      <a:lnTo>
                        <a:pt x="507" y="47"/>
                      </a:lnTo>
                      <a:lnTo>
                        <a:pt x="508" y="47"/>
                      </a:lnTo>
                      <a:lnTo>
                        <a:pt x="460" y="5"/>
                      </a:lnTo>
                      <a:lnTo>
                        <a:pt x="459" y="5"/>
                      </a:lnTo>
                      <a:lnTo>
                        <a:pt x="454" y="5"/>
                      </a:lnTo>
                      <a:lnTo>
                        <a:pt x="446" y="4"/>
                      </a:lnTo>
                      <a:lnTo>
                        <a:pt x="437" y="4"/>
                      </a:lnTo>
                      <a:lnTo>
                        <a:pt x="425" y="3"/>
                      </a:lnTo>
                      <a:lnTo>
                        <a:pt x="411" y="2"/>
                      </a:lnTo>
                      <a:lnTo>
                        <a:pt x="396" y="2"/>
                      </a:lnTo>
                      <a:lnTo>
                        <a:pt x="379" y="1"/>
                      </a:lnTo>
                      <a:lnTo>
                        <a:pt x="362" y="1"/>
                      </a:lnTo>
                      <a:lnTo>
                        <a:pt x="343" y="0"/>
                      </a:lnTo>
                      <a:lnTo>
                        <a:pt x="324" y="0"/>
                      </a:lnTo>
                      <a:lnTo>
                        <a:pt x="304" y="0"/>
                      </a:lnTo>
                      <a:lnTo>
                        <a:pt x="285" y="1"/>
                      </a:lnTo>
                      <a:lnTo>
                        <a:pt x="265" y="1"/>
                      </a:lnTo>
                      <a:lnTo>
                        <a:pt x="247" y="3"/>
                      </a:lnTo>
                      <a:lnTo>
                        <a:pt x="228" y="4"/>
                      </a:lnTo>
                      <a:lnTo>
                        <a:pt x="210" y="7"/>
                      </a:lnTo>
                      <a:lnTo>
                        <a:pt x="191" y="11"/>
                      </a:lnTo>
                      <a:lnTo>
                        <a:pt x="173" y="16"/>
                      </a:lnTo>
                      <a:lnTo>
                        <a:pt x="154" y="22"/>
                      </a:lnTo>
                      <a:lnTo>
                        <a:pt x="136" y="28"/>
                      </a:lnTo>
                      <a:lnTo>
                        <a:pt x="119" y="35"/>
                      </a:lnTo>
                      <a:lnTo>
                        <a:pt x="101" y="42"/>
                      </a:lnTo>
                      <a:lnTo>
                        <a:pt x="85" y="49"/>
                      </a:lnTo>
                      <a:lnTo>
                        <a:pt x="70" y="57"/>
                      </a:lnTo>
                      <a:lnTo>
                        <a:pt x="58" y="64"/>
                      </a:lnTo>
                      <a:lnTo>
                        <a:pt x="45" y="70"/>
                      </a:lnTo>
                      <a:lnTo>
                        <a:pt x="35" y="76"/>
                      </a:lnTo>
                      <a:lnTo>
                        <a:pt x="27" y="80"/>
                      </a:lnTo>
                      <a:lnTo>
                        <a:pt x="21" y="84"/>
                      </a:lnTo>
                      <a:lnTo>
                        <a:pt x="16" y="86"/>
                      </a:lnTo>
                      <a:lnTo>
                        <a:pt x="15" y="87"/>
                      </a:lnTo>
                      <a:lnTo>
                        <a:pt x="0" y="16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336666"/>
                    </a:solidFill>
                    <a:latin typeface="Arial"/>
                  </a:endParaRPr>
                </a:p>
              </p:txBody>
            </p:sp>
            <p:sp>
              <p:nvSpPr>
                <p:cNvPr id="324" name="Freeform 111"/>
                <p:cNvSpPr/>
                <p:nvPr/>
              </p:nvSpPr>
              <p:spPr>
                <a:xfrm>
                  <a:off x="4615200" y="1825560"/>
                  <a:ext cx="110160" cy="16560"/>
                </a:xfrm>
                <a:custGeom>
                  <a:avLst/>
                  <a:gdLst>
                    <a:gd name="textAreaLeft" fmla="*/ 0 w 110160"/>
                    <a:gd name="textAreaRight" fmla="*/ 110520 w 110160"/>
                    <a:gd name="textAreaTop" fmla="*/ 0 h 16560"/>
                    <a:gd name="textAreaBottom" fmla="*/ 16920 h 16560"/>
                  </a:gdLst>
                  <a:ahLst/>
                  <a:rect l="textAreaLeft" t="textAreaTop" r="textAreaRight" b="textAreaBottom"/>
                  <a:pathLst>
                    <a:path w="837" h="137">
                      <a:moveTo>
                        <a:pt x="39" y="137"/>
                      </a:moveTo>
                      <a:lnTo>
                        <a:pt x="41" y="135"/>
                      </a:lnTo>
                      <a:lnTo>
                        <a:pt x="49" y="133"/>
                      </a:lnTo>
                      <a:lnTo>
                        <a:pt x="62" y="130"/>
                      </a:lnTo>
                      <a:lnTo>
                        <a:pt x="78" y="124"/>
                      </a:lnTo>
                      <a:lnTo>
                        <a:pt x="98" y="118"/>
                      </a:lnTo>
                      <a:lnTo>
                        <a:pt x="123" y="111"/>
                      </a:lnTo>
                      <a:lnTo>
                        <a:pt x="149" y="104"/>
                      </a:lnTo>
                      <a:lnTo>
                        <a:pt x="178" y="96"/>
                      </a:lnTo>
                      <a:lnTo>
                        <a:pt x="208" y="89"/>
                      </a:lnTo>
                      <a:lnTo>
                        <a:pt x="240" y="81"/>
                      </a:lnTo>
                      <a:lnTo>
                        <a:pt x="274" y="74"/>
                      </a:lnTo>
                      <a:lnTo>
                        <a:pt x="306" y="68"/>
                      </a:lnTo>
                      <a:lnTo>
                        <a:pt x="339" y="61"/>
                      </a:lnTo>
                      <a:lnTo>
                        <a:pt x="373" y="56"/>
                      </a:lnTo>
                      <a:lnTo>
                        <a:pt x="405" y="51"/>
                      </a:lnTo>
                      <a:lnTo>
                        <a:pt x="435" y="49"/>
                      </a:lnTo>
                      <a:lnTo>
                        <a:pt x="465" y="48"/>
                      </a:lnTo>
                      <a:lnTo>
                        <a:pt x="497" y="47"/>
                      </a:lnTo>
                      <a:lnTo>
                        <a:pt x="530" y="47"/>
                      </a:lnTo>
                      <a:lnTo>
                        <a:pt x="564" y="48"/>
                      </a:lnTo>
                      <a:lnTo>
                        <a:pt x="597" y="49"/>
                      </a:lnTo>
                      <a:lnTo>
                        <a:pt x="631" y="51"/>
                      </a:lnTo>
                      <a:lnTo>
                        <a:pt x="663" y="54"/>
                      </a:lnTo>
                      <a:lnTo>
                        <a:pt x="695" y="57"/>
                      </a:lnTo>
                      <a:lnTo>
                        <a:pt x="724" y="59"/>
                      </a:lnTo>
                      <a:lnTo>
                        <a:pt x="751" y="63"/>
                      </a:lnTo>
                      <a:lnTo>
                        <a:pt x="775" y="65"/>
                      </a:lnTo>
                      <a:lnTo>
                        <a:pt x="797" y="68"/>
                      </a:lnTo>
                      <a:lnTo>
                        <a:pt x="813" y="70"/>
                      </a:lnTo>
                      <a:lnTo>
                        <a:pt x="827" y="72"/>
                      </a:lnTo>
                      <a:lnTo>
                        <a:pt x="835" y="73"/>
                      </a:lnTo>
                      <a:lnTo>
                        <a:pt x="837" y="73"/>
                      </a:lnTo>
                      <a:lnTo>
                        <a:pt x="792" y="42"/>
                      </a:lnTo>
                      <a:lnTo>
                        <a:pt x="790" y="42"/>
                      </a:lnTo>
                      <a:lnTo>
                        <a:pt x="783" y="40"/>
                      </a:lnTo>
                      <a:lnTo>
                        <a:pt x="772" y="38"/>
                      </a:lnTo>
                      <a:lnTo>
                        <a:pt x="760" y="35"/>
                      </a:lnTo>
                      <a:lnTo>
                        <a:pt x="742" y="32"/>
                      </a:lnTo>
                      <a:lnTo>
                        <a:pt x="723" y="28"/>
                      </a:lnTo>
                      <a:lnTo>
                        <a:pt x="701" y="24"/>
                      </a:lnTo>
                      <a:lnTo>
                        <a:pt x="678" y="20"/>
                      </a:lnTo>
                      <a:lnTo>
                        <a:pt x="653" y="16"/>
                      </a:lnTo>
                      <a:lnTo>
                        <a:pt x="626" y="12"/>
                      </a:lnTo>
                      <a:lnTo>
                        <a:pt x="600" y="9"/>
                      </a:lnTo>
                      <a:lnTo>
                        <a:pt x="572" y="5"/>
                      </a:lnTo>
                      <a:lnTo>
                        <a:pt x="544" y="3"/>
                      </a:lnTo>
                      <a:lnTo>
                        <a:pt x="518" y="1"/>
                      </a:lnTo>
                      <a:lnTo>
                        <a:pt x="491" y="0"/>
                      </a:lnTo>
                      <a:lnTo>
                        <a:pt x="467" y="0"/>
                      </a:lnTo>
                      <a:lnTo>
                        <a:pt x="431" y="1"/>
                      </a:lnTo>
                      <a:lnTo>
                        <a:pt x="393" y="4"/>
                      </a:lnTo>
                      <a:lnTo>
                        <a:pt x="354" y="10"/>
                      </a:lnTo>
                      <a:lnTo>
                        <a:pt x="315" y="17"/>
                      </a:lnTo>
                      <a:lnTo>
                        <a:pt x="276" y="25"/>
                      </a:lnTo>
                      <a:lnTo>
                        <a:pt x="237" y="33"/>
                      </a:lnTo>
                      <a:lnTo>
                        <a:pt x="200" y="42"/>
                      </a:lnTo>
                      <a:lnTo>
                        <a:pt x="163" y="53"/>
                      </a:lnTo>
                      <a:lnTo>
                        <a:pt x="130" y="62"/>
                      </a:lnTo>
                      <a:lnTo>
                        <a:pt x="98" y="71"/>
                      </a:lnTo>
                      <a:lnTo>
                        <a:pt x="71" y="80"/>
                      </a:lnTo>
                      <a:lnTo>
                        <a:pt x="47" y="88"/>
                      </a:lnTo>
                      <a:lnTo>
                        <a:pt x="27" y="95"/>
                      </a:lnTo>
                      <a:lnTo>
                        <a:pt x="13" y="100"/>
                      </a:lnTo>
                      <a:lnTo>
                        <a:pt x="4" y="103"/>
                      </a:lnTo>
                      <a:lnTo>
                        <a:pt x="0" y="104"/>
                      </a:lnTo>
                      <a:lnTo>
                        <a:pt x="39" y="13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336666"/>
                    </a:solidFill>
                    <a:latin typeface="Arial"/>
                  </a:endParaRPr>
                </a:p>
              </p:txBody>
            </p:sp>
            <p:sp>
              <p:nvSpPr>
                <p:cNvPr id="325" name="Freeform 112"/>
                <p:cNvSpPr/>
                <p:nvPr/>
              </p:nvSpPr>
              <p:spPr>
                <a:xfrm>
                  <a:off x="4809960" y="1618200"/>
                  <a:ext cx="142920" cy="231480"/>
                </a:xfrm>
                <a:custGeom>
                  <a:avLst/>
                  <a:gdLst>
                    <a:gd name="textAreaLeft" fmla="*/ 0 w 142920"/>
                    <a:gd name="textAreaRight" fmla="*/ 143280 w 142920"/>
                    <a:gd name="textAreaTop" fmla="*/ 0 h 231480"/>
                    <a:gd name="textAreaBottom" fmla="*/ 231840 h 231480"/>
                  </a:gdLst>
                  <a:ahLst/>
                  <a:rect l="textAreaLeft" t="textAreaTop" r="textAreaRight" b="textAreaBottom"/>
                  <a:pathLst>
                    <a:path w="1083" h="1869">
                      <a:moveTo>
                        <a:pt x="999" y="62"/>
                      </a:moveTo>
                      <a:lnTo>
                        <a:pt x="997" y="82"/>
                      </a:lnTo>
                      <a:lnTo>
                        <a:pt x="990" y="135"/>
                      </a:lnTo>
                      <a:lnTo>
                        <a:pt x="981" y="216"/>
                      </a:lnTo>
                      <a:lnTo>
                        <a:pt x="968" y="316"/>
                      </a:lnTo>
                      <a:lnTo>
                        <a:pt x="956" y="430"/>
                      </a:lnTo>
                      <a:lnTo>
                        <a:pt x="943" y="548"/>
                      </a:lnTo>
                      <a:lnTo>
                        <a:pt x="933" y="666"/>
                      </a:lnTo>
                      <a:lnTo>
                        <a:pt x="923" y="774"/>
                      </a:lnTo>
                      <a:lnTo>
                        <a:pt x="915" y="984"/>
                      </a:lnTo>
                      <a:lnTo>
                        <a:pt x="922" y="1156"/>
                      </a:lnTo>
                      <a:lnTo>
                        <a:pt x="941" y="1296"/>
                      </a:lnTo>
                      <a:lnTo>
                        <a:pt x="966" y="1404"/>
                      </a:lnTo>
                      <a:lnTo>
                        <a:pt x="992" y="1485"/>
                      </a:lnTo>
                      <a:lnTo>
                        <a:pt x="1017" y="1539"/>
                      </a:lnTo>
                      <a:lnTo>
                        <a:pt x="1035" y="1570"/>
                      </a:lnTo>
                      <a:lnTo>
                        <a:pt x="1042" y="1579"/>
                      </a:lnTo>
                      <a:lnTo>
                        <a:pt x="1039" y="1579"/>
                      </a:lnTo>
                      <a:lnTo>
                        <a:pt x="1029" y="1579"/>
                      </a:lnTo>
                      <a:lnTo>
                        <a:pt x="1013" y="1579"/>
                      </a:lnTo>
                      <a:lnTo>
                        <a:pt x="992" y="1579"/>
                      </a:lnTo>
                      <a:lnTo>
                        <a:pt x="967" y="1579"/>
                      </a:lnTo>
                      <a:lnTo>
                        <a:pt x="937" y="1579"/>
                      </a:lnTo>
                      <a:lnTo>
                        <a:pt x="905" y="1580"/>
                      </a:lnTo>
                      <a:lnTo>
                        <a:pt x="869" y="1580"/>
                      </a:lnTo>
                      <a:lnTo>
                        <a:pt x="831" y="1581"/>
                      </a:lnTo>
                      <a:lnTo>
                        <a:pt x="792" y="1584"/>
                      </a:lnTo>
                      <a:lnTo>
                        <a:pt x="752" y="1585"/>
                      </a:lnTo>
                      <a:lnTo>
                        <a:pt x="711" y="1587"/>
                      </a:lnTo>
                      <a:lnTo>
                        <a:pt x="671" y="1589"/>
                      </a:lnTo>
                      <a:lnTo>
                        <a:pt x="632" y="1592"/>
                      </a:lnTo>
                      <a:lnTo>
                        <a:pt x="594" y="1596"/>
                      </a:lnTo>
                      <a:lnTo>
                        <a:pt x="558" y="1600"/>
                      </a:lnTo>
                      <a:lnTo>
                        <a:pt x="510" y="1608"/>
                      </a:lnTo>
                      <a:lnTo>
                        <a:pt x="460" y="1620"/>
                      </a:lnTo>
                      <a:lnTo>
                        <a:pt x="412" y="1637"/>
                      </a:lnTo>
                      <a:lnTo>
                        <a:pt x="363" y="1656"/>
                      </a:lnTo>
                      <a:lnTo>
                        <a:pt x="315" y="1677"/>
                      </a:lnTo>
                      <a:lnTo>
                        <a:pt x="269" y="1700"/>
                      </a:lnTo>
                      <a:lnTo>
                        <a:pt x="225" y="1723"/>
                      </a:lnTo>
                      <a:lnTo>
                        <a:pt x="184" y="1747"/>
                      </a:lnTo>
                      <a:lnTo>
                        <a:pt x="144" y="1770"/>
                      </a:lnTo>
                      <a:lnTo>
                        <a:pt x="110" y="1793"/>
                      </a:lnTo>
                      <a:lnTo>
                        <a:pt x="79" y="1814"/>
                      </a:lnTo>
                      <a:lnTo>
                        <a:pt x="51" y="1832"/>
                      </a:lnTo>
                      <a:lnTo>
                        <a:pt x="30" y="1847"/>
                      </a:lnTo>
                      <a:lnTo>
                        <a:pt x="14" y="1859"/>
                      </a:lnTo>
                      <a:lnTo>
                        <a:pt x="4" y="1867"/>
                      </a:lnTo>
                      <a:lnTo>
                        <a:pt x="0" y="1869"/>
                      </a:lnTo>
                      <a:lnTo>
                        <a:pt x="3" y="1868"/>
                      </a:lnTo>
                      <a:lnTo>
                        <a:pt x="12" y="1863"/>
                      </a:lnTo>
                      <a:lnTo>
                        <a:pt x="25" y="1857"/>
                      </a:lnTo>
                      <a:lnTo>
                        <a:pt x="42" y="1847"/>
                      </a:lnTo>
                      <a:lnTo>
                        <a:pt x="63" y="1836"/>
                      </a:lnTo>
                      <a:lnTo>
                        <a:pt x="87" y="1823"/>
                      </a:lnTo>
                      <a:lnTo>
                        <a:pt x="114" y="1809"/>
                      </a:lnTo>
                      <a:lnTo>
                        <a:pt x="144" y="1794"/>
                      </a:lnTo>
                      <a:lnTo>
                        <a:pt x="176" y="1779"/>
                      </a:lnTo>
                      <a:lnTo>
                        <a:pt x="208" y="1763"/>
                      </a:lnTo>
                      <a:lnTo>
                        <a:pt x="240" y="1748"/>
                      </a:lnTo>
                      <a:lnTo>
                        <a:pt x="273" y="1733"/>
                      </a:lnTo>
                      <a:lnTo>
                        <a:pt x="307" y="1719"/>
                      </a:lnTo>
                      <a:lnTo>
                        <a:pt x="338" y="1706"/>
                      </a:lnTo>
                      <a:lnTo>
                        <a:pt x="369" y="1694"/>
                      </a:lnTo>
                      <a:lnTo>
                        <a:pt x="398" y="1685"/>
                      </a:lnTo>
                      <a:lnTo>
                        <a:pt x="430" y="1676"/>
                      </a:lnTo>
                      <a:lnTo>
                        <a:pt x="469" y="1666"/>
                      </a:lnTo>
                      <a:lnTo>
                        <a:pt x="515" y="1658"/>
                      </a:lnTo>
                      <a:lnTo>
                        <a:pt x="567" y="1650"/>
                      </a:lnTo>
                      <a:lnTo>
                        <a:pt x="621" y="1643"/>
                      </a:lnTo>
                      <a:lnTo>
                        <a:pt x="679" y="1637"/>
                      </a:lnTo>
                      <a:lnTo>
                        <a:pt x="738" y="1630"/>
                      </a:lnTo>
                      <a:lnTo>
                        <a:pt x="795" y="1624"/>
                      </a:lnTo>
                      <a:lnTo>
                        <a:pt x="852" y="1618"/>
                      </a:lnTo>
                      <a:lnTo>
                        <a:pt x="905" y="1614"/>
                      </a:lnTo>
                      <a:lnTo>
                        <a:pt x="954" y="1610"/>
                      </a:lnTo>
                      <a:lnTo>
                        <a:pt x="997" y="1607"/>
                      </a:lnTo>
                      <a:lnTo>
                        <a:pt x="1033" y="1603"/>
                      </a:lnTo>
                      <a:lnTo>
                        <a:pt x="1060" y="1601"/>
                      </a:lnTo>
                      <a:lnTo>
                        <a:pt x="1078" y="1600"/>
                      </a:lnTo>
                      <a:lnTo>
                        <a:pt x="1083" y="1600"/>
                      </a:lnTo>
                      <a:lnTo>
                        <a:pt x="1077" y="1587"/>
                      </a:lnTo>
                      <a:lnTo>
                        <a:pt x="1059" y="1551"/>
                      </a:lnTo>
                      <a:lnTo>
                        <a:pt x="1034" y="1495"/>
                      </a:lnTo>
                      <a:lnTo>
                        <a:pt x="1007" y="1420"/>
                      </a:lnTo>
                      <a:lnTo>
                        <a:pt x="981" y="1328"/>
                      </a:lnTo>
                      <a:lnTo>
                        <a:pt x="960" y="1222"/>
                      </a:lnTo>
                      <a:lnTo>
                        <a:pt x="949" y="1105"/>
                      </a:lnTo>
                      <a:lnTo>
                        <a:pt x="951" y="978"/>
                      </a:lnTo>
                      <a:lnTo>
                        <a:pt x="964" y="818"/>
                      </a:lnTo>
                      <a:lnTo>
                        <a:pt x="979" y="651"/>
                      </a:lnTo>
                      <a:lnTo>
                        <a:pt x="994" y="487"/>
                      </a:lnTo>
                      <a:lnTo>
                        <a:pt x="1009" y="334"/>
                      </a:lnTo>
                      <a:lnTo>
                        <a:pt x="1021" y="201"/>
                      </a:lnTo>
                      <a:lnTo>
                        <a:pt x="1033" y="95"/>
                      </a:lnTo>
                      <a:lnTo>
                        <a:pt x="1040" y="26"/>
                      </a:lnTo>
                      <a:lnTo>
                        <a:pt x="1042" y="0"/>
                      </a:lnTo>
                      <a:lnTo>
                        <a:pt x="99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Freeform 113"/>
                <p:cNvSpPr/>
                <p:nvPr/>
              </p:nvSpPr>
              <p:spPr>
                <a:xfrm>
                  <a:off x="4805640" y="1626840"/>
                  <a:ext cx="167760" cy="225360"/>
                </a:xfrm>
                <a:custGeom>
                  <a:avLst/>
                  <a:gdLst>
                    <a:gd name="textAreaLeft" fmla="*/ 0 w 167760"/>
                    <a:gd name="textAreaRight" fmla="*/ 168120 w 167760"/>
                    <a:gd name="textAreaTop" fmla="*/ 0 h 225360"/>
                    <a:gd name="textAreaBottom" fmla="*/ 225720 h 225360"/>
                  </a:gdLst>
                  <a:ahLst/>
                  <a:rect l="textAreaLeft" t="textAreaTop" r="textAreaRight" b="textAreaBottom"/>
                  <a:pathLst>
                    <a:path w="1272" h="1820">
                      <a:moveTo>
                        <a:pt x="1237" y="92"/>
                      </a:moveTo>
                      <a:lnTo>
                        <a:pt x="1235" y="113"/>
                      </a:lnTo>
                      <a:lnTo>
                        <a:pt x="1227" y="168"/>
                      </a:lnTo>
                      <a:lnTo>
                        <a:pt x="1215" y="252"/>
                      </a:lnTo>
                      <a:lnTo>
                        <a:pt x="1203" y="355"/>
                      </a:lnTo>
                      <a:lnTo>
                        <a:pt x="1188" y="468"/>
                      </a:lnTo>
                      <a:lnTo>
                        <a:pt x="1174" y="584"/>
                      </a:lnTo>
                      <a:lnTo>
                        <a:pt x="1161" y="694"/>
                      </a:lnTo>
                      <a:lnTo>
                        <a:pt x="1152" y="790"/>
                      </a:lnTo>
                      <a:lnTo>
                        <a:pt x="1146" y="884"/>
                      </a:lnTo>
                      <a:lnTo>
                        <a:pt x="1145" y="984"/>
                      </a:lnTo>
                      <a:lnTo>
                        <a:pt x="1147" y="1089"/>
                      </a:lnTo>
                      <a:lnTo>
                        <a:pt x="1152" y="1190"/>
                      </a:lnTo>
                      <a:lnTo>
                        <a:pt x="1160" y="1284"/>
                      </a:lnTo>
                      <a:lnTo>
                        <a:pt x="1169" y="1365"/>
                      </a:lnTo>
                      <a:lnTo>
                        <a:pt x="1181" y="1428"/>
                      </a:lnTo>
                      <a:lnTo>
                        <a:pt x="1194" y="1469"/>
                      </a:lnTo>
                      <a:lnTo>
                        <a:pt x="1207" y="1495"/>
                      </a:lnTo>
                      <a:lnTo>
                        <a:pt x="1221" y="1521"/>
                      </a:lnTo>
                      <a:lnTo>
                        <a:pt x="1235" y="1548"/>
                      </a:lnTo>
                      <a:lnTo>
                        <a:pt x="1247" y="1571"/>
                      </a:lnTo>
                      <a:lnTo>
                        <a:pt x="1257" y="1592"/>
                      </a:lnTo>
                      <a:lnTo>
                        <a:pt x="1265" y="1608"/>
                      </a:lnTo>
                      <a:lnTo>
                        <a:pt x="1270" y="1619"/>
                      </a:lnTo>
                      <a:lnTo>
                        <a:pt x="1272" y="1623"/>
                      </a:lnTo>
                      <a:lnTo>
                        <a:pt x="1266" y="1623"/>
                      </a:lnTo>
                      <a:lnTo>
                        <a:pt x="1252" y="1622"/>
                      </a:lnTo>
                      <a:lnTo>
                        <a:pt x="1228" y="1621"/>
                      </a:lnTo>
                      <a:lnTo>
                        <a:pt x="1198" y="1619"/>
                      </a:lnTo>
                      <a:lnTo>
                        <a:pt x="1161" y="1618"/>
                      </a:lnTo>
                      <a:lnTo>
                        <a:pt x="1121" y="1617"/>
                      </a:lnTo>
                      <a:lnTo>
                        <a:pt x="1076" y="1616"/>
                      </a:lnTo>
                      <a:lnTo>
                        <a:pt x="1029" y="1615"/>
                      </a:lnTo>
                      <a:lnTo>
                        <a:pt x="980" y="1615"/>
                      </a:lnTo>
                      <a:lnTo>
                        <a:pt x="932" y="1614"/>
                      </a:lnTo>
                      <a:lnTo>
                        <a:pt x="885" y="1614"/>
                      </a:lnTo>
                      <a:lnTo>
                        <a:pt x="841" y="1614"/>
                      </a:lnTo>
                      <a:lnTo>
                        <a:pt x="799" y="1615"/>
                      </a:lnTo>
                      <a:lnTo>
                        <a:pt x="764" y="1617"/>
                      </a:lnTo>
                      <a:lnTo>
                        <a:pt x="734" y="1619"/>
                      </a:lnTo>
                      <a:lnTo>
                        <a:pt x="712" y="1623"/>
                      </a:lnTo>
                      <a:lnTo>
                        <a:pt x="688" y="1629"/>
                      </a:lnTo>
                      <a:lnTo>
                        <a:pt x="653" y="1638"/>
                      </a:lnTo>
                      <a:lnTo>
                        <a:pt x="609" y="1648"/>
                      </a:lnTo>
                      <a:lnTo>
                        <a:pt x="559" y="1662"/>
                      </a:lnTo>
                      <a:lnTo>
                        <a:pt x="503" y="1678"/>
                      </a:lnTo>
                      <a:lnTo>
                        <a:pt x="443" y="1694"/>
                      </a:lnTo>
                      <a:lnTo>
                        <a:pt x="381" y="1712"/>
                      </a:lnTo>
                      <a:lnTo>
                        <a:pt x="319" y="1729"/>
                      </a:lnTo>
                      <a:lnTo>
                        <a:pt x="258" y="1746"/>
                      </a:lnTo>
                      <a:lnTo>
                        <a:pt x="199" y="1763"/>
                      </a:lnTo>
                      <a:lnTo>
                        <a:pt x="145" y="1778"/>
                      </a:lnTo>
                      <a:lnTo>
                        <a:pt x="97" y="1792"/>
                      </a:lnTo>
                      <a:lnTo>
                        <a:pt x="57" y="1804"/>
                      </a:lnTo>
                      <a:lnTo>
                        <a:pt x="26" y="1812"/>
                      </a:lnTo>
                      <a:lnTo>
                        <a:pt x="7" y="1817"/>
                      </a:lnTo>
                      <a:lnTo>
                        <a:pt x="0" y="1820"/>
                      </a:lnTo>
                      <a:lnTo>
                        <a:pt x="6" y="1817"/>
                      </a:lnTo>
                      <a:lnTo>
                        <a:pt x="21" y="1811"/>
                      </a:lnTo>
                      <a:lnTo>
                        <a:pt x="44" y="1801"/>
                      </a:lnTo>
                      <a:lnTo>
                        <a:pt x="76" y="1788"/>
                      </a:lnTo>
                      <a:lnTo>
                        <a:pt x="115" y="1773"/>
                      </a:lnTo>
                      <a:lnTo>
                        <a:pt x="160" y="1755"/>
                      </a:lnTo>
                      <a:lnTo>
                        <a:pt x="210" y="1736"/>
                      </a:lnTo>
                      <a:lnTo>
                        <a:pt x="265" y="1716"/>
                      </a:lnTo>
                      <a:lnTo>
                        <a:pt x="322" y="1697"/>
                      </a:lnTo>
                      <a:lnTo>
                        <a:pt x="382" y="1677"/>
                      </a:lnTo>
                      <a:lnTo>
                        <a:pt x="445" y="1659"/>
                      </a:lnTo>
                      <a:lnTo>
                        <a:pt x="507" y="1640"/>
                      </a:lnTo>
                      <a:lnTo>
                        <a:pt x="570" y="1625"/>
                      </a:lnTo>
                      <a:lnTo>
                        <a:pt x="631" y="1611"/>
                      </a:lnTo>
                      <a:lnTo>
                        <a:pt x="690" y="1602"/>
                      </a:lnTo>
                      <a:lnTo>
                        <a:pt x="746" y="1595"/>
                      </a:lnTo>
                      <a:lnTo>
                        <a:pt x="779" y="1593"/>
                      </a:lnTo>
                      <a:lnTo>
                        <a:pt x="814" y="1591"/>
                      </a:lnTo>
                      <a:lnTo>
                        <a:pt x="851" y="1588"/>
                      </a:lnTo>
                      <a:lnTo>
                        <a:pt x="888" y="1586"/>
                      </a:lnTo>
                      <a:lnTo>
                        <a:pt x="926" y="1585"/>
                      </a:lnTo>
                      <a:lnTo>
                        <a:pt x="964" y="1583"/>
                      </a:lnTo>
                      <a:lnTo>
                        <a:pt x="1001" y="1581"/>
                      </a:lnTo>
                      <a:lnTo>
                        <a:pt x="1037" y="1579"/>
                      </a:lnTo>
                      <a:lnTo>
                        <a:pt x="1070" y="1578"/>
                      </a:lnTo>
                      <a:lnTo>
                        <a:pt x="1101" y="1578"/>
                      </a:lnTo>
                      <a:lnTo>
                        <a:pt x="1129" y="1577"/>
                      </a:lnTo>
                      <a:lnTo>
                        <a:pt x="1153" y="1576"/>
                      </a:lnTo>
                      <a:lnTo>
                        <a:pt x="1173" y="1576"/>
                      </a:lnTo>
                      <a:lnTo>
                        <a:pt x="1188" y="1574"/>
                      </a:lnTo>
                      <a:lnTo>
                        <a:pt x="1197" y="1574"/>
                      </a:lnTo>
                      <a:lnTo>
                        <a:pt x="1200" y="1574"/>
                      </a:lnTo>
                      <a:lnTo>
                        <a:pt x="1195" y="1564"/>
                      </a:lnTo>
                      <a:lnTo>
                        <a:pt x="1181" y="1533"/>
                      </a:lnTo>
                      <a:lnTo>
                        <a:pt x="1161" y="1479"/>
                      </a:lnTo>
                      <a:lnTo>
                        <a:pt x="1139" y="1402"/>
                      </a:lnTo>
                      <a:lnTo>
                        <a:pt x="1120" y="1300"/>
                      </a:lnTo>
                      <a:lnTo>
                        <a:pt x="1107" y="1171"/>
                      </a:lnTo>
                      <a:lnTo>
                        <a:pt x="1102" y="1016"/>
                      </a:lnTo>
                      <a:lnTo>
                        <a:pt x="1111" y="832"/>
                      </a:lnTo>
                      <a:lnTo>
                        <a:pt x="1124" y="682"/>
                      </a:lnTo>
                      <a:lnTo>
                        <a:pt x="1139" y="533"/>
                      </a:lnTo>
                      <a:lnTo>
                        <a:pt x="1155" y="394"/>
                      </a:lnTo>
                      <a:lnTo>
                        <a:pt x="1172" y="266"/>
                      </a:lnTo>
                      <a:lnTo>
                        <a:pt x="1185" y="158"/>
                      </a:lnTo>
                      <a:lnTo>
                        <a:pt x="1197" y="74"/>
                      </a:lnTo>
                      <a:lnTo>
                        <a:pt x="1205" y="20"/>
                      </a:lnTo>
                      <a:lnTo>
                        <a:pt x="1207" y="0"/>
                      </a:lnTo>
                      <a:lnTo>
                        <a:pt x="123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Freeform 114"/>
                <p:cNvSpPr/>
                <p:nvPr/>
              </p:nvSpPr>
              <p:spPr>
                <a:xfrm>
                  <a:off x="4784400" y="1654560"/>
                  <a:ext cx="90360" cy="204480"/>
                </a:xfrm>
                <a:custGeom>
                  <a:avLst/>
                  <a:gdLst>
                    <a:gd name="textAreaLeft" fmla="*/ 0 w 90360"/>
                    <a:gd name="textAreaRight" fmla="*/ 90360 w 90360"/>
                    <a:gd name="textAreaTop" fmla="*/ 0 h 204480"/>
                    <a:gd name="textAreaBottom" fmla="*/ 204840 h 204480"/>
                  </a:gdLst>
                  <a:ahLst/>
                  <a:rect l="textAreaLeft" t="textAreaTop" r="textAreaRight" b="textAreaBottom"/>
                  <a:pathLst>
                    <a:path w="685" h="1651">
                      <a:moveTo>
                        <a:pt x="685" y="1337"/>
                      </a:moveTo>
                      <a:lnTo>
                        <a:pt x="685" y="1337"/>
                      </a:lnTo>
                      <a:lnTo>
                        <a:pt x="635" y="1348"/>
                      </a:lnTo>
                      <a:lnTo>
                        <a:pt x="584" y="1364"/>
                      </a:lnTo>
                      <a:lnTo>
                        <a:pt x="532" y="1384"/>
                      </a:lnTo>
                      <a:lnTo>
                        <a:pt x="481" y="1406"/>
                      </a:lnTo>
                      <a:lnTo>
                        <a:pt x="431" y="1431"/>
                      </a:lnTo>
                      <a:lnTo>
                        <a:pt x="382" y="1458"/>
                      </a:lnTo>
                      <a:lnTo>
                        <a:pt x="335" y="1484"/>
                      </a:lnTo>
                      <a:lnTo>
                        <a:pt x="291" y="1512"/>
                      </a:lnTo>
                      <a:lnTo>
                        <a:pt x="250" y="1539"/>
                      </a:lnTo>
                      <a:lnTo>
                        <a:pt x="213" y="1565"/>
                      </a:lnTo>
                      <a:lnTo>
                        <a:pt x="180" y="1588"/>
                      </a:lnTo>
                      <a:lnTo>
                        <a:pt x="151" y="1609"/>
                      </a:lnTo>
                      <a:lnTo>
                        <a:pt x="128" y="1626"/>
                      </a:lnTo>
                      <a:lnTo>
                        <a:pt x="110" y="1640"/>
                      </a:lnTo>
                      <a:lnTo>
                        <a:pt x="100" y="1648"/>
                      </a:lnTo>
                      <a:lnTo>
                        <a:pt x="97" y="1651"/>
                      </a:lnTo>
                      <a:lnTo>
                        <a:pt x="92" y="1622"/>
                      </a:lnTo>
                      <a:lnTo>
                        <a:pt x="82" y="1546"/>
                      </a:lnTo>
                      <a:lnTo>
                        <a:pt x="66" y="1435"/>
                      </a:lnTo>
                      <a:lnTo>
                        <a:pt x="48" y="1302"/>
                      </a:lnTo>
                      <a:lnTo>
                        <a:pt x="31" y="1162"/>
                      </a:lnTo>
                      <a:lnTo>
                        <a:pt x="15" y="1026"/>
                      </a:lnTo>
                      <a:lnTo>
                        <a:pt x="4" y="907"/>
                      </a:lnTo>
                      <a:lnTo>
                        <a:pt x="0" y="821"/>
                      </a:lnTo>
                      <a:lnTo>
                        <a:pt x="3" y="653"/>
                      </a:lnTo>
                      <a:lnTo>
                        <a:pt x="10" y="455"/>
                      </a:lnTo>
                      <a:lnTo>
                        <a:pt x="17" y="291"/>
                      </a:lnTo>
                      <a:lnTo>
                        <a:pt x="21" y="223"/>
                      </a:lnTo>
                      <a:lnTo>
                        <a:pt x="21" y="219"/>
                      </a:lnTo>
                      <a:lnTo>
                        <a:pt x="21" y="204"/>
                      </a:lnTo>
                      <a:lnTo>
                        <a:pt x="23" y="182"/>
                      </a:lnTo>
                      <a:lnTo>
                        <a:pt x="29" y="154"/>
                      </a:lnTo>
                      <a:lnTo>
                        <a:pt x="37" y="120"/>
                      </a:lnTo>
                      <a:lnTo>
                        <a:pt x="49" y="83"/>
                      </a:lnTo>
                      <a:lnTo>
                        <a:pt x="69" y="41"/>
                      </a:lnTo>
                      <a:lnTo>
                        <a:pt x="9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Freeform 115"/>
                <p:cNvSpPr/>
                <p:nvPr/>
              </p:nvSpPr>
              <p:spPr>
                <a:xfrm>
                  <a:off x="4653720" y="1657800"/>
                  <a:ext cx="78840" cy="182520"/>
                </a:xfrm>
                <a:custGeom>
                  <a:avLst/>
                  <a:gdLst>
                    <a:gd name="textAreaLeft" fmla="*/ 0 w 78840"/>
                    <a:gd name="textAreaRight" fmla="*/ 79200 w 78840"/>
                    <a:gd name="textAreaTop" fmla="*/ 0 h 182520"/>
                    <a:gd name="textAreaBottom" fmla="*/ 182880 h 182520"/>
                  </a:gdLst>
                  <a:ahLst/>
                  <a:rect l="textAreaLeft" t="textAreaTop" r="textAreaRight" b="textAreaBottom"/>
                  <a:pathLst>
                    <a:path w="598" h="1474">
                      <a:moveTo>
                        <a:pt x="15" y="0"/>
                      </a:moveTo>
                      <a:lnTo>
                        <a:pt x="15" y="8"/>
                      </a:lnTo>
                      <a:lnTo>
                        <a:pt x="17" y="29"/>
                      </a:lnTo>
                      <a:lnTo>
                        <a:pt x="22" y="62"/>
                      </a:lnTo>
                      <a:lnTo>
                        <a:pt x="32" y="105"/>
                      </a:lnTo>
                      <a:lnTo>
                        <a:pt x="50" y="156"/>
                      </a:lnTo>
                      <a:lnTo>
                        <a:pt x="74" y="212"/>
                      </a:lnTo>
                      <a:lnTo>
                        <a:pt x="109" y="272"/>
                      </a:lnTo>
                      <a:lnTo>
                        <a:pt x="157" y="333"/>
                      </a:lnTo>
                      <a:lnTo>
                        <a:pt x="184" y="363"/>
                      </a:lnTo>
                      <a:lnTo>
                        <a:pt x="212" y="393"/>
                      </a:lnTo>
                      <a:lnTo>
                        <a:pt x="240" y="421"/>
                      </a:lnTo>
                      <a:lnTo>
                        <a:pt x="267" y="447"/>
                      </a:lnTo>
                      <a:lnTo>
                        <a:pt x="294" y="471"/>
                      </a:lnTo>
                      <a:lnTo>
                        <a:pt x="320" y="494"/>
                      </a:lnTo>
                      <a:lnTo>
                        <a:pt x="346" y="516"/>
                      </a:lnTo>
                      <a:lnTo>
                        <a:pt x="370" y="536"/>
                      </a:lnTo>
                      <a:lnTo>
                        <a:pt x="392" y="554"/>
                      </a:lnTo>
                      <a:lnTo>
                        <a:pt x="412" y="569"/>
                      </a:lnTo>
                      <a:lnTo>
                        <a:pt x="431" y="583"/>
                      </a:lnTo>
                      <a:lnTo>
                        <a:pt x="446" y="595"/>
                      </a:lnTo>
                      <a:lnTo>
                        <a:pt x="459" y="604"/>
                      </a:lnTo>
                      <a:lnTo>
                        <a:pt x="468" y="609"/>
                      </a:lnTo>
                      <a:lnTo>
                        <a:pt x="474" y="614"/>
                      </a:lnTo>
                      <a:lnTo>
                        <a:pt x="476" y="615"/>
                      </a:lnTo>
                      <a:lnTo>
                        <a:pt x="474" y="627"/>
                      </a:lnTo>
                      <a:lnTo>
                        <a:pt x="469" y="660"/>
                      </a:lnTo>
                      <a:lnTo>
                        <a:pt x="462" y="709"/>
                      </a:lnTo>
                      <a:lnTo>
                        <a:pt x="455" y="771"/>
                      </a:lnTo>
                      <a:lnTo>
                        <a:pt x="447" y="840"/>
                      </a:lnTo>
                      <a:lnTo>
                        <a:pt x="441" y="914"/>
                      </a:lnTo>
                      <a:lnTo>
                        <a:pt x="438" y="987"/>
                      </a:lnTo>
                      <a:lnTo>
                        <a:pt x="438" y="1056"/>
                      </a:lnTo>
                      <a:lnTo>
                        <a:pt x="446" y="1124"/>
                      </a:lnTo>
                      <a:lnTo>
                        <a:pt x="464" y="1194"/>
                      </a:lnTo>
                      <a:lnTo>
                        <a:pt x="491" y="1265"/>
                      </a:lnTo>
                      <a:lnTo>
                        <a:pt x="520" y="1330"/>
                      </a:lnTo>
                      <a:lnTo>
                        <a:pt x="548" y="1388"/>
                      </a:lnTo>
                      <a:lnTo>
                        <a:pt x="574" y="1434"/>
                      </a:lnTo>
                      <a:lnTo>
                        <a:pt x="591" y="1464"/>
                      </a:lnTo>
                      <a:lnTo>
                        <a:pt x="598" y="1474"/>
                      </a:lnTo>
                      <a:lnTo>
                        <a:pt x="591" y="1470"/>
                      </a:lnTo>
                      <a:lnTo>
                        <a:pt x="570" y="1454"/>
                      </a:lnTo>
                      <a:lnTo>
                        <a:pt x="543" y="1426"/>
                      </a:lnTo>
                      <a:lnTo>
                        <a:pt x="510" y="1383"/>
                      </a:lnTo>
                      <a:lnTo>
                        <a:pt x="478" y="1327"/>
                      </a:lnTo>
                      <a:lnTo>
                        <a:pt x="449" y="1253"/>
                      </a:lnTo>
                      <a:lnTo>
                        <a:pt x="429" y="1161"/>
                      </a:lnTo>
                      <a:lnTo>
                        <a:pt x="419" y="1051"/>
                      </a:lnTo>
                      <a:lnTo>
                        <a:pt x="419" y="940"/>
                      </a:lnTo>
                      <a:lnTo>
                        <a:pt x="423" y="850"/>
                      </a:lnTo>
                      <a:lnTo>
                        <a:pt x="430" y="778"/>
                      </a:lnTo>
                      <a:lnTo>
                        <a:pt x="438" y="722"/>
                      </a:lnTo>
                      <a:lnTo>
                        <a:pt x="446" y="682"/>
                      </a:lnTo>
                      <a:lnTo>
                        <a:pt x="453" y="656"/>
                      </a:lnTo>
                      <a:lnTo>
                        <a:pt x="457" y="641"/>
                      </a:lnTo>
                      <a:lnTo>
                        <a:pt x="460" y="636"/>
                      </a:lnTo>
                      <a:lnTo>
                        <a:pt x="457" y="635"/>
                      </a:lnTo>
                      <a:lnTo>
                        <a:pt x="452" y="631"/>
                      </a:lnTo>
                      <a:lnTo>
                        <a:pt x="444" y="624"/>
                      </a:lnTo>
                      <a:lnTo>
                        <a:pt x="431" y="616"/>
                      </a:lnTo>
                      <a:lnTo>
                        <a:pt x="416" y="606"/>
                      </a:lnTo>
                      <a:lnTo>
                        <a:pt x="399" y="593"/>
                      </a:lnTo>
                      <a:lnTo>
                        <a:pt x="379" y="578"/>
                      </a:lnTo>
                      <a:lnTo>
                        <a:pt x="357" y="561"/>
                      </a:lnTo>
                      <a:lnTo>
                        <a:pt x="334" y="543"/>
                      </a:lnTo>
                      <a:lnTo>
                        <a:pt x="310" y="522"/>
                      </a:lnTo>
                      <a:lnTo>
                        <a:pt x="283" y="499"/>
                      </a:lnTo>
                      <a:lnTo>
                        <a:pt x="257" y="475"/>
                      </a:lnTo>
                      <a:lnTo>
                        <a:pt x="229" y="448"/>
                      </a:lnTo>
                      <a:lnTo>
                        <a:pt x="203" y="421"/>
                      </a:lnTo>
                      <a:lnTo>
                        <a:pt x="175" y="391"/>
                      </a:lnTo>
                      <a:lnTo>
                        <a:pt x="147" y="360"/>
                      </a:lnTo>
                      <a:lnTo>
                        <a:pt x="100" y="299"/>
                      </a:lnTo>
                      <a:lnTo>
                        <a:pt x="65" y="244"/>
                      </a:lnTo>
                      <a:lnTo>
                        <a:pt x="38" y="197"/>
                      </a:lnTo>
                      <a:lnTo>
                        <a:pt x="21" y="157"/>
                      </a:lnTo>
                      <a:lnTo>
                        <a:pt x="9" y="125"/>
                      </a:lnTo>
                      <a:lnTo>
                        <a:pt x="3" y="102"/>
                      </a:lnTo>
                      <a:lnTo>
                        <a:pt x="0" y="87"/>
                      </a:lnTo>
                      <a:lnTo>
                        <a:pt x="0" y="82"/>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329" name="Group 116"/>
              <p:cNvGrpSpPr/>
              <p:nvPr/>
            </p:nvGrpSpPr>
            <p:grpSpPr>
              <a:xfrm>
                <a:off x="5127120" y="1566360"/>
                <a:ext cx="712080" cy="311400"/>
                <a:chOff x="5127120" y="1566360"/>
                <a:chExt cx="712080" cy="311400"/>
              </a:xfrm>
            </p:grpSpPr>
            <p:sp>
              <p:nvSpPr>
                <p:cNvPr id="330" name="Freeform 117"/>
                <p:cNvSpPr/>
                <p:nvPr/>
              </p:nvSpPr>
              <p:spPr>
                <a:xfrm>
                  <a:off x="5127120" y="1566360"/>
                  <a:ext cx="479520" cy="304560"/>
                </a:xfrm>
                <a:custGeom>
                  <a:avLst/>
                  <a:gdLst>
                    <a:gd name="textAreaLeft" fmla="*/ 0 w 479520"/>
                    <a:gd name="textAreaRight" fmla="*/ 479880 w 479520"/>
                    <a:gd name="textAreaTop" fmla="*/ 0 h 304560"/>
                    <a:gd name="textAreaBottom" fmla="*/ 304920 h 304560"/>
                  </a:gdLst>
                  <a:ahLst/>
                  <a:rect l="textAreaLeft" t="textAreaTop" r="textAreaRight" b="textAreaBottom"/>
                  <a:pathLst>
                    <a:path w="696" h="494">
                      <a:moveTo>
                        <a:pt x="696" y="250"/>
                      </a:moveTo>
                      <a:lnTo>
                        <a:pt x="681" y="240"/>
                      </a:lnTo>
                      <a:lnTo>
                        <a:pt x="663" y="227"/>
                      </a:lnTo>
                      <a:lnTo>
                        <a:pt x="640" y="213"/>
                      </a:lnTo>
                      <a:lnTo>
                        <a:pt x="613" y="196"/>
                      </a:lnTo>
                      <a:lnTo>
                        <a:pt x="585" y="179"/>
                      </a:lnTo>
                      <a:lnTo>
                        <a:pt x="553" y="159"/>
                      </a:lnTo>
                      <a:lnTo>
                        <a:pt x="521" y="140"/>
                      </a:lnTo>
                      <a:lnTo>
                        <a:pt x="488" y="120"/>
                      </a:lnTo>
                      <a:lnTo>
                        <a:pt x="453" y="101"/>
                      </a:lnTo>
                      <a:lnTo>
                        <a:pt x="419" y="82"/>
                      </a:lnTo>
                      <a:lnTo>
                        <a:pt x="385" y="64"/>
                      </a:lnTo>
                      <a:lnTo>
                        <a:pt x="352" y="48"/>
                      </a:lnTo>
                      <a:lnTo>
                        <a:pt x="321" y="32"/>
                      </a:lnTo>
                      <a:lnTo>
                        <a:pt x="292" y="19"/>
                      </a:lnTo>
                      <a:lnTo>
                        <a:pt x="267" y="9"/>
                      </a:lnTo>
                      <a:lnTo>
                        <a:pt x="244" y="0"/>
                      </a:lnTo>
                      <a:lnTo>
                        <a:pt x="234" y="9"/>
                      </a:lnTo>
                      <a:lnTo>
                        <a:pt x="221" y="18"/>
                      </a:lnTo>
                      <a:lnTo>
                        <a:pt x="207" y="28"/>
                      </a:lnTo>
                      <a:lnTo>
                        <a:pt x="192" y="41"/>
                      </a:lnTo>
                      <a:lnTo>
                        <a:pt x="176" y="55"/>
                      </a:lnTo>
                      <a:lnTo>
                        <a:pt x="160" y="70"/>
                      </a:lnTo>
                      <a:lnTo>
                        <a:pt x="142" y="87"/>
                      </a:lnTo>
                      <a:lnTo>
                        <a:pt x="124" y="103"/>
                      </a:lnTo>
                      <a:lnTo>
                        <a:pt x="106" y="121"/>
                      </a:lnTo>
                      <a:lnTo>
                        <a:pt x="89" y="140"/>
                      </a:lnTo>
                      <a:lnTo>
                        <a:pt x="71" y="159"/>
                      </a:lnTo>
                      <a:lnTo>
                        <a:pt x="55" y="179"/>
                      </a:lnTo>
                      <a:lnTo>
                        <a:pt x="39" y="198"/>
                      </a:lnTo>
                      <a:lnTo>
                        <a:pt x="24" y="218"/>
                      </a:lnTo>
                      <a:lnTo>
                        <a:pt x="12" y="238"/>
                      </a:lnTo>
                      <a:lnTo>
                        <a:pt x="0" y="257"/>
                      </a:lnTo>
                      <a:lnTo>
                        <a:pt x="14" y="268"/>
                      </a:lnTo>
                      <a:lnTo>
                        <a:pt x="33" y="280"/>
                      </a:lnTo>
                      <a:lnTo>
                        <a:pt x="55" y="294"/>
                      </a:lnTo>
                      <a:lnTo>
                        <a:pt x="82" y="310"/>
                      </a:lnTo>
                      <a:lnTo>
                        <a:pt x="109" y="327"/>
                      </a:lnTo>
                      <a:lnTo>
                        <a:pt x="140" y="346"/>
                      </a:lnTo>
                      <a:lnTo>
                        <a:pt x="171" y="364"/>
                      </a:lnTo>
                      <a:lnTo>
                        <a:pt x="204" y="383"/>
                      </a:lnTo>
                      <a:lnTo>
                        <a:pt x="235" y="401"/>
                      </a:lnTo>
                      <a:lnTo>
                        <a:pt x="267" y="418"/>
                      </a:lnTo>
                      <a:lnTo>
                        <a:pt x="296" y="436"/>
                      </a:lnTo>
                      <a:lnTo>
                        <a:pt x="325" y="451"/>
                      </a:lnTo>
                      <a:lnTo>
                        <a:pt x="349" y="466"/>
                      </a:lnTo>
                      <a:lnTo>
                        <a:pt x="371" y="477"/>
                      </a:lnTo>
                      <a:lnTo>
                        <a:pt x="389" y="487"/>
                      </a:lnTo>
                      <a:lnTo>
                        <a:pt x="402" y="494"/>
                      </a:lnTo>
                      <a:lnTo>
                        <a:pt x="415" y="482"/>
                      </a:lnTo>
                      <a:lnTo>
                        <a:pt x="432" y="467"/>
                      </a:lnTo>
                      <a:lnTo>
                        <a:pt x="450" y="451"/>
                      </a:lnTo>
                      <a:lnTo>
                        <a:pt x="469" y="433"/>
                      </a:lnTo>
                      <a:lnTo>
                        <a:pt x="490" y="416"/>
                      </a:lnTo>
                      <a:lnTo>
                        <a:pt x="512" y="398"/>
                      </a:lnTo>
                      <a:lnTo>
                        <a:pt x="534" y="378"/>
                      </a:lnTo>
                      <a:lnTo>
                        <a:pt x="556" y="360"/>
                      </a:lnTo>
                      <a:lnTo>
                        <a:pt x="578" y="341"/>
                      </a:lnTo>
                      <a:lnTo>
                        <a:pt x="598" y="324"/>
                      </a:lnTo>
                      <a:lnTo>
                        <a:pt x="619" y="308"/>
                      </a:lnTo>
                      <a:lnTo>
                        <a:pt x="639" y="292"/>
                      </a:lnTo>
                      <a:lnTo>
                        <a:pt x="656" y="279"/>
                      </a:lnTo>
                      <a:lnTo>
                        <a:pt x="672" y="266"/>
                      </a:lnTo>
                      <a:lnTo>
                        <a:pt x="686" y="257"/>
                      </a:lnTo>
                      <a:lnTo>
                        <a:pt x="696"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1" name="Freeform 118"/>
                <p:cNvSpPr/>
                <p:nvPr/>
              </p:nvSpPr>
              <p:spPr>
                <a:xfrm>
                  <a:off x="5302080" y="1589760"/>
                  <a:ext cx="258840" cy="132840"/>
                </a:xfrm>
                <a:custGeom>
                  <a:avLst/>
                  <a:gdLst>
                    <a:gd name="textAreaLeft" fmla="*/ 0 w 258840"/>
                    <a:gd name="textAreaRight" fmla="*/ 259200 w 258840"/>
                    <a:gd name="textAreaTop" fmla="*/ 0 h 132840"/>
                    <a:gd name="textAreaBottom" fmla="*/ 133200 h 132840"/>
                  </a:gdLst>
                  <a:ahLst/>
                  <a:rect l="textAreaLeft" t="textAreaTop" r="textAreaRight" b="textAreaBottom"/>
                  <a:pathLst>
                    <a:path w="376" h="215">
                      <a:moveTo>
                        <a:pt x="376" y="205"/>
                      </a:moveTo>
                      <a:lnTo>
                        <a:pt x="364" y="196"/>
                      </a:lnTo>
                      <a:lnTo>
                        <a:pt x="347" y="186"/>
                      </a:lnTo>
                      <a:lnTo>
                        <a:pt x="326" y="173"/>
                      </a:lnTo>
                      <a:lnTo>
                        <a:pt x="303" y="160"/>
                      </a:lnTo>
                      <a:lnTo>
                        <a:pt x="276" y="145"/>
                      </a:lnTo>
                      <a:lnTo>
                        <a:pt x="249" y="129"/>
                      </a:lnTo>
                      <a:lnTo>
                        <a:pt x="220" y="112"/>
                      </a:lnTo>
                      <a:lnTo>
                        <a:pt x="191" y="96"/>
                      </a:lnTo>
                      <a:lnTo>
                        <a:pt x="161" y="80"/>
                      </a:lnTo>
                      <a:lnTo>
                        <a:pt x="132" y="64"/>
                      </a:lnTo>
                      <a:lnTo>
                        <a:pt x="105" y="49"/>
                      </a:lnTo>
                      <a:lnTo>
                        <a:pt x="78" y="35"/>
                      </a:lnTo>
                      <a:lnTo>
                        <a:pt x="54" y="24"/>
                      </a:lnTo>
                      <a:lnTo>
                        <a:pt x="32" y="13"/>
                      </a:lnTo>
                      <a:lnTo>
                        <a:pt x="14" y="5"/>
                      </a:lnTo>
                      <a:lnTo>
                        <a:pt x="0" y="0"/>
                      </a:lnTo>
                      <a:lnTo>
                        <a:pt x="4" y="19"/>
                      </a:lnTo>
                      <a:lnTo>
                        <a:pt x="8" y="46"/>
                      </a:lnTo>
                      <a:lnTo>
                        <a:pt x="16" y="77"/>
                      </a:lnTo>
                      <a:lnTo>
                        <a:pt x="24" y="110"/>
                      </a:lnTo>
                      <a:lnTo>
                        <a:pt x="34" y="141"/>
                      </a:lnTo>
                      <a:lnTo>
                        <a:pt x="43" y="169"/>
                      </a:lnTo>
                      <a:lnTo>
                        <a:pt x="52" y="191"/>
                      </a:lnTo>
                      <a:lnTo>
                        <a:pt x="61" y="203"/>
                      </a:lnTo>
                      <a:lnTo>
                        <a:pt x="69" y="208"/>
                      </a:lnTo>
                      <a:lnTo>
                        <a:pt x="81" y="210"/>
                      </a:lnTo>
                      <a:lnTo>
                        <a:pt x="97" y="213"/>
                      </a:lnTo>
                      <a:lnTo>
                        <a:pt x="115" y="215"/>
                      </a:lnTo>
                      <a:lnTo>
                        <a:pt x="137" y="215"/>
                      </a:lnTo>
                      <a:lnTo>
                        <a:pt x="160" y="215"/>
                      </a:lnTo>
                      <a:lnTo>
                        <a:pt x="185" y="215"/>
                      </a:lnTo>
                      <a:lnTo>
                        <a:pt x="212" y="214"/>
                      </a:lnTo>
                      <a:lnTo>
                        <a:pt x="237" y="213"/>
                      </a:lnTo>
                      <a:lnTo>
                        <a:pt x="264" y="211"/>
                      </a:lnTo>
                      <a:lnTo>
                        <a:pt x="288" y="210"/>
                      </a:lnTo>
                      <a:lnTo>
                        <a:pt x="311" y="208"/>
                      </a:lnTo>
                      <a:lnTo>
                        <a:pt x="333" y="207"/>
                      </a:lnTo>
                      <a:lnTo>
                        <a:pt x="350" y="206"/>
                      </a:lnTo>
                      <a:lnTo>
                        <a:pt x="365" y="205"/>
                      </a:lnTo>
                      <a:lnTo>
                        <a:pt x="376" y="205"/>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Freeform 119"/>
                <p:cNvSpPr/>
                <p:nvPr/>
              </p:nvSpPr>
              <p:spPr>
                <a:xfrm>
                  <a:off x="5403960" y="1737720"/>
                  <a:ext cx="138960" cy="99720"/>
                </a:xfrm>
                <a:custGeom>
                  <a:avLst/>
                  <a:gdLst>
                    <a:gd name="textAreaLeft" fmla="*/ 0 w 138960"/>
                    <a:gd name="textAreaRight" fmla="*/ 139320 w 138960"/>
                    <a:gd name="textAreaTop" fmla="*/ 0 h 99720"/>
                    <a:gd name="textAreaBottom" fmla="*/ 100080 h 99720"/>
                  </a:gdLst>
                  <a:ahLst/>
                  <a:rect l="textAreaLeft" t="textAreaTop" r="textAreaRight" b="textAreaBottom"/>
                  <a:pathLst>
                    <a:path w="202" h="162">
                      <a:moveTo>
                        <a:pt x="202" y="0"/>
                      </a:moveTo>
                      <a:lnTo>
                        <a:pt x="0" y="162"/>
                      </a:lnTo>
                      <a:lnTo>
                        <a:pt x="1" y="10"/>
                      </a:lnTo>
                      <a:lnTo>
                        <a:pt x="202" y="0"/>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Freeform 120"/>
                <p:cNvSpPr/>
                <p:nvPr/>
              </p:nvSpPr>
              <p:spPr>
                <a:xfrm>
                  <a:off x="5162760" y="1602000"/>
                  <a:ext cx="138960" cy="104400"/>
                </a:xfrm>
                <a:custGeom>
                  <a:avLst/>
                  <a:gdLst>
                    <a:gd name="textAreaLeft" fmla="*/ 0 w 138960"/>
                    <a:gd name="textAreaRight" fmla="*/ 139320 w 138960"/>
                    <a:gd name="textAreaTop" fmla="*/ 0 h 104400"/>
                    <a:gd name="textAreaBottom" fmla="*/ 104760 h 104400"/>
                  </a:gdLst>
                  <a:ahLst/>
                  <a:rect l="textAreaLeft" t="textAreaTop" r="textAreaRight" b="textAreaBottom"/>
                  <a:pathLst>
                    <a:path w="202" h="172">
                      <a:moveTo>
                        <a:pt x="202" y="124"/>
                      </a:moveTo>
                      <a:lnTo>
                        <a:pt x="169" y="0"/>
                      </a:lnTo>
                      <a:lnTo>
                        <a:pt x="0" y="172"/>
                      </a:lnTo>
                      <a:lnTo>
                        <a:pt x="202" y="124"/>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Freeform 121"/>
                <p:cNvSpPr/>
                <p:nvPr/>
              </p:nvSpPr>
              <p:spPr>
                <a:xfrm>
                  <a:off x="5164200" y="1693080"/>
                  <a:ext cx="224640" cy="141480"/>
                </a:xfrm>
                <a:custGeom>
                  <a:avLst/>
                  <a:gdLst>
                    <a:gd name="textAreaLeft" fmla="*/ 0 w 224640"/>
                    <a:gd name="textAreaRight" fmla="*/ 225000 w 224640"/>
                    <a:gd name="textAreaTop" fmla="*/ 0 h 141480"/>
                    <a:gd name="textAreaBottom" fmla="*/ 141840 h 141480"/>
                  </a:gdLst>
                  <a:ahLst/>
                  <a:rect l="textAreaLeft" t="textAreaTop" r="textAreaRight" b="textAreaBottom"/>
                  <a:pathLst>
                    <a:path w="327" h="229">
                      <a:moveTo>
                        <a:pt x="0" y="48"/>
                      </a:moveTo>
                      <a:lnTo>
                        <a:pt x="326" y="229"/>
                      </a:lnTo>
                      <a:lnTo>
                        <a:pt x="327" y="81"/>
                      </a:lnTo>
                      <a:lnTo>
                        <a:pt x="304" y="83"/>
                      </a:lnTo>
                      <a:lnTo>
                        <a:pt x="283" y="81"/>
                      </a:lnTo>
                      <a:lnTo>
                        <a:pt x="265" y="78"/>
                      </a:lnTo>
                      <a:lnTo>
                        <a:pt x="249" y="71"/>
                      </a:lnTo>
                      <a:lnTo>
                        <a:pt x="234" y="61"/>
                      </a:lnTo>
                      <a:lnTo>
                        <a:pt x="222" y="46"/>
                      </a:lnTo>
                      <a:lnTo>
                        <a:pt x="213" y="25"/>
                      </a:lnTo>
                      <a:lnTo>
                        <a:pt x="207" y="0"/>
                      </a:lnTo>
                      <a:lnTo>
                        <a:pt x="0" y="48"/>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Freeform 122"/>
                <p:cNvSpPr/>
                <p:nvPr/>
              </p:nvSpPr>
              <p:spPr>
                <a:xfrm>
                  <a:off x="5408280" y="1604160"/>
                  <a:ext cx="430920" cy="273600"/>
                </a:xfrm>
                <a:custGeom>
                  <a:avLst/>
                  <a:gdLst>
                    <a:gd name="textAreaLeft" fmla="*/ 0 w 430920"/>
                    <a:gd name="textAreaRight" fmla="*/ 431280 w 430920"/>
                    <a:gd name="textAreaTop" fmla="*/ 0 h 273600"/>
                    <a:gd name="textAreaBottom" fmla="*/ 273960 h 273600"/>
                  </a:gdLst>
                  <a:ahLst/>
                  <a:rect l="textAreaLeft" t="textAreaTop" r="textAreaRight" b="textAreaBottom"/>
                  <a:pathLst>
                    <a:path w="624" h="443">
                      <a:moveTo>
                        <a:pt x="0" y="224"/>
                      </a:moveTo>
                      <a:lnTo>
                        <a:pt x="13" y="215"/>
                      </a:lnTo>
                      <a:lnTo>
                        <a:pt x="31" y="204"/>
                      </a:lnTo>
                      <a:lnTo>
                        <a:pt x="50" y="191"/>
                      </a:lnTo>
                      <a:lnTo>
                        <a:pt x="74" y="176"/>
                      </a:lnTo>
                      <a:lnTo>
                        <a:pt x="100" y="160"/>
                      </a:lnTo>
                      <a:lnTo>
                        <a:pt x="128" y="143"/>
                      </a:lnTo>
                      <a:lnTo>
                        <a:pt x="157" y="125"/>
                      </a:lnTo>
                      <a:lnTo>
                        <a:pt x="188" y="108"/>
                      </a:lnTo>
                      <a:lnTo>
                        <a:pt x="218" y="90"/>
                      </a:lnTo>
                      <a:lnTo>
                        <a:pt x="249" y="73"/>
                      </a:lnTo>
                      <a:lnTo>
                        <a:pt x="279" y="56"/>
                      </a:lnTo>
                      <a:lnTo>
                        <a:pt x="309" y="41"/>
                      </a:lnTo>
                      <a:lnTo>
                        <a:pt x="337" y="29"/>
                      </a:lnTo>
                      <a:lnTo>
                        <a:pt x="363" y="16"/>
                      </a:lnTo>
                      <a:lnTo>
                        <a:pt x="386" y="7"/>
                      </a:lnTo>
                      <a:lnTo>
                        <a:pt x="407" y="0"/>
                      </a:lnTo>
                      <a:lnTo>
                        <a:pt x="416" y="7"/>
                      </a:lnTo>
                      <a:lnTo>
                        <a:pt x="428" y="15"/>
                      </a:lnTo>
                      <a:lnTo>
                        <a:pt x="439" y="25"/>
                      </a:lnTo>
                      <a:lnTo>
                        <a:pt x="453" y="37"/>
                      </a:lnTo>
                      <a:lnTo>
                        <a:pt x="467" y="49"/>
                      </a:lnTo>
                      <a:lnTo>
                        <a:pt x="483" y="62"/>
                      </a:lnTo>
                      <a:lnTo>
                        <a:pt x="498" y="77"/>
                      </a:lnTo>
                      <a:lnTo>
                        <a:pt x="514" y="92"/>
                      </a:lnTo>
                      <a:lnTo>
                        <a:pt x="530" y="108"/>
                      </a:lnTo>
                      <a:lnTo>
                        <a:pt x="546" y="125"/>
                      </a:lnTo>
                      <a:lnTo>
                        <a:pt x="561" y="143"/>
                      </a:lnTo>
                      <a:lnTo>
                        <a:pt x="576" y="160"/>
                      </a:lnTo>
                      <a:lnTo>
                        <a:pt x="590" y="177"/>
                      </a:lnTo>
                      <a:lnTo>
                        <a:pt x="602" y="195"/>
                      </a:lnTo>
                      <a:lnTo>
                        <a:pt x="614" y="214"/>
                      </a:lnTo>
                      <a:lnTo>
                        <a:pt x="624" y="231"/>
                      </a:lnTo>
                      <a:lnTo>
                        <a:pt x="612" y="240"/>
                      </a:lnTo>
                      <a:lnTo>
                        <a:pt x="594" y="252"/>
                      </a:lnTo>
                      <a:lnTo>
                        <a:pt x="575" y="265"/>
                      </a:lnTo>
                      <a:lnTo>
                        <a:pt x="552" y="278"/>
                      </a:lnTo>
                      <a:lnTo>
                        <a:pt x="527" y="293"/>
                      </a:lnTo>
                      <a:lnTo>
                        <a:pt x="499" y="309"/>
                      </a:lnTo>
                      <a:lnTo>
                        <a:pt x="471" y="327"/>
                      </a:lnTo>
                      <a:lnTo>
                        <a:pt x="443" y="343"/>
                      </a:lnTo>
                      <a:lnTo>
                        <a:pt x="414" y="360"/>
                      </a:lnTo>
                      <a:lnTo>
                        <a:pt x="385" y="375"/>
                      </a:lnTo>
                      <a:lnTo>
                        <a:pt x="359" y="391"/>
                      </a:lnTo>
                      <a:lnTo>
                        <a:pt x="334" y="405"/>
                      </a:lnTo>
                      <a:lnTo>
                        <a:pt x="311" y="418"/>
                      </a:lnTo>
                      <a:lnTo>
                        <a:pt x="292" y="428"/>
                      </a:lnTo>
                      <a:lnTo>
                        <a:pt x="276" y="437"/>
                      </a:lnTo>
                      <a:lnTo>
                        <a:pt x="264" y="443"/>
                      </a:lnTo>
                      <a:lnTo>
                        <a:pt x="252" y="431"/>
                      </a:lnTo>
                      <a:lnTo>
                        <a:pt x="238" y="419"/>
                      </a:lnTo>
                      <a:lnTo>
                        <a:pt x="222" y="404"/>
                      </a:lnTo>
                      <a:lnTo>
                        <a:pt x="203" y="389"/>
                      </a:lnTo>
                      <a:lnTo>
                        <a:pt x="185" y="373"/>
                      </a:lnTo>
                      <a:lnTo>
                        <a:pt x="165" y="356"/>
                      </a:lnTo>
                      <a:lnTo>
                        <a:pt x="146" y="339"/>
                      </a:lnTo>
                      <a:lnTo>
                        <a:pt x="126" y="322"/>
                      </a:lnTo>
                      <a:lnTo>
                        <a:pt x="107" y="306"/>
                      </a:lnTo>
                      <a:lnTo>
                        <a:pt x="87" y="290"/>
                      </a:lnTo>
                      <a:lnTo>
                        <a:pt x="69" y="275"/>
                      </a:lnTo>
                      <a:lnTo>
                        <a:pt x="51" y="261"/>
                      </a:lnTo>
                      <a:lnTo>
                        <a:pt x="36" y="250"/>
                      </a:lnTo>
                      <a:lnTo>
                        <a:pt x="21" y="239"/>
                      </a:lnTo>
                      <a:lnTo>
                        <a:pt x="10" y="230"/>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6" name="Freeform 123"/>
                <p:cNvSpPr/>
                <p:nvPr/>
              </p:nvSpPr>
              <p:spPr>
                <a:xfrm>
                  <a:off x="5455080" y="1630080"/>
                  <a:ext cx="228600" cy="115920"/>
                </a:xfrm>
                <a:custGeom>
                  <a:avLst/>
                  <a:gdLst>
                    <a:gd name="textAreaLeft" fmla="*/ 0 w 228600"/>
                    <a:gd name="textAreaRight" fmla="*/ 228960 w 228600"/>
                    <a:gd name="textAreaTop" fmla="*/ 0 h 115920"/>
                    <a:gd name="textAreaBottom" fmla="*/ 116280 h 115920"/>
                  </a:gdLst>
                  <a:ahLst/>
                  <a:rect l="textAreaLeft" t="textAreaTop" r="textAreaRight" b="textAreaBottom"/>
                  <a:pathLst>
                    <a:path w="333" h="189">
                      <a:moveTo>
                        <a:pt x="0" y="180"/>
                      </a:moveTo>
                      <a:lnTo>
                        <a:pt x="12" y="173"/>
                      </a:lnTo>
                      <a:lnTo>
                        <a:pt x="27" y="164"/>
                      </a:lnTo>
                      <a:lnTo>
                        <a:pt x="45" y="152"/>
                      </a:lnTo>
                      <a:lnTo>
                        <a:pt x="66" y="141"/>
                      </a:lnTo>
                      <a:lnTo>
                        <a:pt x="88" y="127"/>
                      </a:lnTo>
                      <a:lnTo>
                        <a:pt x="113" y="113"/>
                      </a:lnTo>
                      <a:lnTo>
                        <a:pt x="138" y="99"/>
                      </a:lnTo>
                      <a:lnTo>
                        <a:pt x="164" y="84"/>
                      </a:lnTo>
                      <a:lnTo>
                        <a:pt x="190" y="70"/>
                      </a:lnTo>
                      <a:lnTo>
                        <a:pt x="216" y="56"/>
                      </a:lnTo>
                      <a:lnTo>
                        <a:pt x="241" y="43"/>
                      </a:lnTo>
                      <a:lnTo>
                        <a:pt x="264" y="31"/>
                      </a:lnTo>
                      <a:lnTo>
                        <a:pt x="286" y="21"/>
                      </a:lnTo>
                      <a:lnTo>
                        <a:pt x="304" y="12"/>
                      </a:lnTo>
                      <a:lnTo>
                        <a:pt x="320" y="5"/>
                      </a:lnTo>
                      <a:lnTo>
                        <a:pt x="333" y="0"/>
                      </a:lnTo>
                      <a:lnTo>
                        <a:pt x="331" y="17"/>
                      </a:lnTo>
                      <a:lnTo>
                        <a:pt x="325" y="40"/>
                      </a:lnTo>
                      <a:lnTo>
                        <a:pt x="319" y="68"/>
                      </a:lnTo>
                      <a:lnTo>
                        <a:pt x="311" y="96"/>
                      </a:lnTo>
                      <a:lnTo>
                        <a:pt x="303" y="124"/>
                      </a:lnTo>
                      <a:lnTo>
                        <a:pt x="295" y="149"/>
                      </a:lnTo>
                      <a:lnTo>
                        <a:pt x="287" y="167"/>
                      </a:lnTo>
                      <a:lnTo>
                        <a:pt x="279" y="179"/>
                      </a:lnTo>
                      <a:lnTo>
                        <a:pt x="272" y="182"/>
                      </a:lnTo>
                      <a:lnTo>
                        <a:pt x="262" y="185"/>
                      </a:lnTo>
                      <a:lnTo>
                        <a:pt x="248" y="188"/>
                      </a:lnTo>
                      <a:lnTo>
                        <a:pt x="231" y="189"/>
                      </a:lnTo>
                      <a:lnTo>
                        <a:pt x="211" y="189"/>
                      </a:lnTo>
                      <a:lnTo>
                        <a:pt x="190" y="189"/>
                      </a:lnTo>
                      <a:lnTo>
                        <a:pt x="168" y="189"/>
                      </a:lnTo>
                      <a:lnTo>
                        <a:pt x="145" y="188"/>
                      </a:lnTo>
                      <a:lnTo>
                        <a:pt x="122" y="187"/>
                      </a:lnTo>
                      <a:lnTo>
                        <a:pt x="101" y="185"/>
                      </a:lnTo>
                      <a:lnTo>
                        <a:pt x="79" y="184"/>
                      </a:lnTo>
                      <a:lnTo>
                        <a:pt x="58" y="183"/>
                      </a:lnTo>
                      <a:lnTo>
                        <a:pt x="40" y="182"/>
                      </a:lnTo>
                      <a:lnTo>
                        <a:pt x="23" y="181"/>
                      </a:lnTo>
                      <a:lnTo>
                        <a:pt x="10" y="180"/>
                      </a:lnTo>
                      <a:lnTo>
                        <a:pt x="0" y="180"/>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7" name="Freeform 124"/>
                <p:cNvSpPr/>
                <p:nvPr/>
              </p:nvSpPr>
              <p:spPr>
                <a:xfrm>
                  <a:off x="5471640" y="1759680"/>
                  <a:ext cx="122400" cy="87480"/>
                </a:xfrm>
                <a:custGeom>
                  <a:avLst/>
                  <a:gdLst>
                    <a:gd name="textAreaLeft" fmla="*/ 0 w 122400"/>
                    <a:gd name="textAreaRight" fmla="*/ 122760 w 122400"/>
                    <a:gd name="textAreaTop" fmla="*/ 0 h 87480"/>
                    <a:gd name="textAreaBottom" fmla="*/ 87840 h 87480"/>
                  </a:gdLst>
                  <a:ahLst/>
                  <a:rect l="textAreaLeft" t="textAreaTop" r="textAreaRight" b="textAreaBottom"/>
                  <a:pathLst>
                    <a:path w="179" h="142">
                      <a:moveTo>
                        <a:pt x="0" y="0"/>
                      </a:moveTo>
                      <a:lnTo>
                        <a:pt x="179" y="142"/>
                      </a:lnTo>
                      <a:lnTo>
                        <a:pt x="178" y="9"/>
                      </a:lnTo>
                      <a:lnTo>
                        <a:pt x="0" y="0"/>
                      </a:lnTo>
                      <a:close/>
                    </a:path>
                  </a:pathLst>
                </a:custGeom>
                <a:solidFill>
                  <a:srgbClr val="ffddbf"/>
                </a:solidFill>
                <a:ln w="0">
                  <a:noFill/>
                </a:ln>
              </p:spPr>
              <p:style>
                <a:lnRef idx="0"/>
                <a:fillRef idx="0"/>
                <a:effectRef idx="0"/>
                <a:fontRef idx="minor"/>
              </p:style>
              <p:txBody>
                <a:bodyPr lIns="90000" rIns="90000" tIns="41040" bIns="41040" anchor="t">
                  <a:noAutofit/>
                </a:bodyPr>
                <a:p>
                  <a:endParaRPr b="0" lang="en-US" sz="1800" spc="-1" strike="noStrike">
                    <a:solidFill>
                      <a:srgbClr val="336666"/>
                    </a:solidFill>
                    <a:latin typeface="Arial"/>
                  </a:endParaRPr>
                </a:p>
              </p:txBody>
            </p:sp>
            <p:sp>
              <p:nvSpPr>
                <p:cNvPr id="338" name="Freeform 125"/>
                <p:cNvSpPr/>
                <p:nvPr/>
              </p:nvSpPr>
              <p:spPr>
                <a:xfrm>
                  <a:off x="5683680" y="1638720"/>
                  <a:ext cx="120960" cy="93600"/>
                </a:xfrm>
                <a:custGeom>
                  <a:avLst/>
                  <a:gdLst>
                    <a:gd name="textAreaLeft" fmla="*/ 0 w 120960"/>
                    <a:gd name="textAreaRight" fmla="*/ 121320 w 120960"/>
                    <a:gd name="textAreaTop" fmla="*/ 0 h 93600"/>
                    <a:gd name="textAreaBottom" fmla="*/ 93960 h 93600"/>
                  </a:gdLst>
                  <a:ahLst/>
                  <a:rect l="textAreaLeft" t="textAreaTop" r="textAreaRight" b="textAreaBottom"/>
                  <a:pathLst>
                    <a:path w="176" h="152">
                      <a:moveTo>
                        <a:pt x="0" y="111"/>
                      </a:moveTo>
                      <a:lnTo>
                        <a:pt x="29" y="0"/>
                      </a:lnTo>
                      <a:lnTo>
                        <a:pt x="176" y="152"/>
                      </a:lnTo>
                      <a:lnTo>
                        <a:pt x="0" y="111"/>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9" name="Freeform 126"/>
                <p:cNvSpPr/>
                <p:nvPr/>
              </p:nvSpPr>
              <p:spPr>
                <a:xfrm>
                  <a:off x="5606640" y="1720440"/>
                  <a:ext cx="196920" cy="125640"/>
                </a:xfrm>
                <a:custGeom>
                  <a:avLst/>
                  <a:gdLst>
                    <a:gd name="textAreaLeft" fmla="*/ 0 w 196920"/>
                    <a:gd name="textAreaRight" fmla="*/ 197280 w 196920"/>
                    <a:gd name="textAreaTop" fmla="*/ 0 h 125640"/>
                    <a:gd name="textAreaBottom" fmla="*/ 126000 h 125640"/>
                  </a:gdLst>
                  <a:ahLst/>
                  <a:rect l="textAreaLeft" t="textAreaTop" r="textAreaRight" b="textAreaBottom"/>
                  <a:pathLst>
                    <a:path w="288" h="203">
                      <a:moveTo>
                        <a:pt x="288" y="43"/>
                      </a:moveTo>
                      <a:lnTo>
                        <a:pt x="1" y="203"/>
                      </a:lnTo>
                      <a:lnTo>
                        <a:pt x="0" y="73"/>
                      </a:lnTo>
                      <a:lnTo>
                        <a:pt x="20" y="73"/>
                      </a:lnTo>
                      <a:lnTo>
                        <a:pt x="38" y="72"/>
                      </a:lnTo>
                      <a:lnTo>
                        <a:pt x="55" y="69"/>
                      </a:lnTo>
                      <a:lnTo>
                        <a:pt x="70" y="63"/>
                      </a:lnTo>
                      <a:lnTo>
                        <a:pt x="83" y="53"/>
                      </a:lnTo>
                      <a:lnTo>
                        <a:pt x="93" y="41"/>
                      </a:lnTo>
                      <a:lnTo>
                        <a:pt x="100" y="23"/>
                      </a:lnTo>
                      <a:lnTo>
                        <a:pt x="106" y="0"/>
                      </a:lnTo>
                      <a:lnTo>
                        <a:pt x="288" y="43"/>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pic>
            <p:nvPicPr>
              <p:cNvPr id="340" name="Object 127" descr=""/>
              <p:cNvPicPr/>
              <p:nvPr/>
            </p:nvPicPr>
            <p:blipFill>
              <a:blip r:embed="rId4"/>
              <a:stretch/>
            </p:blipFill>
            <p:spPr>
              <a:xfrm>
                <a:off x="5987520" y="1566360"/>
                <a:ext cx="462960" cy="277560"/>
              </a:xfrm>
              <a:prstGeom prst="rect">
                <a:avLst/>
              </a:prstGeom>
              <a:ln w="0">
                <a:noFill/>
              </a:ln>
            </p:spPr>
          </p:pic>
        </p:grpSp>
        <p:sp>
          <p:nvSpPr>
            <p:cNvPr id="341" name="Text Box 128"/>
            <p:cNvSpPr/>
            <p:nvPr/>
          </p:nvSpPr>
          <p:spPr>
            <a:xfrm>
              <a:off x="4368240" y="1066680"/>
              <a:ext cx="21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ollection Services</a:t>
              </a:r>
              <a:endParaRPr b="0" lang="en-US" sz="2000" spc="-1" strike="noStrike">
                <a:solidFill>
                  <a:srgbClr val="336666"/>
                </a:solidFill>
                <a:latin typeface="Arial"/>
              </a:endParaRPr>
            </a:p>
          </p:txBody>
        </p:sp>
        <p:grpSp>
          <p:nvGrpSpPr>
            <p:cNvPr id="342" name="Group 129"/>
            <p:cNvGrpSpPr/>
            <p:nvPr/>
          </p:nvGrpSpPr>
          <p:grpSpPr>
            <a:xfrm>
              <a:off x="2286000" y="1981080"/>
              <a:ext cx="2057400" cy="457200"/>
              <a:chOff x="2286000" y="1981080"/>
              <a:chExt cx="2057400" cy="457200"/>
            </a:xfrm>
          </p:grpSpPr>
          <p:sp>
            <p:nvSpPr>
              <p:cNvPr id="343" name="Oval 130"/>
              <p:cNvSpPr/>
              <p:nvPr/>
            </p:nvSpPr>
            <p:spPr>
              <a:xfrm>
                <a:off x="2286000" y="1981080"/>
                <a:ext cx="2057400" cy="4572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344" name="Group 131"/>
              <p:cNvGrpSpPr/>
              <p:nvPr/>
            </p:nvGrpSpPr>
            <p:grpSpPr>
              <a:xfrm>
                <a:off x="2556360" y="2082960"/>
                <a:ext cx="325440" cy="253440"/>
                <a:chOff x="2556360" y="2082960"/>
                <a:chExt cx="325440" cy="253440"/>
              </a:xfrm>
            </p:grpSpPr>
            <p:sp>
              <p:nvSpPr>
                <p:cNvPr id="345" name="Freeform 132"/>
                <p:cNvSpPr/>
                <p:nvPr/>
              </p:nvSpPr>
              <p:spPr>
                <a:xfrm>
                  <a:off x="2556360" y="2082960"/>
                  <a:ext cx="325440" cy="253440"/>
                </a:xfrm>
                <a:custGeom>
                  <a:avLst/>
                  <a:gdLst>
                    <a:gd name="textAreaLeft" fmla="*/ 0 w 325440"/>
                    <a:gd name="textAreaRight" fmla="*/ 325800 w 325440"/>
                    <a:gd name="textAreaTop" fmla="*/ 0 h 253440"/>
                    <a:gd name="textAreaBottom" fmla="*/ 253800 h 253440"/>
                  </a:gdLst>
                  <a:ahLst/>
                  <a:rect l="textAreaLeft" t="textAreaTop" r="textAreaRight" b="textAreaBottom"/>
                  <a:pathLst>
                    <a:path w="3006" h="2390">
                      <a:moveTo>
                        <a:pt x="516" y="468"/>
                      </a:moveTo>
                      <a:lnTo>
                        <a:pt x="264" y="419"/>
                      </a:lnTo>
                      <a:lnTo>
                        <a:pt x="262" y="425"/>
                      </a:lnTo>
                      <a:lnTo>
                        <a:pt x="255" y="441"/>
                      </a:lnTo>
                      <a:lnTo>
                        <a:pt x="243" y="466"/>
                      </a:lnTo>
                      <a:lnTo>
                        <a:pt x="229" y="501"/>
                      </a:lnTo>
                      <a:lnTo>
                        <a:pt x="212" y="542"/>
                      </a:lnTo>
                      <a:lnTo>
                        <a:pt x="192" y="591"/>
                      </a:lnTo>
                      <a:lnTo>
                        <a:pt x="172" y="644"/>
                      </a:lnTo>
                      <a:lnTo>
                        <a:pt x="150" y="701"/>
                      </a:lnTo>
                      <a:lnTo>
                        <a:pt x="128" y="761"/>
                      </a:lnTo>
                      <a:lnTo>
                        <a:pt x="106" y="823"/>
                      </a:lnTo>
                      <a:lnTo>
                        <a:pt x="86" y="888"/>
                      </a:lnTo>
                      <a:lnTo>
                        <a:pt x="67" y="951"/>
                      </a:lnTo>
                      <a:lnTo>
                        <a:pt x="51" y="1012"/>
                      </a:lnTo>
                      <a:lnTo>
                        <a:pt x="37" y="1073"/>
                      </a:lnTo>
                      <a:lnTo>
                        <a:pt x="26" y="1130"/>
                      </a:lnTo>
                      <a:lnTo>
                        <a:pt x="20" y="1182"/>
                      </a:lnTo>
                      <a:lnTo>
                        <a:pt x="8" y="1446"/>
                      </a:lnTo>
                      <a:lnTo>
                        <a:pt x="2" y="1790"/>
                      </a:lnTo>
                      <a:lnTo>
                        <a:pt x="0" y="2088"/>
                      </a:lnTo>
                      <a:lnTo>
                        <a:pt x="0" y="2216"/>
                      </a:lnTo>
                      <a:lnTo>
                        <a:pt x="157" y="2001"/>
                      </a:lnTo>
                      <a:lnTo>
                        <a:pt x="48" y="2240"/>
                      </a:lnTo>
                      <a:lnTo>
                        <a:pt x="97" y="2251"/>
                      </a:lnTo>
                      <a:lnTo>
                        <a:pt x="60" y="2364"/>
                      </a:lnTo>
                      <a:lnTo>
                        <a:pt x="65" y="2363"/>
                      </a:lnTo>
                      <a:lnTo>
                        <a:pt x="79" y="2361"/>
                      </a:lnTo>
                      <a:lnTo>
                        <a:pt x="103" y="2357"/>
                      </a:lnTo>
                      <a:lnTo>
                        <a:pt x="134" y="2352"/>
                      </a:lnTo>
                      <a:lnTo>
                        <a:pt x="171" y="2346"/>
                      </a:lnTo>
                      <a:lnTo>
                        <a:pt x="213" y="2339"/>
                      </a:lnTo>
                      <a:lnTo>
                        <a:pt x="259" y="2332"/>
                      </a:lnTo>
                      <a:lnTo>
                        <a:pt x="309" y="2325"/>
                      </a:lnTo>
                      <a:lnTo>
                        <a:pt x="361" y="2318"/>
                      </a:lnTo>
                      <a:lnTo>
                        <a:pt x="412" y="2311"/>
                      </a:lnTo>
                      <a:lnTo>
                        <a:pt x="464" y="2304"/>
                      </a:lnTo>
                      <a:lnTo>
                        <a:pt x="515" y="2299"/>
                      </a:lnTo>
                      <a:lnTo>
                        <a:pt x="563" y="2294"/>
                      </a:lnTo>
                      <a:lnTo>
                        <a:pt x="609" y="2290"/>
                      </a:lnTo>
                      <a:lnTo>
                        <a:pt x="650" y="2288"/>
                      </a:lnTo>
                      <a:lnTo>
                        <a:pt x="684" y="2288"/>
                      </a:lnTo>
                      <a:lnTo>
                        <a:pt x="724" y="2288"/>
                      </a:lnTo>
                      <a:lnTo>
                        <a:pt x="762" y="2288"/>
                      </a:lnTo>
                      <a:lnTo>
                        <a:pt x="801" y="2287"/>
                      </a:lnTo>
                      <a:lnTo>
                        <a:pt x="839" y="2286"/>
                      </a:lnTo>
                      <a:lnTo>
                        <a:pt x="877" y="2285"/>
                      </a:lnTo>
                      <a:lnTo>
                        <a:pt x="913" y="2282"/>
                      </a:lnTo>
                      <a:lnTo>
                        <a:pt x="947" y="2281"/>
                      </a:lnTo>
                      <a:lnTo>
                        <a:pt x="979" y="2279"/>
                      </a:lnTo>
                      <a:lnTo>
                        <a:pt x="1009" y="2277"/>
                      </a:lnTo>
                      <a:lnTo>
                        <a:pt x="1037" y="2276"/>
                      </a:lnTo>
                      <a:lnTo>
                        <a:pt x="1061" y="2273"/>
                      </a:lnTo>
                      <a:lnTo>
                        <a:pt x="1082" y="2272"/>
                      </a:lnTo>
                      <a:lnTo>
                        <a:pt x="1098" y="2271"/>
                      </a:lnTo>
                      <a:lnTo>
                        <a:pt x="1111" y="2270"/>
                      </a:lnTo>
                      <a:lnTo>
                        <a:pt x="1119" y="2269"/>
                      </a:lnTo>
                      <a:lnTo>
                        <a:pt x="1121" y="2269"/>
                      </a:lnTo>
                      <a:lnTo>
                        <a:pt x="1487" y="2390"/>
                      </a:lnTo>
                      <a:lnTo>
                        <a:pt x="2037" y="2251"/>
                      </a:lnTo>
                      <a:lnTo>
                        <a:pt x="2040" y="2250"/>
                      </a:lnTo>
                      <a:lnTo>
                        <a:pt x="2050" y="2248"/>
                      </a:lnTo>
                      <a:lnTo>
                        <a:pt x="2066" y="2244"/>
                      </a:lnTo>
                      <a:lnTo>
                        <a:pt x="2085" y="2240"/>
                      </a:lnTo>
                      <a:lnTo>
                        <a:pt x="2111" y="2234"/>
                      </a:lnTo>
                      <a:lnTo>
                        <a:pt x="2138" y="2228"/>
                      </a:lnTo>
                      <a:lnTo>
                        <a:pt x="2168" y="2221"/>
                      </a:lnTo>
                      <a:lnTo>
                        <a:pt x="2202" y="2214"/>
                      </a:lnTo>
                      <a:lnTo>
                        <a:pt x="2235" y="2208"/>
                      </a:lnTo>
                      <a:lnTo>
                        <a:pt x="2270" y="2201"/>
                      </a:lnTo>
                      <a:lnTo>
                        <a:pt x="2303" y="2195"/>
                      </a:lnTo>
                      <a:lnTo>
                        <a:pt x="2337" y="2189"/>
                      </a:lnTo>
                      <a:lnTo>
                        <a:pt x="2369" y="2185"/>
                      </a:lnTo>
                      <a:lnTo>
                        <a:pt x="2398" y="2181"/>
                      </a:lnTo>
                      <a:lnTo>
                        <a:pt x="2424" y="2179"/>
                      </a:lnTo>
                      <a:lnTo>
                        <a:pt x="2446" y="2178"/>
                      </a:lnTo>
                      <a:lnTo>
                        <a:pt x="2470" y="2178"/>
                      </a:lnTo>
                      <a:lnTo>
                        <a:pt x="2501" y="2180"/>
                      </a:lnTo>
                      <a:lnTo>
                        <a:pt x="2538" y="2181"/>
                      </a:lnTo>
                      <a:lnTo>
                        <a:pt x="2580" y="2185"/>
                      </a:lnTo>
                      <a:lnTo>
                        <a:pt x="2625" y="2188"/>
                      </a:lnTo>
                      <a:lnTo>
                        <a:pt x="2672" y="2191"/>
                      </a:lnTo>
                      <a:lnTo>
                        <a:pt x="2719" y="2195"/>
                      </a:lnTo>
                      <a:lnTo>
                        <a:pt x="2768" y="2198"/>
                      </a:lnTo>
                      <a:lnTo>
                        <a:pt x="2814" y="2203"/>
                      </a:lnTo>
                      <a:lnTo>
                        <a:pt x="2857" y="2206"/>
                      </a:lnTo>
                      <a:lnTo>
                        <a:pt x="2898" y="2210"/>
                      </a:lnTo>
                      <a:lnTo>
                        <a:pt x="2933" y="2213"/>
                      </a:lnTo>
                      <a:lnTo>
                        <a:pt x="2963" y="2217"/>
                      </a:lnTo>
                      <a:lnTo>
                        <a:pt x="2986" y="2218"/>
                      </a:lnTo>
                      <a:lnTo>
                        <a:pt x="3001" y="2220"/>
                      </a:lnTo>
                      <a:lnTo>
                        <a:pt x="3006" y="2220"/>
                      </a:lnTo>
                      <a:lnTo>
                        <a:pt x="3004" y="2218"/>
                      </a:lnTo>
                      <a:lnTo>
                        <a:pt x="2998" y="2210"/>
                      </a:lnTo>
                      <a:lnTo>
                        <a:pt x="2988" y="2197"/>
                      </a:lnTo>
                      <a:lnTo>
                        <a:pt x="2976" y="2179"/>
                      </a:lnTo>
                      <a:lnTo>
                        <a:pt x="2962" y="2153"/>
                      </a:lnTo>
                      <a:lnTo>
                        <a:pt x="2946" y="2121"/>
                      </a:lnTo>
                      <a:lnTo>
                        <a:pt x="2930" y="2082"/>
                      </a:lnTo>
                      <a:lnTo>
                        <a:pt x="2915" y="2035"/>
                      </a:lnTo>
                      <a:lnTo>
                        <a:pt x="2900" y="1980"/>
                      </a:lnTo>
                      <a:lnTo>
                        <a:pt x="2886" y="1916"/>
                      </a:lnTo>
                      <a:lnTo>
                        <a:pt x="2876" y="1844"/>
                      </a:lnTo>
                      <a:lnTo>
                        <a:pt x="2867" y="1761"/>
                      </a:lnTo>
                      <a:lnTo>
                        <a:pt x="2862" y="1670"/>
                      </a:lnTo>
                      <a:lnTo>
                        <a:pt x="2862" y="1567"/>
                      </a:lnTo>
                      <a:lnTo>
                        <a:pt x="2867" y="1454"/>
                      </a:lnTo>
                      <a:lnTo>
                        <a:pt x="2877" y="1330"/>
                      </a:lnTo>
                      <a:lnTo>
                        <a:pt x="2902" y="1096"/>
                      </a:lnTo>
                      <a:lnTo>
                        <a:pt x="2923" y="913"/>
                      </a:lnTo>
                      <a:lnTo>
                        <a:pt x="2941" y="775"/>
                      </a:lnTo>
                      <a:lnTo>
                        <a:pt x="2955" y="674"/>
                      </a:lnTo>
                      <a:lnTo>
                        <a:pt x="2966" y="606"/>
                      </a:lnTo>
                      <a:lnTo>
                        <a:pt x="2973" y="565"/>
                      </a:lnTo>
                      <a:lnTo>
                        <a:pt x="2977" y="545"/>
                      </a:lnTo>
                      <a:lnTo>
                        <a:pt x="2978" y="539"/>
                      </a:lnTo>
                      <a:lnTo>
                        <a:pt x="2839" y="546"/>
                      </a:lnTo>
                      <a:lnTo>
                        <a:pt x="2853" y="456"/>
                      </a:lnTo>
                      <a:lnTo>
                        <a:pt x="2685" y="432"/>
                      </a:lnTo>
                      <a:lnTo>
                        <a:pt x="2690" y="312"/>
                      </a:lnTo>
                      <a:lnTo>
                        <a:pt x="2688" y="312"/>
                      </a:lnTo>
                      <a:lnTo>
                        <a:pt x="2682" y="313"/>
                      </a:lnTo>
                      <a:lnTo>
                        <a:pt x="2673" y="314"/>
                      </a:lnTo>
                      <a:lnTo>
                        <a:pt x="2660" y="316"/>
                      </a:lnTo>
                      <a:lnTo>
                        <a:pt x="2645" y="318"/>
                      </a:lnTo>
                      <a:lnTo>
                        <a:pt x="2627" y="320"/>
                      </a:lnTo>
                      <a:lnTo>
                        <a:pt x="2605" y="322"/>
                      </a:lnTo>
                      <a:lnTo>
                        <a:pt x="2582" y="326"/>
                      </a:lnTo>
                      <a:lnTo>
                        <a:pt x="2556" y="329"/>
                      </a:lnTo>
                      <a:lnTo>
                        <a:pt x="2528" y="333"/>
                      </a:lnTo>
                      <a:lnTo>
                        <a:pt x="2498" y="337"/>
                      </a:lnTo>
                      <a:lnTo>
                        <a:pt x="2467" y="342"/>
                      </a:lnTo>
                      <a:lnTo>
                        <a:pt x="2435" y="347"/>
                      </a:lnTo>
                      <a:lnTo>
                        <a:pt x="2401" y="351"/>
                      </a:lnTo>
                      <a:lnTo>
                        <a:pt x="2365" y="356"/>
                      </a:lnTo>
                      <a:lnTo>
                        <a:pt x="2331" y="362"/>
                      </a:lnTo>
                      <a:lnTo>
                        <a:pt x="2295" y="366"/>
                      </a:lnTo>
                      <a:lnTo>
                        <a:pt x="2258" y="372"/>
                      </a:lnTo>
                      <a:lnTo>
                        <a:pt x="2223" y="378"/>
                      </a:lnTo>
                      <a:lnTo>
                        <a:pt x="2186" y="383"/>
                      </a:lnTo>
                      <a:lnTo>
                        <a:pt x="2150" y="389"/>
                      </a:lnTo>
                      <a:lnTo>
                        <a:pt x="2115" y="396"/>
                      </a:lnTo>
                      <a:lnTo>
                        <a:pt x="2081" y="402"/>
                      </a:lnTo>
                      <a:lnTo>
                        <a:pt x="2047" y="408"/>
                      </a:lnTo>
                      <a:lnTo>
                        <a:pt x="2015" y="413"/>
                      </a:lnTo>
                      <a:lnTo>
                        <a:pt x="1985" y="420"/>
                      </a:lnTo>
                      <a:lnTo>
                        <a:pt x="1956" y="426"/>
                      </a:lnTo>
                      <a:lnTo>
                        <a:pt x="1929" y="432"/>
                      </a:lnTo>
                      <a:lnTo>
                        <a:pt x="1905" y="439"/>
                      </a:lnTo>
                      <a:lnTo>
                        <a:pt x="1881" y="445"/>
                      </a:lnTo>
                      <a:lnTo>
                        <a:pt x="1862" y="450"/>
                      </a:lnTo>
                      <a:lnTo>
                        <a:pt x="1845" y="456"/>
                      </a:lnTo>
                      <a:lnTo>
                        <a:pt x="1814" y="469"/>
                      </a:lnTo>
                      <a:lnTo>
                        <a:pt x="1781" y="483"/>
                      </a:lnTo>
                      <a:lnTo>
                        <a:pt x="1750" y="500"/>
                      </a:lnTo>
                      <a:lnTo>
                        <a:pt x="1720" y="517"/>
                      </a:lnTo>
                      <a:lnTo>
                        <a:pt x="1690" y="535"/>
                      </a:lnTo>
                      <a:lnTo>
                        <a:pt x="1661" y="554"/>
                      </a:lnTo>
                      <a:lnTo>
                        <a:pt x="1634" y="573"/>
                      </a:lnTo>
                      <a:lnTo>
                        <a:pt x="1608" y="592"/>
                      </a:lnTo>
                      <a:lnTo>
                        <a:pt x="1585" y="610"/>
                      </a:lnTo>
                      <a:lnTo>
                        <a:pt x="1563" y="628"/>
                      </a:lnTo>
                      <a:lnTo>
                        <a:pt x="1545" y="644"/>
                      </a:lnTo>
                      <a:lnTo>
                        <a:pt x="1529" y="656"/>
                      </a:lnTo>
                      <a:lnTo>
                        <a:pt x="1515" y="668"/>
                      </a:lnTo>
                      <a:lnTo>
                        <a:pt x="1506" y="677"/>
                      </a:lnTo>
                      <a:lnTo>
                        <a:pt x="1500" y="682"/>
                      </a:lnTo>
                      <a:lnTo>
                        <a:pt x="1498" y="684"/>
                      </a:lnTo>
                      <a:lnTo>
                        <a:pt x="1494" y="693"/>
                      </a:lnTo>
                      <a:lnTo>
                        <a:pt x="1490" y="698"/>
                      </a:lnTo>
                      <a:lnTo>
                        <a:pt x="1484" y="699"/>
                      </a:lnTo>
                      <a:lnTo>
                        <a:pt x="1477" y="698"/>
                      </a:lnTo>
                      <a:lnTo>
                        <a:pt x="1468" y="693"/>
                      </a:lnTo>
                      <a:lnTo>
                        <a:pt x="1457" y="685"/>
                      </a:lnTo>
                      <a:lnTo>
                        <a:pt x="1445" y="676"/>
                      </a:lnTo>
                      <a:lnTo>
                        <a:pt x="1430" y="664"/>
                      </a:lnTo>
                      <a:lnTo>
                        <a:pt x="1413" y="651"/>
                      </a:lnTo>
                      <a:lnTo>
                        <a:pt x="1392" y="636"/>
                      </a:lnTo>
                      <a:lnTo>
                        <a:pt x="1370" y="620"/>
                      </a:lnTo>
                      <a:lnTo>
                        <a:pt x="1345" y="602"/>
                      </a:lnTo>
                      <a:lnTo>
                        <a:pt x="1317" y="584"/>
                      </a:lnTo>
                      <a:lnTo>
                        <a:pt x="1286" y="565"/>
                      </a:lnTo>
                      <a:lnTo>
                        <a:pt x="1251" y="547"/>
                      </a:lnTo>
                      <a:lnTo>
                        <a:pt x="1213" y="529"/>
                      </a:lnTo>
                      <a:lnTo>
                        <a:pt x="1180" y="515"/>
                      </a:lnTo>
                      <a:lnTo>
                        <a:pt x="1150" y="504"/>
                      </a:lnTo>
                      <a:lnTo>
                        <a:pt x="1121" y="495"/>
                      </a:lnTo>
                      <a:lnTo>
                        <a:pt x="1093" y="489"/>
                      </a:lnTo>
                      <a:lnTo>
                        <a:pt x="1068" y="485"/>
                      </a:lnTo>
                      <a:lnTo>
                        <a:pt x="1044" y="483"/>
                      </a:lnTo>
                      <a:lnTo>
                        <a:pt x="1022" y="480"/>
                      </a:lnTo>
                      <a:lnTo>
                        <a:pt x="1001" y="478"/>
                      </a:lnTo>
                      <a:lnTo>
                        <a:pt x="980" y="476"/>
                      </a:lnTo>
                      <a:lnTo>
                        <a:pt x="962" y="473"/>
                      </a:lnTo>
                      <a:lnTo>
                        <a:pt x="945" y="470"/>
                      </a:lnTo>
                      <a:lnTo>
                        <a:pt x="927" y="465"/>
                      </a:lnTo>
                      <a:lnTo>
                        <a:pt x="911" y="458"/>
                      </a:lnTo>
                      <a:lnTo>
                        <a:pt x="896" y="450"/>
                      </a:lnTo>
                      <a:lnTo>
                        <a:pt x="881" y="439"/>
                      </a:lnTo>
                      <a:lnTo>
                        <a:pt x="868" y="424"/>
                      </a:lnTo>
                      <a:lnTo>
                        <a:pt x="848" y="351"/>
                      </a:lnTo>
                      <a:lnTo>
                        <a:pt x="836" y="278"/>
                      </a:lnTo>
                      <a:lnTo>
                        <a:pt x="833" y="206"/>
                      </a:lnTo>
                      <a:lnTo>
                        <a:pt x="834" y="140"/>
                      </a:lnTo>
                      <a:lnTo>
                        <a:pt x="838" y="84"/>
                      </a:lnTo>
                      <a:lnTo>
                        <a:pt x="842" y="40"/>
                      </a:lnTo>
                      <a:lnTo>
                        <a:pt x="845" y="10"/>
                      </a:lnTo>
                      <a:lnTo>
                        <a:pt x="843" y="0"/>
                      </a:lnTo>
                      <a:lnTo>
                        <a:pt x="5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Freeform 133"/>
                <p:cNvSpPr/>
                <p:nvPr/>
              </p:nvSpPr>
              <p:spPr>
                <a:xfrm>
                  <a:off x="2570760" y="2157480"/>
                  <a:ext cx="179280" cy="173160"/>
                </a:xfrm>
                <a:custGeom>
                  <a:avLst/>
                  <a:gdLst>
                    <a:gd name="textAreaLeft" fmla="*/ 0 w 179280"/>
                    <a:gd name="textAreaRight" fmla="*/ 179640 w 179280"/>
                    <a:gd name="textAreaTop" fmla="*/ 0 h 173160"/>
                    <a:gd name="textAreaBottom" fmla="*/ 173160 h 17316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Freeform 134"/>
                <p:cNvSpPr/>
                <p:nvPr/>
              </p:nvSpPr>
              <p:spPr>
                <a:xfrm>
                  <a:off x="2570760" y="2157480"/>
                  <a:ext cx="179280" cy="173160"/>
                </a:xfrm>
                <a:custGeom>
                  <a:avLst/>
                  <a:gdLst>
                    <a:gd name="textAreaLeft" fmla="*/ 0 w 179280"/>
                    <a:gd name="textAreaRight" fmla="*/ 179640 w 179280"/>
                    <a:gd name="textAreaTop" fmla="*/ 0 h 173160"/>
                    <a:gd name="textAreaBottom" fmla="*/ 173160 h 17316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8" name="Freeform 135"/>
                <p:cNvSpPr/>
                <p:nvPr/>
              </p:nvSpPr>
              <p:spPr>
                <a:xfrm>
                  <a:off x="2566440" y="2147040"/>
                  <a:ext cx="179280" cy="173160"/>
                </a:xfrm>
                <a:custGeom>
                  <a:avLst/>
                  <a:gdLst>
                    <a:gd name="textAreaLeft" fmla="*/ 0 w 179280"/>
                    <a:gd name="textAreaRight" fmla="*/ 179640 w 179280"/>
                    <a:gd name="textAreaTop" fmla="*/ 0 h 173160"/>
                    <a:gd name="textAreaBottom" fmla="*/ 173160 h 17316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9" name="Freeform 136"/>
                <p:cNvSpPr/>
                <p:nvPr/>
              </p:nvSpPr>
              <p:spPr>
                <a:xfrm>
                  <a:off x="2566440" y="2147040"/>
                  <a:ext cx="179280" cy="173160"/>
                </a:xfrm>
                <a:custGeom>
                  <a:avLst/>
                  <a:gdLst>
                    <a:gd name="textAreaLeft" fmla="*/ 0 w 179280"/>
                    <a:gd name="textAreaRight" fmla="*/ 179640 w 179280"/>
                    <a:gd name="textAreaTop" fmla="*/ 0 h 173160"/>
                    <a:gd name="textAreaBottom" fmla="*/ 173160 h 17316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0" name="Freeform 137"/>
                <p:cNvSpPr/>
                <p:nvPr/>
              </p:nvSpPr>
              <p:spPr>
                <a:xfrm>
                  <a:off x="2559240" y="2132640"/>
                  <a:ext cx="190800" cy="201240"/>
                </a:xfrm>
                <a:custGeom>
                  <a:avLst/>
                  <a:gdLst>
                    <a:gd name="textAreaLeft" fmla="*/ 0 w 190800"/>
                    <a:gd name="textAreaRight" fmla="*/ 191160 w 190800"/>
                    <a:gd name="textAreaTop" fmla="*/ 0 h 201240"/>
                    <a:gd name="textAreaBottom" fmla="*/ 201600 h 20124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1" name="Freeform 138"/>
                <p:cNvSpPr/>
                <p:nvPr/>
              </p:nvSpPr>
              <p:spPr>
                <a:xfrm>
                  <a:off x="2559240" y="2132640"/>
                  <a:ext cx="190800" cy="201240"/>
                </a:xfrm>
                <a:custGeom>
                  <a:avLst/>
                  <a:gdLst>
                    <a:gd name="textAreaLeft" fmla="*/ 0 w 190800"/>
                    <a:gd name="textAreaRight" fmla="*/ 191160 w 190800"/>
                    <a:gd name="textAreaTop" fmla="*/ 0 h 201240"/>
                    <a:gd name="textAreaBottom" fmla="*/ 201600 h 20124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Freeform 139"/>
                <p:cNvSpPr/>
                <p:nvPr/>
              </p:nvSpPr>
              <p:spPr>
                <a:xfrm>
                  <a:off x="2720160" y="2142720"/>
                  <a:ext cx="157320" cy="189720"/>
                </a:xfrm>
                <a:custGeom>
                  <a:avLst/>
                  <a:gdLst>
                    <a:gd name="textAreaLeft" fmla="*/ 0 w 157320"/>
                    <a:gd name="textAreaRight" fmla="*/ 157680 w 157320"/>
                    <a:gd name="textAreaTop" fmla="*/ 0 h 189720"/>
                    <a:gd name="textAreaBottom" fmla="*/ 190080 h 18972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Freeform 140"/>
                <p:cNvSpPr/>
                <p:nvPr/>
              </p:nvSpPr>
              <p:spPr>
                <a:xfrm>
                  <a:off x="2720160" y="2142720"/>
                  <a:ext cx="157320" cy="189720"/>
                </a:xfrm>
                <a:custGeom>
                  <a:avLst/>
                  <a:gdLst>
                    <a:gd name="textAreaLeft" fmla="*/ 0 w 157320"/>
                    <a:gd name="textAreaRight" fmla="*/ 157680 w 157320"/>
                    <a:gd name="textAreaTop" fmla="*/ 0 h 189720"/>
                    <a:gd name="textAreaBottom" fmla="*/ 190080 h 18972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4" name="Freeform 141"/>
                <p:cNvSpPr/>
                <p:nvPr/>
              </p:nvSpPr>
              <p:spPr>
                <a:xfrm>
                  <a:off x="2715120" y="2131920"/>
                  <a:ext cx="145800" cy="201600"/>
                </a:xfrm>
                <a:custGeom>
                  <a:avLst/>
                  <a:gdLst>
                    <a:gd name="textAreaLeft" fmla="*/ 0 w 145800"/>
                    <a:gd name="textAreaRight" fmla="*/ 146160 w 145800"/>
                    <a:gd name="textAreaTop" fmla="*/ 0 h 201600"/>
                    <a:gd name="textAreaBottom" fmla="*/ 201960 h 20160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5" name="Freeform 142"/>
                <p:cNvSpPr/>
                <p:nvPr/>
              </p:nvSpPr>
              <p:spPr>
                <a:xfrm>
                  <a:off x="2715120" y="2131920"/>
                  <a:ext cx="145800" cy="201600"/>
                </a:xfrm>
                <a:custGeom>
                  <a:avLst/>
                  <a:gdLst>
                    <a:gd name="textAreaLeft" fmla="*/ 0 w 145800"/>
                    <a:gd name="textAreaRight" fmla="*/ 146160 w 145800"/>
                    <a:gd name="textAreaTop" fmla="*/ 0 h 201600"/>
                    <a:gd name="textAreaBottom" fmla="*/ 201960 h 20160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6" name="Freeform 143"/>
                <p:cNvSpPr/>
                <p:nvPr/>
              </p:nvSpPr>
              <p:spPr>
                <a:xfrm>
                  <a:off x="2599200" y="2130480"/>
                  <a:ext cx="62280" cy="183960"/>
                </a:xfrm>
                <a:custGeom>
                  <a:avLst/>
                  <a:gdLst>
                    <a:gd name="textAreaLeft" fmla="*/ 0 w 62280"/>
                    <a:gd name="textAreaRight" fmla="*/ 62640 w 62280"/>
                    <a:gd name="textAreaTop" fmla="*/ 0 h 183960"/>
                    <a:gd name="textAreaBottom" fmla="*/ 184320 h 183960"/>
                  </a:gdLst>
                  <a:ahLst/>
                  <a:rect l="textAreaLeft" t="textAreaTop" r="textAreaRight" b="textAreaBottom"/>
                  <a:pathLst>
                    <a:path w="578" h="1736">
                      <a:moveTo>
                        <a:pt x="111" y="43"/>
                      </a:moveTo>
                      <a:lnTo>
                        <a:pt x="106" y="54"/>
                      </a:lnTo>
                      <a:lnTo>
                        <a:pt x="94" y="85"/>
                      </a:lnTo>
                      <a:lnTo>
                        <a:pt x="77" y="136"/>
                      </a:lnTo>
                      <a:lnTo>
                        <a:pt x="56" y="203"/>
                      </a:lnTo>
                      <a:lnTo>
                        <a:pt x="35" y="285"/>
                      </a:lnTo>
                      <a:lnTo>
                        <a:pt x="18" y="378"/>
                      </a:lnTo>
                      <a:lnTo>
                        <a:pt x="5" y="480"/>
                      </a:lnTo>
                      <a:lnTo>
                        <a:pt x="0" y="592"/>
                      </a:lnTo>
                      <a:lnTo>
                        <a:pt x="3" y="705"/>
                      </a:lnTo>
                      <a:lnTo>
                        <a:pt x="10" y="813"/>
                      </a:lnTo>
                      <a:lnTo>
                        <a:pt x="21" y="916"/>
                      </a:lnTo>
                      <a:lnTo>
                        <a:pt x="37" y="1012"/>
                      </a:lnTo>
                      <a:lnTo>
                        <a:pt x="58" y="1104"/>
                      </a:lnTo>
                      <a:lnTo>
                        <a:pt x="85" y="1191"/>
                      </a:lnTo>
                      <a:lnTo>
                        <a:pt x="116" y="1270"/>
                      </a:lnTo>
                      <a:lnTo>
                        <a:pt x="153" y="1345"/>
                      </a:lnTo>
                      <a:lnTo>
                        <a:pt x="174" y="1381"/>
                      </a:lnTo>
                      <a:lnTo>
                        <a:pt x="202" y="1418"/>
                      </a:lnTo>
                      <a:lnTo>
                        <a:pt x="232" y="1452"/>
                      </a:lnTo>
                      <a:lnTo>
                        <a:pt x="264" y="1487"/>
                      </a:lnTo>
                      <a:lnTo>
                        <a:pt x="299" y="1521"/>
                      </a:lnTo>
                      <a:lnTo>
                        <a:pt x="335" y="1554"/>
                      </a:lnTo>
                      <a:lnTo>
                        <a:pt x="370" y="1584"/>
                      </a:lnTo>
                      <a:lnTo>
                        <a:pt x="405" y="1612"/>
                      </a:lnTo>
                      <a:lnTo>
                        <a:pt x="439" y="1639"/>
                      </a:lnTo>
                      <a:lnTo>
                        <a:pt x="472" y="1663"/>
                      </a:lnTo>
                      <a:lnTo>
                        <a:pt x="501" y="1684"/>
                      </a:lnTo>
                      <a:lnTo>
                        <a:pt x="526" y="1702"/>
                      </a:lnTo>
                      <a:lnTo>
                        <a:pt x="548" y="1716"/>
                      </a:lnTo>
                      <a:lnTo>
                        <a:pt x="564" y="1726"/>
                      </a:lnTo>
                      <a:lnTo>
                        <a:pt x="574" y="1733"/>
                      </a:lnTo>
                      <a:lnTo>
                        <a:pt x="578" y="1736"/>
                      </a:lnTo>
                      <a:lnTo>
                        <a:pt x="492" y="1632"/>
                      </a:lnTo>
                      <a:lnTo>
                        <a:pt x="489" y="1630"/>
                      </a:lnTo>
                      <a:lnTo>
                        <a:pt x="477" y="1623"/>
                      </a:lnTo>
                      <a:lnTo>
                        <a:pt x="461" y="1610"/>
                      </a:lnTo>
                      <a:lnTo>
                        <a:pt x="438" y="1594"/>
                      </a:lnTo>
                      <a:lnTo>
                        <a:pt x="413" y="1573"/>
                      </a:lnTo>
                      <a:lnTo>
                        <a:pt x="383" y="1549"/>
                      </a:lnTo>
                      <a:lnTo>
                        <a:pt x="352" y="1520"/>
                      </a:lnTo>
                      <a:lnTo>
                        <a:pt x="318" y="1488"/>
                      </a:lnTo>
                      <a:lnTo>
                        <a:pt x="285" y="1451"/>
                      </a:lnTo>
                      <a:lnTo>
                        <a:pt x="253" y="1412"/>
                      </a:lnTo>
                      <a:lnTo>
                        <a:pt x="222" y="1369"/>
                      </a:lnTo>
                      <a:lnTo>
                        <a:pt x="193" y="1323"/>
                      </a:lnTo>
                      <a:lnTo>
                        <a:pt x="168" y="1275"/>
                      </a:lnTo>
                      <a:lnTo>
                        <a:pt x="147" y="1223"/>
                      </a:lnTo>
                      <a:lnTo>
                        <a:pt x="131" y="1169"/>
                      </a:lnTo>
                      <a:lnTo>
                        <a:pt x="121" y="1113"/>
                      </a:lnTo>
                      <a:lnTo>
                        <a:pt x="108" y="996"/>
                      </a:lnTo>
                      <a:lnTo>
                        <a:pt x="92" y="882"/>
                      </a:lnTo>
                      <a:lnTo>
                        <a:pt x="75" y="771"/>
                      </a:lnTo>
                      <a:lnTo>
                        <a:pt x="62" y="665"/>
                      </a:lnTo>
                      <a:lnTo>
                        <a:pt x="49" y="567"/>
                      </a:lnTo>
                      <a:lnTo>
                        <a:pt x="42" y="480"/>
                      </a:lnTo>
                      <a:lnTo>
                        <a:pt x="41" y="407"/>
                      </a:lnTo>
                      <a:lnTo>
                        <a:pt x="47" y="349"/>
                      </a:lnTo>
                      <a:lnTo>
                        <a:pt x="59" y="305"/>
                      </a:lnTo>
                      <a:lnTo>
                        <a:pt x="79" y="252"/>
                      </a:lnTo>
                      <a:lnTo>
                        <a:pt x="103" y="195"/>
                      </a:lnTo>
                      <a:lnTo>
                        <a:pt x="128" y="137"/>
                      </a:lnTo>
                      <a:lnTo>
                        <a:pt x="154" y="84"/>
                      </a:lnTo>
                      <a:lnTo>
                        <a:pt x="174" y="40"/>
                      </a:lnTo>
                      <a:lnTo>
                        <a:pt x="189" y="10"/>
                      </a:lnTo>
                      <a:lnTo>
                        <a:pt x="195" y="0"/>
                      </a:lnTo>
                      <a:lnTo>
                        <a:pt x="11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7" name="Freeform 144"/>
                <p:cNvSpPr/>
                <p:nvPr/>
              </p:nvSpPr>
              <p:spPr>
                <a:xfrm>
                  <a:off x="2603880" y="2166840"/>
                  <a:ext cx="67680" cy="149400"/>
                </a:xfrm>
                <a:custGeom>
                  <a:avLst/>
                  <a:gdLst>
                    <a:gd name="textAreaLeft" fmla="*/ 0 w 67680"/>
                    <a:gd name="textAreaRight" fmla="*/ 68040 w 67680"/>
                    <a:gd name="textAreaTop" fmla="*/ 0 h 149400"/>
                    <a:gd name="textAreaBottom" fmla="*/ 149760 h 149400"/>
                  </a:gdLst>
                  <a:ahLst/>
                  <a:rect l="textAreaLeft" t="textAreaTop" r="textAreaRight" b="textAreaBottom"/>
                  <a:pathLst>
                    <a:path w="626" h="1411">
                      <a:moveTo>
                        <a:pt x="0" y="0"/>
                      </a:moveTo>
                      <a:lnTo>
                        <a:pt x="0" y="27"/>
                      </a:lnTo>
                      <a:lnTo>
                        <a:pt x="2" y="100"/>
                      </a:lnTo>
                      <a:lnTo>
                        <a:pt x="4" y="209"/>
                      </a:lnTo>
                      <a:lnTo>
                        <a:pt x="12" y="343"/>
                      </a:lnTo>
                      <a:lnTo>
                        <a:pt x="26" y="492"/>
                      </a:lnTo>
                      <a:lnTo>
                        <a:pt x="48" y="645"/>
                      </a:lnTo>
                      <a:lnTo>
                        <a:pt x="80" y="793"/>
                      </a:lnTo>
                      <a:lnTo>
                        <a:pt x="123" y="922"/>
                      </a:lnTo>
                      <a:lnTo>
                        <a:pt x="150" y="978"/>
                      </a:lnTo>
                      <a:lnTo>
                        <a:pt x="182" y="1032"/>
                      </a:lnTo>
                      <a:lnTo>
                        <a:pt x="218" y="1083"/>
                      </a:lnTo>
                      <a:lnTo>
                        <a:pt x="256" y="1130"/>
                      </a:lnTo>
                      <a:lnTo>
                        <a:pt x="298" y="1174"/>
                      </a:lnTo>
                      <a:lnTo>
                        <a:pt x="339" y="1214"/>
                      </a:lnTo>
                      <a:lnTo>
                        <a:pt x="382" y="1250"/>
                      </a:lnTo>
                      <a:lnTo>
                        <a:pt x="423" y="1283"/>
                      </a:lnTo>
                      <a:lnTo>
                        <a:pt x="464" y="1313"/>
                      </a:lnTo>
                      <a:lnTo>
                        <a:pt x="502" y="1338"/>
                      </a:lnTo>
                      <a:lnTo>
                        <a:pt x="536" y="1360"/>
                      </a:lnTo>
                      <a:lnTo>
                        <a:pt x="566" y="1379"/>
                      </a:lnTo>
                      <a:lnTo>
                        <a:pt x="590" y="1393"/>
                      </a:lnTo>
                      <a:lnTo>
                        <a:pt x="610" y="1403"/>
                      </a:lnTo>
                      <a:lnTo>
                        <a:pt x="621" y="1409"/>
                      </a:lnTo>
                      <a:lnTo>
                        <a:pt x="626" y="1411"/>
                      </a:lnTo>
                      <a:lnTo>
                        <a:pt x="600" y="5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8" name="Freeform 145"/>
                <p:cNvSpPr/>
                <p:nvPr/>
              </p:nvSpPr>
              <p:spPr>
                <a:xfrm>
                  <a:off x="2603520" y="2166840"/>
                  <a:ext cx="68040" cy="149400"/>
                </a:xfrm>
                <a:custGeom>
                  <a:avLst/>
                  <a:gdLst>
                    <a:gd name="textAreaLeft" fmla="*/ 0 w 68040"/>
                    <a:gd name="textAreaRight" fmla="*/ 68400 w 68040"/>
                    <a:gd name="textAreaTop" fmla="*/ 0 h 149400"/>
                    <a:gd name="textAreaBottom" fmla="*/ 149760 h 149400"/>
                  </a:gdLst>
                  <a:ahLst/>
                  <a:rect l="textAreaLeft" t="textAreaTop" r="textAreaRight" b="textAreaBottom"/>
                  <a:pathLst>
                    <a:path w="629" h="1411">
                      <a:moveTo>
                        <a:pt x="3" y="0"/>
                      </a:moveTo>
                      <a:lnTo>
                        <a:pt x="2" y="26"/>
                      </a:lnTo>
                      <a:lnTo>
                        <a:pt x="0" y="96"/>
                      </a:lnTo>
                      <a:lnTo>
                        <a:pt x="0" y="202"/>
                      </a:lnTo>
                      <a:lnTo>
                        <a:pt x="3" y="332"/>
                      </a:lnTo>
                      <a:lnTo>
                        <a:pt x="15" y="479"/>
                      </a:lnTo>
                      <a:lnTo>
                        <a:pt x="37" y="632"/>
                      </a:lnTo>
                      <a:lnTo>
                        <a:pt x="70" y="783"/>
                      </a:lnTo>
                      <a:lnTo>
                        <a:pt x="120" y="922"/>
                      </a:lnTo>
                      <a:lnTo>
                        <a:pt x="151" y="983"/>
                      </a:lnTo>
                      <a:lnTo>
                        <a:pt x="185" y="1039"/>
                      </a:lnTo>
                      <a:lnTo>
                        <a:pt x="222" y="1092"/>
                      </a:lnTo>
                      <a:lnTo>
                        <a:pt x="263" y="1140"/>
                      </a:lnTo>
                      <a:lnTo>
                        <a:pt x="305" y="1184"/>
                      </a:lnTo>
                      <a:lnTo>
                        <a:pt x="347" y="1224"/>
                      </a:lnTo>
                      <a:lnTo>
                        <a:pt x="389" y="1260"/>
                      </a:lnTo>
                      <a:lnTo>
                        <a:pt x="431" y="1292"/>
                      </a:lnTo>
                      <a:lnTo>
                        <a:pt x="471" y="1320"/>
                      </a:lnTo>
                      <a:lnTo>
                        <a:pt x="508" y="1345"/>
                      </a:lnTo>
                      <a:lnTo>
                        <a:pt x="541" y="1365"/>
                      </a:lnTo>
                      <a:lnTo>
                        <a:pt x="570" y="1382"/>
                      </a:lnTo>
                      <a:lnTo>
                        <a:pt x="594" y="1395"/>
                      </a:lnTo>
                      <a:lnTo>
                        <a:pt x="613" y="1404"/>
                      </a:lnTo>
                      <a:lnTo>
                        <a:pt x="624" y="1409"/>
                      </a:lnTo>
                      <a:lnTo>
                        <a:pt x="629" y="1411"/>
                      </a:lnTo>
                      <a:lnTo>
                        <a:pt x="603" y="543"/>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Freeform 146"/>
                <p:cNvSpPr/>
                <p:nvPr/>
              </p:nvSpPr>
              <p:spPr>
                <a:xfrm>
                  <a:off x="2605320" y="2086200"/>
                  <a:ext cx="128520" cy="247320"/>
                </a:xfrm>
                <a:custGeom>
                  <a:avLst/>
                  <a:gdLst>
                    <a:gd name="textAreaLeft" fmla="*/ 0 w 128520"/>
                    <a:gd name="textAreaRight" fmla="*/ 128880 w 128520"/>
                    <a:gd name="textAreaTop" fmla="*/ 0 h 247320"/>
                    <a:gd name="textAreaBottom" fmla="*/ 247680 h 24732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Freeform 147"/>
                <p:cNvSpPr/>
                <p:nvPr/>
              </p:nvSpPr>
              <p:spPr>
                <a:xfrm>
                  <a:off x="2605320" y="2086200"/>
                  <a:ext cx="128520" cy="247320"/>
                </a:xfrm>
                <a:custGeom>
                  <a:avLst/>
                  <a:gdLst>
                    <a:gd name="textAreaLeft" fmla="*/ 0 w 128520"/>
                    <a:gd name="textAreaRight" fmla="*/ 128880 w 128520"/>
                    <a:gd name="textAreaTop" fmla="*/ 0 h 247320"/>
                    <a:gd name="textAreaBottom" fmla="*/ 247680 h 24732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Freeform 148"/>
                <p:cNvSpPr/>
                <p:nvPr/>
              </p:nvSpPr>
              <p:spPr>
                <a:xfrm>
                  <a:off x="2709360" y="2121480"/>
                  <a:ext cx="135000" cy="212040"/>
                </a:xfrm>
                <a:custGeom>
                  <a:avLst/>
                  <a:gdLst>
                    <a:gd name="textAreaLeft" fmla="*/ 0 w 135000"/>
                    <a:gd name="textAreaRight" fmla="*/ 135360 w 135000"/>
                    <a:gd name="textAreaTop" fmla="*/ 0 h 212040"/>
                    <a:gd name="textAreaBottom" fmla="*/ 212400 h 21204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2" name="Freeform 149"/>
                <p:cNvSpPr/>
                <p:nvPr/>
              </p:nvSpPr>
              <p:spPr>
                <a:xfrm>
                  <a:off x="2709360" y="2121480"/>
                  <a:ext cx="135000" cy="212040"/>
                </a:xfrm>
                <a:custGeom>
                  <a:avLst/>
                  <a:gdLst>
                    <a:gd name="textAreaLeft" fmla="*/ 0 w 135000"/>
                    <a:gd name="textAreaRight" fmla="*/ 135360 w 135000"/>
                    <a:gd name="textAreaTop" fmla="*/ 0 h 212040"/>
                    <a:gd name="textAreaBottom" fmla="*/ 212400 h 21204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Freeform 150"/>
                <p:cNvSpPr/>
                <p:nvPr/>
              </p:nvSpPr>
              <p:spPr>
                <a:xfrm>
                  <a:off x="2572560" y="2278440"/>
                  <a:ext cx="54720" cy="17280"/>
                </a:xfrm>
                <a:custGeom>
                  <a:avLst/>
                  <a:gdLst>
                    <a:gd name="textAreaLeft" fmla="*/ 0 w 54720"/>
                    <a:gd name="textAreaRight" fmla="*/ 55080 w 54720"/>
                    <a:gd name="textAreaTop" fmla="*/ 0 h 17280"/>
                    <a:gd name="textAreaBottom" fmla="*/ 17640 h 17280"/>
                  </a:gdLst>
                  <a:ahLst/>
                  <a:rect l="textAreaLeft" t="textAreaTop" r="textAreaRight" b="textAreaBottom"/>
                  <a:pathLst>
                    <a:path w="508" h="167">
                      <a:moveTo>
                        <a:pt x="0" y="167"/>
                      </a:moveTo>
                      <a:lnTo>
                        <a:pt x="1" y="165"/>
                      </a:lnTo>
                      <a:lnTo>
                        <a:pt x="5" y="162"/>
                      </a:lnTo>
                      <a:lnTo>
                        <a:pt x="10" y="156"/>
                      </a:lnTo>
                      <a:lnTo>
                        <a:pt x="17" y="149"/>
                      </a:lnTo>
                      <a:lnTo>
                        <a:pt x="28" y="141"/>
                      </a:lnTo>
                      <a:lnTo>
                        <a:pt x="39" y="132"/>
                      </a:lnTo>
                      <a:lnTo>
                        <a:pt x="52" y="122"/>
                      </a:lnTo>
                      <a:lnTo>
                        <a:pt x="68" y="111"/>
                      </a:lnTo>
                      <a:lnTo>
                        <a:pt x="84" y="102"/>
                      </a:lnTo>
                      <a:lnTo>
                        <a:pt x="103" y="92"/>
                      </a:lnTo>
                      <a:lnTo>
                        <a:pt x="122" y="83"/>
                      </a:lnTo>
                      <a:lnTo>
                        <a:pt x="143" y="75"/>
                      </a:lnTo>
                      <a:lnTo>
                        <a:pt x="165" y="68"/>
                      </a:lnTo>
                      <a:lnTo>
                        <a:pt x="189" y="62"/>
                      </a:lnTo>
                      <a:lnTo>
                        <a:pt x="213" y="58"/>
                      </a:lnTo>
                      <a:lnTo>
                        <a:pt x="239" y="57"/>
                      </a:lnTo>
                      <a:lnTo>
                        <a:pt x="264" y="57"/>
                      </a:lnTo>
                      <a:lnTo>
                        <a:pt x="290" y="57"/>
                      </a:lnTo>
                      <a:lnTo>
                        <a:pt x="315" y="56"/>
                      </a:lnTo>
                      <a:lnTo>
                        <a:pt x="339" y="56"/>
                      </a:lnTo>
                      <a:lnTo>
                        <a:pt x="362" y="55"/>
                      </a:lnTo>
                      <a:lnTo>
                        <a:pt x="385" y="54"/>
                      </a:lnTo>
                      <a:lnTo>
                        <a:pt x="406" y="53"/>
                      </a:lnTo>
                      <a:lnTo>
                        <a:pt x="425" y="51"/>
                      </a:lnTo>
                      <a:lnTo>
                        <a:pt x="444" y="51"/>
                      </a:lnTo>
                      <a:lnTo>
                        <a:pt x="460" y="50"/>
                      </a:lnTo>
                      <a:lnTo>
                        <a:pt x="474" y="49"/>
                      </a:lnTo>
                      <a:lnTo>
                        <a:pt x="485" y="48"/>
                      </a:lnTo>
                      <a:lnTo>
                        <a:pt x="496" y="48"/>
                      </a:lnTo>
                      <a:lnTo>
                        <a:pt x="502" y="47"/>
                      </a:lnTo>
                      <a:lnTo>
                        <a:pt x="507" y="47"/>
                      </a:lnTo>
                      <a:lnTo>
                        <a:pt x="508" y="47"/>
                      </a:lnTo>
                      <a:lnTo>
                        <a:pt x="460" y="5"/>
                      </a:lnTo>
                      <a:lnTo>
                        <a:pt x="459" y="5"/>
                      </a:lnTo>
                      <a:lnTo>
                        <a:pt x="454" y="5"/>
                      </a:lnTo>
                      <a:lnTo>
                        <a:pt x="446" y="4"/>
                      </a:lnTo>
                      <a:lnTo>
                        <a:pt x="437" y="4"/>
                      </a:lnTo>
                      <a:lnTo>
                        <a:pt x="425" y="3"/>
                      </a:lnTo>
                      <a:lnTo>
                        <a:pt x="411" y="2"/>
                      </a:lnTo>
                      <a:lnTo>
                        <a:pt x="396" y="2"/>
                      </a:lnTo>
                      <a:lnTo>
                        <a:pt x="379" y="1"/>
                      </a:lnTo>
                      <a:lnTo>
                        <a:pt x="362" y="1"/>
                      </a:lnTo>
                      <a:lnTo>
                        <a:pt x="343" y="0"/>
                      </a:lnTo>
                      <a:lnTo>
                        <a:pt x="324" y="0"/>
                      </a:lnTo>
                      <a:lnTo>
                        <a:pt x="304" y="0"/>
                      </a:lnTo>
                      <a:lnTo>
                        <a:pt x="285" y="1"/>
                      </a:lnTo>
                      <a:lnTo>
                        <a:pt x="265" y="1"/>
                      </a:lnTo>
                      <a:lnTo>
                        <a:pt x="247" y="3"/>
                      </a:lnTo>
                      <a:lnTo>
                        <a:pt x="228" y="4"/>
                      </a:lnTo>
                      <a:lnTo>
                        <a:pt x="210" y="7"/>
                      </a:lnTo>
                      <a:lnTo>
                        <a:pt x="191" y="11"/>
                      </a:lnTo>
                      <a:lnTo>
                        <a:pt x="173" y="16"/>
                      </a:lnTo>
                      <a:lnTo>
                        <a:pt x="154" y="22"/>
                      </a:lnTo>
                      <a:lnTo>
                        <a:pt x="136" y="28"/>
                      </a:lnTo>
                      <a:lnTo>
                        <a:pt x="119" y="35"/>
                      </a:lnTo>
                      <a:lnTo>
                        <a:pt x="101" y="42"/>
                      </a:lnTo>
                      <a:lnTo>
                        <a:pt x="85" y="49"/>
                      </a:lnTo>
                      <a:lnTo>
                        <a:pt x="70" y="57"/>
                      </a:lnTo>
                      <a:lnTo>
                        <a:pt x="58" y="64"/>
                      </a:lnTo>
                      <a:lnTo>
                        <a:pt x="45" y="70"/>
                      </a:lnTo>
                      <a:lnTo>
                        <a:pt x="35" y="76"/>
                      </a:lnTo>
                      <a:lnTo>
                        <a:pt x="27" y="80"/>
                      </a:lnTo>
                      <a:lnTo>
                        <a:pt x="21" y="84"/>
                      </a:lnTo>
                      <a:lnTo>
                        <a:pt x="16" y="86"/>
                      </a:lnTo>
                      <a:lnTo>
                        <a:pt x="15" y="87"/>
                      </a:lnTo>
                      <a:lnTo>
                        <a:pt x="0" y="16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336666"/>
                    </a:solidFill>
                    <a:latin typeface="Arial"/>
                  </a:endParaRPr>
                </a:p>
              </p:txBody>
            </p:sp>
            <p:sp>
              <p:nvSpPr>
                <p:cNvPr id="364" name="Freeform 151"/>
                <p:cNvSpPr/>
                <p:nvPr/>
              </p:nvSpPr>
              <p:spPr>
                <a:xfrm>
                  <a:off x="2570400" y="230508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837" h="137">
                      <a:moveTo>
                        <a:pt x="39" y="137"/>
                      </a:moveTo>
                      <a:lnTo>
                        <a:pt x="41" y="135"/>
                      </a:lnTo>
                      <a:lnTo>
                        <a:pt x="49" y="133"/>
                      </a:lnTo>
                      <a:lnTo>
                        <a:pt x="62" y="130"/>
                      </a:lnTo>
                      <a:lnTo>
                        <a:pt x="78" y="124"/>
                      </a:lnTo>
                      <a:lnTo>
                        <a:pt x="98" y="118"/>
                      </a:lnTo>
                      <a:lnTo>
                        <a:pt x="123" y="111"/>
                      </a:lnTo>
                      <a:lnTo>
                        <a:pt x="149" y="104"/>
                      </a:lnTo>
                      <a:lnTo>
                        <a:pt x="178" y="96"/>
                      </a:lnTo>
                      <a:lnTo>
                        <a:pt x="208" y="89"/>
                      </a:lnTo>
                      <a:lnTo>
                        <a:pt x="240" y="81"/>
                      </a:lnTo>
                      <a:lnTo>
                        <a:pt x="274" y="74"/>
                      </a:lnTo>
                      <a:lnTo>
                        <a:pt x="306" y="68"/>
                      </a:lnTo>
                      <a:lnTo>
                        <a:pt x="339" y="61"/>
                      </a:lnTo>
                      <a:lnTo>
                        <a:pt x="373" y="56"/>
                      </a:lnTo>
                      <a:lnTo>
                        <a:pt x="405" y="51"/>
                      </a:lnTo>
                      <a:lnTo>
                        <a:pt x="435" y="49"/>
                      </a:lnTo>
                      <a:lnTo>
                        <a:pt x="465" y="48"/>
                      </a:lnTo>
                      <a:lnTo>
                        <a:pt x="497" y="47"/>
                      </a:lnTo>
                      <a:lnTo>
                        <a:pt x="530" y="47"/>
                      </a:lnTo>
                      <a:lnTo>
                        <a:pt x="564" y="48"/>
                      </a:lnTo>
                      <a:lnTo>
                        <a:pt x="597" y="49"/>
                      </a:lnTo>
                      <a:lnTo>
                        <a:pt x="631" y="51"/>
                      </a:lnTo>
                      <a:lnTo>
                        <a:pt x="663" y="54"/>
                      </a:lnTo>
                      <a:lnTo>
                        <a:pt x="695" y="57"/>
                      </a:lnTo>
                      <a:lnTo>
                        <a:pt x="724" y="59"/>
                      </a:lnTo>
                      <a:lnTo>
                        <a:pt x="751" y="63"/>
                      </a:lnTo>
                      <a:lnTo>
                        <a:pt x="775" y="65"/>
                      </a:lnTo>
                      <a:lnTo>
                        <a:pt x="797" y="68"/>
                      </a:lnTo>
                      <a:lnTo>
                        <a:pt x="813" y="70"/>
                      </a:lnTo>
                      <a:lnTo>
                        <a:pt x="827" y="72"/>
                      </a:lnTo>
                      <a:lnTo>
                        <a:pt x="835" y="73"/>
                      </a:lnTo>
                      <a:lnTo>
                        <a:pt x="837" y="73"/>
                      </a:lnTo>
                      <a:lnTo>
                        <a:pt x="792" y="42"/>
                      </a:lnTo>
                      <a:lnTo>
                        <a:pt x="790" y="42"/>
                      </a:lnTo>
                      <a:lnTo>
                        <a:pt x="783" y="40"/>
                      </a:lnTo>
                      <a:lnTo>
                        <a:pt x="772" y="38"/>
                      </a:lnTo>
                      <a:lnTo>
                        <a:pt x="760" y="35"/>
                      </a:lnTo>
                      <a:lnTo>
                        <a:pt x="742" y="32"/>
                      </a:lnTo>
                      <a:lnTo>
                        <a:pt x="723" y="28"/>
                      </a:lnTo>
                      <a:lnTo>
                        <a:pt x="701" y="24"/>
                      </a:lnTo>
                      <a:lnTo>
                        <a:pt x="678" y="20"/>
                      </a:lnTo>
                      <a:lnTo>
                        <a:pt x="653" y="16"/>
                      </a:lnTo>
                      <a:lnTo>
                        <a:pt x="626" y="12"/>
                      </a:lnTo>
                      <a:lnTo>
                        <a:pt x="600" y="9"/>
                      </a:lnTo>
                      <a:lnTo>
                        <a:pt x="572" y="5"/>
                      </a:lnTo>
                      <a:lnTo>
                        <a:pt x="544" y="3"/>
                      </a:lnTo>
                      <a:lnTo>
                        <a:pt x="518" y="1"/>
                      </a:lnTo>
                      <a:lnTo>
                        <a:pt x="491" y="0"/>
                      </a:lnTo>
                      <a:lnTo>
                        <a:pt x="467" y="0"/>
                      </a:lnTo>
                      <a:lnTo>
                        <a:pt x="431" y="1"/>
                      </a:lnTo>
                      <a:lnTo>
                        <a:pt x="393" y="4"/>
                      </a:lnTo>
                      <a:lnTo>
                        <a:pt x="354" y="10"/>
                      </a:lnTo>
                      <a:lnTo>
                        <a:pt x="315" y="17"/>
                      </a:lnTo>
                      <a:lnTo>
                        <a:pt x="276" y="25"/>
                      </a:lnTo>
                      <a:lnTo>
                        <a:pt x="237" y="33"/>
                      </a:lnTo>
                      <a:lnTo>
                        <a:pt x="200" y="42"/>
                      </a:lnTo>
                      <a:lnTo>
                        <a:pt x="163" y="53"/>
                      </a:lnTo>
                      <a:lnTo>
                        <a:pt x="130" y="62"/>
                      </a:lnTo>
                      <a:lnTo>
                        <a:pt x="98" y="71"/>
                      </a:lnTo>
                      <a:lnTo>
                        <a:pt x="71" y="80"/>
                      </a:lnTo>
                      <a:lnTo>
                        <a:pt x="47" y="88"/>
                      </a:lnTo>
                      <a:lnTo>
                        <a:pt x="27" y="95"/>
                      </a:lnTo>
                      <a:lnTo>
                        <a:pt x="13" y="100"/>
                      </a:lnTo>
                      <a:lnTo>
                        <a:pt x="4" y="103"/>
                      </a:lnTo>
                      <a:lnTo>
                        <a:pt x="0" y="104"/>
                      </a:lnTo>
                      <a:lnTo>
                        <a:pt x="39" y="13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336666"/>
                    </a:solidFill>
                    <a:latin typeface="Arial"/>
                  </a:endParaRPr>
                </a:p>
              </p:txBody>
            </p:sp>
            <p:sp>
              <p:nvSpPr>
                <p:cNvPr id="365" name="Freeform 152"/>
                <p:cNvSpPr/>
                <p:nvPr/>
              </p:nvSpPr>
              <p:spPr>
                <a:xfrm>
                  <a:off x="2730240" y="2127240"/>
                  <a:ext cx="117360" cy="198000"/>
                </a:xfrm>
                <a:custGeom>
                  <a:avLst/>
                  <a:gdLst>
                    <a:gd name="textAreaLeft" fmla="*/ 0 w 117360"/>
                    <a:gd name="textAreaRight" fmla="*/ 117720 w 117360"/>
                    <a:gd name="textAreaTop" fmla="*/ 0 h 198000"/>
                    <a:gd name="textAreaBottom" fmla="*/ 198360 h 198000"/>
                  </a:gdLst>
                  <a:ahLst/>
                  <a:rect l="textAreaLeft" t="textAreaTop" r="textAreaRight" b="textAreaBottom"/>
                  <a:pathLst>
                    <a:path w="1083" h="1869">
                      <a:moveTo>
                        <a:pt x="999" y="62"/>
                      </a:moveTo>
                      <a:lnTo>
                        <a:pt x="997" y="82"/>
                      </a:lnTo>
                      <a:lnTo>
                        <a:pt x="990" y="135"/>
                      </a:lnTo>
                      <a:lnTo>
                        <a:pt x="981" y="216"/>
                      </a:lnTo>
                      <a:lnTo>
                        <a:pt x="968" y="316"/>
                      </a:lnTo>
                      <a:lnTo>
                        <a:pt x="956" y="430"/>
                      </a:lnTo>
                      <a:lnTo>
                        <a:pt x="943" y="548"/>
                      </a:lnTo>
                      <a:lnTo>
                        <a:pt x="933" y="666"/>
                      </a:lnTo>
                      <a:lnTo>
                        <a:pt x="923" y="774"/>
                      </a:lnTo>
                      <a:lnTo>
                        <a:pt x="915" y="984"/>
                      </a:lnTo>
                      <a:lnTo>
                        <a:pt x="922" y="1156"/>
                      </a:lnTo>
                      <a:lnTo>
                        <a:pt x="941" y="1296"/>
                      </a:lnTo>
                      <a:lnTo>
                        <a:pt x="966" y="1404"/>
                      </a:lnTo>
                      <a:lnTo>
                        <a:pt x="992" y="1485"/>
                      </a:lnTo>
                      <a:lnTo>
                        <a:pt x="1017" y="1539"/>
                      </a:lnTo>
                      <a:lnTo>
                        <a:pt x="1035" y="1570"/>
                      </a:lnTo>
                      <a:lnTo>
                        <a:pt x="1042" y="1579"/>
                      </a:lnTo>
                      <a:lnTo>
                        <a:pt x="1039" y="1579"/>
                      </a:lnTo>
                      <a:lnTo>
                        <a:pt x="1029" y="1579"/>
                      </a:lnTo>
                      <a:lnTo>
                        <a:pt x="1013" y="1579"/>
                      </a:lnTo>
                      <a:lnTo>
                        <a:pt x="992" y="1579"/>
                      </a:lnTo>
                      <a:lnTo>
                        <a:pt x="967" y="1579"/>
                      </a:lnTo>
                      <a:lnTo>
                        <a:pt x="937" y="1579"/>
                      </a:lnTo>
                      <a:lnTo>
                        <a:pt x="905" y="1580"/>
                      </a:lnTo>
                      <a:lnTo>
                        <a:pt x="869" y="1580"/>
                      </a:lnTo>
                      <a:lnTo>
                        <a:pt x="831" y="1581"/>
                      </a:lnTo>
                      <a:lnTo>
                        <a:pt x="792" y="1584"/>
                      </a:lnTo>
                      <a:lnTo>
                        <a:pt x="752" y="1585"/>
                      </a:lnTo>
                      <a:lnTo>
                        <a:pt x="711" y="1587"/>
                      </a:lnTo>
                      <a:lnTo>
                        <a:pt x="671" y="1589"/>
                      </a:lnTo>
                      <a:lnTo>
                        <a:pt x="632" y="1592"/>
                      </a:lnTo>
                      <a:lnTo>
                        <a:pt x="594" y="1596"/>
                      </a:lnTo>
                      <a:lnTo>
                        <a:pt x="558" y="1600"/>
                      </a:lnTo>
                      <a:lnTo>
                        <a:pt x="510" y="1608"/>
                      </a:lnTo>
                      <a:lnTo>
                        <a:pt x="460" y="1620"/>
                      </a:lnTo>
                      <a:lnTo>
                        <a:pt x="412" y="1637"/>
                      </a:lnTo>
                      <a:lnTo>
                        <a:pt x="363" y="1656"/>
                      </a:lnTo>
                      <a:lnTo>
                        <a:pt x="315" y="1677"/>
                      </a:lnTo>
                      <a:lnTo>
                        <a:pt x="269" y="1700"/>
                      </a:lnTo>
                      <a:lnTo>
                        <a:pt x="225" y="1723"/>
                      </a:lnTo>
                      <a:lnTo>
                        <a:pt x="184" y="1747"/>
                      </a:lnTo>
                      <a:lnTo>
                        <a:pt x="144" y="1770"/>
                      </a:lnTo>
                      <a:lnTo>
                        <a:pt x="110" y="1793"/>
                      </a:lnTo>
                      <a:lnTo>
                        <a:pt x="79" y="1814"/>
                      </a:lnTo>
                      <a:lnTo>
                        <a:pt x="51" y="1832"/>
                      </a:lnTo>
                      <a:lnTo>
                        <a:pt x="30" y="1847"/>
                      </a:lnTo>
                      <a:lnTo>
                        <a:pt x="14" y="1859"/>
                      </a:lnTo>
                      <a:lnTo>
                        <a:pt x="4" y="1867"/>
                      </a:lnTo>
                      <a:lnTo>
                        <a:pt x="0" y="1869"/>
                      </a:lnTo>
                      <a:lnTo>
                        <a:pt x="3" y="1868"/>
                      </a:lnTo>
                      <a:lnTo>
                        <a:pt x="12" y="1863"/>
                      </a:lnTo>
                      <a:lnTo>
                        <a:pt x="25" y="1857"/>
                      </a:lnTo>
                      <a:lnTo>
                        <a:pt x="42" y="1847"/>
                      </a:lnTo>
                      <a:lnTo>
                        <a:pt x="63" y="1836"/>
                      </a:lnTo>
                      <a:lnTo>
                        <a:pt x="87" y="1823"/>
                      </a:lnTo>
                      <a:lnTo>
                        <a:pt x="114" y="1809"/>
                      </a:lnTo>
                      <a:lnTo>
                        <a:pt x="144" y="1794"/>
                      </a:lnTo>
                      <a:lnTo>
                        <a:pt x="176" y="1779"/>
                      </a:lnTo>
                      <a:lnTo>
                        <a:pt x="208" y="1763"/>
                      </a:lnTo>
                      <a:lnTo>
                        <a:pt x="240" y="1748"/>
                      </a:lnTo>
                      <a:lnTo>
                        <a:pt x="273" y="1733"/>
                      </a:lnTo>
                      <a:lnTo>
                        <a:pt x="307" y="1719"/>
                      </a:lnTo>
                      <a:lnTo>
                        <a:pt x="338" y="1706"/>
                      </a:lnTo>
                      <a:lnTo>
                        <a:pt x="369" y="1694"/>
                      </a:lnTo>
                      <a:lnTo>
                        <a:pt x="398" y="1685"/>
                      </a:lnTo>
                      <a:lnTo>
                        <a:pt x="430" y="1676"/>
                      </a:lnTo>
                      <a:lnTo>
                        <a:pt x="469" y="1666"/>
                      </a:lnTo>
                      <a:lnTo>
                        <a:pt x="515" y="1658"/>
                      </a:lnTo>
                      <a:lnTo>
                        <a:pt x="567" y="1650"/>
                      </a:lnTo>
                      <a:lnTo>
                        <a:pt x="621" y="1643"/>
                      </a:lnTo>
                      <a:lnTo>
                        <a:pt x="679" y="1637"/>
                      </a:lnTo>
                      <a:lnTo>
                        <a:pt x="738" y="1630"/>
                      </a:lnTo>
                      <a:lnTo>
                        <a:pt x="795" y="1624"/>
                      </a:lnTo>
                      <a:lnTo>
                        <a:pt x="852" y="1618"/>
                      </a:lnTo>
                      <a:lnTo>
                        <a:pt x="905" y="1614"/>
                      </a:lnTo>
                      <a:lnTo>
                        <a:pt x="954" y="1610"/>
                      </a:lnTo>
                      <a:lnTo>
                        <a:pt x="997" y="1607"/>
                      </a:lnTo>
                      <a:lnTo>
                        <a:pt x="1033" y="1603"/>
                      </a:lnTo>
                      <a:lnTo>
                        <a:pt x="1060" y="1601"/>
                      </a:lnTo>
                      <a:lnTo>
                        <a:pt x="1078" y="1600"/>
                      </a:lnTo>
                      <a:lnTo>
                        <a:pt x="1083" y="1600"/>
                      </a:lnTo>
                      <a:lnTo>
                        <a:pt x="1077" y="1587"/>
                      </a:lnTo>
                      <a:lnTo>
                        <a:pt x="1059" y="1551"/>
                      </a:lnTo>
                      <a:lnTo>
                        <a:pt x="1034" y="1495"/>
                      </a:lnTo>
                      <a:lnTo>
                        <a:pt x="1007" y="1420"/>
                      </a:lnTo>
                      <a:lnTo>
                        <a:pt x="981" y="1328"/>
                      </a:lnTo>
                      <a:lnTo>
                        <a:pt x="960" y="1222"/>
                      </a:lnTo>
                      <a:lnTo>
                        <a:pt x="949" y="1105"/>
                      </a:lnTo>
                      <a:lnTo>
                        <a:pt x="951" y="978"/>
                      </a:lnTo>
                      <a:lnTo>
                        <a:pt x="964" y="818"/>
                      </a:lnTo>
                      <a:lnTo>
                        <a:pt x="979" y="651"/>
                      </a:lnTo>
                      <a:lnTo>
                        <a:pt x="994" y="487"/>
                      </a:lnTo>
                      <a:lnTo>
                        <a:pt x="1009" y="334"/>
                      </a:lnTo>
                      <a:lnTo>
                        <a:pt x="1021" y="201"/>
                      </a:lnTo>
                      <a:lnTo>
                        <a:pt x="1033" y="95"/>
                      </a:lnTo>
                      <a:lnTo>
                        <a:pt x="1040" y="26"/>
                      </a:lnTo>
                      <a:lnTo>
                        <a:pt x="1042" y="0"/>
                      </a:lnTo>
                      <a:lnTo>
                        <a:pt x="99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Freeform 153"/>
                <p:cNvSpPr/>
                <p:nvPr/>
              </p:nvSpPr>
              <p:spPr>
                <a:xfrm>
                  <a:off x="2726640" y="2134440"/>
                  <a:ext cx="137520" cy="192960"/>
                </a:xfrm>
                <a:custGeom>
                  <a:avLst/>
                  <a:gdLst>
                    <a:gd name="textAreaLeft" fmla="*/ 0 w 137520"/>
                    <a:gd name="textAreaRight" fmla="*/ 137880 w 137520"/>
                    <a:gd name="textAreaTop" fmla="*/ 0 h 192960"/>
                    <a:gd name="textAreaBottom" fmla="*/ 193320 h 192960"/>
                  </a:gdLst>
                  <a:ahLst/>
                  <a:rect l="textAreaLeft" t="textAreaTop" r="textAreaRight" b="textAreaBottom"/>
                  <a:pathLst>
                    <a:path w="1272" h="1820">
                      <a:moveTo>
                        <a:pt x="1237" y="92"/>
                      </a:moveTo>
                      <a:lnTo>
                        <a:pt x="1235" y="113"/>
                      </a:lnTo>
                      <a:lnTo>
                        <a:pt x="1227" y="168"/>
                      </a:lnTo>
                      <a:lnTo>
                        <a:pt x="1215" y="252"/>
                      </a:lnTo>
                      <a:lnTo>
                        <a:pt x="1203" y="355"/>
                      </a:lnTo>
                      <a:lnTo>
                        <a:pt x="1188" y="468"/>
                      </a:lnTo>
                      <a:lnTo>
                        <a:pt x="1174" y="584"/>
                      </a:lnTo>
                      <a:lnTo>
                        <a:pt x="1161" y="694"/>
                      </a:lnTo>
                      <a:lnTo>
                        <a:pt x="1152" y="790"/>
                      </a:lnTo>
                      <a:lnTo>
                        <a:pt x="1146" y="884"/>
                      </a:lnTo>
                      <a:lnTo>
                        <a:pt x="1145" y="984"/>
                      </a:lnTo>
                      <a:lnTo>
                        <a:pt x="1147" y="1089"/>
                      </a:lnTo>
                      <a:lnTo>
                        <a:pt x="1152" y="1190"/>
                      </a:lnTo>
                      <a:lnTo>
                        <a:pt x="1160" y="1284"/>
                      </a:lnTo>
                      <a:lnTo>
                        <a:pt x="1169" y="1365"/>
                      </a:lnTo>
                      <a:lnTo>
                        <a:pt x="1181" y="1428"/>
                      </a:lnTo>
                      <a:lnTo>
                        <a:pt x="1194" y="1469"/>
                      </a:lnTo>
                      <a:lnTo>
                        <a:pt x="1207" y="1495"/>
                      </a:lnTo>
                      <a:lnTo>
                        <a:pt x="1221" y="1521"/>
                      </a:lnTo>
                      <a:lnTo>
                        <a:pt x="1235" y="1548"/>
                      </a:lnTo>
                      <a:lnTo>
                        <a:pt x="1247" y="1571"/>
                      </a:lnTo>
                      <a:lnTo>
                        <a:pt x="1257" y="1592"/>
                      </a:lnTo>
                      <a:lnTo>
                        <a:pt x="1265" y="1608"/>
                      </a:lnTo>
                      <a:lnTo>
                        <a:pt x="1270" y="1619"/>
                      </a:lnTo>
                      <a:lnTo>
                        <a:pt x="1272" y="1623"/>
                      </a:lnTo>
                      <a:lnTo>
                        <a:pt x="1266" y="1623"/>
                      </a:lnTo>
                      <a:lnTo>
                        <a:pt x="1252" y="1622"/>
                      </a:lnTo>
                      <a:lnTo>
                        <a:pt x="1228" y="1621"/>
                      </a:lnTo>
                      <a:lnTo>
                        <a:pt x="1198" y="1619"/>
                      </a:lnTo>
                      <a:lnTo>
                        <a:pt x="1161" y="1618"/>
                      </a:lnTo>
                      <a:lnTo>
                        <a:pt x="1121" y="1617"/>
                      </a:lnTo>
                      <a:lnTo>
                        <a:pt x="1076" y="1616"/>
                      </a:lnTo>
                      <a:lnTo>
                        <a:pt x="1029" y="1615"/>
                      </a:lnTo>
                      <a:lnTo>
                        <a:pt x="980" y="1615"/>
                      </a:lnTo>
                      <a:lnTo>
                        <a:pt x="932" y="1614"/>
                      </a:lnTo>
                      <a:lnTo>
                        <a:pt x="885" y="1614"/>
                      </a:lnTo>
                      <a:lnTo>
                        <a:pt x="841" y="1614"/>
                      </a:lnTo>
                      <a:lnTo>
                        <a:pt x="799" y="1615"/>
                      </a:lnTo>
                      <a:lnTo>
                        <a:pt x="764" y="1617"/>
                      </a:lnTo>
                      <a:lnTo>
                        <a:pt x="734" y="1619"/>
                      </a:lnTo>
                      <a:lnTo>
                        <a:pt x="712" y="1623"/>
                      </a:lnTo>
                      <a:lnTo>
                        <a:pt x="688" y="1629"/>
                      </a:lnTo>
                      <a:lnTo>
                        <a:pt x="653" y="1638"/>
                      </a:lnTo>
                      <a:lnTo>
                        <a:pt x="609" y="1648"/>
                      </a:lnTo>
                      <a:lnTo>
                        <a:pt x="559" y="1662"/>
                      </a:lnTo>
                      <a:lnTo>
                        <a:pt x="503" y="1678"/>
                      </a:lnTo>
                      <a:lnTo>
                        <a:pt x="443" y="1694"/>
                      </a:lnTo>
                      <a:lnTo>
                        <a:pt x="381" y="1712"/>
                      </a:lnTo>
                      <a:lnTo>
                        <a:pt x="319" y="1729"/>
                      </a:lnTo>
                      <a:lnTo>
                        <a:pt x="258" y="1746"/>
                      </a:lnTo>
                      <a:lnTo>
                        <a:pt x="199" y="1763"/>
                      </a:lnTo>
                      <a:lnTo>
                        <a:pt x="145" y="1778"/>
                      </a:lnTo>
                      <a:lnTo>
                        <a:pt x="97" y="1792"/>
                      </a:lnTo>
                      <a:lnTo>
                        <a:pt x="57" y="1804"/>
                      </a:lnTo>
                      <a:lnTo>
                        <a:pt x="26" y="1812"/>
                      </a:lnTo>
                      <a:lnTo>
                        <a:pt x="7" y="1817"/>
                      </a:lnTo>
                      <a:lnTo>
                        <a:pt x="0" y="1820"/>
                      </a:lnTo>
                      <a:lnTo>
                        <a:pt x="6" y="1817"/>
                      </a:lnTo>
                      <a:lnTo>
                        <a:pt x="21" y="1811"/>
                      </a:lnTo>
                      <a:lnTo>
                        <a:pt x="44" y="1801"/>
                      </a:lnTo>
                      <a:lnTo>
                        <a:pt x="76" y="1788"/>
                      </a:lnTo>
                      <a:lnTo>
                        <a:pt x="115" y="1773"/>
                      </a:lnTo>
                      <a:lnTo>
                        <a:pt x="160" y="1755"/>
                      </a:lnTo>
                      <a:lnTo>
                        <a:pt x="210" y="1736"/>
                      </a:lnTo>
                      <a:lnTo>
                        <a:pt x="265" y="1716"/>
                      </a:lnTo>
                      <a:lnTo>
                        <a:pt x="322" y="1697"/>
                      </a:lnTo>
                      <a:lnTo>
                        <a:pt x="382" y="1677"/>
                      </a:lnTo>
                      <a:lnTo>
                        <a:pt x="445" y="1659"/>
                      </a:lnTo>
                      <a:lnTo>
                        <a:pt x="507" y="1640"/>
                      </a:lnTo>
                      <a:lnTo>
                        <a:pt x="570" y="1625"/>
                      </a:lnTo>
                      <a:lnTo>
                        <a:pt x="631" y="1611"/>
                      </a:lnTo>
                      <a:lnTo>
                        <a:pt x="690" y="1602"/>
                      </a:lnTo>
                      <a:lnTo>
                        <a:pt x="746" y="1595"/>
                      </a:lnTo>
                      <a:lnTo>
                        <a:pt x="779" y="1593"/>
                      </a:lnTo>
                      <a:lnTo>
                        <a:pt x="814" y="1591"/>
                      </a:lnTo>
                      <a:lnTo>
                        <a:pt x="851" y="1588"/>
                      </a:lnTo>
                      <a:lnTo>
                        <a:pt x="888" y="1586"/>
                      </a:lnTo>
                      <a:lnTo>
                        <a:pt x="926" y="1585"/>
                      </a:lnTo>
                      <a:lnTo>
                        <a:pt x="964" y="1583"/>
                      </a:lnTo>
                      <a:lnTo>
                        <a:pt x="1001" y="1581"/>
                      </a:lnTo>
                      <a:lnTo>
                        <a:pt x="1037" y="1579"/>
                      </a:lnTo>
                      <a:lnTo>
                        <a:pt x="1070" y="1578"/>
                      </a:lnTo>
                      <a:lnTo>
                        <a:pt x="1101" y="1578"/>
                      </a:lnTo>
                      <a:lnTo>
                        <a:pt x="1129" y="1577"/>
                      </a:lnTo>
                      <a:lnTo>
                        <a:pt x="1153" y="1576"/>
                      </a:lnTo>
                      <a:lnTo>
                        <a:pt x="1173" y="1576"/>
                      </a:lnTo>
                      <a:lnTo>
                        <a:pt x="1188" y="1574"/>
                      </a:lnTo>
                      <a:lnTo>
                        <a:pt x="1197" y="1574"/>
                      </a:lnTo>
                      <a:lnTo>
                        <a:pt x="1200" y="1574"/>
                      </a:lnTo>
                      <a:lnTo>
                        <a:pt x="1195" y="1564"/>
                      </a:lnTo>
                      <a:lnTo>
                        <a:pt x="1181" y="1533"/>
                      </a:lnTo>
                      <a:lnTo>
                        <a:pt x="1161" y="1479"/>
                      </a:lnTo>
                      <a:lnTo>
                        <a:pt x="1139" y="1402"/>
                      </a:lnTo>
                      <a:lnTo>
                        <a:pt x="1120" y="1300"/>
                      </a:lnTo>
                      <a:lnTo>
                        <a:pt x="1107" y="1171"/>
                      </a:lnTo>
                      <a:lnTo>
                        <a:pt x="1102" y="1016"/>
                      </a:lnTo>
                      <a:lnTo>
                        <a:pt x="1111" y="832"/>
                      </a:lnTo>
                      <a:lnTo>
                        <a:pt x="1124" y="682"/>
                      </a:lnTo>
                      <a:lnTo>
                        <a:pt x="1139" y="533"/>
                      </a:lnTo>
                      <a:lnTo>
                        <a:pt x="1155" y="394"/>
                      </a:lnTo>
                      <a:lnTo>
                        <a:pt x="1172" y="266"/>
                      </a:lnTo>
                      <a:lnTo>
                        <a:pt x="1185" y="158"/>
                      </a:lnTo>
                      <a:lnTo>
                        <a:pt x="1197" y="74"/>
                      </a:lnTo>
                      <a:lnTo>
                        <a:pt x="1205" y="20"/>
                      </a:lnTo>
                      <a:lnTo>
                        <a:pt x="1207" y="0"/>
                      </a:lnTo>
                      <a:lnTo>
                        <a:pt x="123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Freeform 154"/>
                <p:cNvSpPr/>
                <p:nvPr/>
              </p:nvSpPr>
              <p:spPr>
                <a:xfrm>
                  <a:off x="2709360" y="2158200"/>
                  <a:ext cx="74160" cy="175320"/>
                </a:xfrm>
                <a:custGeom>
                  <a:avLst/>
                  <a:gdLst>
                    <a:gd name="textAreaLeft" fmla="*/ 0 w 74160"/>
                    <a:gd name="textAreaRight" fmla="*/ 74520 w 74160"/>
                    <a:gd name="textAreaTop" fmla="*/ 0 h 175320"/>
                    <a:gd name="textAreaBottom" fmla="*/ 175320 h 175320"/>
                  </a:gdLst>
                  <a:ahLst/>
                  <a:rect l="textAreaLeft" t="textAreaTop" r="textAreaRight" b="textAreaBottom"/>
                  <a:pathLst>
                    <a:path w="685" h="1651">
                      <a:moveTo>
                        <a:pt x="685" y="1337"/>
                      </a:moveTo>
                      <a:lnTo>
                        <a:pt x="685" y="1337"/>
                      </a:lnTo>
                      <a:lnTo>
                        <a:pt x="635" y="1348"/>
                      </a:lnTo>
                      <a:lnTo>
                        <a:pt x="584" y="1364"/>
                      </a:lnTo>
                      <a:lnTo>
                        <a:pt x="532" y="1384"/>
                      </a:lnTo>
                      <a:lnTo>
                        <a:pt x="481" y="1406"/>
                      </a:lnTo>
                      <a:lnTo>
                        <a:pt x="431" y="1431"/>
                      </a:lnTo>
                      <a:lnTo>
                        <a:pt x="382" y="1458"/>
                      </a:lnTo>
                      <a:lnTo>
                        <a:pt x="335" y="1484"/>
                      </a:lnTo>
                      <a:lnTo>
                        <a:pt x="291" y="1512"/>
                      </a:lnTo>
                      <a:lnTo>
                        <a:pt x="250" y="1539"/>
                      </a:lnTo>
                      <a:lnTo>
                        <a:pt x="213" y="1565"/>
                      </a:lnTo>
                      <a:lnTo>
                        <a:pt x="180" y="1588"/>
                      </a:lnTo>
                      <a:lnTo>
                        <a:pt x="151" y="1609"/>
                      </a:lnTo>
                      <a:lnTo>
                        <a:pt x="128" y="1626"/>
                      </a:lnTo>
                      <a:lnTo>
                        <a:pt x="110" y="1640"/>
                      </a:lnTo>
                      <a:lnTo>
                        <a:pt x="100" y="1648"/>
                      </a:lnTo>
                      <a:lnTo>
                        <a:pt x="97" y="1651"/>
                      </a:lnTo>
                      <a:lnTo>
                        <a:pt x="92" y="1622"/>
                      </a:lnTo>
                      <a:lnTo>
                        <a:pt x="82" y="1546"/>
                      </a:lnTo>
                      <a:lnTo>
                        <a:pt x="66" y="1435"/>
                      </a:lnTo>
                      <a:lnTo>
                        <a:pt x="48" y="1302"/>
                      </a:lnTo>
                      <a:lnTo>
                        <a:pt x="31" y="1162"/>
                      </a:lnTo>
                      <a:lnTo>
                        <a:pt x="15" y="1026"/>
                      </a:lnTo>
                      <a:lnTo>
                        <a:pt x="4" y="907"/>
                      </a:lnTo>
                      <a:lnTo>
                        <a:pt x="0" y="821"/>
                      </a:lnTo>
                      <a:lnTo>
                        <a:pt x="3" y="653"/>
                      </a:lnTo>
                      <a:lnTo>
                        <a:pt x="10" y="455"/>
                      </a:lnTo>
                      <a:lnTo>
                        <a:pt x="17" y="291"/>
                      </a:lnTo>
                      <a:lnTo>
                        <a:pt x="21" y="223"/>
                      </a:lnTo>
                      <a:lnTo>
                        <a:pt x="21" y="219"/>
                      </a:lnTo>
                      <a:lnTo>
                        <a:pt x="21" y="204"/>
                      </a:lnTo>
                      <a:lnTo>
                        <a:pt x="23" y="182"/>
                      </a:lnTo>
                      <a:lnTo>
                        <a:pt x="29" y="154"/>
                      </a:lnTo>
                      <a:lnTo>
                        <a:pt x="37" y="120"/>
                      </a:lnTo>
                      <a:lnTo>
                        <a:pt x="49" y="83"/>
                      </a:lnTo>
                      <a:lnTo>
                        <a:pt x="69" y="41"/>
                      </a:lnTo>
                      <a:lnTo>
                        <a:pt x="9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Freeform 155"/>
                <p:cNvSpPr/>
                <p:nvPr/>
              </p:nvSpPr>
              <p:spPr>
                <a:xfrm>
                  <a:off x="2602080" y="2161440"/>
                  <a:ext cx="64440" cy="156240"/>
                </a:xfrm>
                <a:custGeom>
                  <a:avLst/>
                  <a:gdLst>
                    <a:gd name="textAreaLeft" fmla="*/ 0 w 64440"/>
                    <a:gd name="textAreaRight" fmla="*/ 64800 w 64440"/>
                    <a:gd name="textAreaTop" fmla="*/ 0 h 156240"/>
                    <a:gd name="textAreaBottom" fmla="*/ 156600 h 156240"/>
                  </a:gdLst>
                  <a:ahLst/>
                  <a:rect l="textAreaLeft" t="textAreaTop" r="textAreaRight" b="textAreaBottom"/>
                  <a:pathLst>
                    <a:path w="598" h="1474">
                      <a:moveTo>
                        <a:pt x="15" y="0"/>
                      </a:moveTo>
                      <a:lnTo>
                        <a:pt x="15" y="8"/>
                      </a:lnTo>
                      <a:lnTo>
                        <a:pt x="17" y="29"/>
                      </a:lnTo>
                      <a:lnTo>
                        <a:pt x="22" y="62"/>
                      </a:lnTo>
                      <a:lnTo>
                        <a:pt x="32" y="105"/>
                      </a:lnTo>
                      <a:lnTo>
                        <a:pt x="50" y="156"/>
                      </a:lnTo>
                      <a:lnTo>
                        <a:pt x="74" y="212"/>
                      </a:lnTo>
                      <a:lnTo>
                        <a:pt x="109" y="272"/>
                      </a:lnTo>
                      <a:lnTo>
                        <a:pt x="157" y="333"/>
                      </a:lnTo>
                      <a:lnTo>
                        <a:pt x="184" y="363"/>
                      </a:lnTo>
                      <a:lnTo>
                        <a:pt x="212" y="393"/>
                      </a:lnTo>
                      <a:lnTo>
                        <a:pt x="240" y="421"/>
                      </a:lnTo>
                      <a:lnTo>
                        <a:pt x="267" y="447"/>
                      </a:lnTo>
                      <a:lnTo>
                        <a:pt x="294" y="471"/>
                      </a:lnTo>
                      <a:lnTo>
                        <a:pt x="320" y="494"/>
                      </a:lnTo>
                      <a:lnTo>
                        <a:pt x="346" y="516"/>
                      </a:lnTo>
                      <a:lnTo>
                        <a:pt x="370" y="536"/>
                      </a:lnTo>
                      <a:lnTo>
                        <a:pt x="392" y="554"/>
                      </a:lnTo>
                      <a:lnTo>
                        <a:pt x="412" y="569"/>
                      </a:lnTo>
                      <a:lnTo>
                        <a:pt x="431" y="583"/>
                      </a:lnTo>
                      <a:lnTo>
                        <a:pt x="446" y="595"/>
                      </a:lnTo>
                      <a:lnTo>
                        <a:pt x="459" y="604"/>
                      </a:lnTo>
                      <a:lnTo>
                        <a:pt x="468" y="609"/>
                      </a:lnTo>
                      <a:lnTo>
                        <a:pt x="474" y="614"/>
                      </a:lnTo>
                      <a:lnTo>
                        <a:pt x="476" y="615"/>
                      </a:lnTo>
                      <a:lnTo>
                        <a:pt x="474" y="627"/>
                      </a:lnTo>
                      <a:lnTo>
                        <a:pt x="469" y="660"/>
                      </a:lnTo>
                      <a:lnTo>
                        <a:pt x="462" y="709"/>
                      </a:lnTo>
                      <a:lnTo>
                        <a:pt x="455" y="771"/>
                      </a:lnTo>
                      <a:lnTo>
                        <a:pt x="447" y="840"/>
                      </a:lnTo>
                      <a:lnTo>
                        <a:pt x="441" y="914"/>
                      </a:lnTo>
                      <a:lnTo>
                        <a:pt x="438" y="987"/>
                      </a:lnTo>
                      <a:lnTo>
                        <a:pt x="438" y="1056"/>
                      </a:lnTo>
                      <a:lnTo>
                        <a:pt x="446" y="1124"/>
                      </a:lnTo>
                      <a:lnTo>
                        <a:pt x="464" y="1194"/>
                      </a:lnTo>
                      <a:lnTo>
                        <a:pt x="491" y="1265"/>
                      </a:lnTo>
                      <a:lnTo>
                        <a:pt x="520" y="1330"/>
                      </a:lnTo>
                      <a:lnTo>
                        <a:pt x="548" y="1388"/>
                      </a:lnTo>
                      <a:lnTo>
                        <a:pt x="574" y="1434"/>
                      </a:lnTo>
                      <a:lnTo>
                        <a:pt x="591" y="1464"/>
                      </a:lnTo>
                      <a:lnTo>
                        <a:pt x="598" y="1474"/>
                      </a:lnTo>
                      <a:lnTo>
                        <a:pt x="591" y="1470"/>
                      </a:lnTo>
                      <a:lnTo>
                        <a:pt x="570" y="1454"/>
                      </a:lnTo>
                      <a:lnTo>
                        <a:pt x="543" y="1426"/>
                      </a:lnTo>
                      <a:lnTo>
                        <a:pt x="510" y="1383"/>
                      </a:lnTo>
                      <a:lnTo>
                        <a:pt x="478" y="1327"/>
                      </a:lnTo>
                      <a:lnTo>
                        <a:pt x="449" y="1253"/>
                      </a:lnTo>
                      <a:lnTo>
                        <a:pt x="429" y="1161"/>
                      </a:lnTo>
                      <a:lnTo>
                        <a:pt x="419" y="1051"/>
                      </a:lnTo>
                      <a:lnTo>
                        <a:pt x="419" y="940"/>
                      </a:lnTo>
                      <a:lnTo>
                        <a:pt x="423" y="850"/>
                      </a:lnTo>
                      <a:lnTo>
                        <a:pt x="430" y="778"/>
                      </a:lnTo>
                      <a:lnTo>
                        <a:pt x="438" y="722"/>
                      </a:lnTo>
                      <a:lnTo>
                        <a:pt x="446" y="682"/>
                      </a:lnTo>
                      <a:lnTo>
                        <a:pt x="453" y="656"/>
                      </a:lnTo>
                      <a:lnTo>
                        <a:pt x="457" y="641"/>
                      </a:lnTo>
                      <a:lnTo>
                        <a:pt x="460" y="636"/>
                      </a:lnTo>
                      <a:lnTo>
                        <a:pt x="457" y="635"/>
                      </a:lnTo>
                      <a:lnTo>
                        <a:pt x="452" y="631"/>
                      </a:lnTo>
                      <a:lnTo>
                        <a:pt x="444" y="624"/>
                      </a:lnTo>
                      <a:lnTo>
                        <a:pt x="431" y="616"/>
                      </a:lnTo>
                      <a:lnTo>
                        <a:pt x="416" y="606"/>
                      </a:lnTo>
                      <a:lnTo>
                        <a:pt x="399" y="593"/>
                      </a:lnTo>
                      <a:lnTo>
                        <a:pt x="379" y="578"/>
                      </a:lnTo>
                      <a:lnTo>
                        <a:pt x="357" y="561"/>
                      </a:lnTo>
                      <a:lnTo>
                        <a:pt x="334" y="543"/>
                      </a:lnTo>
                      <a:lnTo>
                        <a:pt x="310" y="522"/>
                      </a:lnTo>
                      <a:lnTo>
                        <a:pt x="283" y="499"/>
                      </a:lnTo>
                      <a:lnTo>
                        <a:pt x="257" y="475"/>
                      </a:lnTo>
                      <a:lnTo>
                        <a:pt x="229" y="448"/>
                      </a:lnTo>
                      <a:lnTo>
                        <a:pt x="203" y="421"/>
                      </a:lnTo>
                      <a:lnTo>
                        <a:pt x="175" y="391"/>
                      </a:lnTo>
                      <a:lnTo>
                        <a:pt x="147" y="360"/>
                      </a:lnTo>
                      <a:lnTo>
                        <a:pt x="100" y="299"/>
                      </a:lnTo>
                      <a:lnTo>
                        <a:pt x="65" y="244"/>
                      </a:lnTo>
                      <a:lnTo>
                        <a:pt x="38" y="197"/>
                      </a:lnTo>
                      <a:lnTo>
                        <a:pt x="21" y="157"/>
                      </a:lnTo>
                      <a:lnTo>
                        <a:pt x="9" y="125"/>
                      </a:lnTo>
                      <a:lnTo>
                        <a:pt x="3" y="102"/>
                      </a:lnTo>
                      <a:lnTo>
                        <a:pt x="0" y="87"/>
                      </a:lnTo>
                      <a:lnTo>
                        <a:pt x="0" y="82"/>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369" name="Group 156"/>
              <p:cNvGrpSpPr/>
              <p:nvPr/>
            </p:nvGrpSpPr>
            <p:grpSpPr>
              <a:xfrm>
                <a:off x="2971800" y="2111400"/>
                <a:ext cx="325800" cy="253080"/>
                <a:chOff x="2971800" y="2111400"/>
                <a:chExt cx="325800" cy="253080"/>
              </a:xfrm>
            </p:grpSpPr>
            <p:sp>
              <p:nvSpPr>
                <p:cNvPr id="370" name="Freeform 157"/>
                <p:cNvSpPr/>
                <p:nvPr/>
              </p:nvSpPr>
              <p:spPr>
                <a:xfrm>
                  <a:off x="2971800" y="2111400"/>
                  <a:ext cx="325800" cy="253080"/>
                </a:xfrm>
                <a:custGeom>
                  <a:avLst/>
                  <a:gdLst>
                    <a:gd name="textAreaLeft" fmla="*/ 0 w 325800"/>
                    <a:gd name="textAreaRight" fmla="*/ 326160 w 325800"/>
                    <a:gd name="textAreaTop" fmla="*/ 0 h 253080"/>
                    <a:gd name="textAreaBottom" fmla="*/ 253440 h 253080"/>
                  </a:gdLst>
                  <a:ahLst/>
                  <a:rect l="textAreaLeft" t="textAreaTop" r="textAreaRight" b="textAreaBottom"/>
                  <a:pathLst>
                    <a:path w="3006" h="2390">
                      <a:moveTo>
                        <a:pt x="516" y="468"/>
                      </a:moveTo>
                      <a:lnTo>
                        <a:pt x="264" y="419"/>
                      </a:lnTo>
                      <a:lnTo>
                        <a:pt x="262" y="425"/>
                      </a:lnTo>
                      <a:lnTo>
                        <a:pt x="255" y="441"/>
                      </a:lnTo>
                      <a:lnTo>
                        <a:pt x="243" y="466"/>
                      </a:lnTo>
                      <a:lnTo>
                        <a:pt x="229" y="501"/>
                      </a:lnTo>
                      <a:lnTo>
                        <a:pt x="212" y="542"/>
                      </a:lnTo>
                      <a:lnTo>
                        <a:pt x="192" y="591"/>
                      </a:lnTo>
                      <a:lnTo>
                        <a:pt x="172" y="644"/>
                      </a:lnTo>
                      <a:lnTo>
                        <a:pt x="150" y="701"/>
                      </a:lnTo>
                      <a:lnTo>
                        <a:pt x="128" y="761"/>
                      </a:lnTo>
                      <a:lnTo>
                        <a:pt x="106" y="823"/>
                      </a:lnTo>
                      <a:lnTo>
                        <a:pt x="86" y="888"/>
                      </a:lnTo>
                      <a:lnTo>
                        <a:pt x="67" y="951"/>
                      </a:lnTo>
                      <a:lnTo>
                        <a:pt x="51" y="1012"/>
                      </a:lnTo>
                      <a:lnTo>
                        <a:pt x="37" y="1073"/>
                      </a:lnTo>
                      <a:lnTo>
                        <a:pt x="26" y="1130"/>
                      </a:lnTo>
                      <a:lnTo>
                        <a:pt x="20" y="1182"/>
                      </a:lnTo>
                      <a:lnTo>
                        <a:pt x="8" y="1446"/>
                      </a:lnTo>
                      <a:lnTo>
                        <a:pt x="2" y="1790"/>
                      </a:lnTo>
                      <a:lnTo>
                        <a:pt x="0" y="2088"/>
                      </a:lnTo>
                      <a:lnTo>
                        <a:pt x="0" y="2216"/>
                      </a:lnTo>
                      <a:lnTo>
                        <a:pt x="157" y="2001"/>
                      </a:lnTo>
                      <a:lnTo>
                        <a:pt x="48" y="2240"/>
                      </a:lnTo>
                      <a:lnTo>
                        <a:pt x="97" y="2251"/>
                      </a:lnTo>
                      <a:lnTo>
                        <a:pt x="60" y="2364"/>
                      </a:lnTo>
                      <a:lnTo>
                        <a:pt x="65" y="2363"/>
                      </a:lnTo>
                      <a:lnTo>
                        <a:pt x="79" y="2361"/>
                      </a:lnTo>
                      <a:lnTo>
                        <a:pt x="103" y="2357"/>
                      </a:lnTo>
                      <a:lnTo>
                        <a:pt x="134" y="2352"/>
                      </a:lnTo>
                      <a:lnTo>
                        <a:pt x="171" y="2346"/>
                      </a:lnTo>
                      <a:lnTo>
                        <a:pt x="213" y="2339"/>
                      </a:lnTo>
                      <a:lnTo>
                        <a:pt x="259" y="2332"/>
                      </a:lnTo>
                      <a:lnTo>
                        <a:pt x="309" y="2325"/>
                      </a:lnTo>
                      <a:lnTo>
                        <a:pt x="361" y="2318"/>
                      </a:lnTo>
                      <a:lnTo>
                        <a:pt x="412" y="2311"/>
                      </a:lnTo>
                      <a:lnTo>
                        <a:pt x="464" y="2304"/>
                      </a:lnTo>
                      <a:lnTo>
                        <a:pt x="515" y="2299"/>
                      </a:lnTo>
                      <a:lnTo>
                        <a:pt x="563" y="2294"/>
                      </a:lnTo>
                      <a:lnTo>
                        <a:pt x="609" y="2290"/>
                      </a:lnTo>
                      <a:lnTo>
                        <a:pt x="650" y="2288"/>
                      </a:lnTo>
                      <a:lnTo>
                        <a:pt x="684" y="2288"/>
                      </a:lnTo>
                      <a:lnTo>
                        <a:pt x="724" y="2288"/>
                      </a:lnTo>
                      <a:lnTo>
                        <a:pt x="762" y="2288"/>
                      </a:lnTo>
                      <a:lnTo>
                        <a:pt x="801" y="2287"/>
                      </a:lnTo>
                      <a:lnTo>
                        <a:pt x="839" y="2286"/>
                      </a:lnTo>
                      <a:lnTo>
                        <a:pt x="877" y="2285"/>
                      </a:lnTo>
                      <a:lnTo>
                        <a:pt x="913" y="2282"/>
                      </a:lnTo>
                      <a:lnTo>
                        <a:pt x="947" y="2281"/>
                      </a:lnTo>
                      <a:lnTo>
                        <a:pt x="979" y="2279"/>
                      </a:lnTo>
                      <a:lnTo>
                        <a:pt x="1009" y="2277"/>
                      </a:lnTo>
                      <a:lnTo>
                        <a:pt x="1037" y="2276"/>
                      </a:lnTo>
                      <a:lnTo>
                        <a:pt x="1061" y="2273"/>
                      </a:lnTo>
                      <a:lnTo>
                        <a:pt x="1082" y="2272"/>
                      </a:lnTo>
                      <a:lnTo>
                        <a:pt x="1098" y="2271"/>
                      </a:lnTo>
                      <a:lnTo>
                        <a:pt x="1111" y="2270"/>
                      </a:lnTo>
                      <a:lnTo>
                        <a:pt x="1119" y="2269"/>
                      </a:lnTo>
                      <a:lnTo>
                        <a:pt x="1121" y="2269"/>
                      </a:lnTo>
                      <a:lnTo>
                        <a:pt x="1487" y="2390"/>
                      </a:lnTo>
                      <a:lnTo>
                        <a:pt x="2037" y="2251"/>
                      </a:lnTo>
                      <a:lnTo>
                        <a:pt x="2040" y="2250"/>
                      </a:lnTo>
                      <a:lnTo>
                        <a:pt x="2050" y="2248"/>
                      </a:lnTo>
                      <a:lnTo>
                        <a:pt x="2066" y="2244"/>
                      </a:lnTo>
                      <a:lnTo>
                        <a:pt x="2085" y="2240"/>
                      </a:lnTo>
                      <a:lnTo>
                        <a:pt x="2111" y="2234"/>
                      </a:lnTo>
                      <a:lnTo>
                        <a:pt x="2138" y="2228"/>
                      </a:lnTo>
                      <a:lnTo>
                        <a:pt x="2168" y="2221"/>
                      </a:lnTo>
                      <a:lnTo>
                        <a:pt x="2202" y="2214"/>
                      </a:lnTo>
                      <a:lnTo>
                        <a:pt x="2235" y="2208"/>
                      </a:lnTo>
                      <a:lnTo>
                        <a:pt x="2270" y="2201"/>
                      </a:lnTo>
                      <a:lnTo>
                        <a:pt x="2303" y="2195"/>
                      </a:lnTo>
                      <a:lnTo>
                        <a:pt x="2337" y="2189"/>
                      </a:lnTo>
                      <a:lnTo>
                        <a:pt x="2369" y="2185"/>
                      </a:lnTo>
                      <a:lnTo>
                        <a:pt x="2398" y="2181"/>
                      </a:lnTo>
                      <a:lnTo>
                        <a:pt x="2424" y="2179"/>
                      </a:lnTo>
                      <a:lnTo>
                        <a:pt x="2446" y="2178"/>
                      </a:lnTo>
                      <a:lnTo>
                        <a:pt x="2470" y="2178"/>
                      </a:lnTo>
                      <a:lnTo>
                        <a:pt x="2501" y="2180"/>
                      </a:lnTo>
                      <a:lnTo>
                        <a:pt x="2538" y="2181"/>
                      </a:lnTo>
                      <a:lnTo>
                        <a:pt x="2580" y="2185"/>
                      </a:lnTo>
                      <a:lnTo>
                        <a:pt x="2625" y="2188"/>
                      </a:lnTo>
                      <a:lnTo>
                        <a:pt x="2672" y="2191"/>
                      </a:lnTo>
                      <a:lnTo>
                        <a:pt x="2719" y="2195"/>
                      </a:lnTo>
                      <a:lnTo>
                        <a:pt x="2768" y="2198"/>
                      </a:lnTo>
                      <a:lnTo>
                        <a:pt x="2814" y="2203"/>
                      </a:lnTo>
                      <a:lnTo>
                        <a:pt x="2857" y="2206"/>
                      </a:lnTo>
                      <a:lnTo>
                        <a:pt x="2898" y="2210"/>
                      </a:lnTo>
                      <a:lnTo>
                        <a:pt x="2933" y="2213"/>
                      </a:lnTo>
                      <a:lnTo>
                        <a:pt x="2963" y="2217"/>
                      </a:lnTo>
                      <a:lnTo>
                        <a:pt x="2986" y="2218"/>
                      </a:lnTo>
                      <a:lnTo>
                        <a:pt x="3001" y="2220"/>
                      </a:lnTo>
                      <a:lnTo>
                        <a:pt x="3006" y="2220"/>
                      </a:lnTo>
                      <a:lnTo>
                        <a:pt x="3004" y="2218"/>
                      </a:lnTo>
                      <a:lnTo>
                        <a:pt x="2998" y="2210"/>
                      </a:lnTo>
                      <a:lnTo>
                        <a:pt x="2988" y="2197"/>
                      </a:lnTo>
                      <a:lnTo>
                        <a:pt x="2976" y="2179"/>
                      </a:lnTo>
                      <a:lnTo>
                        <a:pt x="2962" y="2153"/>
                      </a:lnTo>
                      <a:lnTo>
                        <a:pt x="2946" y="2121"/>
                      </a:lnTo>
                      <a:lnTo>
                        <a:pt x="2930" y="2082"/>
                      </a:lnTo>
                      <a:lnTo>
                        <a:pt x="2915" y="2035"/>
                      </a:lnTo>
                      <a:lnTo>
                        <a:pt x="2900" y="1980"/>
                      </a:lnTo>
                      <a:lnTo>
                        <a:pt x="2886" y="1916"/>
                      </a:lnTo>
                      <a:lnTo>
                        <a:pt x="2876" y="1844"/>
                      </a:lnTo>
                      <a:lnTo>
                        <a:pt x="2867" y="1761"/>
                      </a:lnTo>
                      <a:lnTo>
                        <a:pt x="2862" y="1670"/>
                      </a:lnTo>
                      <a:lnTo>
                        <a:pt x="2862" y="1567"/>
                      </a:lnTo>
                      <a:lnTo>
                        <a:pt x="2867" y="1454"/>
                      </a:lnTo>
                      <a:lnTo>
                        <a:pt x="2877" y="1330"/>
                      </a:lnTo>
                      <a:lnTo>
                        <a:pt x="2902" y="1096"/>
                      </a:lnTo>
                      <a:lnTo>
                        <a:pt x="2923" y="913"/>
                      </a:lnTo>
                      <a:lnTo>
                        <a:pt x="2941" y="775"/>
                      </a:lnTo>
                      <a:lnTo>
                        <a:pt x="2955" y="674"/>
                      </a:lnTo>
                      <a:lnTo>
                        <a:pt x="2966" y="606"/>
                      </a:lnTo>
                      <a:lnTo>
                        <a:pt x="2973" y="565"/>
                      </a:lnTo>
                      <a:lnTo>
                        <a:pt x="2977" y="545"/>
                      </a:lnTo>
                      <a:lnTo>
                        <a:pt x="2978" y="539"/>
                      </a:lnTo>
                      <a:lnTo>
                        <a:pt x="2839" y="546"/>
                      </a:lnTo>
                      <a:lnTo>
                        <a:pt x="2853" y="456"/>
                      </a:lnTo>
                      <a:lnTo>
                        <a:pt x="2685" y="432"/>
                      </a:lnTo>
                      <a:lnTo>
                        <a:pt x="2690" y="312"/>
                      </a:lnTo>
                      <a:lnTo>
                        <a:pt x="2688" y="312"/>
                      </a:lnTo>
                      <a:lnTo>
                        <a:pt x="2682" y="313"/>
                      </a:lnTo>
                      <a:lnTo>
                        <a:pt x="2673" y="314"/>
                      </a:lnTo>
                      <a:lnTo>
                        <a:pt x="2660" y="316"/>
                      </a:lnTo>
                      <a:lnTo>
                        <a:pt x="2645" y="318"/>
                      </a:lnTo>
                      <a:lnTo>
                        <a:pt x="2627" y="320"/>
                      </a:lnTo>
                      <a:lnTo>
                        <a:pt x="2605" y="322"/>
                      </a:lnTo>
                      <a:lnTo>
                        <a:pt x="2582" y="326"/>
                      </a:lnTo>
                      <a:lnTo>
                        <a:pt x="2556" y="329"/>
                      </a:lnTo>
                      <a:lnTo>
                        <a:pt x="2528" y="333"/>
                      </a:lnTo>
                      <a:lnTo>
                        <a:pt x="2498" y="337"/>
                      </a:lnTo>
                      <a:lnTo>
                        <a:pt x="2467" y="342"/>
                      </a:lnTo>
                      <a:lnTo>
                        <a:pt x="2435" y="347"/>
                      </a:lnTo>
                      <a:lnTo>
                        <a:pt x="2401" y="351"/>
                      </a:lnTo>
                      <a:lnTo>
                        <a:pt x="2365" y="356"/>
                      </a:lnTo>
                      <a:lnTo>
                        <a:pt x="2331" y="362"/>
                      </a:lnTo>
                      <a:lnTo>
                        <a:pt x="2295" y="366"/>
                      </a:lnTo>
                      <a:lnTo>
                        <a:pt x="2258" y="372"/>
                      </a:lnTo>
                      <a:lnTo>
                        <a:pt x="2223" y="378"/>
                      </a:lnTo>
                      <a:lnTo>
                        <a:pt x="2186" y="383"/>
                      </a:lnTo>
                      <a:lnTo>
                        <a:pt x="2150" y="389"/>
                      </a:lnTo>
                      <a:lnTo>
                        <a:pt x="2115" y="396"/>
                      </a:lnTo>
                      <a:lnTo>
                        <a:pt x="2081" y="402"/>
                      </a:lnTo>
                      <a:lnTo>
                        <a:pt x="2047" y="408"/>
                      </a:lnTo>
                      <a:lnTo>
                        <a:pt x="2015" y="413"/>
                      </a:lnTo>
                      <a:lnTo>
                        <a:pt x="1985" y="420"/>
                      </a:lnTo>
                      <a:lnTo>
                        <a:pt x="1956" y="426"/>
                      </a:lnTo>
                      <a:lnTo>
                        <a:pt x="1929" y="432"/>
                      </a:lnTo>
                      <a:lnTo>
                        <a:pt x="1905" y="439"/>
                      </a:lnTo>
                      <a:lnTo>
                        <a:pt x="1881" y="445"/>
                      </a:lnTo>
                      <a:lnTo>
                        <a:pt x="1862" y="450"/>
                      </a:lnTo>
                      <a:lnTo>
                        <a:pt x="1845" y="456"/>
                      </a:lnTo>
                      <a:lnTo>
                        <a:pt x="1814" y="469"/>
                      </a:lnTo>
                      <a:lnTo>
                        <a:pt x="1781" y="483"/>
                      </a:lnTo>
                      <a:lnTo>
                        <a:pt x="1750" y="500"/>
                      </a:lnTo>
                      <a:lnTo>
                        <a:pt x="1720" y="517"/>
                      </a:lnTo>
                      <a:lnTo>
                        <a:pt x="1690" y="535"/>
                      </a:lnTo>
                      <a:lnTo>
                        <a:pt x="1661" y="554"/>
                      </a:lnTo>
                      <a:lnTo>
                        <a:pt x="1634" y="573"/>
                      </a:lnTo>
                      <a:lnTo>
                        <a:pt x="1608" y="592"/>
                      </a:lnTo>
                      <a:lnTo>
                        <a:pt x="1585" y="610"/>
                      </a:lnTo>
                      <a:lnTo>
                        <a:pt x="1563" y="628"/>
                      </a:lnTo>
                      <a:lnTo>
                        <a:pt x="1545" y="644"/>
                      </a:lnTo>
                      <a:lnTo>
                        <a:pt x="1529" y="656"/>
                      </a:lnTo>
                      <a:lnTo>
                        <a:pt x="1515" y="668"/>
                      </a:lnTo>
                      <a:lnTo>
                        <a:pt x="1506" y="677"/>
                      </a:lnTo>
                      <a:lnTo>
                        <a:pt x="1500" y="682"/>
                      </a:lnTo>
                      <a:lnTo>
                        <a:pt x="1498" y="684"/>
                      </a:lnTo>
                      <a:lnTo>
                        <a:pt x="1494" y="693"/>
                      </a:lnTo>
                      <a:lnTo>
                        <a:pt x="1490" y="698"/>
                      </a:lnTo>
                      <a:lnTo>
                        <a:pt x="1484" y="699"/>
                      </a:lnTo>
                      <a:lnTo>
                        <a:pt x="1477" y="698"/>
                      </a:lnTo>
                      <a:lnTo>
                        <a:pt x="1468" y="693"/>
                      </a:lnTo>
                      <a:lnTo>
                        <a:pt x="1457" y="685"/>
                      </a:lnTo>
                      <a:lnTo>
                        <a:pt x="1445" y="676"/>
                      </a:lnTo>
                      <a:lnTo>
                        <a:pt x="1430" y="664"/>
                      </a:lnTo>
                      <a:lnTo>
                        <a:pt x="1413" y="651"/>
                      </a:lnTo>
                      <a:lnTo>
                        <a:pt x="1392" y="636"/>
                      </a:lnTo>
                      <a:lnTo>
                        <a:pt x="1370" y="620"/>
                      </a:lnTo>
                      <a:lnTo>
                        <a:pt x="1345" y="602"/>
                      </a:lnTo>
                      <a:lnTo>
                        <a:pt x="1317" y="584"/>
                      </a:lnTo>
                      <a:lnTo>
                        <a:pt x="1286" y="565"/>
                      </a:lnTo>
                      <a:lnTo>
                        <a:pt x="1251" y="547"/>
                      </a:lnTo>
                      <a:lnTo>
                        <a:pt x="1213" y="529"/>
                      </a:lnTo>
                      <a:lnTo>
                        <a:pt x="1180" y="515"/>
                      </a:lnTo>
                      <a:lnTo>
                        <a:pt x="1150" y="504"/>
                      </a:lnTo>
                      <a:lnTo>
                        <a:pt x="1121" y="495"/>
                      </a:lnTo>
                      <a:lnTo>
                        <a:pt x="1093" y="489"/>
                      </a:lnTo>
                      <a:lnTo>
                        <a:pt x="1068" y="485"/>
                      </a:lnTo>
                      <a:lnTo>
                        <a:pt x="1044" y="483"/>
                      </a:lnTo>
                      <a:lnTo>
                        <a:pt x="1022" y="480"/>
                      </a:lnTo>
                      <a:lnTo>
                        <a:pt x="1001" y="478"/>
                      </a:lnTo>
                      <a:lnTo>
                        <a:pt x="980" y="476"/>
                      </a:lnTo>
                      <a:lnTo>
                        <a:pt x="962" y="473"/>
                      </a:lnTo>
                      <a:lnTo>
                        <a:pt x="945" y="470"/>
                      </a:lnTo>
                      <a:lnTo>
                        <a:pt x="927" y="465"/>
                      </a:lnTo>
                      <a:lnTo>
                        <a:pt x="911" y="458"/>
                      </a:lnTo>
                      <a:lnTo>
                        <a:pt x="896" y="450"/>
                      </a:lnTo>
                      <a:lnTo>
                        <a:pt x="881" y="439"/>
                      </a:lnTo>
                      <a:lnTo>
                        <a:pt x="868" y="424"/>
                      </a:lnTo>
                      <a:lnTo>
                        <a:pt x="848" y="351"/>
                      </a:lnTo>
                      <a:lnTo>
                        <a:pt x="836" y="278"/>
                      </a:lnTo>
                      <a:lnTo>
                        <a:pt x="833" y="206"/>
                      </a:lnTo>
                      <a:lnTo>
                        <a:pt x="834" y="140"/>
                      </a:lnTo>
                      <a:lnTo>
                        <a:pt x="838" y="84"/>
                      </a:lnTo>
                      <a:lnTo>
                        <a:pt x="842" y="40"/>
                      </a:lnTo>
                      <a:lnTo>
                        <a:pt x="845" y="10"/>
                      </a:lnTo>
                      <a:lnTo>
                        <a:pt x="843" y="0"/>
                      </a:lnTo>
                      <a:lnTo>
                        <a:pt x="51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1" name="Freeform 158"/>
                <p:cNvSpPr/>
                <p:nvPr/>
              </p:nvSpPr>
              <p:spPr>
                <a:xfrm>
                  <a:off x="2986560" y="2185560"/>
                  <a:ext cx="179280" cy="172800"/>
                </a:xfrm>
                <a:custGeom>
                  <a:avLst/>
                  <a:gdLst>
                    <a:gd name="textAreaLeft" fmla="*/ 0 w 179280"/>
                    <a:gd name="textAreaRight" fmla="*/ 179640 w 179280"/>
                    <a:gd name="textAreaTop" fmla="*/ 0 h 172800"/>
                    <a:gd name="textAreaBottom" fmla="*/ 173160 h 17280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2" name="Freeform 159"/>
                <p:cNvSpPr/>
                <p:nvPr/>
              </p:nvSpPr>
              <p:spPr>
                <a:xfrm>
                  <a:off x="2986560" y="2185560"/>
                  <a:ext cx="179280" cy="172800"/>
                </a:xfrm>
                <a:custGeom>
                  <a:avLst/>
                  <a:gdLst>
                    <a:gd name="textAreaLeft" fmla="*/ 0 w 179280"/>
                    <a:gd name="textAreaRight" fmla="*/ 179640 w 179280"/>
                    <a:gd name="textAreaTop" fmla="*/ 0 h 172800"/>
                    <a:gd name="textAreaBottom" fmla="*/ 173160 h 172800"/>
                  </a:gdLst>
                  <a:ahLst/>
                  <a:rect l="textAreaLeft" t="textAreaTop" r="textAreaRight" b="textAreaBottom"/>
                  <a:pathLst>
                    <a:path w="1656" h="1633">
                      <a:moveTo>
                        <a:pt x="166" y="0"/>
                      </a:moveTo>
                      <a:lnTo>
                        <a:pt x="168" y="4"/>
                      </a:lnTo>
                      <a:lnTo>
                        <a:pt x="175" y="16"/>
                      </a:lnTo>
                      <a:lnTo>
                        <a:pt x="185" y="35"/>
                      </a:lnTo>
                      <a:lnTo>
                        <a:pt x="198" y="59"/>
                      </a:lnTo>
                      <a:lnTo>
                        <a:pt x="214" y="90"/>
                      </a:lnTo>
                      <a:lnTo>
                        <a:pt x="230" y="126"/>
                      </a:lnTo>
                      <a:lnTo>
                        <a:pt x="249" y="166"/>
                      </a:lnTo>
                      <a:lnTo>
                        <a:pt x="267" y="210"/>
                      </a:lnTo>
                      <a:lnTo>
                        <a:pt x="285" y="257"/>
                      </a:lnTo>
                      <a:lnTo>
                        <a:pt x="301" y="307"/>
                      </a:lnTo>
                      <a:lnTo>
                        <a:pt x="314" y="357"/>
                      </a:lnTo>
                      <a:lnTo>
                        <a:pt x="327" y="410"/>
                      </a:lnTo>
                      <a:lnTo>
                        <a:pt x="335" y="463"/>
                      </a:lnTo>
                      <a:lnTo>
                        <a:pt x="340" y="516"/>
                      </a:lnTo>
                      <a:lnTo>
                        <a:pt x="340" y="568"/>
                      </a:lnTo>
                      <a:lnTo>
                        <a:pt x="334" y="619"/>
                      </a:lnTo>
                      <a:lnTo>
                        <a:pt x="323" y="674"/>
                      </a:lnTo>
                      <a:lnTo>
                        <a:pt x="306" y="737"/>
                      </a:lnTo>
                      <a:lnTo>
                        <a:pt x="286" y="809"/>
                      </a:lnTo>
                      <a:lnTo>
                        <a:pt x="261" y="886"/>
                      </a:lnTo>
                      <a:lnTo>
                        <a:pt x="236" y="965"/>
                      </a:lnTo>
                      <a:lnTo>
                        <a:pt x="207" y="1048"/>
                      </a:lnTo>
                      <a:lnTo>
                        <a:pt x="179" y="1131"/>
                      </a:lnTo>
                      <a:lnTo>
                        <a:pt x="150" y="1212"/>
                      </a:lnTo>
                      <a:lnTo>
                        <a:pt x="121" y="1290"/>
                      </a:lnTo>
                      <a:lnTo>
                        <a:pt x="93" y="1363"/>
                      </a:lnTo>
                      <a:lnTo>
                        <a:pt x="68" y="1429"/>
                      </a:lnTo>
                      <a:lnTo>
                        <a:pt x="46" y="1488"/>
                      </a:lnTo>
                      <a:lnTo>
                        <a:pt x="26" y="1537"/>
                      </a:lnTo>
                      <a:lnTo>
                        <a:pt x="13" y="1573"/>
                      </a:lnTo>
                      <a:lnTo>
                        <a:pt x="3" y="1596"/>
                      </a:lnTo>
                      <a:lnTo>
                        <a:pt x="0" y="1604"/>
                      </a:lnTo>
                      <a:lnTo>
                        <a:pt x="5" y="1603"/>
                      </a:lnTo>
                      <a:lnTo>
                        <a:pt x="18" y="1602"/>
                      </a:lnTo>
                      <a:lnTo>
                        <a:pt x="40" y="1599"/>
                      </a:lnTo>
                      <a:lnTo>
                        <a:pt x="69" y="1595"/>
                      </a:lnTo>
                      <a:lnTo>
                        <a:pt x="105" y="1591"/>
                      </a:lnTo>
                      <a:lnTo>
                        <a:pt x="145" y="1586"/>
                      </a:lnTo>
                      <a:lnTo>
                        <a:pt x="190" y="1580"/>
                      </a:lnTo>
                      <a:lnTo>
                        <a:pt x="238" y="1575"/>
                      </a:lnTo>
                      <a:lnTo>
                        <a:pt x="290" y="1569"/>
                      </a:lnTo>
                      <a:lnTo>
                        <a:pt x="343" y="1563"/>
                      </a:lnTo>
                      <a:lnTo>
                        <a:pt x="396" y="1557"/>
                      </a:lnTo>
                      <a:lnTo>
                        <a:pt x="450" y="1551"/>
                      </a:lnTo>
                      <a:lnTo>
                        <a:pt x="502" y="1547"/>
                      </a:lnTo>
                      <a:lnTo>
                        <a:pt x="553" y="1543"/>
                      </a:lnTo>
                      <a:lnTo>
                        <a:pt x="601" y="1541"/>
                      </a:lnTo>
                      <a:lnTo>
                        <a:pt x="645" y="1539"/>
                      </a:lnTo>
                      <a:lnTo>
                        <a:pt x="698" y="1538"/>
                      </a:lnTo>
                      <a:lnTo>
                        <a:pt x="753" y="1540"/>
                      </a:lnTo>
                      <a:lnTo>
                        <a:pt x="811" y="1543"/>
                      </a:lnTo>
                      <a:lnTo>
                        <a:pt x="870" y="1549"/>
                      </a:lnTo>
                      <a:lnTo>
                        <a:pt x="929" y="1556"/>
                      </a:lnTo>
                      <a:lnTo>
                        <a:pt x="987" y="1564"/>
                      </a:lnTo>
                      <a:lnTo>
                        <a:pt x="1044" y="1573"/>
                      </a:lnTo>
                      <a:lnTo>
                        <a:pt x="1098" y="1583"/>
                      </a:lnTo>
                      <a:lnTo>
                        <a:pt x="1150" y="1592"/>
                      </a:lnTo>
                      <a:lnTo>
                        <a:pt x="1197" y="1601"/>
                      </a:lnTo>
                      <a:lnTo>
                        <a:pt x="1239" y="1609"/>
                      </a:lnTo>
                      <a:lnTo>
                        <a:pt x="1275" y="1617"/>
                      </a:lnTo>
                      <a:lnTo>
                        <a:pt x="1305" y="1624"/>
                      </a:lnTo>
                      <a:lnTo>
                        <a:pt x="1328" y="1629"/>
                      </a:lnTo>
                      <a:lnTo>
                        <a:pt x="1342" y="1632"/>
                      </a:lnTo>
                      <a:lnTo>
                        <a:pt x="1347" y="1633"/>
                      </a:lnTo>
                      <a:lnTo>
                        <a:pt x="1349" y="1630"/>
                      </a:lnTo>
                      <a:lnTo>
                        <a:pt x="1358" y="1617"/>
                      </a:lnTo>
                      <a:lnTo>
                        <a:pt x="1371" y="1599"/>
                      </a:lnTo>
                      <a:lnTo>
                        <a:pt x="1387" y="1575"/>
                      </a:lnTo>
                      <a:lnTo>
                        <a:pt x="1407" y="1545"/>
                      </a:lnTo>
                      <a:lnTo>
                        <a:pt x="1430" y="1509"/>
                      </a:lnTo>
                      <a:lnTo>
                        <a:pt x="1454" y="1470"/>
                      </a:lnTo>
                      <a:lnTo>
                        <a:pt x="1479" y="1427"/>
                      </a:lnTo>
                      <a:lnTo>
                        <a:pt x="1506" y="1381"/>
                      </a:lnTo>
                      <a:lnTo>
                        <a:pt x="1532" y="1334"/>
                      </a:lnTo>
                      <a:lnTo>
                        <a:pt x="1557" y="1285"/>
                      </a:lnTo>
                      <a:lnTo>
                        <a:pt x="1581" y="1235"/>
                      </a:lnTo>
                      <a:lnTo>
                        <a:pt x="1603" y="1185"/>
                      </a:lnTo>
                      <a:lnTo>
                        <a:pt x="1621" y="1137"/>
                      </a:lnTo>
                      <a:lnTo>
                        <a:pt x="1636" y="1090"/>
                      </a:lnTo>
                      <a:lnTo>
                        <a:pt x="1646" y="1044"/>
                      </a:lnTo>
                      <a:lnTo>
                        <a:pt x="1656" y="946"/>
                      </a:lnTo>
                      <a:lnTo>
                        <a:pt x="1651" y="838"/>
                      </a:lnTo>
                      <a:lnTo>
                        <a:pt x="1637" y="723"/>
                      </a:lnTo>
                      <a:lnTo>
                        <a:pt x="1618" y="614"/>
                      </a:lnTo>
                      <a:lnTo>
                        <a:pt x="1596" y="516"/>
                      </a:lnTo>
                      <a:lnTo>
                        <a:pt x="1576" y="436"/>
                      </a:lnTo>
                      <a:lnTo>
                        <a:pt x="1561" y="383"/>
                      </a:lnTo>
                      <a:lnTo>
                        <a:pt x="1555" y="363"/>
                      </a:lnTo>
                      <a:lnTo>
                        <a:pt x="1552" y="360"/>
                      </a:lnTo>
                      <a:lnTo>
                        <a:pt x="1540" y="349"/>
                      </a:lnTo>
                      <a:lnTo>
                        <a:pt x="1523" y="333"/>
                      </a:lnTo>
                      <a:lnTo>
                        <a:pt x="1500" y="312"/>
                      </a:lnTo>
                      <a:lnTo>
                        <a:pt x="1471" y="287"/>
                      </a:lnTo>
                      <a:lnTo>
                        <a:pt x="1439" y="259"/>
                      </a:lnTo>
                      <a:lnTo>
                        <a:pt x="1401" y="229"/>
                      </a:lnTo>
                      <a:lnTo>
                        <a:pt x="1361" y="198"/>
                      </a:lnTo>
                      <a:lnTo>
                        <a:pt x="1317" y="167"/>
                      </a:lnTo>
                      <a:lnTo>
                        <a:pt x="1272" y="136"/>
                      </a:lnTo>
                      <a:lnTo>
                        <a:pt x="1225" y="107"/>
                      </a:lnTo>
                      <a:lnTo>
                        <a:pt x="1176" y="81"/>
                      </a:lnTo>
                      <a:lnTo>
                        <a:pt x="1127" y="58"/>
                      </a:lnTo>
                      <a:lnTo>
                        <a:pt x="1078" y="39"/>
                      </a:lnTo>
                      <a:lnTo>
                        <a:pt x="1030" y="26"/>
                      </a:lnTo>
                      <a:lnTo>
                        <a:pt x="984" y="19"/>
                      </a:lnTo>
                      <a:lnTo>
                        <a:pt x="960" y="18"/>
                      </a:lnTo>
                      <a:lnTo>
                        <a:pt x="934" y="15"/>
                      </a:lnTo>
                      <a:lnTo>
                        <a:pt x="908" y="14"/>
                      </a:lnTo>
                      <a:lnTo>
                        <a:pt x="879" y="13"/>
                      </a:lnTo>
                      <a:lnTo>
                        <a:pt x="849" y="12"/>
                      </a:lnTo>
                      <a:lnTo>
                        <a:pt x="818" y="11"/>
                      </a:lnTo>
                      <a:lnTo>
                        <a:pt x="787" y="10"/>
                      </a:lnTo>
                      <a:lnTo>
                        <a:pt x="753" y="8"/>
                      </a:lnTo>
                      <a:lnTo>
                        <a:pt x="721" y="7"/>
                      </a:lnTo>
                      <a:lnTo>
                        <a:pt x="687" y="6"/>
                      </a:lnTo>
                      <a:lnTo>
                        <a:pt x="653" y="6"/>
                      </a:lnTo>
                      <a:lnTo>
                        <a:pt x="619" y="5"/>
                      </a:lnTo>
                      <a:lnTo>
                        <a:pt x="584" y="4"/>
                      </a:lnTo>
                      <a:lnTo>
                        <a:pt x="551" y="4"/>
                      </a:lnTo>
                      <a:lnTo>
                        <a:pt x="517" y="3"/>
                      </a:lnTo>
                      <a:lnTo>
                        <a:pt x="484" y="3"/>
                      </a:lnTo>
                      <a:lnTo>
                        <a:pt x="452" y="3"/>
                      </a:lnTo>
                      <a:lnTo>
                        <a:pt x="420" y="1"/>
                      </a:lnTo>
                      <a:lnTo>
                        <a:pt x="391" y="1"/>
                      </a:lnTo>
                      <a:lnTo>
                        <a:pt x="361" y="1"/>
                      </a:lnTo>
                      <a:lnTo>
                        <a:pt x="333" y="1"/>
                      </a:lnTo>
                      <a:lnTo>
                        <a:pt x="306" y="0"/>
                      </a:lnTo>
                      <a:lnTo>
                        <a:pt x="282" y="0"/>
                      </a:lnTo>
                      <a:lnTo>
                        <a:pt x="259" y="0"/>
                      </a:lnTo>
                      <a:lnTo>
                        <a:pt x="240" y="0"/>
                      </a:lnTo>
                      <a:lnTo>
                        <a:pt x="221" y="0"/>
                      </a:lnTo>
                      <a:lnTo>
                        <a:pt x="205" y="0"/>
                      </a:lnTo>
                      <a:lnTo>
                        <a:pt x="191" y="0"/>
                      </a:lnTo>
                      <a:lnTo>
                        <a:pt x="181" y="0"/>
                      </a:lnTo>
                      <a:lnTo>
                        <a:pt x="173" y="0"/>
                      </a:lnTo>
                      <a:lnTo>
                        <a:pt x="167" y="0"/>
                      </a:lnTo>
                      <a:lnTo>
                        <a:pt x="166"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3" name="Freeform 160"/>
                <p:cNvSpPr/>
                <p:nvPr/>
              </p:nvSpPr>
              <p:spPr>
                <a:xfrm>
                  <a:off x="2981880" y="2175120"/>
                  <a:ext cx="179280" cy="173160"/>
                </a:xfrm>
                <a:custGeom>
                  <a:avLst/>
                  <a:gdLst>
                    <a:gd name="textAreaLeft" fmla="*/ 0 w 179280"/>
                    <a:gd name="textAreaRight" fmla="*/ 179640 w 179280"/>
                    <a:gd name="textAreaTop" fmla="*/ 0 h 173160"/>
                    <a:gd name="textAreaBottom" fmla="*/ 173160 h 17316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4" name="Freeform 161"/>
                <p:cNvSpPr/>
                <p:nvPr/>
              </p:nvSpPr>
              <p:spPr>
                <a:xfrm>
                  <a:off x="2981880" y="2175120"/>
                  <a:ext cx="179280" cy="173160"/>
                </a:xfrm>
                <a:custGeom>
                  <a:avLst/>
                  <a:gdLst>
                    <a:gd name="textAreaLeft" fmla="*/ 0 w 179280"/>
                    <a:gd name="textAreaRight" fmla="*/ 179640 w 179280"/>
                    <a:gd name="textAreaTop" fmla="*/ 0 h 173160"/>
                    <a:gd name="textAreaBottom" fmla="*/ 173160 h 173160"/>
                  </a:gdLst>
                  <a:ahLst/>
                  <a:rect l="textAreaLeft" t="textAreaTop" r="textAreaRight" b="textAreaBottom"/>
                  <a:pathLst>
                    <a:path w="1657" h="1633">
                      <a:moveTo>
                        <a:pt x="167" y="0"/>
                      </a:moveTo>
                      <a:lnTo>
                        <a:pt x="170" y="4"/>
                      </a:lnTo>
                      <a:lnTo>
                        <a:pt x="177" y="16"/>
                      </a:lnTo>
                      <a:lnTo>
                        <a:pt x="187" y="34"/>
                      </a:lnTo>
                      <a:lnTo>
                        <a:pt x="200" y="59"/>
                      </a:lnTo>
                      <a:lnTo>
                        <a:pt x="216" y="89"/>
                      </a:lnTo>
                      <a:lnTo>
                        <a:pt x="232" y="125"/>
                      </a:lnTo>
                      <a:lnTo>
                        <a:pt x="250" y="165"/>
                      </a:lnTo>
                      <a:lnTo>
                        <a:pt x="268" y="209"/>
                      </a:lnTo>
                      <a:lnTo>
                        <a:pt x="285" y="256"/>
                      </a:lnTo>
                      <a:lnTo>
                        <a:pt x="301" y="306"/>
                      </a:lnTo>
                      <a:lnTo>
                        <a:pt x="316" y="358"/>
                      </a:lnTo>
                      <a:lnTo>
                        <a:pt x="328" y="410"/>
                      </a:lnTo>
                      <a:lnTo>
                        <a:pt x="336" y="464"/>
                      </a:lnTo>
                      <a:lnTo>
                        <a:pt x="340" y="517"/>
                      </a:lnTo>
                      <a:lnTo>
                        <a:pt x="339" y="568"/>
                      </a:lnTo>
                      <a:lnTo>
                        <a:pt x="333" y="619"/>
                      </a:lnTo>
                      <a:lnTo>
                        <a:pt x="322" y="674"/>
                      </a:lnTo>
                      <a:lnTo>
                        <a:pt x="306" y="738"/>
                      </a:lnTo>
                      <a:lnTo>
                        <a:pt x="286" y="809"/>
                      </a:lnTo>
                      <a:lnTo>
                        <a:pt x="262" y="885"/>
                      </a:lnTo>
                      <a:lnTo>
                        <a:pt x="237" y="966"/>
                      </a:lnTo>
                      <a:lnTo>
                        <a:pt x="208" y="1048"/>
                      </a:lnTo>
                      <a:lnTo>
                        <a:pt x="179" y="1130"/>
                      </a:lnTo>
                      <a:lnTo>
                        <a:pt x="150" y="1211"/>
                      </a:lnTo>
                      <a:lnTo>
                        <a:pt x="121" y="1289"/>
                      </a:lnTo>
                      <a:lnTo>
                        <a:pt x="94" y="1362"/>
                      </a:lnTo>
                      <a:lnTo>
                        <a:pt x="68" y="1429"/>
                      </a:lnTo>
                      <a:lnTo>
                        <a:pt x="46" y="1487"/>
                      </a:lnTo>
                      <a:lnTo>
                        <a:pt x="27" y="1536"/>
                      </a:lnTo>
                      <a:lnTo>
                        <a:pt x="13" y="1573"/>
                      </a:lnTo>
                      <a:lnTo>
                        <a:pt x="4" y="1596"/>
                      </a:lnTo>
                      <a:lnTo>
                        <a:pt x="0" y="1604"/>
                      </a:lnTo>
                      <a:lnTo>
                        <a:pt x="4" y="1603"/>
                      </a:lnTo>
                      <a:lnTo>
                        <a:pt x="15" y="1600"/>
                      </a:lnTo>
                      <a:lnTo>
                        <a:pt x="33" y="1596"/>
                      </a:lnTo>
                      <a:lnTo>
                        <a:pt x="56" y="1590"/>
                      </a:lnTo>
                      <a:lnTo>
                        <a:pt x="84" y="1583"/>
                      </a:lnTo>
                      <a:lnTo>
                        <a:pt x="118" y="1575"/>
                      </a:lnTo>
                      <a:lnTo>
                        <a:pt x="155" y="1567"/>
                      </a:lnTo>
                      <a:lnTo>
                        <a:pt x="195" y="1558"/>
                      </a:lnTo>
                      <a:lnTo>
                        <a:pt x="238" y="1550"/>
                      </a:lnTo>
                      <a:lnTo>
                        <a:pt x="283" y="1540"/>
                      </a:lnTo>
                      <a:lnTo>
                        <a:pt x="329" y="1532"/>
                      </a:lnTo>
                      <a:lnTo>
                        <a:pt x="376" y="1525"/>
                      </a:lnTo>
                      <a:lnTo>
                        <a:pt x="422" y="1518"/>
                      </a:lnTo>
                      <a:lnTo>
                        <a:pt x="469" y="1513"/>
                      </a:lnTo>
                      <a:lnTo>
                        <a:pt x="514" y="1509"/>
                      </a:lnTo>
                      <a:lnTo>
                        <a:pt x="557" y="1507"/>
                      </a:lnTo>
                      <a:lnTo>
                        <a:pt x="583" y="1507"/>
                      </a:lnTo>
                      <a:lnTo>
                        <a:pt x="611" y="1507"/>
                      </a:lnTo>
                      <a:lnTo>
                        <a:pt x="640" y="1508"/>
                      </a:lnTo>
                      <a:lnTo>
                        <a:pt x="669" y="1509"/>
                      </a:lnTo>
                      <a:lnTo>
                        <a:pt x="700" y="1512"/>
                      </a:lnTo>
                      <a:lnTo>
                        <a:pt x="731" y="1515"/>
                      </a:lnTo>
                      <a:lnTo>
                        <a:pt x="763" y="1518"/>
                      </a:lnTo>
                      <a:lnTo>
                        <a:pt x="795" y="1522"/>
                      </a:lnTo>
                      <a:lnTo>
                        <a:pt x="828" y="1527"/>
                      </a:lnTo>
                      <a:lnTo>
                        <a:pt x="861" y="1531"/>
                      </a:lnTo>
                      <a:lnTo>
                        <a:pt x="893" y="1537"/>
                      </a:lnTo>
                      <a:lnTo>
                        <a:pt x="927" y="1543"/>
                      </a:lnTo>
                      <a:lnTo>
                        <a:pt x="959" y="1547"/>
                      </a:lnTo>
                      <a:lnTo>
                        <a:pt x="991" y="1554"/>
                      </a:lnTo>
                      <a:lnTo>
                        <a:pt x="1022" y="1560"/>
                      </a:lnTo>
                      <a:lnTo>
                        <a:pt x="1053" y="1566"/>
                      </a:lnTo>
                      <a:lnTo>
                        <a:pt x="1085" y="1571"/>
                      </a:lnTo>
                      <a:lnTo>
                        <a:pt x="1113" y="1578"/>
                      </a:lnTo>
                      <a:lnTo>
                        <a:pt x="1141" y="1584"/>
                      </a:lnTo>
                      <a:lnTo>
                        <a:pt x="1169" y="1590"/>
                      </a:lnTo>
                      <a:lnTo>
                        <a:pt x="1194" y="1596"/>
                      </a:lnTo>
                      <a:lnTo>
                        <a:pt x="1218" y="1601"/>
                      </a:lnTo>
                      <a:lnTo>
                        <a:pt x="1240" y="1606"/>
                      </a:lnTo>
                      <a:lnTo>
                        <a:pt x="1261" y="1612"/>
                      </a:lnTo>
                      <a:lnTo>
                        <a:pt x="1280" y="1616"/>
                      </a:lnTo>
                      <a:lnTo>
                        <a:pt x="1297" y="1620"/>
                      </a:lnTo>
                      <a:lnTo>
                        <a:pt x="1311" y="1623"/>
                      </a:lnTo>
                      <a:lnTo>
                        <a:pt x="1323" y="1627"/>
                      </a:lnTo>
                      <a:lnTo>
                        <a:pt x="1333" y="1629"/>
                      </a:lnTo>
                      <a:lnTo>
                        <a:pt x="1340" y="1631"/>
                      </a:lnTo>
                      <a:lnTo>
                        <a:pt x="1345" y="1633"/>
                      </a:lnTo>
                      <a:lnTo>
                        <a:pt x="1346" y="1633"/>
                      </a:lnTo>
                      <a:lnTo>
                        <a:pt x="1350" y="1629"/>
                      </a:lnTo>
                      <a:lnTo>
                        <a:pt x="1358" y="1616"/>
                      </a:lnTo>
                      <a:lnTo>
                        <a:pt x="1370" y="1598"/>
                      </a:lnTo>
                      <a:lnTo>
                        <a:pt x="1386" y="1574"/>
                      </a:lnTo>
                      <a:lnTo>
                        <a:pt x="1407" y="1544"/>
                      </a:lnTo>
                      <a:lnTo>
                        <a:pt x="1429" y="1509"/>
                      </a:lnTo>
                      <a:lnTo>
                        <a:pt x="1454" y="1470"/>
                      </a:lnTo>
                      <a:lnTo>
                        <a:pt x="1480" y="1428"/>
                      </a:lnTo>
                      <a:lnTo>
                        <a:pt x="1506" y="1381"/>
                      </a:lnTo>
                      <a:lnTo>
                        <a:pt x="1533" y="1334"/>
                      </a:lnTo>
                      <a:lnTo>
                        <a:pt x="1558" y="1286"/>
                      </a:lnTo>
                      <a:lnTo>
                        <a:pt x="1581" y="1236"/>
                      </a:lnTo>
                      <a:lnTo>
                        <a:pt x="1603" y="1187"/>
                      </a:lnTo>
                      <a:lnTo>
                        <a:pt x="1621" y="1137"/>
                      </a:lnTo>
                      <a:lnTo>
                        <a:pt x="1636" y="1090"/>
                      </a:lnTo>
                      <a:lnTo>
                        <a:pt x="1648" y="1044"/>
                      </a:lnTo>
                      <a:lnTo>
                        <a:pt x="1657" y="946"/>
                      </a:lnTo>
                      <a:lnTo>
                        <a:pt x="1653" y="837"/>
                      </a:lnTo>
                      <a:lnTo>
                        <a:pt x="1639" y="724"/>
                      </a:lnTo>
                      <a:lnTo>
                        <a:pt x="1619" y="613"/>
                      </a:lnTo>
                      <a:lnTo>
                        <a:pt x="1597" y="515"/>
                      </a:lnTo>
                      <a:lnTo>
                        <a:pt x="1578" y="435"/>
                      </a:lnTo>
                      <a:lnTo>
                        <a:pt x="1563" y="382"/>
                      </a:lnTo>
                      <a:lnTo>
                        <a:pt x="1557" y="362"/>
                      </a:lnTo>
                      <a:lnTo>
                        <a:pt x="1553" y="359"/>
                      </a:lnTo>
                      <a:lnTo>
                        <a:pt x="1542" y="349"/>
                      </a:lnTo>
                      <a:lnTo>
                        <a:pt x="1525" y="332"/>
                      </a:lnTo>
                      <a:lnTo>
                        <a:pt x="1502" y="312"/>
                      </a:lnTo>
                      <a:lnTo>
                        <a:pt x="1473" y="286"/>
                      </a:lnTo>
                      <a:lnTo>
                        <a:pt x="1439" y="259"/>
                      </a:lnTo>
                      <a:lnTo>
                        <a:pt x="1403" y="229"/>
                      </a:lnTo>
                      <a:lnTo>
                        <a:pt x="1362" y="198"/>
                      </a:lnTo>
                      <a:lnTo>
                        <a:pt x="1318" y="167"/>
                      </a:lnTo>
                      <a:lnTo>
                        <a:pt x="1272" y="137"/>
                      </a:lnTo>
                      <a:lnTo>
                        <a:pt x="1225" y="107"/>
                      </a:lnTo>
                      <a:lnTo>
                        <a:pt x="1177" y="80"/>
                      </a:lnTo>
                      <a:lnTo>
                        <a:pt x="1128" y="57"/>
                      </a:lnTo>
                      <a:lnTo>
                        <a:pt x="1080" y="39"/>
                      </a:lnTo>
                      <a:lnTo>
                        <a:pt x="1032" y="25"/>
                      </a:lnTo>
                      <a:lnTo>
                        <a:pt x="985" y="18"/>
                      </a:lnTo>
                      <a:lnTo>
                        <a:pt x="961" y="17"/>
                      </a:lnTo>
                      <a:lnTo>
                        <a:pt x="936" y="15"/>
                      </a:lnTo>
                      <a:lnTo>
                        <a:pt x="909" y="13"/>
                      </a:lnTo>
                      <a:lnTo>
                        <a:pt x="881" y="12"/>
                      </a:lnTo>
                      <a:lnTo>
                        <a:pt x="851" y="11"/>
                      </a:lnTo>
                      <a:lnTo>
                        <a:pt x="820" y="10"/>
                      </a:lnTo>
                      <a:lnTo>
                        <a:pt x="788" y="9"/>
                      </a:lnTo>
                      <a:lnTo>
                        <a:pt x="755" y="8"/>
                      </a:lnTo>
                      <a:lnTo>
                        <a:pt x="723" y="6"/>
                      </a:lnTo>
                      <a:lnTo>
                        <a:pt x="688" y="5"/>
                      </a:lnTo>
                      <a:lnTo>
                        <a:pt x="655" y="5"/>
                      </a:lnTo>
                      <a:lnTo>
                        <a:pt x="620" y="4"/>
                      </a:lnTo>
                      <a:lnTo>
                        <a:pt x="586" y="3"/>
                      </a:lnTo>
                      <a:lnTo>
                        <a:pt x="552" y="3"/>
                      </a:lnTo>
                      <a:lnTo>
                        <a:pt x="519" y="2"/>
                      </a:lnTo>
                      <a:lnTo>
                        <a:pt x="485" y="2"/>
                      </a:lnTo>
                      <a:lnTo>
                        <a:pt x="453" y="2"/>
                      </a:lnTo>
                      <a:lnTo>
                        <a:pt x="422" y="1"/>
                      </a:lnTo>
                      <a:lnTo>
                        <a:pt x="392" y="1"/>
                      </a:lnTo>
                      <a:lnTo>
                        <a:pt x="362" y="1"/>
                      </a:lnTo>
                      <a:lnTo>
                        <a:pt x="334" y="1"/>
                      </a:lnTo>
                      <a:lnTo>
                        <a:pt x="308" y="0"/>
                      </a:lnTo>
                      <a:lnTo>
                        <a:pt x="284" y="0"/>
                      </a:lnTo>
                      <a:lnTo>
                        <a:pt x="261" y="0"/>
                      </a:lnTo>
                      <a:lnTo>
                        <a:pt x="241" y="0"/>
                      </a:lnTo>
                      <a:lnTo>
                        <a:pt x="223" y="0"/>
                      </a:lnTo>
                      <a:lnTo>
                        <a:pt x="207" y="0"/>
                      </a:lnTo>
                      <a:lnTo>
                        <a:pt x="193" y="0"/>
                      </a:lnTo>
                      <a:lnTo>
                        <a:pt x="182" y="0"/>
                      </a:lnTo>
                      <a:lnTo>
                        <a:pt x="174" y="0"/>
                      </a:lnTo>
                      <a:lnTo>
                        <a:pt x="169" y="0"/>
                      </a:lnTo>
                      <a:lnTo>
                        <a:pt x="16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5" name="Freeform 162"/>
                <p:cNvSpPr/>
                <p:nvPr/>
              </p:nvSpPr>
              <p:spPr>
                <a:xfrm>
                  <a:off x="2974680" y="2160720"/>
                  <a:ext cx="191160" cy="200880"/>
                </a:xfrm>
                <a:custGeom>
                  <a:avLst/>
                  <a:gdLst>
                    <a:gd name="textAreaLeft" fmla="*/ 0 w 191160"/>
                    <a:gd name="textAreaRight" fmla="*/ 191520 w 191160"/>
                    <a:gd name="textAreaTop" fmla="*/ 0 h 200880"/>
                    <a:gd name="textAreaBottom" fmla="*/ 201240 h 20088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6" name="Freeform 163"/>
                <p:cNvSpPr/>
                <p:nvPr/>
              </p:nvSpPr>
              <p:spPr>
                <a:xfrm>
                  <a:off x="2974680" y="2160720"/>
                  <a:ext cx="191160" cy="200880"/>
                </a:xfrm>
                <a:custGeom>
                  <a:avLst/>
                  <a:gdLst>
                    <a:gd name="textAreaLeft" fmla="*/ 0 w 191160"/>
                    <a:gd name="textAreaRight" fmla="*/ 191520 w 191160"/>
                    <a:gd name="textAreaTop" fmla="*/ 0 h 200880"/>
                    <a:gd name="textAreaBottom" fmla="*/ 201240 h 200880"/>
                  </a:gdLst>
                  <a:ahLst/>
                  <a:rect l="textAreaLeft" t="textAreaTop" r="textAreaRight" b="textAreaBottom"/>
                  <a:pathLst>
                    <a:path w="1763" h="1896">
                      <a:moveTo>
                        <a:pt x="235" y="0"/>
                      </a:moveTo>
                      <a:lnTo>
                        <a:pt x="234" y="4"/>
                      </a:lnTo>
                      <a:lnTo>
                        <a:pt x="229" y="16"/>
                      </a:lnTo>
                      <a:lnTo>
                        <a:pt x="221" y="34"/>
                      </a:lnTo>
                      <a:lnTo>
                        <a:pt x="212" y="59"/>
                      </a:lnTo>
                      <a:lnTo>
                        <a:pt x="200" y="91"/>
                      </a:lnTo>
                      <a:lnTo>
                        <a:pt x="188" y="126"/>
                      </a:lnTo>
                      <a:lnTo>
                        <a:pt x="174" y="167"/>
                      </a:lnTo>
                      <a:lnTo>
                        <a:pt x="159" y="210"/>
                      </a:lnTo>
                      <a:lnTo>
                        <a:pt x="143" y="257"/>
                      </a:lnTo>
                      <a:lnTo>
                        <a:pt x="127" y="308"/>
                      </a:lnTo>
                      <a:lnTo>
                        <a:pt x="112" y="359"/>
                      </a:lnTo>
                      <a:lnTo>
                        <a:pt x="95" y="412"/>
                      </a:lnTo>
                      <a:lnTo>
                        <a:pt x="82" y="465"/>
                      </a:lnTo>
                      <a:lnTo>
                        <a:pt x="68" y="518"/>
                      </a:lnTo>
                      <a:lnTo>
                        <a:pt x="56" y="571"/>
                      </a:lnTo>
                      <a:lnTo>
                        <a:pt x="47" y="621"/>
                      </a:lnTo>
                      <a:lnTo>
                        <a:pt x="32" y="742"/>
                      </a:lnTo>
                      <a:lnTo>
                        <a:pt x="21" y="897"/>
                      </a:lnTo>
                      <a:lnTo>
                        <a:pt x="12" y="1067"/>
                      </a:lnTo>
                      <a:lnTo>
                        <a:pt x="7" y="1241"/>
                      </a:lnTo>
                      <a:lnTo>
                        <a:pt x="3" y="1402"/>
                      </a:lnTo>
                      <a:lnTo>
                        <a:pt x="1" y="1536"/>
                      </a:lnTo>
                      <a:lnTo>
                        <a:pt x="0" y="1628"/>
                      </a:lnTo>
                      <a:lnTo>
                        <a:pt x="0" y="1661"/>
                      </a:lnTo>
                      <a:lnTo>
                        <a:pt x="1" y="1657"/>
                      </a:lnTo>
                      <a:lnTo>
                        <a:pt x="4" y="1646"/>
                      </a:lnTo>
                      <a:lnTo>
                        <a:pt x="12" y="1628"/>
                      </a:lnTo>
                      <a:lnTo>
                        <a:pt x="23" y="1606"/>
                      </a:lnTo>
                      <a:lnTo>
                        <a:pt x="39" y="1579"/>
                      </a:lnTo>
                      <a:lnTo>
                        <a:pt x="60" y="1551"/>
                      </a:lnTo>
                      <a:lnTo>
                        <a:pt x="86" y="1521"/>
                      </a:lnTo>
                      <a:lnTo>
                        <a:pt x="120" y="1491"/>
                      </a:lnTo>
                      <a:lnTo>
                        <a:pt x="160" y="1462"/>
                      </a:lnTo>
                      <a:lnTo>
                        <a:pt x="208" y="1436"/>
                      </a:lnTo>
                      <a:lnTo>
                        <a:pt x="265" y="1414"/>
                      </a:lnTo>
                      <a:lnTo>
                        <a:pt x="329" y="1395"/>
                      </a:lnTo>
                      <a:lnTo>
                        <a:pt x="404" y="1384"/>
                      </a:lnTo>
                      <a:lnTo>
                        <a:pt x="488" y="1379"/>
                      </a:lnTo>
                      <a:lnTo>
                        <a:pt x="584" y="1384"/>
                      </a:lnTo>
                      <a:lnTo>
                        <a:pt x="691" y="1398"/>
                      </a:lnTo>
                      <a:lnTo>
                        <a:pt x="742" y="1407"/>
                      </a:lnTo>
                      <a:lnTo>
                        <a:pt x="791" y="1418"/>
                      </a:lnTo>
                      <a:lnTo>
                        <a:pt x="839" y="1432"/>
                      </a:lnTo>
                      <a:lnTo>
                        <a:pt x="884" y="1446"/>
                      </a:lnTo>
                      <a:lnTo>
                        <a:pt x="927" y="1462"/>
                      </a:lnTo>
                      <a:lnTo>
                        <a:pt x="969" y="1478"/>
                      </a:lnTo>
                      <a:lnTo>
                        <a:pt x="1009" y="1497"/>
                      </a:lnTo>
                      <a:lnTo>
                        <a:pt x="1047" y="1515"/>
                      </a:lnTo>
                      <a:lnTo>
                        <a:pt x="1083" y="1535"/>
                      </a:lnTo>
                      <a:lnTo>
                        <a:pt x="1117" y="1555"/>
                      </a:lnTo>
                      <a:lnTo>
                        <a:pt x="1150" y="1576"/>
                      </a:lnTo>
                      <a:lnTo>
                        <a:pt x="1181" y="1597"/>
                      </a:lnTo>
                      <a:lnTo>
                        <a:pt x="1210" y="1619"/>
                      </a:lnTo>
                      <a:lnTo>
                        <a:pt x="1237" y="1639"/>
                      </a:lnTo>
                      <a:lnTo>
                        <a:pt x="1264" y="1661"/>
                      </a:lnTo>
                      <a:lnTo>
                        <a:pt x="1288" y="1682"/>
                      </a:lnTo>
                      <a:lnTo>
                        <a:pt x="1310" y="1703"/>
                      </a:lnTo>
                      <a:lnTo>
                        <a:pt x="1332" y="1723"/>
                      </a:lnTo>
                      <a:lnTo>
                        <a:pt x="1350" y="1744"/>
                      </a:lnTo>
                      <a:lnTo>
                        <a:pt x="1369" y="1764"/>
                      </a:lnTo>
                      <a:lnTo>
                        <a:pt x="1385" y="1782"/>
                      </a:lnTo>
                      <a:lnTo>
                        <a:pt x="1400" y="1799"/>
                      </a:lnTo>
                      <a:lnTo>
                        <a:pt x="1412" y="1816"/>
                      </a:lnTo>
                      <a:lnTo>
                        <a:pt x="1424" y="1832"/>
                      </a:lnTo>
                      <a:lnTo>
                        <a:pt x="1434" y="1846"/>
                      </a:lnTo>
                      <a:lnTo>
                        <a:pt x="1443" y="1858"/>
                      </a:lnTo>
                      <a:lnTo>
                        <a:pt x="1452" y="1870"/>
                      </a:lnTo>
                      <a:lnTo>
                        <a:pt x="1457" y="1879"/>
                      </a:lnTo>
                      <a:lnTo>
                        <a:pt x="1462" y="1886"/>
                      </a:lnTo>
                      <a:lnTo>
                        <a:pt x="1465" y="1892"/>
                      </a:lnTo>
                      <a:lnTo>
                        <a:pt x="1467" y="1895"/>
                      </a:lnTo>
                      <a:lnTo>
                        <a:pt x="1468" y="1896"/>
                      </a:lnTo>
                      <a:lnTo>
                        <a:pt x="1470" y="1892"/>
                      </a:lnTo>
                      <a:lnTo>
                        <a:pt x="1478" y="1879"/>
                      </a:lnTo>
                      <a:lnTo>
                        <a:pt x="1491" y="1859"/>
                      </a:lnTo>
                      <a:lnTo>
                        <a:pt x="1506" y="1833"/>
                      </a:lnTo>
                      <a:lnTo>
                        <a:pt x="1525" y="1801"/>
                      </a:lnTo>
                      <a:lnTo>
                        <a:pt x="1546" y="1763"/>
                      </a:lnTo>
                      <a:lnTo>
                        <a:pt x="1569" y="1720"/>
                      </a:lnTo>
                      <a:lnTo>
                        <a:pt x="1593" y="1675"/>
                      </a:lnTo>
                      <a:lnTo>
                        <a:pt x="1619" y="1627"/>
                      </a:lnTo>
                      <a:lnTo>
                        <a:pt x="1643" y="1576"/>
                      </a:lnTo>
                      <a:lnTo>
                        <a:pt x="1667" y="1525"/>
                      </a:lnTo>
                      <a:lnTo>
                        <a:pt x="1690" y="1474"/>
                      </a:lnTo>
                      <a:lnTo>
                        <a:pt x="1711" y="1422"/>
                      </a:lnTo>
                      <a:lnTo>
                        <a:pt x="1728" y="1371"/>
                      </a:lnTo>
                      <a:lnTo>
                        <a:pt x="1743" y="1323"/>
                      </a:lnTo>
                      <a:lnTo>
                        <a:pt x="1753" y="1277"/>
                      </a:lnTo>
                      <a:lnTo>
                        <a:pt x="1763" y="1179"/>
                      </a:lnTo>
                      <a:lnTo>
                        <a:pt x="1758" y="1071"/>
                      </a:lnTo>
                      <a:lnTo>
                        <a:pt x="1744" y="956"/>
                      </a:lnTo>
                      <a:lnTo>
                        <a:pt x="1725" y="847"/>
                      </a:lnTo>
                      <a:lnTo>
                        <a:pt x="1703" y="749"/>
                      </a:lnTo>
                      <a:lnTo>
                        <a:pt x="1683" y="669"/>
                      </a:lnTo>
                      <a:lnTo>
                        <a:pt x="1668" y="616"/>
                      </a:lnTo>
                      <a:lnTo>
                        <a:pt x="1662" y="596"/>
                      </a:lnTo>
                      <a:lnTo>
                        <a:pt x="1660" y="590"/>
                      </a:lnTo>
                      <a:lnTo>
                        <a:pt x="1653" y="576"/>
                      </a:lnTo>
                      <a:lnTo>
                        <a:pt x="1642" y="553"/>
                      </a:lnTo>
                      <a:lnTo>
                        <a:pt x="1626" y="524"/>
                      </a:lnTo>
                      <a:lnTo>
                        <a:pt x="1604" y="488"/>
                      </a:lnTo>
                      <a:lnTo>
                        <a:pt x="1576" y="447"/>
                      </a:lnTo>
                      <a:lnTo>
                        <a:pt x="1544" y="405"/>
                      </a:lnTo>
                      <a:lnTo>
                        <a:pt x="1505" y="360"/>
                      </a:lnTo>
                      <a:lnTo>
                        <a:pt x="1460" y="315"/>
                      </a:lnTo>
                      <a:lnTo>
                        <a:pt x="1409" y="270"/>
                      </a:lnTo>
                      <a:lnTo>
                        <a:pt x="1350" y="228"/>
                      </a:lnTo>
                      <a:lnTo>
                        <a:pt x="1286" y="188"/>
                      </a:lnTo>
                      <a:lnTo>
                        <a:pt x="1214" y="155"/>
                      </a:lnTo>
                      <a:lnTo>
                        <a:pt x="1135" y="126"/>
                      </a:lnTo>
                      <a:lnTo>
                        <a:pt x="1048" y="105"/>
                      </a:lnTo>
                      <a:lnTo>
                        <a:pt x="954" y="93"/>
                      </a:lnTo>
                      <a:lnTo>
                        <a:pt x="869" y="86"/>
                      </a:lnTo>
                      <a:lnTo>
                        <a:pt x="789" y="79"/>
                      </a:lnTo>
                      <a:lnTo>
                        <a:pt x="714" y="71"/>
                      </a:lnTo>
                      <a:lnTo>
                        <a:pt x="645" y="63"/>
                      </a:lnTo>
                      <a:lnTo>
                        <a:pt x="580" y="55"/>
                      </a:lnTo>
                      <a:lnTo>
                        <a:pt x="522" y="48"/>
                      </a:lnTo>
                      <a:lnTo>
                        <a:pt x="468" y="40"/>
                      </a:lnTo>
                      <a:lnTo>
                        <a:pt x="419" y="33"/>
                      </a:lnTo>
                      <a:lnTo>
                        <a:pt x="377" y="26"/>
                      </a:lnTo>
                      <a:lnTo>
                        <a:pt x="340" y="19"/>
                      </a:lnTo>
                      <a:lnTo>
                        <a:pt x="307" y="15"/>
                      </a:lnTo>
                      <a:lnTo>
                        <a:pt x="282" y="9"/>
                      </a:lnTo>
                      <a:lnTo>
                        <a:pt x="261" y="5"/>
                      </a:lnTo>
                      <a:lnTo>
                        <a:pt x="246" y="2"/>
                      </a:lnTo>
                      <a:lnTo>
                        <a:pt x="238" y="1"/>
                      </a:lnTo>
                      <a:lnTo>
                        <a:pt x="235"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7" name="Freeform 164"/>
                <p:cNvSpPr/>
                <p:nvPr/>
              </p:nvSpPr>
              <p:spPr>
                <a:xfrm>
                  <a:off x="3135600" y="2171160"/>
                  <a:ext cx="157320" cy="189720"/>
                </a:xfrm>
                <a:custGeom>
                  <a:avLst/>
                  <a:gdLst>
                    <a:gd name="textAreaLeft" fmla="*/ 0 w 157320"/>
                    <a:gd name="textAreaRight" fmla="*/ 157680 w 157320"/>
                    <a:gd name="textAreaTop" fmla="*/ 0 h 189720"/>
                    <a:gd name="textAreaBottom" fmla="*/ 190080 h 18972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8" name="Freeform 165"/>
                <p:cNvSpPr/>
                <p:nvPr/>
              </p:nvSpPr>
              <p:spPr>
                <a:xfrm>
                  <a:off x="3135600" y="2171160"/>
                  <a:ext cx="157320" cy="189720"/>
                </a:xfrm>
                <a:custGeom>
                  <a:avLst/>
                  <a:gdLst>
                    <a:gd name="textAreaLeft" fmla="*/ 0 w 157320"/>
                    <a:gd name="textAreaRight" fmla="*/ 157680 w 157320"/>
                    <a:gd name="textAreaTop" fmla="*/ 0 h 189720"/>
                    <a:gd name="textAreaBottom" fmla="*/ 190080 h 189720"/>
                  </a:gdLst>
                  <a:ahLst/>
                  <a:rect l="textAreaLeft" t="textAreaTop" r="textAreaRight" b="textAreaBottom"/>
                  <a:pathLst>
                    <a:path w="1451" h="1791">
                      <a:moveTo>
                        <a:pt x="225" y="570"/>
                      </a:moveTo>
                      <a:lnTo>
                        <a:pt x="225" y="567"/>
                      </a:lnTo>
                      <a:lnTo>
                        <a:pt x="225" y="556"/>
                      </a:lnTo>
                      <a:lnTo>
                        <a:pt x="227" y="540"/>
                      </a:lnTo>
                      <a:lnTo>
                        <a:pt x="229" y="519"/>
                      </a:lnTo>
                      <a:lnTo>
                        <a:pt x="234" y="493"/>
                      </a:lnTo>
                      <a:lnTo>
                        <a:pt x="242" y="464"/>
                      </a:lnTo>
                      <a:lnTo>
                        <a:pt x="252" y="432"/>
                      </a:lnTo>
                      <a:lnTo>
                        <a:pt x="267" y="399"/>
                      </a:lnTo>
                      <a:lnTo>
                        <a:pt x="287" y="363"/>
                      </a:lnTo>
                      <a:lnTo>
                        <a:pt x="312" y="327"/>
                      </a:lnTo>
                      <a:lnTo>
                        <a:pt x="342" y="293"/>
                      </a:lnTo>
                      <a:lnTo>
                        <a:pt x="379" y="258"/>
                      </a:lnTo>
                      <a:lnTo>
                        <a:pt x="424" y="225"/>
                      </a:lnTo>
                      <a:lnTo>
                        <a:pt x="475" y="196"/>
                      </a:lnTo>
                      <a:lnTo>
                        <a:pt x="535" y="168"/>
                      </a:lnTo>
                      <a:lnTo>
                        <a:pt x="605" y="146"/>
                      </a:lnTo>
                      <a:lnTo>
                        <a:pt x="641" y="136"/>
                      </a:lnTo>
                      <a:lnTo>
                        <a:pt x="679" y="127"/>
                      </a:lnTo>
                      <a:lnTo>
                        <a:pt x="716" y="118"/>
                      </a:lnTo>
                      <a:lnTo>
                        <a:pt x="754" y="110"/>
                      </a:lnTo>
                      <a:lnTo>
                        <a:pt x="791" y="100"/>
                      </a:lnTo>
                      <a:lnTo>
                        <a:pt x="829" y="92"/>
                      </a:lnTo>
                      <a:lnTo>
                        <a:pt x="866" y="85"/>
                      </a:lnTo>
                      <a:lnTo>
                        <a:pt x="903" y="77"/>
                      </a:lnTo>
                      <a:lnTo>
                        <a:pt x="940" y="72"/>
                      </a:lnTo>
                      <a:lnTo>
                        <a:pt x="976" y="65"/>
                      </a:lnTo>
                      <a:lnTo>
                        <a:pt x="1011" y="59"/>
                      </a:lnTo>
                      <a:lnTo>
                        <a:pt x="1046" y="53"/>
                      </a:lnTo>
                      <a:lnTo>
                        <a:pt x="1079" y="47"/>
                      </a:lnTo>
                      <a:lnTo>
                        <a:pt x="1113" y="42"/>
                      </a:lnTo>
                      <a:lnTo>
                        <a:pt x="1145" y="37"/>
                      </a:lnTo>
                      <a:lnTo>
                        <a:pt x="1176" y="32"/>
                      </a:lnTo>
                      <a:lnTo>
                        <a:pt x="1206" y="29"/>
                      </a:lnTo>
                      <a:lnTo>
                        <a:pt x="1235" y="24"/>
                      </a:lnTo>
                      <a:lnTo>
                        <a:pt x="1261" y="21"/>
                      </a:lnTo>
                      <a:lnTo>
                        <a:pt x="1288" y="17"/>
                      </a:lnTo>
                      <a:lnTo>
                        <a:pt x="1312" y="15"/>
                      </a:lnTo>
                      <a:lnTo>
                        <a:pt x="1334" y="13"/>
                      </a:lnTo>
                      <a:lnTo>
                        <a:pt x="1356" y="9"/>
                      </a:lnTo>
                      <a:lnTo>
                        <a:pt x="1374" y="8"/>
                      </a:lnTo>
                      <a:lnTo>
                        <a:pt x="1391" y="6"/>
                      </a:lnTo>
                      <a:lnTo>
                        <a:pt x="1406" y="5"/>
                      </a:lnTo>
                      <a:lnTo>
                        <a:pt x="1420" y="4"/>
                      </a:lnTo>
                      <a:lnTo>
                        <a:pt x="1431" y="2"/>
                      </a:lnTo>
                      <a:lnTo>
                        <a:pt x="1440" y="1"/>
                      </a:lnTo>
                      <a:lnTo>
                        <a:pt x="1447" y="0"/>
                      </a:lnTo>
                      <a:lnTo>
                        <a:pt x="1450" y="0"/>
                      </a:lnTo>
                      <a:lnTo>
                        <a:pt x="1451" y="0"/>
                      </a:lnTo>
                      <a:lnTo>
                        <a:pt x="1448" y="8"/>
                      </a:lnTo>
                      <a:lnTo>
                        <a:pt x="1439" y="34"/>
                      </a:lnTo>
                      <a:lnTo>
                        <a:pt x="1425" y="83"/>
                      </a:lnTo>
                      <a:lnTo>
                        <a:pt x="1409" y="159"/>
                      </a:lnTo>
                      <a:lnTo>
                        <a:pt x="1389" y="268"/>
                      </a:lnTo>
                      <a:lnTo>
                        <a:pt x="1368" y="415"/>
                      </a:lnTo>
                      <a:lnTo>
                        <a:pt x="1349" y="602"/>
                      </a:lnTo>
                      <a:lnTo>
                        <a:pt x="1330" y="836"/>
                      </a:lnTo>
                      <a:lnTo>
                        <a:pt x="1322" y="1069"/>
                      </a:lnTo>
                      <a:lnTo>
                        <a:pt x="1330" y="1251"/>
                      </a:lnTo>
                      <a:lnTo>
                        <a:pt x="1349" y="1389"/>
                      </a:lnTo>
                      <a:lnTo>
                        <a:pt x="1374" y="1488"/>
                      </a:lnTo>
                      <a:lnTo>
                        <a:pt x="1401" y="1556"/>
                      </a:lnTo>
                      <a:lnTo>
                        <a:pt x="1426" y="1597"/>
                      </a:lnTo>
                      <a:lnTo>
                        <a:pt x="1444" y="1617"/>
                      </a:lnTo>
                      <a:lnTo>
                        <a:pt x="1451" y="1623"/>
                      </a:lnTo>
                      <a:lnTo>
                        <a:pt x="1447" y="1622"/>
                      </a:lnTo>
                      <a:lnTo>
                        <a:pt x="1433" y="1619"/>
                      </a:lnTo>
                      <a:lnTo>
                        <a:pt x="1410" y="1616"/>
                      </a:lnTo>
                      <a:lnTo>
                        <a:pt x="1381" y="1611"/>
                      </a:lnTo>
                      <a:lnTo>
                        <a:pt x="1344" y="1605"/>
                      </a:lnTo>
                      <a:lnTo>
                        <a:pt x="1303" y="1601"/>
                      </a:lnTo>
                      <a:lnTo>
                        <a:pt x="1256" y="1595"/>
                      </a:lnTo>
                      <a:lnTo>
                        <a:pt x="1205" y="1589"/>
                      </a:lnTo>
                      <a:lnTo>
                        <a:pt x="1151" y="1585"/>
                      </a:lnTo>
                      <a:lnTo>
                        <a:pt x="1095" y="1581"/>
                      </a:lnTo>
                      <a:lnTo>
                        <a:pt x="1037" y="1578"/>
                      </a:lnTo>
                      <a:lnTo>
                        <a:pt x="979" y="1577"/>
                      </a:lnTo>
                      <a:lnTo>
                        <a:pt x="920" y="1577"/>
                      </a:lnTo>
                      <a:lnTo>
                        <a:pt x="863" y="1579"/>
                      </a:lnTo>
                      <a:lnTo>
                        <a:pt x="807" y="1585"/>
                      </a:lnTo>
                      <a:lnTo>
                        <a:pt x="754" y="1592"/>
                      </a:lnTo>
                      <a:lnTo>
                        <a:pt x="729" y="1596"/>
                      </a:lnTo>
                      <a:lnTo>
                        <a:pt x="702" y="1602"/>
                      </a:lnTo>
                      <a:lnTo>
                        <a:pt x="674" y="1608"/>
                      </a:lnTo>
                      <a:lnTo>
                        <a:pt x="646" y="1613"/>
                      </a:lnTo>
                      <a:lnTo>
                        <a:pt x="616" y="1620"/>
                      </a:lnTo>
                      <a:lnTo>
                        <a:pt x="586" y="1628"/>
                      </a:lnTo>
                      <a:lnTo>
                        <a:pt x="555" y="1635"/>
                      </a:lnTo>
                      <a:lnTo>
                        <a:pt x="524" y="1643"/>
                      </a:lnTo>
                      <a:lnTo>
                        <a:pt x="493" y="1651"/>
                      </a:lnTo>
                      <a:lnTo>
                        <a:pt x="462" y="1660"/>
                      </a:lnTo>
                      <a:lnTo>
                        <a:pt x="429" y="1668"/>
                      </a:lnTo>
                      <a:lnTo>
                        <a:pt x="398" y="1676"/>
                      </a:lnTo>
                      <a:lnTo>
                        <a:pt x="367" y="1685"/>
                      </a:lnTo>
                      <a:lnTo>
                        <a:pt x="337" y="1693"/>
                      </a:lnTo>
                      <a:lnTo>
                        <a:pt x="306" y="1701"/>
                      </a:lnTo>
                      <a:lnTo>
                        <a:pt x="277" y="1709"/>
                      </a:lnTo>
                      <a:lnTo>
                        <a:pt x="249" y="1717"/>
                      </a:lnTo>
                      <a:lnTo>
                        <a:pt x="221" y="1725"/>
                      </a:lnTo>
                      <a:lnTo>
                        <a:pt x="194" y="1733"/>
                      </a:lnTo>
                      <a:lnTo>
                        <a:pt x="168" y="1740"/>
                      </a:lnTo>
                      <a:lnTo>
                        <a:pt x="144" y="1747"/>
                      </a:lnTo>
                      <a:lnTo>
                        <a:pt x="121" y="1754"/>
                      </a:lnTo>
                      <a:lnTo>
                        <a:pt x="100" y="1761"/>
                      </a:lnTo>
                      <a:lnTo>
                        <a:pt x="80" y="1767"/>
                      </a:lnTo>
                      <a:lnTo>
                        <a:pt x="62" y="1771"/>
                      </a:lnTo>
                      <a:lnTo>
                        <a:pt x="47" y="1777"/>
                      </a:lnTo>
                      <a:lnTo>
                        <a:pt x="33" y="1780"/>
                      </a:lnTo>
                      <a:lnTo>
                        <a:pt x="22" y="1784"/>
                      </a:lnTo>
                      <a:lnTo>
                        <a:pt x="12" y="1787"/>
                      </a:lnTo>
                      <a:lnTo>
                        <a:pt x="5" y="1790"/>
                      </a:lnTo>
                      <a:lnTo>
                        <a:pt x="1" y="1791"/>
                      </a:lnTo>
                      <a:lnTo>
                        <a:pt x="0" y="1791"/>
                      </a:lnTo>
                      <a:lnTo>
                        <a:pt x="2" y="1786"/>
                      </a:lnTo>
                      <a:lnTo>
                        <a:pt x="10" y="1771"/>
                      </a:lnTo>
                      <a:lnTo>
                        <a:pt x="22" y="1748"/>
                      </a:lnTo>
                      <a:lnTo>
                        <a:pt x="38" y="1717"/>
                      </a:lnTo>
                      <a:lnTo>
                        <a:pt x="55" y="1680"/>
                      </a:lnTo>
                      <a:lnTo>
                        <a:pt x="76" y="1639"/>
                      </a:lnTo>
                      <a:lnTo>
                        <a:pt x="98" y="1592"/>
                      </a:lnTo>
                      <a:lnTo>
                        <a:pt x="119" y="1542"/>
                      </a:lnTo>
                      <a:lnTo>
                        <a:pt x="141" y="1491"/>
                      </a:lnTo>
                      <a:lnTo>
                        <a:pt x="163" y="1438"/>
                      </a:lnTo>
                      <a:lnTo>
                        <a:pt x="184" y="1385"/>
                      </a:lnTo>
                      <a:lnTo>
                        <a:pt x="202" y="1335"/>
                      </a:lnTo>
                      <a:lnTo>
                        <a:pt x="217" y="1285"/>
                      </a:lnTo>
                      <a:lnTo>
                        <a:pt x="229" y="1239"/>
                      </a:lnTo>
                      <a:lnTo>
                        <a:pt x="237" y="1198"/>
                      </a:lnTo>
                      <a:lnTo>
                        <a:pt x="239" y="1162"/>
                      </a:lnTo>
                      <a:lnTo>
                        <a:pt x="237" y="995"/>
                      </a:lnTo>
                      <a:lnTo>
                        <a:pt x="232" y="799"/>
                      </a:lnTo>
                      <a:lnTo>
                        <a:pt x="228" y="638"/>
                      </a:lnTo>
                      <a:lnTo>
                        <a:pt x="225" y="5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Freeform 166"/>
                <p:cNvSpPr/>
                <p:nvPr/>
              </p:nvSpPr>
              <p:spPr>
                <a:xfrm>
                  <a:off x="3130560" y="2160360"/>
                  <a:ext cx="145800" cy="201600"/>
                </a:xfrm>
                <a:custGeom>
                  <a:avLst/>
                  <a:gdLst>
                    <a:gd name="textAreaLeft" fmla="*/ 0 w 145800"/>
                    <a:gd name="textAreaRight" fmla="*/ 146160 w 145800"/>
                    <a:gd name="textAreaTop" fmla="*/ 0 h 201600"/>
                    <a:gd name="textAreaBottom" fmla="*/ 201960 h 20160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Freeform 167"/>
                <p:cNvSpPr/>
                <p:nvPr/>
              </p:nvSpPr>
              <p:spPr>
                <a:xfrm>
                  <a:off x="3130560" y="2160360"/>
                  <a:ext cx="145800" cy="201600"/>
                </a:xfrm>
                <a:custGeom>
                  <a:avLst/>
                  <a:gdLst>
                    <a:gd name="textAreaLeft" fmla="*/ 0 w 145800"/>
                    <a:gd name="textAreaRight" fmla="*/ 146160 w 145800"/>
                    <a:gd name="textAreaTop" fmla="*/ 0 h 201600"/>
                    <a:gd name="textAreaBottom" fmla="*/ 201960 h 201600"/>
                  </a:gdLst>
                  <a:ahLst/>
                  <a:rect l="textAreaLeft" t="textAreaTop" r="textAreaRight" b="textAreaBottom"/>
                  <a:pathLst>
                    <a:path w="1345" h="1901">
                      <a:moveTo>
                        <a:pt x="121" y="571"/>
                      </a:moveTo>
                      <a:lnTo>
                        <a:pt x="121" y="568"/>
                      </a:lnTo>
                      <a:lnTo>
                        <a:pt x="121" y="557"/>
                      </a:lnTo>
                      <a:lnTo>
                        <a:pt x="122" y="541"/>
                      </a:lnTo>
                      <a:lnTo>
                        <a:pt x="124" y="520"/>
                      </a:lnTo>
                      <a:lnTo>
                        <a:pt x="129" y="495"/>
                      </a:lnTo>
                      <a:lnTo>
                        <a:pt x="137" y="466"/>
                      </a:lnTo>
                      <a:lnTo>
                        <a:pt x="147" y="434"/>
                      </a:lnTo>
                      <a:lnTo>
                        <a:pt x="162" y="401"/>
                      </a:lnTo>
                      <a:lnTo>
                        <a:pt x="182" y="365"/>
                      </a:lnTo>
                      <a:lnTo>
                        <a:pt x="206" y="329"/>
                      </a:lnTo>
                      <a:lnTo>
                        <a:pt x="236" y="295"/>
                      </a:lnTo>
                      <a:lnTo>
                        <a:pt x="273" y="260"/>
                      </a:lnTo>
                      <a:lnTo>
                        <a:pt x="318" y="228"/>
                      </a:lnTo>
                      <a:lnTo>
                        <a:pt x="368" y="198"/>
                      </a:lnTo>
                      <a:lnTo>
                        <a:pt x="428" y="172"/>
                      </a:lnTo>
                      <a:lnTo>
                        <a:pt x="497" y="148"/>
                      </a:lnTo>
                      <a:lnTo>
                        <a:pt x="534" y="138"/>
                      </a:lnTo>
                      <a:lnTo>
                        <a:pt x="572" y="129"/>
                      </a:lnTo>
                      <a:lnTo>
                        <a:pt x="609" y="120"/>
                      </a:lnTo>
                      <a:lnTo>
                        <a:pt x="647" y="110"/>
                      </a:lnTo>
                      <a:lnTo>
                        <a:pt x="684" y="102"/>
                      </a:lnTo>
                      <a:lnTo>
                        <a:pt x="722" y="94"/>
                      </a:lnTo>
                      <a:lnTo>
                        <a:pt x="759" y="86"/>
                      </a:lnTo>
                      <a:lnTo>
                        <a:pt x="796" y="79"/>
                      </a:lnTo>
                      <a:lnTo>
                        <a:pt x="833" y="72"/>
                      </a:lnTo>
                      <a:lnTo>
                        <a:pt x="868" y="66"/>
                      </a:lnTo>
                      <a:lnTo>
                        <a:pt x="904" y="60"/>
                      </a:lnTo>
                      <a:lnTo>
                        <a:pt x="939" y="53"/>
                      </a:lnTo>
                      <a:lnTo>
                        <a:pt x="973" y="48"/>
                      </a:lnTo>
                      <a:lnTo>
                        <a:pt x="1006" y="43"/>
                      </a:lnTo>
                      <a:lnTo>
                        <a:pt x="1038" y="38"/>
                      </a:lnTo>
                      <a:lnTo>
                        <a:pt x="1069" y="33"/>
                      </a:lnTo>
                      <a:lnTo>
                        <a:pt x="1099" y="29"/>
                      </a:lnTo>
                      <a:lnTo>
                        <a:pt x="1128" y="25"/>
                      </a:lnTo>
                      <a:lnTo>
                        <a:pt x="1155" y="22"/>
                      </a:lnTo>
                      <a:lnTo>
                        <a:pt x="1181" y="18"/>
                      </a:lnTo>
                      <a:lnTo>
                        <a:pt x="1205" y="15"/>
                      </a:lnTo>
                      <a:lnTo>
                        <a:pt x="1228" y="13"/>
                      </a:lnTo>
                      <a:lnTo>
                        <a:pt x="1249" y="10"/>
                      </a:lnTo>
                      <a:lnTo>
                        <a:pt x="1268" y="8"/>
                      </a:lnTo>
                      <a:lnTo>
                        <a:pt x="1286" y="6"/>
                      </a:lnTo>
                      <a:lnTo>
                        <a:pt x="1301" y="5"/>
                      </a:lnTo>
                      <a:lnTo>
                        <a:pt x="1314" y="3"/>
                      </a:lnTo>
                      <a:lnTo>
                        <a:pt x="1325" y="2"/>
                      </a:lnTo>
                      <a:lnTo>
                        <a:pt x="1334" y="1"/>
                      </a:lnTo>
                      <a:lnTo>
                        <a:pt x="1340" y="0"/>
                      </a:lnTo>
                      <a:lnTo>
                        <a:pt x="1344" y="0"/>
                      </a:lnTo>
                      <a:lnTo>
                        <a:pt x="1345" y="0"/>
                      </a:lnTo>
                      <a:lnTo>
                        <a:pt x="1342" y="8"/>
                      </a:lnTo>
                      <a:lnTo>
                        <a:pt x="1333" y="33"/>
                      </a:lnTo>
                      <a:lnTo>
                        <a:pt x="1319" y="83"/>
                      </a:lnTo>
                      <a:lnTo>
                        <a:pt x="1302" y="160"/>
                      </a:lnTo>
                      <a:lnTo>
                        <a:pt x="1282" y="269"/>
                      </a:lnTo>
                      <a:lnTo>
                        <a:pt x="1262" y="416"/>
                      </a:lnTo>
                      <a:lnTo>
                        <a:pt x="1243" y="603"/>
                      </a:lnTo>
                      <a:lnTo>
                        <a:pt x="1224" y="837"/>
                      </a:lnTo>
                      <a:lnTo>
                        <a:pt x="1216" y="1070"/>
                      </a:lnTo>
                      <a:lnTo>
                        <a:pt x="1224" y="1252"/>
                      </a:lnTo>
                      <a:lnTo>
                        <a:pt x="1243" y="1391"/>
                      </a:lnTo>
                      <a:lnTo>
                        <a:pt x="1268" y="1491"/>
                      </a:lnTo>
                      <a:lnTo>
                        <a:pt x="1295" y="1559"/>
                      </a:lnTo>
                      <a:lnTo>
                        <a:pt x="1320" y="1601"/>
                      </a:lnTo>
                      <a:lnTo>
                        <a:pt x="1339" y="1621"/>
                      </a:lnTo>
                      <a:lnTo>
                        <a:pt x="1345" y="1627"/>
                      </a:lnTo>
                      <a:lnTo>
                        <a:pt x="1342" y="1627"/>
                      </a:lnTo>
                      <a:lnTo>
                        <a:pt x="1330" y="1625"/>
                      </a:lnTo>
                      <a:lnTo>
                        <a:pt x="1313" y="1622"/>
                      </a:lnTo>
                      <a:lnTo>
                        <a:pt x="1289" y="1620"/>
                      </a:lnTo>
                      <a:lnTo>
                        <a:pt x="1260" y="1617"/>
                      </a:lnTo>
                      <a:lnTo>
                        <a:pt x="1226" y="1613"/>
                      </a:lnTo>
                      <a:lnTo>
                        <a:pt x="1188" y="1611"/>
                      </a:lnTo>
                      <a:lnTo>
                        <a:pt x="1145" y="1608"/>
                      </a:lnTo>
                      <a:lnTo>
                        <a:pt x="1099" y="1606"/>
                      </a:lnTo>
                      <a:lnTo>
                        <a:pt x="1052" y="1605"/>
                      </a:lnTo>
                      <a:lnTo>
                        <a:pt x="1001" y="1605"/>
                      </a:lnTo>
                      <a:lnTo>
                        <a:pt x="949" y="1605"/>
                      </a:lnTo>
                      <a:lnTo>
                        <a:pt x="897" y="1609"/>
                      </a:lnTo>
                      <a:lnTo>
                        <a:pt x="844" y="1612"/>
                      </a:lnTo>
                      <a:lnTo>
                        <a:pt x="791" y="1619"/>
                      </a:lnTo>
                      <a:lnTo>
                        <a:pt x="739" y="1627"/>
                      </a:lnTo>
                      <a:lnTo>
                        <a:pt x="688" y="1639"/>
                      </a:lnTo>
                      <a:lnTo>
                        <a:pt x="631" y="1652"/>
                      </a:lnTo>
                      <a:lnTo>
                        <a:pt x="572" y="1671"/>
                      </a:lnTo>
                      <a:lnTo>
                        <a:pt x="511" y="1690"/>
                      </a:lnTo>
                      <a:lnTo>
                        <a:pt x="450" y="1712"/>
                      </a:lnTo>
                      <a:lnTo>
                        <a:pt x="388" y="1735"/>
                      </a:lnTo>
                      <a:lnTo>
                        <a:pt x="328" y="1758"/>
                      </a:lnTo>
                      <a:lnTo>
                        <a:pt x="269" y="1783"/>
                      </a:lnTo>
                      <a:lnTo>
                        <a:pt x="215" y="1806"/>
                      </a:lnTo>
                      <a:lnTo>
                        <a:pt x="163" y="1827"/>
                      </a:lnTo>
                      <a:lnTo>
                        <a:pt x="117" y="1847"/>
                      </a:lnTo>
                      <a:lnTo>
                        <a:pt x="78" y="1865"/>
                      </a:lnTo>
                      <a:lnTo>
                        <a:pt x="45" y="1880"/>
                      </a:lnTo>
                      <a:lnTo>
                        <a:pt x="20" y="1891"/>
                      </a:lnTo>
                      <a:lnTo>
                        <a:pt x="5" y="1899"/>
                      </a:lnTo>
                      <a:lnTo>
                        <a:pt x="0" y="1901"/>
                      </a:lnTo>
                      <a:lnTo>
                        <a:pt x="5" y="1877"/>
                      </a:lnTo>
                      <a:lnTo>
                        <a:pt x="22" y="1811"/>
                      </a:lnTo>
                      <a:lnTo>
                        <a:pt x="43" y="1715"/>
                      </a:lnTo>
                      <a:lnTo>
                        <a:pt x="69" y="1598"/>
                      </a:lnTo>
                      <a:lnTo>
                        <a:pt x="93" y="1475"/>
                      </a:lnTo>
                      <a:lnTo>
                        <a:pt x="115" y="1354"/>
                      </a:lnTo>
                      <a:lnTo>
                        <a:pt x="131" y="1246"/>
                      </a:lnTo>
                      <a:lnTo>
                        <a:pt x="137" y="1164"/>
                      </a:lnTo>
                      <a:lnTo>
                        <a:pt x="135" y="996"/>
                      </a:lnTo>
                      <a:lnTo>
                        <a:pt x="129" y="800"/>
                      </a:lnTo>
                      <a:lnTo>
                        <a:pt x="123" y="639"/>
                      </a:lnTo>
                      <a:lnTo>
                        <a:pt x="121" y="57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Freeform 168"/>
                <p:cNvSpPr/>
                <p:nvPr/>
              </p:nvSpPr>
              <p:spPr>
                <a:xfrm>
                  <a:off x="3014640" y="2158920"/>
                  <a:ext cx="62280" cy="183600"/>
                </a:xfrm>
                <a:custGeom>
                  <a:avLst/>
                  <a:gdLst>
                    <a:gd name="textAreaLeft" fmla="*/ 0 w 62280"/>
                    <a:gd name="textAreaRight" fmla="*/ 62640 w 62280"/>
                    <a:gd name="textAreaTop" fmla="*/ 0 h 183600"/>
                    <a:gd name="textAreaBottom" fmla="*/ 183960 h 183600"/>
                  </a:gdLst>
                  <a:ahLst/>
                  <a:rect l="textAreaLeft" t="textAreaTop" r="textAreaRight" b="textAreaBottom"/>
                  <a:pathLst>
                    <a:path w="578" h="1736">
                      <a:moveTo>
                        <a:pt x="111" y="43"/>
                      </a:moveTo>
                      <a:lnTo>
                        <a:pt x="106" y="54"/>
                      </a:lnTo>
                      <a:lnTo>
                        <a:pt x="94" y="85"/>
                      </a:lnTo>
                      <a:lnTo>
                        <a:pt x="77" y="136"/>
                      </a:lnTo>
                      <a:lnTo>
                        <a:pt x="56" y="203"/>
                      </a:lnTo>
                      <a:lnTo>
                        <a:pt x="35" y="285"/>
                      </a:lnTo>
                      <a:lnTo>
                        <a:pt x="18" y="378"/>
                      </a:lnTo>
                      <a:lnTo>
                        <a:pt x="5" y="480"/>
                      </a:lnTo>
                      <a:lnTo>
                        <a:pt x="0" y="592"/>
                      </a:lnTo>
                      <a:lnTo>
                        <a:pt x="3" y="705"/>
                      </a:lnTo>
                      <a:lnTo>
                        <a:pt x="10" y="813"/>
                      </a:lnTo>
                      <a:lnTo>
                        <a:pt x="21" y="916"/>
                      </a:lnTo>
                      <a:lnTo>
                        <a:pt x="37" y="1012"/>
                      </a:lnTo>
                      <a:lnTo>
                        <a:pt x="58" y="1104"/>
                      </a:lnTo>
                      <a:lnTo>
                        <a:pt x="85" y="1191"/>
                      </a:lnTo>
                      <a:lnTo>
                        <a:pt x="116" y="1270"/>
                      </a:lnTo>
                      <a:lnTo>
                        <a:pt x="153" y="1345"/>
                      </a:lnTo>
                      <a:lnTo>
                        <a:pt x="174" y="1381"/>
                      </a:lnTo>
                      <a:lnTo>
                        <a:pt x="202" y="1418"/>
                      </a:lnTo>
                      <a:lnTo>
                        <a:pt x="232" y="1452"/>
                      </a:lnTo>
                      <a:lnTo>
                        <a:pt x="264" y="1487"/>
                      </a:lnTo>
                      <a:lnTo>
                        <a:pt x="299" y="1521"/>
                      </a:lnTo>
                      <a:lnTo>
                        <a:pt x="335" y="1554"/>
                      </a:lnTo>
                      <a:lnTo>
                        <a:pt x="370" y="1584"/>
                      </a:lnTo>
                      <a:lnTo>
                        <a:pt x="405" y="1612"/>
                      </a:lnTo>
                      <a:lnTo>
                        <a:pt x="439" y="1639"/>
                      </a:lnTo>
                      <a:lnTo>
                        <a:pt x="472" y="1663"/>
                      </a:lnTo>
                      <a:lnTo>
                        <a:pt x="501" y="1684"/>
                      </a:lnTo>
                      <a:lnTo>
                        <a:pt x="526" y="1702"/>
                      </a:lnTo>
                      <a:lnTo>
                        <a:pt x="548" y="1716"/>
                      </a:lnTo>
                      <a:lnTo>
                        <a:pt x="564" y="1726"/>
                      </a:lnTo>
                      <a:lnTo>
                        <a:pt x="574" y="1733"/>
                      </a:lnTo>
                      <a:lnTo>
                        <a:pt x="578" y="1736"/>
                      </a:lnTo>
                      <a:lnTo>
                        <a:pt x="492" y="1632"/>
                      </a:lnTo>
                      <a:lnTo>
                        <a:pt x="489" y="1630"/>
                      </a:lnTo>
                      <a:lnTo>
                        <a:pt x="477" y="1623"/>
                      </a:lnTo>
                      <a:lnTo>
                        <a:pt x="461" y="1610"/>
                      </a:lnTo>
                      <a:lnTo>
                        <a:pt x="438" y="1594"/>
                      </a:lnTo>
                      <a:lnTo>
                        <a:pt x="413" y="1573"/>
                      </a:lnTo>
                      <a:lnTo>
                        <a:pt x="383" y="1549"/>
                      </a:lnTo>
                      <a:lnTo>
                        <a:pt x="352" y="1520"/>
                      </a:lnTo>
                      <a:lnTo>
                        <a:pt x="318" y="1488"/>
                      </a:lnTo>
                      <a:lnTo>
                        <a:pt x="285" y="1451"/>
                      </a:lnTo>
                      <a:lnTo>
                        <a:pt x="253" y="1412"/>
                      </a:lnTo>
                      <a:lnTo>
                        <a:pt x="222" y="1369"/>
                      </a:lnTo>
                      <a:lnTo>
                        <a:pt x="193" y="1323"/>
                      </a:lnTo>
                      <a:lnTo>
                        <a:pt x="168" y="1275"/>
                      </a:lnTo>
                      <a:lnTo>
                        <a:pt x="147" y="1223"/>
                      </a:lnTo>
                      <a:lnTo>
                        <a:pt x="131" y="1169"/>
                      </a:lnTo>
                      <a:lnTo>
                        <a:pt x="121" y="1113"/>
                      </a:lnTo>
                      <a:lnTo>
                        <a:pt x="108" y="996"/>
                      </a:lnTo>
                      <a:lnTo>
                        <a:pt x="92" y="882"/>
                      </a:lnTo>
                      <a:lnTo>
                        <a:pt x="75" y="771"/>
                      </a:lnTo>
                      <a:lnTo>
                        <a:pt x="62" y="665"/>
                      </a:lnTo>
                      <a:lnTo>
                        <a:pt x="49" y="567"/>
                      </a:lnTo>
                      <a:lnTo>
                        <a:pt x="42" y="480"/>
                      </a:lnTo>
                      <a:lnTo>
                        <a:pt x="41" y="407"/>
                      </a:lnTo>
                      <a:lnTo>
                        <a:pt x="47" y="349"/>
                      </a:lnTo>
                      <a:lnTo>
                        <a:pt x="59" y="305"/>
                      </a:lnTo>
                      <a:lnTo>
                        <a:pt x="79" y="252"/>
                      </a:lnTo>
                      <a:lnTo>
                        <a:pt x="103" y="195"/>
                      </a:lnTo>
                      <a:lnTo>
                        <a:pt x="128" y="137"/>
                      </a:lnTo>
                      <a:lnTo>
                        <a:pt x="154" y="84"/>
                      </a:lnTo>
                      <a:lnTo>
                        <a:pt x="174" y="40"/>
                      </a:lnTo>
                      <a:lnTo>
                        <a:pt x="189" y="10"/>
                      </a:lnTo>
                      <a:lnTo>
                        <a:pt x="195" y="0"/>
                      </a:lnTo>
                      <a:lnTo>
                        <a:pt x="11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2" name="Freeform 169"/>
                <p:cNvSpPr/>
                <p:nvPr/>
              </p:nvSpPr>
              <p:spPr>
                <a:xfrm>
                  <a:off x="3019680" y="2195280"/>
                  <a:ext cx="67680" cy="149400"/>
                </a:xfrm>
                <a:custGeom>
                  <a:avLst/>
                  <a:gdLst>
                    <a:gd name="textAreaLeft" fmla="*/ 0 w 67680"/>
                    <a:gd name="textAreaRight" fmla="*/ 68040 w 67680"/>
                    <a:gd name="textAreaTop" fmla="*/ 0 h 149400"/>
                    <a:gd name="textAreaBottom" fmla="*/ 149760 h 149400"/>
                  </a:gdLst>
                  <a:ahLst/>
                  <a:rect l="textAreaLeft" t="textAreaTop" r="textAreaRight" b="textAreaBottom"/>
                  <a:pathLst>
                    <a:path w="626" h="1411">
                      <a:moveTo>
                        <a:pt x="0" y="0"/>
                      </a:moveTo>
                      <a:lnTo>
                        <a:pt x="0" y="27"/>
                      </a:lnTo>
                      <a:lnTo>
                        <a:pt x="2" y="100"/>
                      </a:lnTo>
                      <a:lnTo>
                        <a:pt x="4" y="209"/>
                      </a:lnTo>
                      <a:lnTo>
                        <a:pt x="12" y="343"/>
                      </a:lnTo>
                      <a:lnTo>
                        <a:pt x="26" y="492"/>
                      </a:lnTo>
                      <a:lnTo>
                        <a:pt x="48" y="645"/>
                      </a:lnTo>
                      <a:lnTo>
                        <a:pt x="80" y="793"/>
                      </a:lnTo>
                      <a:lnTo>
                        <a:pt x="123" y="922"/>
                      </a:lnTo>
                      <a:lnTo>
                        <a:pt x="150" y="978"/>
                      </a:lnTo>
                      <a:lnTo>
                        <a:pt x="182" y="1032"/>
                      </a:lnTo>
                      <a:lnTo>
                        <a:pt x="218" y="1083"/>
                      </a:lnTo>
                      <a:lnTo>
                        <a:pt x="256" y="1130"/>
                      </a:lnTo>
                      <a:lnTo>
                        <a:pt x="298" y="1174"/>
                      </a:lnTo>
                      <a:lnTo>
                        <a:pt x="339" y="1214"/>
                      </a:lnTo>
                      <a:lnTo>
                        <a:pt x="382" y="1250"/>
                      </a:lnTo>
                      <a:lnTo>
                        <a:pt x="423" y="1283"/>
                      </a:lnTo>
                      <a:lnTo>
                        <a:pt x="464" y="1313"/>
                      </a:lnTo>
                      <a:lnTo>
                        <a:pt x="502" y="1338"/>
                      </a:lnTo>
                      <a:lnTo>
                        <a:pt x="536" y="1360"/>
                      </a:lnTo>
                      <a:lnTo>
                        <a:pt x="566" y="1379"/>
                      </a:lnTo>
                      <a:lnTo>
                        <a:pt x="590" y="1393"/>
                      </a:lnTo>
                      <a:lnTo>
                        <a:pt x="610" y="1403"/>
                      </a:lnTo>
                      <a:lnTo>
                        <a:pt x="621" y="1409"/>
                      </a:lnTo>
                      <a:lnTo>
                        <a:pt x="626" y="1411"/>
                      </a:lnTo>
                      <a:lnTo>
                        <a:pt x="600" y="54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3" name="Freeform 170"/>
                <p:cNvSpPr/>
                <p:nvPr/>
              </p:nvSpPr>
              <p:spPr>
                <a:xfrm>
                  <a:off x="3019320" y="2195280"/>
                  <a:ext cx="68040" cy="149400"/>
                </a:xfrm>
                <a:custGeom>
                  <a:avLst/>
                  <a:gdLst>
                    <a:gd name="textAreaLeft" fmla="*/ 0 w 68040"/>
                    <a:gd name="textAreaRight" fmla="*/ 68400 w 68040"/>
                    <a:gd name="textAreaTop" fmla="*/ 0 h 149400"/>
                    <a:gd name="textAreaBottom" fmla="*/ 149760 h 149400"/>
                  </a:gdLst>
                  <a:ahLst/>
                  <a:rect l="textAreaLeft" t="textAreaTop" r="textAreaRight" b="textAreaBottom"/>
                  <a:pathLst>
                    <a:path w="629" h="1411">
                      <a:moveTo>
                        <a:pt x="3" y="0"/>
                      </a:moveTo>
                      <a:lnTo>
                        <a:pt x="2" y="26"/>
                      </a:lnTo>
                      <a:lnTo>
                        <a:pt x="0" y="96"/>
                      </a:lnTo>
                      <a:lnTo>
                        <a:pt x="0" y="202"/>
                      </a:lnTo>
                      <a:lnTo>
                        <a:pt x="3" y="332"/>
                      </a:lnTo>
                      <a:lnTo>
                        <a:pt x="15" y="479"/>
                      </a:lnTo>
                      <a:lnTo>
                        <a:pt x="37" y="632"/>
                      </a:lnTo>
                      <a:lnTo>
                        <a:pt x="70" y="783"/>
                      </a:lnTo>
                      <a:lnTo>
                        <a:pt x="120" y="922"/>
                      </a:lnTo>
                      <a:lnTo>
                        <a:pt x="151" y="983"/>
                      </a:lnTo>
                      <a:lnTo>
                        <a:pt x="185" y="1039"/>
                      </a:lnTo>
                      <a:lnTo>
                        <a:pt x="222" y="1092"/>
                      </a:lnTo>
                      <a:lnTo>
                        <a:pt x="263" y="1140"/>
                      </a:lnTo>
                      <a:lnTo>
                        <a:pt x="305" y="1184"/>
                      </a:lnTo>
                      <a:lnTo>
                        <a:pt x="347" y="1224"/>
                      </a:lnTo>
                      <a:lnTo>
                        <a:pt x="389" y="1260"/>
                      </a:lnTo>
                      <a:lnTo>
                        <a:pt x="431" y="1292"/>
                      </a:lnTo>
                      <a:lnTo>
                        <a:pt x="471" y="1320"/>
                      </a:lnTo>
                      <a:lnTo>
                        <a:pt x="508" y="1345"/>
                      </a:lnTo>
                      <a:lnTo>
                        <a:pt x="541" y="1365"/>
                      </a:lnTo>
                      <a:lnTo>
                        <a:pt x="570" y="1382"/>
                      </a:lnTo>
                      <a:lnTo>
                        <a:pt x="594" y="1395"/>
                      </a:lnTo>
                      <a:lnTo>
                        <a:pt x="613" y="1404"/>
                      </a:lnTo>
                      <a:lnTo>
                        <a:pt x="624" y="1409"/>
                      </a:lnTo>
                      <a:lnTo>
                        <a:pt x="629" y="1411"/>
                      </a:lnTo>
                      <a:lnTo>
                        <a:pt x="603" y="543"/>
                      </a:lnTo>
                      <a:lnTo>
                        <a:pt x="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4" name="Freeform 171"/>
                <p:cNvSpPr/>
                <p:nvPr/>
              </p:nvSpPr>
              <p:spPr>
                <a:xfrm>
                  <a:off x="3020760" y="2114640"/>
                  <a:ext cx="128520" cy="246960"/>
                </a:xfrm>
                <a:custGeom>
                  <a:avLst/>
                  <a:gdLst>
                    <a:gd name="textAreaLeft" fmla="*/ 0 w 128520"/>
                    <a:gd name="textAreaRight" fmla="*/ 128880 w 128520"/>
                    <a:gd name="textAreaTop" fmla="*/ 0 h 246960"/>
                    <a:gd name="textAreaBottom" fmla="*/ 247320 h 24696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5" name="Freeform 172"/>
                <p:cNvSpPr/>
                <p:nvPr/>
              </p:nvSpPr>
              <p:spPr>
                <a:xfrm>
                  <a:off x="3020760" y="2114640"/>
                  <a:ext cx="128520" cy="246960"/>
                </a:xfrm>
                <a:custGeom>
                  <a:avLst/>
                  <a:gdLst>
                    <a:gd name="textAreaLeft" fmla="*/ 0 w 128520"/>
                    <a:gd name="textAreaRight" fmla="*/ 128880 w 128520"/>
                    <a:gd name="textAreaTop" fmla="*/ 0 h 246960"/>
                    <a:gd name="textAreaBottom" fmla="*/ 247320 h 246960"/>
                  </a:gdLst>
                  <a:ahLst/>
                  <a:rect l="textAreaLeft" t="textAreaTop" r="textAreaRight" b="textAreaBottom"/>
                  <a:pathLst>
                    <a:path w="1188" h="2333">
                      <a:moveTo>
                        <a:pt x="382" y="0"/>
                      </a:moveTo>
                      <a:lnTo>
                        <a:pt x="379" y="6"/>
                      </a:lnTo>
                      <a:lnTo>
                        <a:pt x="367" y="21"/>
                      </a:lnTo>
                      <a:lnTo>
                        <a:pt x="351" y="45"/>
                      </a:lnTo>
                      <a:lnTo>
                        <a:pt x="329" y="77"/>
                      </a:lnTo>
                      <a:lnTo>
                        <a:pt x="304" y="116"/>
                      </a:lnTo>
                      <a:lnTo>
                        <a:pt x="274" y="162"/>
                      </a:lnTo>
                      <a:lnTo>
                        <a:pt x="243" y="212"/>
                      </a:lnTo>
                      <a:lnTo>
                        <a:pt x="210" y="267"/>
                      </a:lnTo>
                      <a:lnTo>
                        <a:pt x="176" y="325"/>
                      </a:lnTo>
                      <a:lnTo>
                        <a:pt x="143" y="385"/>
                      </a:lnTo>
                      <a:lnTo>
                        <a:pt x="111" y="446"/>
                      </a:lnTo>
                      <a:lnTo>
                        <a:pt x="81" y="507"/>
                      </a:lnTo>
                      <a:lnTo>
                        <a:pt x="54" y="567"/>
                      </a:lnTo>
                      <a:lnTo>
                        <a:pt x="32" y="625"/>
                      </a:lnTo>
                      <a:lnTo>
                        <a:pt x="14" y="682"/>
                      </a:lnTo>
                      <a:lnTo>
                        <a:pt x="2" y="734"/>
                      </a:lnTo>
                      <a:lnTo>
                        <a:pt x="0" y="784"/>
                      </a:lnTo>
                      <a:lnTo>
                        <a:pt x="8" y="836"/>
                      </a:lnTo>
                      <a:lnTo>
                        <a:pt x="26" y="889"/>
                      </a:lnTo>
                      <a:lnTo>
                        <a:pt x="52" y="942"/>
                      </a:lnTo>
                      <a:lnTo>
                        <a:pt x="84" y="994"/>
                      </a:lnTo>
                      <a:lnTo>
                        <a:pt x="121" y="1046"/>
                      </a:lnTo>
                      <a:lnTo>
                        <a:pt x="162" y="1095"/>
                      </a:lnTo>
                      <a:lnTo>
                        <a:pt x="205" y="1142"/>
                      </a:lnTo>
                      <a:lnTo>
                        <a:pt x="248" y="1186"/>
                      </a:lnTo>
                      <a:lnTo>
                        <a:pt x="290" y="1227"/>
                      </a:lnTo>
                      <a:lnTo>
                        <a:pt x="331" y="1262"/>
                      </a:lnTo>
                      <a:lnTo>
                        <a:pt x="366" y="1292"/>
                      </a:lnTo>
                      <a:lnTo>
                        <a:pt x="396" y="1317"/>
                      </a:lnTo>
                      <a:lnTo>
                        <a:pt x="420" y="1336"/>
                      </a:lnTo>
                      <a:lnTo>
                        <a:pt x="435" y="1347"/>
                      </a:lnTo>
                      <a:lnTo>
                        <a:pt x="441" y="1352"/>
                      </a:lnTo>
                      <a:lnTo>
                        <a:pt x="440" y="1360"/>
                      </a:lnTo>
                      <a:lnTo>
                        <a:pt x="437" y="1381"/>
                      </a:lnTo>
                      <a:lnTo>
                        <a:pt x="431" y="1414"/>
                      </a:lnTo>
                      <a:lnTo>
                        <a:pt x="425" y="1458"/>
                      </a:lnTo>
                      <a:lnTo>
                        <a:pt x="419" y="1510"/>
                      </a:lnTo>
                      <a:lnTo>
                        <a:pt x="414" y="1567"/>
                      </a:lnTo>
                      <a:lnTo>
                        <a:pt x="409" y="1631"/>
                      </a:lnTo>
                      <a:lnTo>
                        <a:pt x="406" y="1695"/>
                      </a:lnTo>
                      <a:lnTo>
                        <a:pt x="404" y="1762"/>
                      </a:lnTo>
                      <a:lnTo>
                        <a:pt x="407" y="1826"/>
                      </a:lnTo>
                      <a:lnTo>
                        <a:pt x="412" y="1889"/>
                      </a:lnTo>
                      <a:lnTo>
                        <a:pt x="423" y="1946"/>
                      </a:lnTo>
                      <a:lnTo>
                        <a:pt x="438" y="1997"/>
                      </a:lnTo>
                      <a:lnTo>
                        <a:pt x="459" y="2040"/>
                      </a:lnTo>
                      <a:lnTo>
                        <a:pt x="485" y="2071"/>
                      </a:lnTo>
                      <a:lnTo>
                        <a:pt x="518" y="2090"/>
                      </a:lnTo>
                      <a:lnTo>
                        <a:pt x="558" y="2104"/>
                      </a:lnTo>
                      <a:lnTo>
                        <a:pt x="598" y="2119"/>
                      </a:lnTo>
                      <a:lnTo>
                        <a:pt x="641" y="2136"/>
                      </a:lnTo>
                      <a:lnTo>
                        <a:pt x="684" y="2156"/>
                      </a:lnTo>
                      <a:lnTo>
                        <a:pt x="728" y="2175"/>
                      </a:lnTo>
                      <a:lnTo>
                        <a:pt x="772" y="2195"/>
                      </a:lnTo>
                      <a:lnTo>
                        <a:pt x="815" y="2216"/>
                      </a:lnTo>
                      <a:lnTo>
                        <a:pt x="855" y="2235"/>
                      </a:lnTo>
                      <a:lnTo>
                        <a:pt x="894" y="2255"/>
                      </a:lnTo>
                      <a:lnTo>
                        <a:pt x="930" y="2273"/>
                      </a:lnTo>
                      <a:lnTo>
                        <a:pt x="961" y="2289"/>
                      </a:lnTo>
                      <a:lnTo>
                        <a:pt x="989" y="2304"/>
                      </a:lnTo>
                      <a:lnTo>
                        <a:pt x="1012" y="2316"/>
                      </a:lnTo>
                      <a:lnTo>
                        <a:pt x="1029" y="2325"/>
                      </a:lnTo>
                      <a:lnTo>
                        <a:pt x="1039" y="2331"/>
                      </a:lnTo>
                      <a:lnTo>
                        <a:pt x="1043" y="2333"/>
                      </a:lnTo>
                      <a:lnTo>
                        <a:pt x="1046" y="2312"/>
                      </a:lnTo>
                      <a:lnTo>
                        <a:pt x="1058" y="2254"/>
                      </a:lnTo>
                      <a:lnTo>
                        <a:pt x="1074" y="2169"/>
                      </a:lnTo>
                      <a:lnTo>
                        <a:pt x="1093" y="2063"/>
                      </a:lnTo>
                      <a:lnTo>
                        <a:pt x="1116" y="1946"/>
                      </a:lnTo>
                      <a:lnTo>
                        <a:pt x="1138" y="1826"/>
                      </a:lnTo>
                      <a:lnTo>
                        <a:pt x="1160" y="1714"/>
                      </a:lnTo>
                      <a:lnTo>
                        <a:pt x="1179" y="1615"/>
                      </a:lnTo>
                      <a:lnTo>
                        <a:pt x="1188" y="1518"/>
                      </a:lnTo>
                      <a:lnTo>
                        <a:pt x="1183" y="1408"/>
                      </a:lnTo>
                      <a:lnTo>
                        <a:pt x="1169" y="1296"/>
                      </a:lnTo>
                      <a:lnTo>
                        <a:pt x="1151" y="1186"/>
                      </a:lnTo>
                      <a:lnTo>
                        <a:pt x="1129" y="1087"/>
                      </a:lnTo>
                      <a:lnTo>
                        <a:pt x="1109" y="1008"/>
                      </a:lnTo>
                      <a:lnTo>
                        <a:pt x="1095" y="954"/>
                      </a:lnTo>
                      <a:lnTo>
                        <a:pt x="1089" y="934"/>
                      </a:lnTo>
                      <a:lnTo>
                        <a:pt x="1089" y="929"/>
                      </a:lnTo>
                      <a:lnTo>
                        <a:pt x="1086" y="916"/>
                      </a:lnTo>
                      <a:lnTo>
                        <a:pt x="1082" y="895"/>
                      </a:lnTo>
                      <a:lnTo>
                        <a:pt x="1075" y="868"/>
                      </a:lnTo>
                      <a:lnTo>
                        <a:pt x="1065" y="836"/>
                      </a:lnTo>
                      <a:lnTo>
                        <a:pt x="1050" y="800"/>
                      </a:lnTo>
                      <a:lnTo>
                        <a:pt x="1029" y="761"/>
                      </a:lnTo>
                      <a:lnTo>
                        <a:pt x="1003" y="721"/>
                      </a:lnTo>
                      <a:lnTo>
                        <a:pt x="971" y="680"/>
                      </a:lnTo>
                      <a:lnTo>
                        <a:pt x="933" y="640"/>
                      </a:lnTo>
                      <a:lnTo>
                        <a:pt x="886" y="601"/>
                      </a:lnTo>
                      <a:lnTo>
                        <a:pt x="832" y="567"/>
                      </a:lnTo>
                      <a:lnTo>
                        <a:pt x="767" y="536"/>
                      </a:lnTo>
                      <a:lnTo>
                        <a:pt x="694" y="510"/>
                      </a:lnTo>
                      <a:lnTo>
                        <a:pt x="611" y="492"/>
                      </a:lnTo>
                      <a:lnTo>
                        <a:pt x="515" y="481"/>
                      </a:lnTo>
                      <a:lnTo>
                        <a:pt x="473" y="473"/>
                      </a:lnTo>
                      <a:lnTo>
                        <a:pt x="439" y="456"/>
                      </a:lnTo>
                      <a:lnTo>
                        <a:pt x="412" y="432"/>
                      </a:lnTo>
                      <a:lnTo>
                        <a:pt x="392" y="400"/>
                      </a:lnTo>
                      <a:lnTo>
                        <a:pt x="377" y="363"/>
                      </a:lnTo>
                      <a:lnTo>
                        <a:pt x="366" y="323"/>
                      </a:lnTo>
                      <a:lnTo>
                        <a:pt x="361" y="280"/>
                      </a:lnTo>
                      <a:lnTo>
                        <a:pt x="357" y="235"/>
                      </a:lnTo>
                      <a:lnTo>
                        <a:pt x="358" y="191"/>
                      </a:lnTo>
                      <a:lnTo>
                        <a:pt x="361" y="149"/>
                      </a:lnTo>
                      <a:lnTo>
                        <a:pt x="364" y="108"/>
                      </a:lnTo>
                      <a:lnTo>
                        <a:pt x="369" y="73"/>
                      </a:lnTo>
                      <a:lnTo>
                        <a:pt x="374" y="43"/>
                      </a:lnTo>
                      <a:lnTo>
                        <a:pt x="378" y="20"/>
                      </a:lnTo>
                      <a:lnTo>
                        <a:pt x="381" y="6"/>
                      </a:lnTo>
                      <a:lnTo>
                        <a:pt x="382"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6" name="Freeform 173"/>
                <p:cNvSpPr/>
                <p:nvPr/>
              </p:nvSpPr>
              <p:spPr>
                <a:xfrm>
                  <a:off x="3125160" y="2149920"/>
                  <a:ext cx="135000" cy="212040"/>
                </a:xfrm>
                <a:custGeom>
                  <a:avLst/>
                  <a:gdLst>
                    <a:gd name="textAreaLeft" fmla="*/ 0 w 135000"/>
                    <a:gd name="textAreaRight" fmla="*/ 135360 w 135000"/>
                    <a:gd name="textAreaTop" fmla="*/ 0 h 212040"/>
                    <a:gd name="textAreaBottom" fmla="*/ 212400 h 21204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7" name="Freeform 174"/>
                <p:cNvSpPr/>
                <p:nvPr/>
              </p:nvSpPr>
              <p:spPr>
                <a:xfrm>
                  <a:off x="3125160" y="2149920"/>
                  <a:ext cx="135000" cy="212040"/>
                </a:xfrm>
                <a:custGeom>
                  <a:avLst/>
                  <a:gdLst>
                    <a:gd name="textAreaLeft" fmla="*/ 0 w 135000"/>
                    <a:gd name="textAreaRight" fmla="*/ 135360 w 135000"/>
                    <a:gd name="textAreaTop" fmla="*/ 0 h 212040"/>
                    <a:gd name="textAreaBottom" fmla="*/ 212400 h 212040"/>
                  </a:gdLst>
                  <a:ahLst/>
                  <a:rect l="textAreaLeft" t="textAreaTop" r="textAreaRight" b="textAreaBottom"/>
                  <a:pathLst>
                    <a:path w="1245" h="2000">
                      <a:moveTo>
                        <a:pt x="21" y="572"/>
                      </a:moveTo>
                      <a:lnTo>
                        <a:pt x="21" y="569"/>
                      </a:lnTo>
                      <a:lnTo>
                        <a:pt x="21" y="558"/>
                      </a:lnTo>
                      <a:lnTo>
                        <a:pt x="22" y="542"/>
                      </a:lnTo>
                      <a:lnTo>
                        <a:pt x="24" y="522"/>
                      </a:lnTo>
                      <a:lnTo>
                        <a:pt x="30" y="496"/>
                      </a:lnTo>
                      <a:lnTo>
                        <a:pt x="37" y="467"/>
                      </a:lnTo>
                      <a:lnTo>
                        <a:pt x="48" y="435"/>
                      </a:lnTo>
                      <a:lnTo>
                        <a:pt x="62" y="402"/>
                      </a:lnTo>
                      <a:lnTo>
                        <a:pt x="82" y="366"/>
                      </a:lnTo>
                      <a:lnTo>
                        <a:pt x="107" y="330"/>
                      </a:lnTo>
                      <a:lnTo>
                        <a:pt x="137" y="295"/>
                      </a:lnTo>
                      <a:lnTo>
                        <a:pt x="174" y="261"/>
                      </a:lnTo>
                      <a:lnTo>
                        <a:pt x="218" y="228"/>
                      </a:lnTo>
                      <a:lnTo>
                        <a:pt x="269" y="198"/>
                      </a:lnTo>
                      <a:lnTo>
                        <a:pt x="328" y="171"/>
                      </a:lnTo>
                      <a:lnTo>
                        <a:pt x="397" y="148"/>
                      </a:lnTo>
                      <a:lnTo>
                        <a:pt x="434" y="138"/>
                      </a:lnTo>
                      <a:lnTo>
                        <a:pt x="472" y="129"/>
                      </a:lnTo>
                      <a:lnTo>
                        <a:pt x="509" y="120"/>
                      </a:lnTo>
                      <a:lnTo>
                        <a:pt x="547" y="110"/>
                      </a:lnTo>
                      <a:lnTo>
                        <a:pt x="584" y="102"/>
                      </a:lnTo>
                      <a:lnTo>
                        <a:pt x="622" y="94"/>
                      </a:lnTo>
                      <a:lnTo>
                        <a:pt x="659" y="87"/>
                      </a:lnTo>
                      <a:lnTo>
                        <a:pt x="696" y="79"/>
                      </a:lnTo>
                      <a:lnTo>
                        <a:pt x="733" y="72"/>
                      </a:lnTo>
                      <a:lnTo>
                        <a:pt x="768" y="66"/>
                      </a:lnTo>
                      <a:lnTo>
                        <a:pt x="804" y="60"/>
                      </a:lnTo>
                      <a:lnTo>
                        <a:pt x="839" y="54"/>
                      </a:lnTo>
                      <a:lnTo>
                        <a:pt x="873" y="48"/>
                      </a:lnTo>
                      <a:lnTo>
                        <a:pt x="905" y="43"/>
                      </a:lnTo>
                      <a:lnTo>
                        <a:pt x="938" y="38"/>
                      </a:lnTo>
                      <a:lnTo>
                        <a:pt x="969" y="33"/>
                      </a:lnTo>
                      <a:lnTo>
                        <a:pt x="999" y="30"/>
                      </a:lnTo>
                      <a:lnTo>
                        <a:pt x="1028" y="25"/>
                      </a:lnTo>
                      <a:lnTo>
                        <a:pt x="1055" y="22"/>
                      </a:lnTo>
                      <a:lnTo>
                        <a:pt x="1081" y="18"/>
                      </a:lnTo>
                      <a:lnTo>
                        <a:pt x="1105" y="15"/>
                      </a:lnTo>
                      <a:lnTo>
                        <a:pt x="1128" y="13"/>
                      </a:lnTo>
                      <a:lnTo>
                        <a:pt x="1149" y="10"/>
                      </a:lnTo>
                      <a:lnTo>
                        <a:pt x="1168" y="8"/>
                      </a:lnTo>
                      <a:lnTo>
                        <a:pt x="1185" y="6"/>
                      </a:lnTo>
                      <a:lnTo>
                        <a:pt x="1200" y="5"/>
                      </a:lnTo>
                      <a:lnTo>
                        <a:pt x="1214" y="3"/>
                      </a:lnTo>
                      <a:lnTo>
                        <a:pt x="1225" y="2"/>
                      </a:lnTo>
                      <a:lnTo>
                        <a:pt x="1234" y="1"/>
                      </a:lnTo>
                      <a:lnTo>
                        <a:pt x="1240" y="0"/>
                      </a:lnTo>
                      <a:lnTo>
                        <a:pt x="1244" y="0"/>
                      </a:lnTo>
                      <a:lnTo>
                        <a:pt x="1245" y="0"/>
                      </a:lnTo>
                      <a:lnTo>
                        <a:pt x="1242" y="8"/>
                      </a:lnTo>
                      <a:lnTo>
                        <a:pt x="1233" y="34"/>
                      </a:lnTo>
                      <a:lnTo>
                        <a:pt x="1219" y="83"/>
                      </a:lnTo>
                      <a:lnTo>
                        <a:pt x="1202" y="160"/>
                      </a:lnTo>
                      <a:lnTo>
                        <a:pt x="1182" y="269"/>
                      </a:lnTo>
                      <a:lnTo>
                        <a:pt x="1162" y="417"/>
                      </a:lnTo>
                      <a:lnTo>
                        <a:pt x="1143" y="604"/>
                      </a:lnTo>
                      <a:lnTo>
                        <a:pt x="1124" y="838"/>
                      </a:lnTo>
                      <a:lnTo>
                        <a:pt x="1116" y="1071"/>
                      </a:lnTo>
                      <a:lnTo>
                        <a:pt x="1124" y="1253"/>
                      </a:lnTo>
                      <a:lnTo>
                        <a:pt x="1143" y="1391"/>
                      </a:lnTo>
                      <a:lnTo>
                        <a:pt x="1168" y="1491"/>
                      </a:lnTo>
                      <a:lnTo>
                        <a:pt x="1195" y="1559"/>
                      </a:lnTo>
                      <a:lnTo>
                        <a:pt x="1220" y="1601"/>
                      </a:lnTo>
                      <a:lnTo>
                        <a:pt x="1238" y="1621"/>
                      </a:lnTo>
                      <a:lnTo>
                        <a:pt x="1245" y="1627"/>
                      </a:lnTo>
                      <a:lnTo>
                        <a:pt x="1242" y="1627"/>
                      </a:lnTo>
                      <a:lnTo>
                        <a:pt x="1233" y="1627"/>
                      </a:lnTo>
                      <a:lnTo>
                        <a:pt x="1217" y="1628"/>
                      </a:lnTo>
                      <a:lnTo>
                        <a:pt x="1196" y="1629"/>
                      </a:lnTo>
                      <a:lnTo>
                        <a:pt x="1170" y="1631"/>
                      </a:lnTo>
                      <a:lnTo>
                        <a:pt x="1141" y="1633"/>
                      </a:lnTo>
                      <a:lnTo>
                        <a:pt x="1106" y="1635"/>
                      </a:lnTo>
                      <a:lnTo>
                        <a:pt x="1068" y="1639"/>
                      </a:lnTo>
                      <a:lnTo>
                        <a:pt x="1026" y="1642"/>
                      </a:lnTo>
                      <a:lnTo>
                        <a:pt x="983" y="1645"/>
                      </a:lnTo>
                      <a:lnTo>
                        <a:pt x="937" y="1651"/>
                      </a:lnTo>
                      <a:lnTo>
                        <a:pt x="888" y="1656"/>
                      </a:lnTo>
                      <a:lnTo>
                        <a:pt x="839" y="1663"/>
                      </a:lnTo>
                      <a:lnTo>
                        <a:pt x="788" y="1670"/>
                      </a:lnTo>
                      <a:lnTo>
                        <a:pt x="737" y="1678"/>
                      </a:lnTo>
                      <a:lnTo>
                        <a:pt x="685" y="1686"/>
                      </a:lnTo>
                      <a:lnTo>
                        <a:pt x="635" y="1697"/>
                      </a:lnTo>
                      <a:lnTo>
                        <a:pt x="584" y="1713"/>
                      </a:lnTo>
                      <a:lnTo>
                        <a:pt x="532" y="1733"/>
                      </a:lnTo>
                      <a:lnTo>
                        <a:pt x="481" y="1755"/>
                      </a:lnTo>
                      <a:lnTo>
                        <a:pt x="431" y="1780"/>
                      </a:lnTo>
                      <a:lnTo>
                        <a:pt x="382" y="1807"/>
                      </a:lnTo>
                      <a:lnTo>
                        <a:pt x="335" y="1833"/>
                      </a:lnTo>
                      <a:lnTo>
                        <a:pt x="291" y="1861"/>
                      </a:lnTo>
                      <a:lnTo>
                        <a:pt x="250" y="1888"/>
                      </a:lnTo>
                      <a:lnTo>
                        <a:pt x="213" y="1914"/>
                      </a:lnTo>
                      <a:lnTo>
                        <a:pt x="180" y="1937"/>
                      </a:lnTo>
                      <a:lnTo>
                        <a:pt x="151" y="1958"/>
                      </a:lnTo>
                      <a:lnTo>
                        <a:pt x="128" y="1975"/>
                      </a:lnTo>
                      <a:lnTo>
                        <a:pt x="110" y="1989"/>
                      </a:lnTo>
                      <a:lnTo>
                        <a:pt x="100" y="1997"/>
                      </a:lnTo>
                      <a:lnTo>
                        <a:pt x="97" y="2000"/>
                      </a:lnTo>
                      <a:lnTo>
                        <a:pt x="92" y="1971"/>
                      </a:lnTo>
                      <a:lnTo>
                        <a:pt x="82" y="1895"/>
                      </a:lnTo>
                      <a:lnTo>
                        <a:pt x="66" y="1784"/>
                      </a:lnTo>
                      <a:lnTo>
                        <a:pt x="48" y="1651"/>
                      </a:lnTo>
                      <a:lnTo>
                        <a:pt x="31" y="1511"/>
                      </a:lnTo>
                      <a:lnTo>
                        <a:pt x="15" y="1375"/>
                      </a:lnTo>
                      <a:lnTo>
                        <a:pt x="4" y="1256"/>
                      </a:lnTo>
                      <a:lnTo>
                        <a:pt x="0" y="1170"/>
                      </a:lnTo>
                      <a:lnTo>
                        <a:pt x="3" y="1002"/>
                      </a:lnTo>
                      <a:lnTo>
                        <a:pt x="10" y="804"/>
                      </a:lnTo>
                      <a:lnTo>
                        <a:pt x="17" y="640"/>
                      </a:lnTo>
                      <a:lnTo>
                        <a:pt x="21" y="572"/>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8" name="Freeform 175"/>
                <p:cNvSpPr/>
                <p:nvPr/>
              </p:nvSpPr>
              <p:spPr>
                <a:xfrm>
                  <a:off x="2988000" y="2306880"/>
                  <a:ext cx="55080" cy="17280"/>
                </a:xfrm>
                <a:custGeom>
                  <a:avLst/>
                  <a:gdLst>
                    <a:gd name="textAreaLeft" fmla="*/ 0 w 55080"/>
                    <a:gd name="textAreaRight" fmla="*/ 55440 w 55080"/>
                    <a:gd name="textAreaTop" fmla="*/ 0 h 17280"/>
                    <a:gd name="textAreaBottom" fmla="*/ 17640 h 17280"/>
                  </a:gdLst>
                  <a:ahLst/>
                  <a:rect l="textAreaLeft" t="textAreaTop" r="textAreaRight" b="textAreaBottom"/>
                  <a:pathLst>
                    <a:path w="508" h="167">
                      <a:moveTo>
                        <a:pt x="0" y="167"/>
                      </a:moveTo>
                      <a:lnTo>
                        <a:pt x="1" y="165"/>
                      </a:lnTo>
                      <a:lnTo>
                        <a:pt x="5" y="162"/>
                      </a:lnTo>
                      <a:lnTo>
                        <a:pt x="10" y="156"/>
                      </a:lnTo>
                      <a:lnTo>
                        <a:pt x="17" y="149"/>
                      </a:lnTo>
                      <a:lnTo>
                        <a:pt x="28" y="141"/>
                      </a:lnTo>
                      <a:lnTo>
                        <a:pt x="39" y="132"/>
                      </a:lnTo>
                      <a:lnTo>
                        <a:pt x="52" y="122"/>
                      </a:lnTo>
                      <a:lnTo>
                        <a:pt x="68" y="111"/>
                      </a:lnTo>
                      <a:lnTo>
                        <a:pt x="84" y="102"/>
                      </a:lnTo>
                      <a:lnTo>
                        <a:pt x="103" y="92"/>
                      </a:lnTo>
                      <a:lnTo>
                        <a:pt x="122" y="83"/>
                      </a:lnTo>
                      <a:lnTo>
                        <a:pt x="143" y="75"/>
                      </a:lnTo>
                      <a:lnTo>
                        <a:pt x="165" y="68"/>
                      </a:lnTo>
                      <a:lnTo>
                        <a:pt x="189" y="62"/>
                      </a:lnTo>
                      <a:lnTo>
                        <a:pt x="213" y="58"/>
                      </a:lnTo>
                      <a:lnTo>
                        <a:pt x="239" y="57"/>
                      </a:lnTo>
                      <a:lnTo>
                        <a:pt x="264" y="57"/>
                      </a:lnTo>
                      <a:lnTo>
                        <a:pt x="290" y="57"/>
                      </a:lnTo>
                      <a:lnTo>
                        <a:pt x="315" y="56"/>
                      </a:lnTo>
                      <a:lnTo>
                        <a:pt x="339" y="56"/>
                      </a:lnTo>
                      <a:lnTo>
                        <a:pt x="362" y="55"/>
                      </a:lnTo>
                      <a:lnTo>
                        <a:pt x="385" y="54"/>
                      </a:lnTo>
                      <a:lnTo>
                        <a:pt x="406" y="53"/>
                      </a:lnTo>
                      <a:lnTo>
                        <a:pt x="425" y="51"/>
                      </a:lnTo>
                      <a:lnTo>
                        <a:pt x="444" y="51"/>
                      </a:lnTo>
                      <a:lnTo>
                        <a:pt x="460" y="50"/>
                      </a:lnTo>
                      <a:lnTo>
                        <a:pt x="474" y="49"/>
                      </a:lnTo>
                      <a:lnTo>
                        <a:pt x="485" y="48"/>
                      </a:lnTo>
                      <a:lnTo>
                        <a:pt x="496" y="48"/>
                      </a:lnTo>
                      <a:lnTo>
                        <a:pt x="502" y="47"/>
                      </a:lnTo>
                      <a:lnTo>
                        <a:pt x="507" y="47"/>
                      </a:lnTo>
                      <a:lnTo>
                        <a:pt x="508" y="47"/>
                      </a:lnTo>
                      <a:lnTo>
                        <a:pt x="460" y="5"/>
                      </a:lnTo>
                      <a:lnTo>
                        <a:pt x="459" y="5"/>
                      </a:lnTo>
                      <a:lnTo>
                        <a:pt x="454" y="5"/>
                      </a:lnTo>
                      <a:lnTo>
                        <a:pt x="446" y="4"/>
                      </a:lnTo>
                      <a:lnTo>
                        <a:pt x="437" y="4"/>
                      </a:lnTo>
                      <a:lnTo>
                        <a:pt x="425" y="3"/>
                      </a:lnTo>
                      <a:lnTo>
                        <a:pt x="411" y="2"/>
                      </a:lnTo>
                      <a:lnTo>
                        <a:pt x="396" y="2"/>
                      </a:lnTo>
                      <a:lnTo>
                        <a:pt x="379" y="1"/>
                      </a:lnTo>
                      <a:lnTo>
                        <a:pt x="362" y="1"/>
                      </a:lnTo>
                      <a:lnTo>
                        <a:pt x="343" y="0"/>
                      </a:lnTo>
                      <a:lnTo>
                        <a:pt x="324" y="0"/>
                      </a:lnTo>
                      <a:lnTo>
                        <a:pt x="304" y="0"/>
                      </a:lnTo>
                      <a:lnTo>
                        <a:pt x="285" y="1"/>
                      </a:lnTo>
                      <a:lnTo>
                        <a:pt x="265" y="1"/>
                      </a:lnTo>
                      <a:lnTo>
                        <a:pt x="247" y="3"/>
                      </a:lnTo>
                      <a:lnTo>
                        <a:pt x="228" y="4"/>
                      </a:lnTo>
                      <a:lnTo>
                        <a:pt x="210" y="7"/>
                      </a:lnTo>
                      <a:lnTo>
                        <a:pt x="191" y="11"/>
                      </a:lnTo>
                      <a:lnTo>
                        <a:pt x="173" y="16"/>
                      </a:lnTo>
                      <a:lnTo>
                        <a:pt x="154" y="22"/>
                      </a:lnTo>
                      <a:lnTo>
                        <a:pt x="136" y="28"/>
                      </a:lnTo>
                      <a:lnTo>
                        <a:pt x="119" y="35"/>
                      </a:lnTo>
                      <a:lnTo>
                        <a:pt x="101" y="42"/>
                      </a:lnTo>
                      <a:lnTo>
                        <a:pt x="85" y="49"/>
                      </a:lnTo>
                      <a:lnTo>
                        <a:pt x="70" y="57"/>
                      </a:lnTo>
                      <a:lnTo>
                        <a:pt x="58" y="64"/>
                      </a:lnTo>
                      <a:lnTo>
                        <a:pt x="45" y="70"/>
                      </a:lnTo>
                      <a:lnTo>
                        <a:pt x="35" y="76"/>
                      </a:lnTo>
                      <a:lnTo>
                        <a:pt x="27" y="80"/>
                      </a:lnTo>
                      <a:lnTo>
                        <a:pt x="21" y="84"/>
                      </a:lnTo>
                      <a:lnTo>
                        <a:pt x="16" y="86"/>
                      </a:lnTo>
                      <a:lnTo>
                        <a:pt x="15" y="87"/>
                      </a:lnTo>
                      <a:lnTo>
                        <a:pt x="0" y="16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336666"/>
                    </a:solidFill>
                    <a:latin typeface="Arial"/>
                  </a:endParaRPr>
                </a:p>
              </p:txBody>
            </p:sp>
            <p:sp>
              <p:nvSpPr>
                <p:cNvPr id="389" name="Freeform 176"/>
                <p:cNvSpPr/>
                <p:nvPr/>
              </p:nvSpPr>
              <p:spPr>
                <a:xfrm>
                  <a:off x="2985840" y="233316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837" h="137">
                      <a:moveTo>
                        <a:pt x="39" y="137"/>
                      </a:moveTo>
                      <a:lnTo>
                        <a:pt x="41" y="135"/>
                      </a:lnTo>
                      <a:lnTo>
                        <a:pt x="49" y="133"/>
                      </a:lnTo>
                      <a:lnTo>
                        <a:pt x="62" y="130"/>
                      </a:lnTo>
                      <a:lnTo>
                        <a:pt x="78" y="124"/>
                      </a:lnTo>
                      <a:lnTo>
                        <a:pt x="98" y="118"/>
                      </a:lnTo>
                      <a:lnTo>
                        <a:pt x="123" y="111"/>
                      </a:lnTo>
                      <a:lnTo>
                        <a:pt x="149" y="104"/>
                      </a:lnTo>
                      <a:lnTo>
                        <a:pt x="178" y="96"/>
                      </a:lnTo>
                      <a:lnTo>
                        <a:pt x="208" y="89"/>
                      </a:lnTo>
                      <a:lnTo>
                        <a:pt x="240" y="81"/>
                      </a:lnTo>
                      <a:lnTo>
                        <a:pt x="274" y="74"/>
                      </a:lnTo>
                      <a:lnTo>
                        <a:pt x="306" y="68"/>
                      </a:lnTo>
                      <a:lnTo>
                        <a:pt x="339" y="61"/>
                      </a:lnTo>
                      <a:lnTo>
                        <a:pt x="373" y="56"/>
                      </a:lnTo>
                      <a:lnTo>
                        <a:pt x="405" y="51"/>
                      </a:lnTo>
                      <a:lnTo>
                        <a:pt x="435" y="49"/>
                      </a:lnTo>
                      <a:lnTo>
                        <a:pt x="465" y="48"/>
                      </a:lnTo>
                      <a:lnTo>
                        <a:pt x="497" y="47"/>
                      </a:lnTo>
                      <a:lnTo>
                        <a:pt x="530" y="47"/>
                      </a:lnTo>
                      <a:lnTo>
                        <a:pt x="564" y="48"/>
                      </a:lnTo>
                      <a:lnTo>
                        <a:pt x="597" y="49"/>
                      </a:lnTo>
                      <a:lnTo>
                        <a:pt x="631" y="51"/>
                      </a:lnTo>
                      <a:lnTo>
                        <a:pt x="663" y="54"/>
                      </a:lnTo>
                      <a:lnTo>
                        <a:pt x="695" y="57"/>
                      </a:lnTo>
                      <a:lnTo>
                        <a:pt x="724" y="59"/>
                      </a:lnTo>
                      <a:lnTo>
                        <a:pt x="751" y="63"/>
                      </a:lnTo>
                      <a:lnTo>
                        <a:pt x="775" y="65"/>
                      </a:lnTo>
                      <a:lnTo>
                        <a:pt x="797" y="68"/>
                      </a:lnTo>
                      <a:lnTo>
                        <a:pt x="813" y="70"/>
                      </a:lnTo>
                      <a:lnTo>
                        <a:pt x="827" y="72"/>
                      </a:lnTo>
                      <a:lnTo>
                        <a:pt x="835" y="73"/>
                      </a:lnTo>
                      <a:lnTo>
                        <a:pt x="837" y="73"/>
                      </a:lnTo>
                      <a:lnTo>
                        <a:pt x="792" y="42"/>
                      </a:lnTo>
                      <a:lnTo>
                        <a:pt x="790" y="42"/>
                      </a:lnTo>
                      <a:lnTo>
                        <a:pt x="783" y="40"/>
                      </a:lnTo>
                      <a:lnTo>
                        <a:pt x="772" y="38"/>
                      </a:lnTo>
                      <a:lnTo>
                        <a:pt x="760" y="35"/>
                      </a:lnTo>
                      <a:lnTo>
                        <a:pt x="742" y="32"/>
                      </a:lnTo>
                      <a:lnTo>
                        <a:pt x="723" y="28"/>
                      </a:lnTo>
                      <a:lnTo>
                        <a:pt x="701" y="24"/>
                      </a:lnTo>
                      <a:lnTo>
                        <a:pt x="678" y="20"/>
                      </a:lnTo>
                      <a:lnTo>
                        <a:pt x="653" y="16"/>
                      </a:lnTo>
                      <a:lnTo>
                        <a:pt x="626" y="12"/>
                      </a:lnTo>
                      <a:lnTo>
                        <a:pt x="600" y="9"/>
                      </a:lnTo>
                      <a:lnTo>
                        <a:pt x="572" y="5"/>
                      </a:lnTo>
                      <a:lnTo>
                        <a:pt x="544" y="3"/>
                      </a:lnTo>
                      <a:lnTo>
                        <a:pt x="518" y="1"/>
                      </a:lnTo>
                      <a:lnTo>
                        <a:pt x="491" y="0"/>
                      </a:lnTo>
                      <a:lnTo>
                        <a:pt x="467" y="0"/>
                      </a:lnTo>
                      <a:lnTo>
                        <a:pt x="431" y="1"/>
                      </a:lnTo>
                      <a:lnTo>
                        <a:pt x="393" y="4"/>
                      </a:lnTo>
                      <a:lnTo>
                        <a:pt x="354" y="10"/>
                      </a:lnTo>
                      <a:lnTo>
                        <a:pt x="315" y="17"/>
                      </a:lnTo>
                      <a:lnTo>
                        <a:pt x="276" y="25"/>
                      </a:lnTo>
                      <a:lnTo>
                        <a:pt x="237" y="33"/>
                      </a:lnTo>
                      <a:lnTo>
                        <a:pt x="200" y="42"/>
                      </a:lnTo>
                      <a:lnTo>
                        <a:pt x="163" y="53"/>
                      </a:lnTo>
                      <a:lnTo>
                        <a:pt x="130" y="62"/>
                      </a:lnTo>
                      <a:lnTo>
                        <a:pt x="98" y="71"/>
                      </a:lnTo>
                      <a:lnTo>
                        <a:pt x="71" y="80"/>
                      </a:lnTo>
                      <a:lnTo>
                        <a:pt x="47" y="88"/>
                      </a:lnTo>
                      <a:lnTo>
                        <a:pt x="27" y="95"/>
                      </a:lnTo>
                      <a:lnTo>
                        <a:pt x="13" y="100"/>
                      </a:lnTo>
                      <a:lnTo>
                        <a:pt x="4" y="103"/>
                      </a:lnTo>
                      <a:lnTo>
                        <a:pt x="0" y="104"/>
                      </a:lnTo>
                      <a:lnTo>
                        <a:pt x="39" y="13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336666"/>
                    </a:solidFill>
                    <a:latin typeface="Arial"/>
                  </a:endParaRPr>
                </a:p>
              </p:txBody>
            </p:sp>
            <p:sp>
              <p:nvSpPr>
                <p:cNvPr id="390" name="Freeform 177"/>
                <p:cNvSpPr/>
                <p:nvPr/>
              </p:nvSpPr>
              <p:spPr>
                <a:xfrm>
                  <a:off x="3146040" y="2155680"/>
                  <a:ext cx="117360" cy="198000"/>
                </a:xfrm>
                <a:custGeom>
                  <a:avLst/>
                  <a:gdLst>
                    <a:gd name="textAreaLeft" fmla="*/ 0 w 117360"/>
                    <a:gd name="textAreaRight" fmla="*/ 117720 w 117360"/>
                    <a:gd name="textAreaTop" fmla="*/ 0 h 198000"/>
                    <a:gd name="textAreaBottom" fmla="*/ 198360 h 198000"/>
                  </a:gdLst>
                  <a:ahLst/>
                  <a:rect l="textAreaLeft" t="textAreaTop" r="textAreaRight" b="textAreaBottom"/>
                  <a:pathLst>
                    <a:path w="1083" h="1869">
                      <a:moveTo>
                        <a:pt x="999" y="62"/>
                      </a:moveTo>
                      <a:lnTo>
                        <a:pt x="997" y="82"/>
                      </a:lnTo>
                      <a:lnTo>
                        <a:pt x="990" y="135"/>
                      </a:lnTo>
                      <a:lnTo>
                        <a:pt x="981" y="216"/>
                      </a:lnTo>
                      <a:lnTo>
                        <a:pt x="968" y="316"/>
                      </a:lnTo>
                      <a:lnTo>
                        <a:pt x="956" y="430"/>
                      </a:lnTo>
                      <a:lnTo>
                        <a:pt x="943" y="548"/>
                      </a:lnTo>
                      <a:lnTo>
                        <a:pt x="933" y="666"/>
                      </a:lnTo>
                      <a:lnTo>
                        <a:pt x="923" y="774"/>
                      </a:lnTo>
                      <a:lnTo>
                        <a:pt x="915" y="984"/>
                      </a:lnTo>
                      <a:lnTo>
                        <a:pt x="922" y="1156"/>
                      </a:lnTo>
                      <a:lnTo>
                        <a:pt x="941" y="1296"/>
                      </a:lnTo>
                      <a:lnTo>
                        <a:pt x="966" y="1404"/>
                      </a:lnTo>
                      <a:lnTo>
                        <a:pt x="992" y="1485"/>
                      </a:lnTo>
                      <a:lnTo>
                        <a:pt x="1017" y="1539"/>
                      </a:lnTo>
                      <a:lnTo>
                        <a:pt x="1035" y="1570"/>
                      </a:lnTo>
                      <a:lnTo>
                        <a:pt x="1042" y="1579"/>
                      </a:lnTo>
                      <a:lnTo>
                        <a:pt x="1039" y="1579"/>
                      </a:lnTo>
                      <a:lnTo>
                        <a:pt x="1029" y="1579"/>
                      </a:lnTo>
                      <a:lnTo>
                        <a:pt x="1013" y="1579"/>
                      </a:lnTo>
                      <a:lnTo>
                        <a:pt x="992" y="1579"/>
                      </a:lnTo>
                      <a:lnTo>
                        <a:pt x="967" y="1579"/>
                      </a:lnTo>
                      <a:lnTo>
                        <a:pt x="937" y="1579"/>
                      </a:lnTo>
                      <a:lnTo>
                        <a:pt x="905" y="1580"/>
                      </a:lnTo>
                      <a:lnTo>
                        <a:pt x="869" y="1580"/>
                      </a:lnTo>
                      <a:lnTo>
                        <a:pt x="831" y="1581"/>
                      </a:lnTo>
                      <a:lnTo>
                        <a:pt x="792" y="1584"/>
                      </a:lnTo>
                      <a:lnTo>
                        <a:pt x="752" y="1585"/>
                      </a:lnTo>
                      <a:lnTo>
                        <a:pt x="711" y="1587"/>
                      </a:lnTo>
                      <a:lnTo>
                        <a:pt x="671" y="1589"/>
                      </a:lnTo>
                      <a:lnTo>
                        <a:pt x="632" y="1592"/>
                      </a:lnTo>
                      <a:lnTo>
                        <a:pt x="594" y="1596"/>
                      </a:lnTo>
                      <a:lnTo>
                        <a:pt x="558" y="1600"/>
                      </a:lnTo>
                      <a:lnTo>
                        <a:pt x="510" y="1608"/>
                      </a:lnTo>
                      <a:lnTo>
                        <a:pt x="460" y="1620"/>
                      </a:lnTo>
                      <a:lnTo>
                        <a:pt x="412" y="1637"/>
                      </a:lnTo>
                      <a:lnTo>
                        <a:pt x="363" y="1656"/>
                      </a:lnTo>
                      <a:lnTo>
                        <a:pt x="315" y="1677"/>
                      </a:lnTo>
                      <a:lnTo>
                        <a:pt x="269" y="1700"/>
                      </a:lnTo>
                      <a:lnTo>
                        <a:pt x="225" y="1723"/>
                      </a:lnTo>
                      <a:lnTo>
                        <a:pt x="184" y="1747"/>
                      </a:lnTo>
                      <a:lnTo>
                        <a:pt x="144" y="1770"/>
                      </a:lnTo>
                      <a:lnTo>
                        <a:pt x="110" y="1793"/>
                      </a:lnTo>
                      <a:lnTo>
                        <a:pt x="79" y="1814"/>
                      </a:lnTo>
                      <a:lnTo>
                        <a:pt x="51" y="1832"/>
                      </a:lnTo>
                      <a:lnTo>
                        <a:pt x="30" y="1847"/>
                      </a:lnTo>
                      <a:lnTo>
                        <a:pt x="14" y="1859"/>
                      </a:lnTo>
                      <a:lnTo>
                        <a:pt x="4" y="1867"/>
                      </a:lnTo>
                      <a:lnTo>
                        <a:pt x="0" y="1869"/>
                      </a:lnTo>
                      <a:lnTo>
                        <a:pt x="3" y="1868"/>
                      </a:lnTo>
                      <a:lnTo>
                        <a:pt x="12" y="1863"/>
                      </a:lnTo>
                      <a:lnTo>
                        <a:pt x="25" y="1857"/>
                      </a:lnTo>
                      <a:lnTo>
                        <a:pt x="42" y="1847"/>
                      </a:lnTo>
                      <a:lnTo>
                        <a:pt x="63" y="1836"/>
                      </a:lnTo>
                      <a:lnTo>
                        <a:pt x="87" y="1823"/>
                      </a:lnTo>
                      <a:lnTo>
                        <a:pt x="114" y="1809"/>
                      </a:lnTo>
                      <a:lnTo>
                        <a:pt x="144" y="1794"/>
                      </a:lnTo>
                      <a:lnTo>
                        <a:pt x="176" y="1779"/>
                      </a:lnTo>
                      <a:lnTo>
                        <a:pt x="208" y="1763"/>
                      </a:lnTo>
                      <a:lnTo>
                        <a:pt x="240" y="1748"/>
                      </a:lnTo>
                      <a:lnTo>
                        <a:pt x="273" y="1733"/>
                      </a:lnTo>
                      <a:lnTo>
                        <a:pt x="307" y="1719"/>
                      </a:lnTo>
                      <a:lnTo>
                        <a:pt x="338" y="1706"/>
                      </a:lnTo>
                      <a:lnTo>
                        <a:pt x="369" y="1694"/>
                      </a:lnTo>
                      <a:lnTo>
                        <a:pt x="398" y="1685"/>
                      </a:lnTo>
                      <a:lnTo>
                        <a:pt x="430" y="1676"/>
                      </a:lnTo>
                      <a:lnTo>
                        <a:pt x="469" y="1666"/>
                      </a:lnTo>
                      <a:lnTo>
                        <a:pt x="515" y="1658"/>
                      </a:lnTo>
                      <a:lnTo>
                        <a:pt x="567" y="1650"/>
                      </a:lnTo>
                      <a:lnTo>
                        <a:pt x="621" y="1643"/>
                      </a:lnTo>
                      <a:lnTo>
                        <a:pt x="679" y="1637"/>
                      </a:lnTo>
                      <a:lnTo>
                        <a:pt x="738" y="1630"/>
                      </a:lnTo>
                      <a:lnTo>
                        <a:pt x="795" y="1624"/>
                      </a:lnTo>
                      <a:lnTo>
                        <a:pt x="852" y="1618"/>
                      </a:lnTo>
                      <a:lnTo>
                        <a:pt x="905" y="1614"/>
                      </a:lnTo>
                      <a:lnTo>
                        <a:pt x="954" y="1610"/>
                      </a:lnTo>
                      <a:lnTo>
                        <a:pt x="997" y="1607"/>
                      </a:lnTo>
                      <a:lnTo>
                        <a:pt x="1033" y="1603"/>
                      </a:lnTo>
                      <a:lnTo>
                        <a:pt x="1060" y="1601"/>
                      </a:lnTo>
                      <a:lnTo>
                        <a:pt x="1078" y="1600"/>
                      </a:lnTo>
                      <a:lnTo>
                        <a:pt x="1083" y="1600"/>
                      </a:lnTo>
                      <a:lnTo>
                        <a:pt x="1077" y="1587"/>
                      </a:lnTo>
                      <a:lnTo>
                        <a:pt x="1059" y="1551"/>
                      </a:lnTo>
                      <a:lnTo>
                        <a:pt x="1034" y="1495"/>
                      </a:lnTo>
                      <a:lnTo>
                        <a:pt x="1007" y="1420"/>
                      </a:lnTo>
                      <a:lnTo>
                        <a:pt x="981" y="1328"/>
                      </a:lnTo>
                      <a:lnTo>
                        <a:pt x="960" y="1222"/>
                      </a:lnTo>
                      <a:lnTo>
                        <a:pt x="949" y="1105"/>
                      </a:lnTo>
                      <a:lnTo>
                        <a:pt x="951" y="978"/>
                      </a:lnTo>
                      <a:lnTo>
                        <a:pt x="964" y="818"/>
                      </a:lnTo>
                      <a:lnTo>
                        <a:pt x="979" y="651"/>
                      </a:lnTo>
                      <a:lnTo>
                        <a:pt x="994" y="487"/>
                      </a:lnTo>
                      <a:lnTo>
                        <a:pt x="1009" y="334"/>
                      </a:lnTo>
                      <a:lnTo>
                        <a:pt x="1021" y="201"/>
                      </a:lnTo>
                      <a:lnTo>
                        <a:pt x="1033" y="95"/>
                      </a:lnTo>
                      <a:lnTo>
                        <a:pt x="1040" y="26"/>
                      </a:lnTo>
                      <a:lnTo>
                        <a:pt x="1042" y="0"/>
                      </a:lnTo>
                      <a:lnTo>
                        <a:pt x="99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1" name="Freeform 178"/>
                <p:cNvSpPr/>
                <p:nvPr/>
              </p:nvSpPr>
              <p:spPr>
                <a:xfrm>
                  <a:off x="3142440" y="2162880"/>
                  <a:ext cx="137880" cy="192600"/>
                </a:xfrm>
                <a:custGeom>
                  <a:avLst/>
                  <a:gdLst>
                    <a:gd name="textAreaLeft" fmla="*/ 0 w 137880"/>
                    <a:gd name="textAreaRight" fmla="*/ 138240 w 137880"/>
                    <a:gd name="textAreaTop" fmla="*/ 0 h 192600"/>
                    <a:gd name="textAreaBottom" fmla="*/ 192960 h 192600"/>
                  </a:gdLst>
                  <a:ahLst/>
                  <a:rect l="textAreaLeft" t="textAreaTop" r="textAreaRight" b="textAreaBottom"/>
                  <a:pathLst>
                    <a:path w="1272" h="1820">
                      <a:moveTo>
                        <a:pt x="1237" y="92"/>
                      </a:moveTo>
                      <a:lnTo>
                        <a:pt x="1235" y="113"/>
                      </a:lnTo>
                      <a:lnTo>
                        <a:pt x="1227" y="168"/>
                      </a:lnTo>
                      <a:lnTo>
                        <a:pt x="1215" y="252"/>
                      </a:lnTo>
                      <a:lnTo>
                        <a:pt x="1203" y="355"/>
                      </a:lnTo>
                      <a:lnTo>
                        <a:pt x="1188" y="468"/>
                      </a:lnTo>
                      <a:lnTo>
                        <a:pt x="1174" y="584"/>
                      </a:lnTo>
                      <a:lnTo>
                        <a:pt x="1161" y="694"/>
                      </a:lnTo>
                      <a:lnTo>
                        <a:pt x="1152" y="790"/>
                      </a:lnTo>
                      <a:lnTo>
                        <a:pt x="1146" y="884"/>
                      </a:lnTo>
                      <a:lnTo>
                        <a:pt x="1145" y="984"/>
                      </a:lnTo>
                      <a:lnTo>
                        <a:pt x="1147" y="1089"/>
                      </a:lnTo>
                      <a:lnTo>
                        <a:pt x="1152" y="1190"/>
                      </a:lnTo>
                      <a:lnTo>
                        <a:pt x="1160" y="1284"/>
                      </a:lnTo>
                      <a:lnTo>
                        <a:pt x="1169" y="1365"/>
                      </a:lnTo>
                      <a:lnTo>
                        <a:pt x="1181" y="1428"/>
                      </a:lnTo>
                      <a:lnTo>
                        <a:pt x="1194" y="1469"/>
                      </a:lnTo>
                      <a:lnTo>
                        <a:pt x="1207" y="1495"/>
                      </a:lnTo>
                      <a:lnTo>
                        <a:pt x="1221" y="1521"/>
                      </a:lnTo>
                      <a:lnTo>
                        <a:pt x="1235" y="1548"/>
                      </a:lnTo>
                      <a:lnTo>
                        <a:pt x="1247" y="1571"/>
                      </a:lnTo>
                      <a:lnTo>
                        <a:pt x="1257" y="1592"/>
                      </a:lnTo>
                      <a:lnTo>
                        <a:pt x="1265" y="1608"/>
                      </a:lnTo>
                      <a:lnTo>
                        <a:pt x="1270" y="1619"/>
                      </a:lnTo>
                      <a:lnTo>
                        <a:pt x="1272" y="1623"/>
                      </a:lnTo>
                      <a:lnTo>
                        <a:pt x="1266" y="1623"/>
                      </a:lnTo>
                      <a:lnTo>
                        <a:pt x="1252" y="1622"/>
                      </a:lnTo>
                      <a:lnTo>
                        <a:pt x="1228" y="1621"/>
                      </a:lnTo>
                      <a:lnTo>
                        <a:pt x="1198" y="1619"/>
                      </a:lnTo>
                      <a:lnTo>
                        <a:pt x="1161" y="1618"/>
                      </a:lnTo>
                      <a:lnTo>
                        <a:pt x="1121" y="1617"/>
                      </a:lnTo>
                      <a:lnTo>
                        <a:pt x="1076" y="1616"/>
                      </a:lnTo>
                      <a:lnTo>
                        <a:pt x="1029" y="1615"/>
                      </a:lnTo>
                      <a:lnTo>
                        <a:pt x="980" y="1615"/>
                      </a:lnTo>
                      <a:lnTo>
                        <a:pt x="932" y="1614"/>
                      </a:lnTo>
                      <a:lnTo>
                        <a:pt x="885" y="1614"/>
                      </a:lnTo>
                      <a:lnTo>
                        <a:pt x="841" y="1614"/>
                      </a:lnTo>
                      <a:lnTo>
                        <a:pt x="799" y="1615"/>
                      </a:lnTo>
                      <a:lnTo>
                        <a:pt x="764" y="1617"/>
                      </a:lnTo>
                      <a:lnTo>
                        <a:pt x="734" y="1619"/>
                      </a:lnTo>
                      <a:lnTo>
                        <a:pt x="712" y="1623"/>
                      </a:lnTo>
                      <a:lnTo>
                        <a:pt x="688" y="1629"/>
                      </a:lnTo>
                      <a:lnTo>
                        <a:pt x="653" y="1638"/>
                      </a:lnTo>
                      <a:lnTo>
                        <a:pt x="609" y="1648"/>
                      </a:lnTo>
                      <a:lnTo>
                        <a:pt x="559" y="1662"/>
                      </a:lnTo>
                      <a:lnTo>
                        <a:pt x="503" y="1678"/>
                      </a:lnTo>
                      <a:lnTo>
                        <a:pt x="443" y="1694"/>
                      </a:lnTo>
                      <a:lnTo>
                        <a:pt x="381" y="1712"/>
                      </a:lnTo>
                      <a:lnTo>
                        <a:pt x="319" y="1729"/>
                      </a:lnTo>
                      <a:lnTo>
                        <a:pt x="258" y="1746"/>
                      </a:lnTo>
                      <a:lnTo>
                        <a:pt x="199" y="1763"/>
                      </a:lnTo>
                      <a:lnTo>
                        <a:pt x="145" y="1778"/>
                      </a:lnTo>
                      <a:lnTo>
                        <a:pt x="97" y="1792"/>
                      </a:lnTo>
                      <a:lnTo>
                        <a:pt x="57" y="1804"/>
                      </a:lnTo>
                      <a:lnTo>
                        <a:pt x="26" y="1812"/>
                      </a:lnTo>
                      <a:lnTo>
                        <a:pt x="7" y="1817"/>
                      </a:lnTo>
                      <a:lnTo>
                        <a:pt x="0" y="1820"/>
                      </a:lnTo>
                      <a:lnTo>
                        <a:pt x="6" y="1817"/>
                      </a:lnTo>
                      <a:lnTo>
                        <a:pt x="21" y="1811"/>
                      </a:lnTo>
                      <a:lnTo>
                        <a:pt x="44" y="1801"/>
                      </a:lnTo>
                      <a:lnTo>
                        <a:pt x="76" y="1788"/>
                      </a:lnTo>
                      <a:lnTo>
                        <a:pt x="115" y="1773"/>
                      </a:lnTo>
                      <a:lnTo>
                        <a:pt x="160" y="1755"/>
                      </a:lnTo>
                      <a:lnTo>
                        <a:pt x="210" y="1736"/>
                      </a:lnTo>
                      <a:lnTo>
                        <a:pt x="265" y="1716"/>
                      </a:lnTo>
                      <a:lnTo>
                        <a:pt x="322" y="1697"/>
                      </a:lnTo>
                      <a:lnTo>
                        <a:pt x="382" y="1677"/>
                      </a:lnTo>
                      <a:lnTo>
                        <a:pt x="445" y="1659"/>
                      </a:lnTo>
                      <a:lnTo>
                        <a:pt x="507" y="1640"/>
                      </a:lnTo>
                      <a:lnTo>
                        <a:pt x="570" y="1625"/>
                      </a:lnTo>
                      <a:lnTo>
                        <a:pt x="631" y="1611"/>
                      </a:lnTo>
                      <a:lnTo>
                        <a:pt x="690" y="1602"/>
                      </a:lnTo>
                      <a:lnTo>
                        <a:pt x="746" y="1595"/>
                      </a:lnTo>
                      <a:lnTo>
                        <a:pt x="779" y="1593"/>
                      </a:lnTo>
                      <a:lnTo>
                        <a:pt x="814" y="1591"/>
                      </a:lnTo>
                      <a:lnTo>
                        <a:pt x="851" y="1588"/>
                      </a:lnTo>
                      <a:lnTo>
                        <a:pt x="888" y="1586"/>
                      </a:lnTo>
                      <a:lnTo>
                        <a:pt x="926" y="1585"/>
                      </a:lnTo>
                      <a:lnTo>
                        <a:pt x="964" y="1583"/>
                      </a:lnTo>
                      <a:lnTo>
                        <a:pt x="1001" y="1581"/>
                      </a:lnTo>
                      <a:lnTo>
                        <a:pt x="1037" y="1579"/>
                      </a:lnTo>
                      <a:lnTo>
                        <a:pt x="1070" y="1578"/>
                      </a:lnTo>
                      <a:lnTo>
                        <a:pt x="1101" y="1578"/>
                      </a:lnTo>
                      <a:lnTo>
                        <a:pt x="1129" y="1577"/>
                      </a:lnTo>
                      <a:lnTo>
                        <a:pt x="1153" y="1576"/>
                      </a:lnTo>
                      <a:lnTo>
                        <a:pt x="1173" y="1576"/>
                      </a:lnTo>
                      <a:lnTo>
                        <a:pt x="1188" y="1574"/>
                      </a:lnTo>
                      <a:lnTo>
                        <a:pt x="1197" y="1574"/>
                      </a:lnTo>
                      <a:lnTo>
                        <a:pt x="1200" y="1574"/>
                      </a:lnTo>
                      <a:lnTo>
                        <a:pt x="1195" y="1564"/>
                      </a:lnTo>
                      <a:lnTo>
                        <a:pt x="1181" y="1533"/>
                      </a:lnTo>
                      <a:lnTo>
                        <a:pt x="1161" y="1479"/>
                      </a:lnTo>
                      <a:lnTo>
                        <a:pt x="1139" y="1402"/>
                      </a:lnTo>
                      <a:lnTo>
                        <a:pt x="1120" y="1300"/>
                      </a:lnTo>
                      <a:lnTo>
                        <a:pt x="1107" y="1171"/>
                      </a:lnTo>
                      <a:lnTo>
                        <a:pt x="1102" y="1016"/>
                      </a:lnTo>
                      <a:lnTo>
                        <a:pt x="1111" y="832"/>
                      </a:lnTo>
                      <a:lnTo>
                        <a:pt x="1124" y="682"/>
                      </a:lnTo>
                      <a:lnTo>
                        <a:pt x="1139" y="533"/>
                      </a:lnTo>
                      <a:lnTo>
                        <a:pt x="1155" y="394"/>
                      </a:lnTo>
                      <a:lnTo>
                        <a:pt x="1172" y="266"/>
                      </a:lnTo>
                      <a:lnTo>
                        <a:pt x="1185" y="158"/>
                      </a:lnTo>
                      <a:lnTo>
                        <a:pt x="1197" y="74"/>
                      </a:lnTo>
                      <a:lnTo>
                        <a:pt x="1205" y="20"/>
                      </a:lnTo>
                      <a:lnTo>
                        <a:pt x="1207" y="0"/>
                      </a:lnTo>
                      <a:lnTo>
                        <a:pt x="123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2" name="Freeform 179"/>
                <p:cNvSpPr/>
                <p:nvPr/>
              </p:nvSpPr>
              <p:spPr>
                <a:xfrm>
                  <a:off x="3125160" y="2186640"/>
                  <a:ext cx="74160" cy="174960"/>
                </a:xfrm>
                <a:custGeom>
                  <a:avLst/>
                  <a:gdLst>
                    <a:gd name="textAreaLeft" fmla="*/ 0 w 74160"/>
                    <a:gd name="textAreaRight" fmla="*/ 74520 w 74160"/>
                    <a:gd name="textAreaTop" fmla="*/ 0 h 174960"/>
                    <a:gd name="textAreaBottom" fmla="*/ 175320 h 174960"/>
                  </a:gdLst>
                  <a:ahLst/>
                  <a:rect l="textAreaLeft" t="textAreaTop" r="textAreaRight" b="textAreaBottom"/>
                  <a:pathLst>
                    <a:path w="685" h="1651">
                      <a:moveTo>
                        <a:pt x="685" y="1337"/>
                      </a:moveTo>
                      <a:lnTo>
                        <a:pt x="685" y="1337"/>
                      </a:lnTo>
                      <a:lnTo>
                        <a:pt x="635" y="1348"/>
                      </a:lnTo>
                      <a:lnTo>
                        <a:pt x="584" y="1364"/>
                      </a:lnTo>
                      <a:lnTo>
                        <a:pt x="532" y="1384"/>
                      </a:lnTo>
                      <a:lnTo>
                        <a:pt x="481" y="1406"/>
                      </a:lnTo>
                      <a:lnTo>
                        <a:pt x="431" y="1431"/>
                      </a:lnTo>
                      <a:lnTo>
                        <a:pt x="382" y="1458"/>
                      </a:lnTo>
                      <a:lnTo>
                        <a:pt x="335" y="1484"/>
                      </a:lnTo>
                      <a:lnTo>
                        <a:pt x="291" y="1512"/>
                      </a:lnTo>
                      <a:lnTo>
                        <a:pt x="250" y="1539"/>
                      </a:lnTo>
                      <a:lnTo>
                        <a:pt x="213" y="1565"/>
                      </a:lnTo>
                      <a:lnTo>
                        <a:pt x="180" y="1588"/>
                      </a:lnTo>
                      <a:lnTo>
                        <a:pt x="151" y="1609"/>
                      </a:lnTo>
                      <a:lnTo>
                        <a:pt x="128" y="1626"/>
                      </a:lnTo>
                      <a:lnTo>
                        <a:pt x="110" y="1640"/>
                      </a:lnTo>
                      <a:lnTo>
                        <a:pt x="100" y="1648"/>
                      </a:lnTo>
                      <a:lnTo>
                        <a:pt x="97" y="1651"/>
                      </a:lnTo>
                      <a:lnTo>
                        <a:pt x="92" y="1622"/>
                      </a:lnTo>
                      <a:lnTo>
                        <a:pt x="82" y="1546"/>
                      </a:lnTo>
                      <a:lnTo>
                        <a:pt x="66" y="1435"/>
                      </a:lnTo>
                      <a:lnTo>
                        <a:pt x="48" y="1302"/>
                      </a:lnTo>
                      <a:lnTo>
                        <a:pt x="31" y="1162"/>
                      </a:lnTo>
                      <a:lnTo>
                        <a:pt x="15" y="1026"/>
                      </a:lnTo>
                      <a:lnTo>
                        <a:pt x="4" y="907"/>
                      </a:lnTo>
                      <a:lnTo>
                        <a:pt x="0" y="821"/>
                      </a:lnTo>
                      <a:lnTo>
                        <a:pt x="3" y="653"/>
                      </a:lnTo>
                      <a:lnTo>
                        <a:pt x="10" y="455"/>
                      </a:lnTo>
                      <a:lnTo>
                        <a:pt x="17" y="291"/>
                      </a:lnTo>
                      <a:lnTo>
                        <a:pt x="21" y="223"/>
                      </a:lnTo>
                      <a:lnTo>
                        <a:pt x="21" y="219"/>
                      </a:lnTo>
                      <a:lnTo>
                        <a:pt x="21" y="204"/>
                      </a:lnTo>
                      <a:lnTo>
                        <a:pt x="23" y="182"/>
                      </a:lnTo>
                      <a:lnTo>
                        <a:pt x="29" y="154"/>
                      </a:lnTo>
                      <a:lnTo>
                        <a:pt x="37" y="120"/>
                      </a:lnTo>
                      <a:lnTo>
                        <a:pt x="49" y="83"/>
                      </a:lnTo>
                      <a:lnTo>
                        <a:pt x="69" y="41"/>
                      </a:lnTo>
                      <a:lnTo>
                        <a:pt x="94" y="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3" name="Freeform 180"/>
                <p:cNvSpPr/>
                <p:nvPr/>
              </p:nvSpPr>
              <p:spPr>
                <a:xfrm>
                  <a:off x="3017520" y="2189520"/>
                  <a:ext cx="64800" cy="156240"/>
                </a:xfrm>
                <a:custGeom>
                  <a:avLst/>
                  <a:gdLst>
                    <a:gd name="textAreaLeft" fmla="*/ 0 w 64800"/>
                    <a:gd name="textAreaRight" fmla="*/ 65160 w 64800"/>
                    <a:gd name="textAreaTop" fmla="*/ 0 h 156240"/>
                    <a:gd name="textAreaBottom" fmla="*/ 156600 h 156240"/>
                  </a:gdLst>
                  <a:ahLst/>
                  <a:rect l="textAreaLeft" t="textAreaTop" r="textAreaRight" b="textAreaBottom"/>
                  <a:pathLst>
                    <a:path w="598" h="1474">
                      <a:moveTo>
                        <a:pt x="15" y="0"/>
                      </a:moveTo>
                      <a:lnTo>
                        <a:pt x="15" y="8"/>
                      </a:lnTo>
                      <a:lnTo>
                        <a:pt x="17" y="29"/>
                      </a:lnTo>
                      <a:lnTo>
                        <a:pt x="22" y="62"/>
                      </a:lnTo>
                      <a:lnTo>
                        <a:pt x="32" y="105"/>
                      </a:lnTo>
                      <a:lnTo>
                        <a:pt x="50" y="156"/>
                      </a:lnTo>
                      <a:lnTo>
                        <a:pt x="74" y="212"/>
                      </a:lnTo>
                      <a:lnTo>
                        <a:pt x="109" y="272"/>
                      </a:lnTo>
                      <a:lnTo>
                        <a:pt x="157" y="333"/>
                      </a:lnTo>
                      <a:lnTo>
                        <a:pt x="184" y="363"/>
                      </a:lnTo>
                      <a:lnTo>
                        <a:pt x="212" y="393"/>
                      </a:lnTo>
                      <a:lnTo>
                        <a:pt x="240" y="421"/>
                      </a:lnTo>
                      <a:lnTo>
                        <a:pt x="267" y="447"/>
                      </a:lnTo>
                      <a:lnTo>
                        <a:pt x="294" y="471"/>
                      </a:lnTo>
                      <a:lnTo>
                        <a:pt x="320" y="494"/>
                      </a:lnTo>
                      <a:lnTo>
                        <a:pt x="346" y="516"/>
                      </a:lnTo>
                      <a:lnTo>
                        <a:pt x="370" y="536"/>
                      </a:lnTo>
                      <a:lnTo>
                        <a:pt x="392" y="554"/>
                      </a:lnTo>
                      <a:lnTo>
                        <a:pt x="412" y="569"/>
                      </a:lnTo>
                      <a:lnTo>
                        <a:pt x="431" y="583"/>
                      </a:lnTo>
                      <a:lnTo>
                        <a:pt x="446" y="595"/>
                      </a:lnTo>
                      <a:lnTo>
                        <a:pt x="459" y="604"/>
                      </a:lnTo>
                      <a:lnTo>
                        <a:pt x="468" y="609"/>
                      </a:lnTo>
                      <a:lnTo>
                        <a:pt x="474" y="614"/>
                      </a:lnTo>
                      <a:lnTo>
                        <a:pt x="476" y="615"/>
                      </a:lnTo>
                      <a:lnTo>
                        <a:pt x="474" y="627"/>
                      </a:lnTo>
                      <a:lnTo>
                        <a:pt x="469" y="660"/>
                      </a:lnTo>
                      <a:lnTo>
                        <a:pt x="462" y="709"/>
                      </a:lnTo>
                      <a:lnTo>
                        <a:pt x="455" y="771"/>
                      </a:lnTo>
                      <a:lnTo>
                        <a:pt x="447" y="840"/>
                      </a:lnTo>
                      <a:lnTo>
                        <a:pt x="441" y="914"/>
                      </a:lnTo>
                      <a:lnTo>
                        <a:pt x="438" y="987"/>
                      </a:lnTo>
                      <a:lnTo>
                        <a:pt x="438" y="1056"/>
                      </a:lnTo>
                      <a:lnTo>
                        <a:pt x="446" y="1124"/>
                      </a:lnTo>
                      <a:lnTo>
                        <a:pt x="464" y="1194"/>
                      </a:lnTo>
                      <a:lnTo>
                        <a:pt x="491" y="1265"/>
                      </a:lnTo>
                      <a:lnTo>
                        <a:pt x="520" y="1330"/>
                      </a:lnTo>
                      <a:lnTo>
                        <a:pt x="548" y="1388"/>
                      </a:lnTo>
                      <a:lnTo>
                        <a:pt x="574" y="1434"/>
                      </a:lnTo>
                      <a:lnTo>
                        <a:pt x="591" y="1464"/>
                      </a:lnTo>
                      <a:lnTo>
                        <a:pt x="598" y="1474"/>
                      </a:lnTo>
                      <a:lnTo>
                        <a:pt x="591" y="1470"/>
                      </a:lnTo>
                      <a:lnTo>
                        <a:pt x="570" y="1454"/>
                      </a:lnTo>
                      <a:lnTo>
                        <a:pt x="543" y="1426"/>
                      </a:lnTo>
                      <a:lnTo>
                        <a:pt x="510" y="1383"/>
                      </a:lnTo>
                      <a:lnTo>
                        <a:pt x="478" y="1327"/>
                      </a:lnTo>
                      <a:lnTo>
                        <a:pt x="449" y="1253"/>
                      </a:lnTo>
                      <a:lnTo>
                        <a:pt x="429" y="1161"/>
                      </a:lnTo>
                      <a:lnTo>
                        <a:pt x="419" y="1051"/>
                      </a:lnTo>
                      <a:lnTo>
                        <a:pt x="419" y="940"/>
                      </a:lnTo>
                      <a:lnTo>
                        <a:pt x="423" y="850"/>
                      </a:lnTo>
                      <a:lnTo>
                        <a:pt x="430" y="778"/>
                      </a:lnTo>
                      <a:lnTo>
                        <a:pt x="438" y="722"/>
                      </a:lnTo>
                      <a:lnTo>
                        <a:pt x="446" y="682"/>
                      </a:lnTo>
                      <a:lnTo>
                        <a:pt x="453" y="656"/>
                      </a:lnTo>
                      <a:lnTo>
                        <a:pt x="457" y="641"/>
                      </a:lnTo>
                      <a:lnTo>
                        <a:pt x="460" y="636"/>
                      </a:lnTo>
                      <a:lnTo>
                        <a:pt x="457" y="635"/>
                      </a:lnTo>
                      <a:lnTo>
                        <a:pt x="452" y="631"/>
                      </a:lnTo>
                      <a:lnTo>
                        <a:pt x="444" y="624"/>
                      </a:lnTo>
                      <a:lnTo>
                        <a:pt x="431" y="616"/>
                      </a:lnTo>
                      <a:lnTo>
                        <a:pt x="416" y="606"/>
                      </a:lnTo>
                      <a:lnTo>
                        <a:pt x="399" y="593"/>
                      </a:lnTo>
                      <a:lnTo>
                        <a:pt x="379" y="578"/>
                      </a:lnTo>
                      <a:lnTo>
                        <a:pt x="357" y="561"/>
                      </a:lnTo>
                      <a:lnTo>
                        <a:pt x="334" y="543"/>
                      </a:lnTo>
                      <a:lnTo>
                        <a:pt x="310" y="522"/>
                      </a:lnTo>
                      <a:lnTo>
                        <a:pt x="283" y="499"/>
                      </a:lnTo>
                      <a:lnTo>
                        <a:pt x="257" y="475"/>
                      </a:lnTo>
                      <a:lnTo>
                        <a:pt x="229" y="448"/>
                      </a:lnTo>
                      <a:lnTo>
                        <a:pt x="203" y="421"/>
                      </a:lnTo>
                      <a:lnTo>
                        <a:pt x="175" y="391"/>
                      </a:lnTo>
                      <a:lnTo>
                        <a:pt x="147" y="360"/>
                      </a:lnTo>
                      <a:lnTo>
                        <a:pt x="100" y="299"/>
                      </a:lnTo>
                      <a:lnTo>
                        <a:pt x="65" y="244"/>
                      </a:lnTo>
                      <a:lnTo>
                        <a:pt x="38" y="197"/>
                      </a:lnTo>
                      <a:lnTo>
                        <a:pt x="21" y="157"/>
                      </a:lnTo>
                      <a:lnTo>
                        <a:pt x="9" y="125"/>
                      </a:lnTo>
                      <a:lnTo>
                        <a:pt x="3" y="102"/>
                      </a:lnTo>
                      <a:lnTo>
                        <a:pt x="0" y="87"/>
                      </a:lnTo>
                      <a:lnTo>
                        <a:pt x="0" y="82"/>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nvGrpSpPr>
              <p:cNvPr id="394" name="Group 181"/>
              <p:cNvGrpSpPr/>
              <p:nvPr/>
            </p:nvGrpSpPr>
            <p:grpSpPr>
              <a:xfrm>
                <a:off x="3408120" y="2111400"/>
                <a:ext cx="582840" cy="266400"/>
                <a:chOff x="3408120" y="2111400"/>
                <a:chExt cx="582840" cy="266400"/>
              </a:xfrm>
            </p:grpSpPr>
            <p:sp>
              <p:nvSpPr>
                <p:cNvPr id="395" name="Freeform 182"/>
                <p:cNvSpPr/>
                <p:nvPr/>
              </p:nvSpPr>
              <p:spPr>
                <a:xfrm>
                  <a:off x="3408120" y="2111400"/>
                  <a:ext cx="392400" cy="260280"/>
                </a:xfrm>
                <a:custGeom>
                  <a:avLst/>
                  <a:gdLst>
                    <a:gd name="textAreaLeft" fmla="*/ 0 w 392400"/>
                    <a:gd name="textAreaRight" fmla="*/ 392760 w 392400"/>
                    <a:gd name="textAreaTop" fmla="*/ 0 h 260280"/>
                    <a:gd name="textAreaBottom" fmla="*/ 260640 h 260280"/>
                  </a:gdLst>
                  <a:ahLst/>
                  <a:rect l="textAreaLeft" t="textAreaTop" r="textAreaRight" b="textAreaBottom"/>
                  <a:pathLst>
                    <a:path w="696" h="494">
                      <a:moveTo>
                        <a:pt x="696" y="250"/>
                      </a:moveTo>
                      <a:lnTo>
                        <a:pt x="681" y="240"/>
                      </a:lnTo>
                      <a:lnTo>
                        <a:pt x="663" y="227"/>
                      </a:lnTo>
                      <a:lnTo>
                        <a:pt x="640" y="213"/>
                      </a:lnTo>
                      <a:lnTo>
                        <a:pt x="613" y="196"/>
                      </a:lnTo>
                      <a:lnTo>
                        <a:pt x="585" y="179"/>
                      </a:lnTo>
                      <a:lnTo>
                        <a:pt x="553" y="159"/>
                      </a:lnTo>
                      <a:lnTo>
                        <a:pt x="521" y="140"/>
                      </a:lnTo>
                      <a:lnTo>
                        <a:pt x="488" y="120"/>
                      </a:lnTo>
                      <a:lnTo>
                        <a:pt x="453" y="101"/>
                      </a:lnTo>
                      <a:lnTo>
                        <a:pt x="419" y="82"/>
                      </a:lnTo>
                      <a:lnTo>
                        <a:pt x="385" y="64"/>
                      </a:lnTo>
                      <a:lnTo>
                        <a:pt x="352" y="48"/>
                      </a:lnTo>
                      <a:lnTo>
                        <a:pt x="321" y="32"/>
                      </a:lnTo>
                      <a:lnTo>
                        <a:pt x="292" y="19"/>
                      </a:lnTo>
                      <a:lnTo>
                        <a:pt x="267" y="9"/>
                      </a:lnTo>
                      <a:lnTo>
                        <a:pt x="244" y="0"/>
                      </a:lnTo>
                      <a:lnTo>
                        <a:pt x="234" y="9"/>
                      </a:lnTo>
                      <a:lnTo>
                        <a:pt x="221" y="18"/>
                      </a:lnTo>
                      <a:lnTo>
                        <a:pt x="207" y="28"/>
                      </a:lnTo>
                      <a:lnTo>
                        <a:pt x="192" y="41"/>
                      </a:lnTo>
                      <a:lnTo>
                        <a:pt x="176" y="55"/>
                      </a:lnTo>
                      <a:lnTo>
                        <a:pt x="160" y="70"/>
                      </a:lnTo>
                      <a:lnTo>
                        <a:pt x="142" y="87"/>
                      </a:lnTo>
                      <a:lnTo>
                        <a:pt x="124" y="103"/>
                      </a:lnTo>
                      <a:lnTo>
                        <a:pt x="106" y="121"/>
                      </a:lnTo>
                      <a:lnTo>
                        <a:pt x="89" y="140"/>
                      </a:lnTo>
                      <a:lnTo>
                        <a:pt x="71" y="159"/>
                      </a:lnTo>
                      <a:lnTo>
                        <a:pt x="55" y="179"/>
                      </a:lnTo>
                      <a:lnTo>
                        <a:pt x="39" y="198"/>
                      </a:lnTo>
                      <a:lnTo>
                        <a:pt x="24" y="218"/>
                      </a:lnTo>
                      <a:lnTo>
                        <a:pt x="12" y="238"/>
                      </a:lnTo>
                      <a:lnTo>
                        <a:pt x="0" y="257"/>
                      </a:lnTo>
                      <a:lnTo>
                        <a:pt x="14" y="268"/>
                      </a:lnTo>
                      <a:lnTo>
                        <a:pt x="33" y="280"/>
                      </a:lnTo>
                      <a:lnTo>
                        <a:pt x="55" y="294"/>
                      </a:lnTo>
                      <a:lnTo>
                        <a:pt x="82" y="310"/>
                      </a:lnTo>
                      <a:lnTo>
                        <a:pt x="109" y="327"/>
                      </a:lnTo>
                      <a:lnTo>
                        <a:pt x="140" y="346"/>
                      </a:lnTo>
                      <a:lnTo>
                        <a:pt x="171" y="364"/>
                      </a:lnTo>
                      <a:lnTo>
                        <a:pt x="204" y="383"/>
                      </a:lnTo>
                      <a:lnTo>
                        <a:pt x="235" y="401"/>
                      </a:lnTo>
                      <a:lnTo>
                        <a:pt x="267" y="418"/>
                      </a:lnTo>
                      <a:lnTo>
                        <a:pt x="296" y="436"/>
                      </a:lnTo>
                      <a:lnTo>
                        <a:pt x="325" y="451"/>
                      </a:lnTo>
                      <a:lnTo>
                        <a:pt x="349" y="466"/>
                      </a:lnTo>
                      <a:lnTo>
                        <a:pt x="371" y="477"/>
                      </a:lnTo>
                      <a:lnTo>
                        <a:pt x="389" y="487"/>
                      </a:lnTo>
                      <a:lnTo>
                        <a:pt x="402" y="494"/>
                      </a:lnTo>
                      <a:lnTo>
                        <a:pt x="415" y="482"/>
                      </a:lnTo>
                      <a:lnTo>
                        <a:pt x="432" y="467"/>
                      </a:lnTo>
                      <a:lnTo>
                        <a:pt x="450" y="451"/>
                      </a:lnTo>
                      <a:lnTo>
                        <a:pt x="469" y="433"/>
                      </a:lnTo>
                      <a:lnTo>
                        <a:pt x="490" y="416"/>
                      </a:lnTo>
                      <a:lnTo>
                        <a:pt x="512" y="398"/>
                      </a:lnTo>
                      <a:lnTo>
                        <a:pt x="534" y="378"/>
                      </a:lnTo>
                      <a:lnTo>
                        <a:pt x="556" y="360"/>
                      </a:lnTo>
                      <a:lnTo>
                        <a:pt x="578" y="341"/>
                      </a:lnTo>
                      <a:lnTo>
                        <a:pt x="598" y="324"/>
                      </a:lnTo>
                      <a:lnTo>
                        <a:pt x="619" y="308"/>
                      </a:lnTo>
                      <a:lnTo>
                        <a:pt x="639" y="292"/>
                      </a:lnTo>
                      <a:lnTo>
                        <a:pt x="656" y="279"/>
                      </a:lnTo>
                      <a:lnTo>
                        <a:pt x="672" y="266"/>
                      </a:lnTo>
                      <a:lnTo>
                        <a:pt x="686" y="257"/>
                      </a:lnTo>
                      <a:lnTo>
                        <a:pt x="696"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6" name="Freeform 183"/>
                <p:cNvSpPr/>
                <p:nvPr/>
              </p:nvSpPr>
              <p:spPr>
                <a:xfrm>
                  <a:off x="3551040" y="2131200"/>
                  <a:ext cx="212040" cy="113760"/>
                </a:xfrm>
                <a:custGeom>
                  <a:avLst/>
                  <a:gdLst>
                    <a:gd name="textAreaLeft" fmla="*/ 0 w 212040"/>
                    <a:gd name="textAreaRight" fmla="*/ 212400 w 212040"/>
                    <a:gd name="textAreaTop" fmla="*/ 0 h 113760"/>
                    <a:gd name="textAreaBottom" fmla="*/ 114120 h 113760"/>
                  </a:gdLst>
                  <a:ahLst/>
                  <a:rect l="textAreaLeft" t="textAreaTop" r="textAreaRight" b="textAreaBottom"/>
                  <a:pathLst>
                    <a:path w="376" h="215">
                      <a:moveTo>
                        <a:pt x="376" y="205"/>
                      </a:moveTo>
                      <a:lnTo>
                        <a:pt x="364" y="196"/>
                      </a:lnTo>
                      <a:lnTo>
                        <a:pt x="347" y="186"/>
                      </a:lnTo>
                      <a:lnTo>
                        <a:pt x="326" y="173"/>
                      </a:lnTo>
                      <a:lnTo>
                        <a:pt x="303" y="160"/>
                      </a:lnTo>
                      <a:lnTo>
                        <a:pt x="276" y="145"/>
                      </a:lnTo>
                      <a:lnTo>
                        <a:pt x="249" y="129"/>
                      </a:lnTo>
                      <a:lnTo>
                        <a:pt x="220" y="112"/>
                      </a:lnTo>
                      <a:lnTo>
                        <a:pt x="191" y="96"/>
                      </a:lnTo>
                      <a:lnTo>
                        <a:pt x="161" y="80"/>
                      </a:lnTo>
                      <a:lnTo>
                        <a:pt x="132" y="64"/>
                      </a:lnTo>
                      <a:lnTo>
                        <a:pt x="105" y="49"/>
                      </a:lnTo>
                      <a:lnTo>
                        <a:pt x="78" y="35"/>
                      </a:lnTo>
                      <a:lnTo>
                        <a:pt x="54" y="24"/>
                      </a:lnTo>
                      <a:lnTo>
                        <a:pt x="32" y="13"/>
                      </a:lnTo>
                      <a:lnTo>
                        <a:pt x="14" y="5"/>
                      </a:lnTo>
                      <a:lnTo>
                        <a:pt x="0" y="0"/>
                      </a:lnTo>
                      <a:lnTo>
                        <a:pt x="4" y="19"/>
                      </a:lnTo>
                      <a:lnTo>
                        <a:pt x="8" y="46"/>
                      </a:lnTo>
                      <a:lnTo>
                        <a:pt x="16" y="77"/>
                      </a:lnTo>
                      <a:lnTo>
                        <a:pt x="24" y="110"/>
                      </a:lnTo>
                      <a:lnTo>
                        <a:pt x="34" y="141"/>
                      </a:lnTo>
                      <a:lnTo>
                        <a:pt x="43" y="169"/>
                      </a:lnTo>
                      <a:lnTo>
                        <a:pt x="52" y="191"/>
                      </a:lnTo>
                      <a:lnTo>
                        <a:pt x="61" y="203"/>
                      </a:lnTo>
                      <a:lnTo>
                        <a:pt x="69" y="208"/>
                      </a:lnTo>
                      <a:lnTo>
                        <a:pt x="81" y="210"/>
                      </a:lnTo>
                      <a:lnTo>
                        <a:pt x="97" y="213"/>
                      </a:lnTo>
                      <a:lnTo>
                        <a:pt x="115" y="215"/>
                      </a:lnTo>
                      <a:lnTo>
                        <a:pt x="137" y="215"/>
                      </a:lnTo>
                      <a:lnTo>
                        <a:pt x="160" y="215"/>
                      </a:lnTo>
                      <a:lnTo>
                        <a:pt x="185" y="215"/>
                      </a:lnTo>
                      <a:lnTo>
                        <a:pt x="212" y="214"/>
                      </a:lnTo>
                      <a:lnTo>
                        <a:pt x="237" y="213"/>
                      </a:lnTo>
                      <a:lnTo>
                        <a:pt x="264" y="211"/>
                      </a:lnTo>
                      <a:lnTo>
                        <a:pt x="288" y="210"/>
                      </a:lnTo>
                      <a:lnTo>
                        <a:pt x="311" y="208"/>
                      </a:lnTo>
                      <a:lnTo>
                        <a:pt x="333" y="207"/>
                      </a:lnTo>
                      <a:lnTo>
                        <a:pt x="350" y="206"/>
                      </a:lnTo>
                      <a:lnTo>
                        <a:pt x="365" y="205"/>
                      </a:lnTo>
                      <a:lnTo>
                        <a:pt x="376" y="205"/>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97" name="Freeform 184"/>
                <p:cNvSpPr/>
                <p:nvPr/>
              </p:nvSpPr>
              <p:spPr>
                <a:xfrm>
                  <a:off x="3634920" y="2257920"/>
                  <a:ext cx="113760" cy="85320"/>
                </a:xfrm>
                <a:custGeom>
                  <a:avLst/>
                  <a:gdLst>
                    <a:gd name="textAreaLeft" fmla="*/ 0 w 113760"/>
                    <a:gd name="textAreaRight" fmla="*/ 114120 w 113760"/>
                    <a:gd name="textAreaTop" fmla="*/ 0 h 85320"/>
                    <a:gd name="textAreaBottom" fmla="*/ 85680 h 85320"/>
                  </a:gdLst>
                  <a:ahLst/>
                  <a:rect l="textAreaLeft" t="textAreaTop" r="textAreaRight" b="textAreaBottom"/>
                  <a:pathLst>
                    <a:path w="202" h="162">
                      <a:moveTo>
                        <a:pt x="202" y="0"/>
                      </a:moveTo>
                      <a:lnTo>
                        <a:pt x="0" y="162"/>
                      </a:lnTo>
                      <a:lnTo>
                        <a:pt x="1" y="10"/>
                      </a:lnTo>
                      <a:lnTo>
                        <a:pt x="202" y="0"/>
                      </a:lnTo>
                      <a:close/>
                    </a:path>
                  </a:pathLst>
                </a:custGeom>
                <a:solidFill>
                  <a:srgbClr val="ffddbf"/>
                </a:solidFill>
                <a:ln w="0">
                  <a:noFill/>
                </a:ln>
              </p:spPr>
              <p:style>
                <a:lnRef idx="0"/>
                <a:fillRef idx="0"/>
                <a:effectRef idx="0"/>
                <a:fontRef idx="minor"/>
              </p:style>
              <p:txBody>
                <a:bodyPr lIns="90000" rIns="90000" tIns="38880" bIns="38880" anchor="t">
                  <a:noAutofit/>
                </a:bodyPr>
                <a:p>
                  <a:endParaRPr b="0" lang="en-US" sz="1800" spc="-1" strike="noStrike">
                    <a:solidFill>
                      <a:srgbClr val="336666"/>
                    </a:solidFill>
                    <a:latin typeface="Arial"/>
                  </a:endParaRPr>
                </a:p>
              </p:txBody>
            </p:sp>
            <p:sp>
              <p:nvSpPr>
                <p:cNvPr id="398" name="Freeform 185"/>
                <p:cNvSpPr/>
                <p:nvPr/>
              </p:nvSpPr>
              <p:spPr>
                <a:xfrm>
                  <a:off x="3437280" y="2141640"/>
                  <a:ext cx="113760" cy="89280"/>
                </a:xfrm>
                <a:custGeom>
                  <a:avLst/>
                  <a:gdLst>
                    <a:gd name="textAreaLeft" fmla="*/ 0 w 113760"/>
                    <a:gd name="textAreaRight" fmla="*/ 114120 w 113760"/>
                    <a:gd name="textAreaTop" fmla="*/ 0 h 89280"/>
                    <a:gd name="textAreaBottom" fmla="*/ 89280 h 89280"/>
                  </a:gdLst>
                  <a:ahLst/>
                  <a:rect l="textAreaLeft" t="textAreaTop" r="textAreaRight" b="textAreaBottom"/>
                  <a:pathLst>
                    <a:path w="202" h="172">
                      <a:moveTo>
                        <a:pt x="202" y="124"/>
                      </a:moveTo>
                      <a:lnTo>
                        <a:pt x="169" y="0"/>
                      </a:lnTo>
                      <a:lnTo>
                        <a:pt x="0" y="172"/>
                      </a:lnTo>
                      <a:lnTo>
                        <a:pt x="202" y="124"/>
                      </a:lnTo>
                      <a:close/>
                    </a:path>
                  </a:pathLst>
                </a:custGeom>
                <a:solidFill>
                  <a:srgbClr val="ffddbf"/>
                </a:solidFill>
                <a:ln w="0">
                  <a:noFill/>
                </a:ln>
              </p:spPr>
              <p:style>
                <a:lnRef idx="0"/>
                <a:fillRef idx="0"/>
                <a:effectRef idx="0"/>
                <a:fontRef idx="minor"/>
              </p:style>
              <p:txBody>
                <a:bodyPr lIns="90000" rIns="90000" tIns="42480" bIns="42480" anchor="t">
                  <a:noAutofit/>
                </a:bodyPr>
                <a:p>
                  <a:endParaRPr b="0" lang="en-US" sz="1800" spc="-1" strike="noStrike">
                    <a:solidFill>
                      <a:srgbClr val="336666"/>
                    </a:solidFill>
                    <a:latin typeface="Arial"/>
                  </a:endParaRPr>
                </a:p>
              </p:txBody>
            </p:sp>
            <p:sp>
              <p:nvSpPr>
                <p:cNvPr id="399" name="Freeform 186"/>
                <p:cNvSpPr/>
                <p:nvPr/>
              </p:nvSpPr>
              <p:spPr>
                <a:xfrm>
                  <a:off x="3438360" y="2219760"/>
                  <a:ext cx="183600" cy="120960"/>
                </a:xfrm>
                <a:custGeom>
                  <a:avLst/>
                  <a:gdLst>
                    <a:gd name="textAreaLeft" fmla="*/ 0 w 183600"/>
                    <a:gd name="textAreaRight" fmla="*/ 183960 w 183600"/>
                    <a:gd name="textAreaTop" fmla="*/ 0 h 120960"/>
                    <a:gd name="textAreaBottom" fmla="*/ 121320 h 120960"/>
                  </a:gdLst>
                  <a:ahLst/>
                  <a:rect l="textAreaLeft" t="textAreaTop" r="textAreaRight" b="textAreaBottom"/>
                  <a:pathLst>
                    <a:path w="327" h="229">
                      <a:moveTo>
                        <a:pt x="0" y="48"/>
                      </a:moveTo>
                      <a:lnTo>
                        <a:pt x="326" y="229"/>
                      </a:lnTo>
                      <a:lnTo>
                        <a:pt x="327" y="81"/>
                      </a:lnTo>
                      <a:lnTo>
                        <a:pt x="304" y="83"/>
                      </a:lnTo>
                      <a:lnTo>
                        <a:pt x="283" y="81"/>
                      </a:lnTo>
                      <a:lnTo>
                        <a:pt x="265" y="78"/>
                      </a:lnTo>
                      <a:lnTo>
                        <a:pt x="249" y="71"/>
                      </a:lnTo>
                      <a:lnTo>
                        <a:pt x="234" y="61"/>
                      </a:lnTo>
                      <a:lnTo>
                        <a:pt x="222" y="46"/>
                      </a:lnTo>
                      <a:lnTo>
                        <a:pt x="213" y="25"/>
                      </a:lnTo>
                      <a:lnTo>
                        <a:pt x="207" y="0"/>
                      </a:lnTo>
                      <a:lnTo>
                        <a:pt x="0" y="48"/>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0" name="Freeform 187"/>
                <p:cNvSpPr/>
                <p:nvPr/>
              </p:nvSpPr>
              <p:spPr>
                <a:xfrm>
                  <a:off x="3638160" y="2143800"/>
                  <a:ext cx="352800" cy="234000"/>
                </a:xfrm>
                <a:custGeom>
                  <a:avLst/>
                  <a:gdLst>
                    <a:gd name="textAreaLeft" fmla="*/ 0 w 352800"/>
                    <a:gd name="textAreaRight" fmla="*/ 353160 w 352800"/>
                    <a:gd name="textAreaTop" fmla="*/ 0 h 234000"/>
                    <a:gd name="textAreaBottom" fmla="*/ 234360 h 234000"/>
                  </a:gdLst>
                  <a:ahLst/>
                  <a:rect l="textAreaLeft" t="textAreaTop" r="textAreaRight" b="textAreaBottom"/>
                  <a:pathLst>
                    <a:path w="624" h="443">
                      <a:moveTo>
                        <a:pt x="0" y="224"/>
                      </a:moveTo>
                      <a:lnTo>
                        <a:pt x="13" y="215"/>
                      </a:lnTo>
                      <a:lnTo>
                        <a:pt x="31" y="204"/>
                      </a:lnTo>
                      <a:lnTo>
                        <a:pt x="50" y="191"/>
                      </a:lnTo>
                      <a:lnTo>
                        <a:pt x="74" y="176"/>
                      </a:lnTo>
                      <a:lnTo>
                        <a:pt x="100" y="160"/>
                      </a:lnTo>
                      <a:lnTo>
                        <a:pt x="128" y="143"/>
                      </a:lnTo>
                      <a:lnTo>
                        <a:pt x="157" y="125"/>
                      </a:lnTo>
                      <a:lnTo>
                        <a:pt x="188" y="108"/>
                      </a:lnTo>
                      <a:lnTo>
                        <a:pt x="218" y="90"/>
                      </a:lnTo>
                      <a:lnTo>
                        <a:pt x="249" y="73"/>
                      </a:lnTo>
                      <a:lnTo>
                        <a:pt x="279" y="56"/>
                      </a:lnTo>
                      <a:lnTo>
                        <a:pt x="309" y="41"/>
                      </a:lnTo>
                      <a:lnTo>
                        <a:pt x="337" y="29"/>
                      </a:lnTo>
                      <a:lnTo>
                        <a:pt x="363" y="16"/>
                      </a:lnTo>
                      <a:lnTo>
                        <a:pt x="386" y="7"/>
                      </a:lnTo>
                      <a:lnTo>
                        <a:pt x="407" y="0"/>
                      </a:lnTo>
                      <a:lnTo>
                        <a:pt x="416" y="7"/>
                      </a:lnTo>
                      <a:lnTo>
                        <a:pt x="428" y="15"/>
                      </a:lnTo>
                      <a:lnTo>
                        <a:pt x="439" y="25"/>
                      </a:lnTo>
                      <a:lnTo>
                        <a:pt x="453" y="37"/>
                      </a:lnTo>
                      <a:lnTo>
                        <a:pt x="467" y="49"/>
                      </a:lnTo>
                      <a:lnTo>
                        <a:pt x="483" y="62"/>
                      </a:lnTo>
                      <a:lnTo>
                        <a:pt x="498" y="77"/>
                      </a:lnTo>
                      <a:lnTo>
                        <a:pt x="514" y="92"/>
                      </a:lnTo>
                      <a:lnTo>
                        <a:pt x="530" y="108"/>
                      </a:lnTo>
                      <a:lnTo>
                        <a:pt x="546" y="125"/>
                      </a:lnTo>
                      <a:lnTo>
                        <a:pt x="561" y="143"/>
                      </a:lnTo>
                      <a:lnTo>
                        <a:pt x="576" y="160"/>
                      </a:lnTo>
                      <a:lnTo>
                        <a:pt x="590" y="177"/>
                      </a:lnTo>
                      <a:lnTo>
                        <a:pt x="602" y="195"/>
                      </a:lnTo>
                      <a:lnTo>
                        <a:pt x="614" y="214"/>
                      </a:lnTo>
                      <a:lnTo>
                        <a:pt x="624" y="231"/>
                      </a:lnTo>
                      <a:lnTo>
                        <a:pt x="612" y="240"/>
                      </a:lnTo>
                      <a:lnTo>
                        <a:pt x="594" y="252"/>
                      </a:lnTo>
                      <a:lnTo>
                        <a:pt x="575" y="265"/>
                      </a:lnTo>
                      <a:lnTo>
                        <a:pt x="552" y="278"/>
                      </a:lnTo>
                      <a:lnTo>
                        <a:pt x="527" y="293"/>
                      </a:lnTo>
                      <a:lnTo>
                        <a:pt x="499" y="309"/>
                      </a:lnTo>
                      <a:lnTo>
                        <a:pt x="471" y="327"/>
                      </a:lnTo>
                      <a:lnTo>
                        <a:pt x="443" y="343"/>
                      </a:lnTo>
                      <a:lnTo>
                        <a:pt x="414" y="360"/>
                      </a:lnTo>
                      <a:lnTo>
                        <a:pt x="385" y="375"/>
                      </a:lnTo>
                      <a:lnTo>
                        <a:pt x="359" y="391"/>
                      </a:lnTo>
                      <a:lnTo>
                        <a:pt x="334" y="405"/>
                      </a:lnTo>
                      <a:lnTo>
                        <a:pt x="311" y="418"/>
                      </a:lnTo>
                      <a:lnTo>
                        <a:pt x="292" y="428"/>
                      </a:lnTo>
                      <a:lnTo>
                        <a:pt x="276" y="437"/>
                      </a:lnTo>
                      <a:lnTo>
                        <a:pt x="264" y="443"/>
                      </a:lnTo>
                      <a:lnTo>
                        <a:pt x="252" y="431"/>
                      </a:lnTo>
                      <a:lnTo>
                        <a:pt x="238" y="419"/>
                      </a:lnTo>
                      <a:lnTo>
                        <a:pt x="222" y="404"/>
                      </a:lnTo>
                      <a:lnTo>
                        <a:pt x="203" y="389"/>
                      </a:lnTo>
                      <a:lnTo>
                        <a:pt x="185" y="373"/>
                      </a:lnTo>
                      <a:lnTo>
                        <a:pt x="165" y="356"/>
                      </a:lnTo>
                      <a:lnTo>
                        <a:pt x="146" y="339"/>
                      </a:lnTo>
                      <a:lnTo>
                        <a:pt x="126" y="322"/>
                      </a:lnTo>
                      <a:lnTo>
                        <a:pt x="107" y="306"/>
                      </a:lnTo>
                      <a:lnTo>
                        <a:pt x="87" y="290"/>
                      </a:lnTo>
                      <a:lnTo>
                        <a:pt x="69" y="275"/>
                      </a:lnTo>
                      <a:lnTo>
                        <a:pt x="51" y="261"/>
                      </a:lnTo>
                      <a:lnTo>
                        <a:pt x="36" y="250"/>
                      </a:lnTo>
                      <a:lnTo>
                        <a:pt x="21" y="239"/>
                      </a:lnTo>
                      <a:lnTo>
                        <a:pt x="10" y="230"/>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1" name="Freeform 188"/>
                <p:cNvSpPr/>
                <p:nvPr/>
              </p:nvSpPr>
              <p:spPr>
                <a:xfrm>
                  <a:off x="3676680" y="2166120"/>
                  <a:ext cx="187200" cy="99000"/>
                </a:xfrm>
                <a:custGeom>
                  <a:avLst/>
                  <a:gdLst>
                    <a:gd name="textAreaLeft" fmla="*/ 0 w 187200"/>
                    <a:gd name="textAreaRight" fmla="*/ 187560 w 187200"/>
                    <a:gd name="textAreaTop" fmla="*/ 0 h 99000"/>
                    <a:gd name="textAreaBottom" fmla="*/ 99360 h 99000"/>
                  </a:gdLst>
                  <a:ahLst/>
                  <a:rect l="textAreaLeft" t="textAreaTop" r="textAreaRight" b="textAreaBottom"/>
                  <a:pathLst>
                    <a:path w="333" h="189">
                      <a:moveTo>
                        <a:pt x="0" y="180"/>
                      </a:moveTo>
                      <a:lnTo>
                        <a:pt x="12" y="173"/>
                      </a:lnTo>
                      <a:lnTo>
                        <a:pt x="27" y="164"/>
                      </a:lnTo>
                      <a:lnTo>
                        <a:pt x="45" y="152"/>
                      </a:lnTo>
                      <a:lnTo>
                        <a:pt x="66" y="141"/>
                      </a:lnTo>
                      <a:lnTo>
                        <a:pt x="88" y="127"/>
                      </a:lnTo>
                      <a:lnTo>
                        <a:pt x="113" y="113"/>
                      </a:lnTo>
                      <a:lnTo>
                        <a:pt x="138" y="99"/>
                      </a:lnTo>
                      <a:lnTo>
                        <a:pt x="164" y="84"/>
                      </a:lnTo>
                      <a:lnTo>
                        <a:pt x="190" y="70"/>
                      </a:lnTo>
                      <a:lnTo>
                        <a:pt x="216" y="56"/>
                      </a:lnTo>
                      <a:lnTo>
                        <a:pt x="241" y="43"/>
                      </a:lnTo>
                      <a:lnTo>
                        <a:pt x="264" y="31"/>
                      </a:lnTo>
                      <a:lnTo>
                        <a:pt x="286" y="21"/>
                      </a:lnTo>
                      <a:lnTo>
                        <a:pt x="304" y="12"/>
                      </a:lnTo>
                      <a:lnTo>
                        <a:pt x="320" y="5"/>
                      </a:lnTo>
                      <a:lnTo>
                        <a:pt x="333" y="0"/>
                      </a:lnTo>
                      <a:lnTo>
                        <a:pt x="331" y="17"/>
                      </a:lnTo>
                      <a:lnTo>
                        <a:pt x="325" y="40"/>
                      </a:lnTo>
                      <a:lnTo>
                        <a:pt x="319" y="68"/>
                      </a:lnTo>
                      <a:lnTo>
                        <a:pt x="311" y="96"/>
                      </a:lnTo>
                      <a:lnTo>
                        <a:pt x="303" y="124"/>
                      </a:lnTo>
                      <a:lnTo>
                        <a:pt x="295" y="149"/>
                      </a:lnTo>
                      <a:lnTo>
                        <a:pt x="287" y="167"/>
                      </a:lnTo>
                      <a:lnTo>
                        <a:pt x="279" y="179"/>
                      </a:lnTo>
                      <a:lnTo>
                        <a:pt x="272" y="182"/>
                      </a:lnTo>
                      <a:lnTo>
                        <a:pt x="262" y="185"/>
                      </a:lnTo>
                      <a:lnTo>
                        <a:pt x="248" y="188"/>
                      </a:lnTo>
                      <a:lnTo>
                        <a:pt x="231" y="189"/>
                      </a:lnTo>
                      <a:lnTo>
                        <a:pt x="211" y="189"/>
                      </a:lnTo>
                      <a:lnTo>
                        <a:pt x="190" y="189"/>
                      </a:lnTo>
                      <a:lnTo>
                        <a:pt x="168" y="189"/>
                      </a:lnTo>
                      <a:lnTo>
                        <a:pt x="145" y="188"/>
                      </a:lnTo>
                      <a:lnTo>
                        <a:pt x="122" y="187"/>
                      </a:lnTo>
                      <a:lnTo>
                        <a:pt x="101" y="185"/>
                      </a:lnTo>
                      <a:lnTo>
                        <a:pt x="79" y="184"/>
                      </a:lnTo>
                      <a:lnTo>
                        <a:pt x="58" y="183"/>
                      </a:lnTo>
                      <a:lnTo>
                        <a:pt x="40" y="182"/>
                      </a:lnTo>
                      <a:lnTo>
                        <a:pt x="23" y="181"/>
                      </a:lnTo>
                      <a:lnTo>
                        <a:pt x="10" y="180"/>
                      </a:lnTo>
                      <a:lnTo>
                        <a:pt x="0" y="180"/>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Freeform 189"/>
                <p:cNvSpPr/>
                <p:nvPr/>
              </p:nvSpPr>
              <p:spPr>
                <a:xfrm>
                  <a:off x="3690000" y="2276640"/>
                  <a:ext cx="100080" cy="74520"/>
                </a:xfrm>
                <a:custGeom>
                  <a:avLst/>
                  <a:gdLst>
                    <a:gd name="textAreaLeft" fmla="*/ 0 w 100080"/>
                    <a:gd name="textAreaRight" fmla="*/ 100440 w 100080"/>
                    <a:gd name="textAreaTop" fmla="*/ 0 h 74520"/>
                    <a:gd name="textAreaBottom" fmla="*/ 74880 h 74520"/>
                  </a:gdLst>
                  <a:ahLst/>
                  <a:rect l="textAreaLeft" t="textAreaTop" r="textAreaRight" b="textAreaBottom"/>
                  <a:pathLst>
                    <a:path w="179" h="142">
                      <a:moveTo>
                        <a:pt x="0" y="0"/>
                      </a:moveTo>
                      <a:lnTo>
                        <a:pt x="179" y="142"/>
                      </a:lnTo>
                      <a:lnTo>
                        <a:pt x="178" y="9"/>
                      </a:lnTo>
                      <a:lnTo>
                        <a:pt x="0" y="0"/>
                      </a:lnTo>
                      <a:close/>
                    </a:path>
                  </a:pathLst>
                </a:custGeom>
                <a:solidFill>
                  <a:srgbClr val="ffddbf"/>
                </a:solidFill>
                <a:ln w="0">
                  <a:noFill/>
                </a:ln>
              </p:spPr>
              <p:style>
                <a:lnRef idx="0"/>
                <a:fillRef idx="0"/>
                <a:effectRef idx="0"/>
                <a:fontRef idx="minor"/>
              </p:style>
              <p:txBody>
                <a:bodyPr lIns="90000" rIns="90000" tIns="28080" bIns="28080" anchor="t">
                  <a:noAutofit/>
                </a:bodyPr>
                <a:p>
                  <a:endParaRPr b="0" lang="en-US" sz="1800" spc="-1" strike="noStrike">
                    <a:solidFill>
                      <a:srgbClr val="336666"/>
                    </a:solidFill>
                    <a:latin typeface="Arial"/>
                  </a:endParaRPr>
                </a:p>
              </p:txBody>
            </p:sp>
            <p:sp>
              <p:nvSpPr>
                <p:cNvPr id="403" name="Freeform 190"/>
                <p:cNvSpPr/>
                <p:nvPr/>
              </p:nvSpPr>
              <p:spPr>
                <a:xfrm>
                  <a:off x="3863880" y="2173320"/>
                  <a:ext cx="99000" cy="79920"/>
                </a:xfrm>
                <a:custGeom>
                  <a:avLst/>
                  <a:gdLst>
                    <a:gd name="textAreaLeft" fmla="*/ 0 w 99000"/>
                    <a:gd name="textAreaRight" fmla="*/ 99360 w 99000"/>
                    <a:gd name="textAreaTop" fmla="*/ 0 h 79920"/>
                    <a:gd name="textAreaBottom" fmla="*/ 80280 h 79920"/>
                  </a:gdLst>
                  <a:ahLst/>
                  <a:rect l="textAreaLeft" t="textAreaTop" r="textAreaRight" b="textAreaBottom"/>
                  <a:pathLst>
                    <a:path w="176" h="152">
                      <a:moveTo>
                        <a:pt x="0" y="111"/>
                      </a:moveTo>
                      <a:lnTo>
                        <a:pt x="29" y="0"/>
                      </a:lnTo>
                      <a:lnTo>
                        <a:pt x="176" y="152"/>
                      </a:lnTo>
                      <a:lnTo>
                        <a:pt x="0" y="111"/>
                      </a:lnTo>
                      <a:close/>
                    </a:path>
                  </a:pathLst>
                </a:custGeom>
                <a:solidFill>
                  <a:srgbClr val="ffddbf"/>
                </a:solidFill>
                <a:ln w="0">
                  <a:noFill/>
                </a:ln>
              </p:spPr>
              <p:style>
                <a:lnRef idx="0"/>
                <a:fillRef idx="0"/>
                <a:effectRef idx="0"/>
                <a:fontRef idx="minor"/>
              </p:style>
              <p:txBody>
                <a:bodyPr lIns="90000" rIns="90000" tIns="33480" bIns="33480" anchor="t">
                  <a:noAutofit/>
                </a:bodyPr>
                <a:p>
                  <a:endParaRPr b="0" lang="en-US" sz="1800" spc="-1" strike="noStrike">
                    <a:solidFill>
                      <a:srgbClr val="336666"/>
                    </a:solidFill>
                    <a:latin typeface="Arial"/>
                  </a:endParaRPr>
                </a:p>
              </p:txBody>
            </p:sp>
            <p:sp>
              <p:nvSpPr>
                <p:cNvPr id="404" name="Freeform 191"/>
                <p:cNvSpPr/>
                <p:nvPr/>
              </p:nvSpPr>
              <p:spPr>
                <a:xfrm>
                  <a:off x="3800520" y="2242800"/>
                  <a:ext cx="161280" cy="107280"/>
                </a:xfrm>
                <a:custGeom>
                  <a:avLst/>
                  <a:gdLst>
                    <a:gd name="textAreaLeft" fmla="*/ 0 w 161280"/>
                    <a:gd name="textAreaRight" fmla="*/ 161640 w 161280"/>
                    <a:gd name="textAreaTop" fmla="*/ 0 h 107280"/>
                    <a:gd name="textAreaBottom" fmla="*/ 107640 h 107280"/>
                  </a:gdLst>
                  <a:ahLst/>
                  <a:rect l="textAreaLeft" t="textAreaTop" r="textAreaRight" b="textAreaBottom"/>
                  <a:pathLst>
                    <a:path w="288" h="203">
                      <a:moveTo>
                        <a:pt x="288" y="43"/>
                      </a:moveTo>
                      <a:lnTo>
                        <a:pt x="1" y="203"/>
                      </a:lnTo>
                      <a:lnTo>
                        <a:pt x="0" y="73"/>
                      </a:lnTo>
                      <a:lnTo>
                        <a:pt x="20" y="73"/>
                      </a:lnTo>
                      <a:lnTo>
                        <a:pt x="38" y="72"/>
                      </a:lnTo>
                      <a:lnTo>
                        <a:pt x="55" y="69"/>
                      </a:lnTo>
                      <a:lnTo>
                        <a:pt x="70" y="63"/>
                      </a:lnTo>
                      <a:lnTo>
                        <a:pt x="83" y="53"/>
                      </a:lnTo>
                      <a:lnTo>
                        <a:pt x="93" y="41"/>
                      </a:lnTo>
                      <a:lnTo>
                        <a:pt x="100" y="23"/>
                      </a:lnTo>
                      <a:lnTo>
                        <a:pt x="106" y="0"/>
                      </a:lnTo>
                      <a:lnTo>
                        <a:pt x="288" y="43"/>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grpSp>
      </p:grpSp>
      <p:sp>
        <p:nvSpPr>
          <p:cNvPr id="405" name="Line 192"/>
          <p:cNvSpPr/>
          <p:nvPr/>
        </p:nvSpPr>
        <p:spPr>
          <a:xfrm>
            <a:off x="1447920" y="3733920"/>
            <a:ext cx="0" cy="121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06" name="Group 193"/>
          <p:cNvGrpSpPr/>
          <p:nvPr/>
        </p:nvGrpSpPr>
        <p:grpSpPr>
          <a:xfrm>
            <a:off x="1600200" y="3505320"/>
            <a:ext cx="5029200" cy="1447560"/>
            <a:chOff x="1600200" y="3505320"/>
            <a:chExt cx="5029200" cy="1447560"/>
          </a:xfrm>
        </p:grpSpPr>
        <p:sp>
          <p:nvSpPr>
            <p:cNvPr id="407" name="Line 194"/>
            <p:cNvSpPr/>
            <p:nvPr/>
          </p:nvSpPr>
          <p:spPr>
            <a:xfrm>
              <a:off x="1600200" y="35053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08" name="Line 195"/>
            <p:cNvSpPr/>
            <p:nvPr/>
          </p:nvSpPr>
          <p:spPr>
            <a:xfrm flipH="1">
              <a:off x="2666520" y="4419720"/>
              <a:ext cx="7621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09" name="Line 196"/>
            <p:cNvSpPr/>
            <p:nvPr/>
          </p:nvSpPr>
          <p:spPr>
            <a:xfrm>
              <a:off x="3886200" y="4419720"/>
              <a:ext cx="7621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0" name="Line 197"/>
            <p:cNvSpPr/>
            <p:nvPr/>
          </p:nvSpPr>
          <p:spPr>
            <a:xfrm>
              <a:off x="6629400" y="4419720"/>
              <a:ext cx="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grpSp>
        <p:nvGrpSpPr>
          <p:cNvPr id="411" name="Group 198"/>
          <p:cNvGrpSpPr/>
          <p:nvPr/>
        </p:nvGrpSpPr>
        <p:grpSpPr>
          <a:xfrm>
            <a:off x="6781320" y="1713960"/>
            <a:ext cx="1333800" cy="3238920"/>
            <a:chOff x="6781320" y="1713960"/>
            <a:chExt cx="1333800" cy="3238920"/>
          </a:xfrm>
        </p:grpSpPr>
        <p:cxnSp>
          <p:nvCxnSpPr>
            <p:cNvPr id="412" name="AutoShape 199"/>
            <p:cNvCxnSpPr/>
            <p:nvPr/>
          </p:nvCxnSpPr>
          <p:spPr>
            <a:xfrm flipH="1" flipV="1">
              <a:off x="6781320" y="1713960"/>
              <a:ext cx="991440" cy="495720"/>
            </a:xfrm>
            <a:prstGeom prst="straightConnector1">
              <a:avLst/>
            </a:prstGeom>
            <a:ln w="9360">
              <a:solidFill>
                <a:srgbClr val="000000"/>
              </a:solidFill>
              <a:miter/>
              <a:headEnd len="med" type="triangle" w="med"/>
              <a:tailEnd len="med" type="triangle" w="med"/>
            </a:ln>
          </p:spPr>
        </p:cxnSp>
        <p:cxnSp>
          <p:nvCxnSpPr>
            <p:cNvPr id="413" name="AutoShape 200"/>
            <p:cNvCxnSpPr/>
            <p:nvPr/>
          </p:nvCxnSpPr>
          <p:spPr>
            <a:xfrm flipH="1">
              <a:off x="7085880" y="2425320"/>
              <a:ext cx="786600" cy="1461240"/>
            </a:xfrm>
            <a:prstGeom prst="straightConnector1">
              <a:avLst/>
            </a:prstGeom>
            <a:ln w="9360">
              <a:solidFill>
                <a:srgbClr val="000000"/>
              </a:solidFill>
              <a:miter/>
              <a:headEnd len="med" type="triangle" w="med"/>
              <a:tailEnd len="med" type="triangle" w="med"/>
            </a:ln>
          </p:spPr>
        </p:cxnSp>
        <p:cxnSp>
          <p:nvCxnSpPr>
            <p:cNvPr id="414" name="AutoShape 201"/>
            <p:cNvCxnSpPr/>
            <p:nvPr/>
          </p:nvCxnSpPr>
          <p:spPr>
            <a:xfrm flipH="1">
              <a:off x="7097040" y="2514240"/>
              <a:ext cx="1018440" cy="2439000"/>
            </a:xfrm>
            <a:prstGeom prst="straightConnector1">
              <a:avLst/>
            </a:prstGeom>
            <a:ln w="9360">
              <a:solidFill>
                <a:srgbClr val="000000"/>
              </a:solidFill>
              <a:miter/>
              <a:headEnd len="med" type="triangle" w="med"/>
              <a:tailEnd len="med" type="triangle" w="med"/>
            </a:ln>
          </p:spPr>
        </p:cxnSp>
      </p:grpSp>
      <p:grpSp>
        <p:nvGrpSpPr>
          <p:cNvPr id="415" name="Group 202"/>
          <p:cNvGrpSpPr/>
          <p:nvPr/>
        </p:nvGrpSpPr>
        <p:grpSpPr>
          <a:xfrm>
            <a:off x="3276720" y="1981080"/>
            <a:ext cx="3124080" cy="1371600"/>
            <a:chOff x="3276720" y="1981080"/>
            <a:chExt cx="3124080" cy="1371600"/>
          </a:xfrm>
        </p:grpSpPr>
        <p:sp>
          <p:nvSpPr>
            <p:cNvPr id="416" name="Line 203"/>
            <p:cNvSpPr/>
            <p:nvPr/>
          </p:nvSpPr>
          <p:spPr>
            <a:xfrm flipH="1">
              <a:off x="3581280" y="1981080"/>
              <a:ext cx="182880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Line 204"/>
            <p:cNvSpPr/>
            <p:nvPr/>
          </p:nvSpPr>
          <p:spPr>
            <a:xfrm>
              <a:off x="5715000" y="1981080"/>
              <a:ext cx="68580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Line 205"/>
            <p:cNvSpPr/>
            <p:nvPr/>
          </p:nvSpPr>
          <p:spPr>
            <a:xfrm>
              <a:off x="3276720" y="24382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grpSp>
        <p:nvGrpSpPr>
          <p:cNvPr id="419" name="Group 206"/>
          <p:cNvGrpSpPr/>
          <p:nvPr/>
        </p:nvGrpSpPr>
        <p:grpSpPr>
          <a:xfrm>
            <a:off x="2971800" y="3352680"/>
            <a:ext cx="4114800" cy="1067040"/>
            <a:chOff x="2971800" y="3352680"/>
            <a:chExt cx="4114800" cy="1067040"/>
          </a:xfrm>
        </p:grpSpPr>
        <p:grpSp>
          <p:nvGrpSpPr>
            <p:cNvPr id="420" name="Group 207"/>
            <p:cNvGrpSpPr/>
            <p:nvPr/>
          </p:nvGrpSpPr>
          <p:grpSpPr>
            <a:xfrm>
              <a:off x="2971800" y="3352680"/>
              <a:ext cx="1143000" cy="1067040"/>
              <a:chOff x="2971800" y="3352680"/>
              <a:chExt cx="1143000" cy="1067040"/>
            </a:xfrm>
          </p:grpSpPr>
          <p:sp>
            <p:nvSpPr>
              <p:cNvPr id="421" name="Rectangle 208"/>
              <p:cNvSpPr/>
              <p:nvPr/>
            </p:nvSpPr>
            <p:spPr>
              <a:xfrm>
                <a:off x="2971800" y="3352680"/>
                <a:ext cx="1143000" cy="10670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422" name="Object 209" descr=""/>
              <p:cNvPicPr/>
              <p:nvPr/>
            </p:nvPicPr>
            <p:blipFill>
              <a:blip r:embed="rId5"/>
              <a:stretch/>
            </p:blipFill>
            <p:spPr>
              <a:xfrm>
                <a:off x="3114360" y="3552480"/>
                <a:ext cx="724680" cy="733680"/>
              </a:xfrm>
              <a:prstGeom prst="rect">
                <a:avLst/>
              </a:prstGeom>
              <a:ln w="0">
                <a:noFill/>
              </a:ln>
            </p:spPr>
          </p:pic>
        </p:grpSp>
        <p:grpSp>
          <p:nvGrpSpPr>
            <p:cNvPr id="423" name="Group 210"/>
            <p:cNvGrpSpPr/>
            <p:nvPr/>
          </p:nvGrpSpPr>
          <p:grpSpPr>
            <a:xfrm>
              <a:off x="5943600" y="3352680"/>
              <a:ext cx="1143000" cy="1067040"/>
              <a:chOff x="5943600" y="3352680"/>
              <a:chExt cx="1143000" cy="1067040"/>
            </a:xfrm>
          </p:grpSpPr>
          <p:sp>
            <p:nvSpPr>
              <p:cNvPr id="424" name="Rectangle 211"/>
              <p:cNvSpPr/>
              <p:nvPr/>
            </p:nvSpPr>
            <p:spPr>
              <a:xfrm>
                <a:off x="5943600" y="3352680"/>
                <a:ext cx="1143000" cy="10670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425" name="Object 212" descr=""/>
              <p:cNvPicPr/>
              <p:nvPr/>
            </p:nvPicPr>
            <p:blipFill>
              <a:blip r:embed="rId6"/>
              <a:stretch/>
            </p:blipFill>
            <p:spPr>
              <a:xfrm>
                <a:off x="6086160" y="3552480"/>
                <a:ext cx="724680" cy="733680"/>
              </a:xfrm>
              <a:prstGeom prst="rect">
                <a:avLst/>
              </a:prstGeom>
              <a:ln w="0">
                <a:noFill/>
              </a:ln>
            </p:spPr>
          </p:pic>
        </p:grpSp>
        <p:sp>
          <p:nvSpPr>
            <p:cNvPr id="426" name="Text Box 213"/>
            <p:cNvSpPr/>
            <p:nvPr/>
          </p:nvSpPr>
          <p:spPr>
            <a:xfrm>
              <a:off x="4141440" y="3505320"/>
              <a:ext cx="1107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dex</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en-US" sz="2000" spc="-1" strike="noStrike">
                  <a:solidFill>
                    <a:srgbClr val="336666"/>
                  </a:solidFill>
                  <a:latin typeface="Times New Roman"/>
                </a:rPr>
                <a:t>Services</a:t>
              </a:r>
              <a:endParaRPr b="0" lang="en-US" sz="2000" spc="-1" strike="noStrike">
                <a:solidFill>
                  <a:srgbClr val="336666"/>
                </a:solidFill>
                <a:latin typeface="Arial"/>
              </a:endParaRPr>
            </a:p>
          </p:txBody>
        </p:sp>
      </p:grpSp>
      <p:grpSp>
        <p:nvGrpSpPr>
          <p:cNvPr id="427" name="Group 214"/>
          <p:cNvGrpSpPr/>
          <p:nvPr/>
        </p:nvGrpSpPr>
        <p:grpSpPr>
          <a:xfrm>
            <a:off x="228600" y="1828800"/>
            <a:ext cx="1371600" cy="1905120"/>
            <a:chOff x="228600" y="1828800"/>
            <a:chExt cx="1371600" cy="1905120"/>
          </a:xfrm>
        </p:grpSpPr>
        <p:grpSp>
          <p:nvGrpSpPr>
            <p:cNvPr id="428" name="Group 215"/>
            <p:cNvGrpSpPr/>
            <p:nvPr/>
          </p:nvGrpSpPr>
          <p:grpSpPr>
            <a:xfrm>
              <a:off x="228600" y="2514600"/>
              <a:ext cx="1371600" cy="1219320"/>
              <a:chOff x="228600" y="2514600"/>
              <a:chExt cx="1371600" cy="1219320"/>
            </a:xfrm>
          </p:grpSpPr>
          <p:sp>
            <p:nvSpPr>
              <p:cNvPr id="429" name="Rectangle 216"/>
              <p:cNvSpPr/>
              <p:nvPr/>
            </p:nvSpPr>
            <p:spPr>
              <a:xfrm>
                <a:off x="228600" y="2514600"/>
                <a:ext cx="137160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30" name="AutoShape 217"/>
              <p:cNvSpPr/>
              <p:nvPr/>
            </p:nvSpPr>
            <p:spPr>
              <a:xfrm>
                <a:off x="533520" y="2743200"/>
                <a:ext cx="762120" cy="762120"/>
              </a:xfrm>
              <a:prstGeom prst="can">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Persistent</a:t>
                </a:r>
                <a:endParaRPr b="0" lang="en-US" sz="1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NAMES</a:t>
                </a:r>
                <a:endParaRPr b="0" lang="en-US" sz="1400" spc="-1" strike="noStrike">
                  <a:solidFill>
                    <a:srgbClr val="336666"/>
                  </a:solidFill>
                  <a:latin typeface="Arial"/>
                </a:endParaRPr>
              </a:p>
            </p:txBody>
          </p:sp>
        </p:grpSp>
        <p:sp>
          <p:nvSpPr>
            <p:cNvPr id="431" name="Text Box 218"/>
            <p:cNvSpPr/>
            <p:nvPr/>
          </p:nvSpPr>
          <p:spPr>
            <a:xfrm>
              <a:off x="381240" y="1828800"/>
              <a:ext cx="944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am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ervice</a:t>
              </a:r>
              <a:endParaRPr b="0" lang="en-US" sz="2000" spc="-1" strike="noStrike">
                <a:solidFill>
                  <a:srgbClr val="336666"/>
                </a:solidFill>
                <a:latin typeface="Arial"/>
              </a:endParaRPr>
            </a:p>
          </p:txBody>
        </p:sp>
      </p:grpSp>
      <p:grpSp>
        <p:nvGrpSpPr>
          <p:cNvPr id="432" name="Group 219"/>
          <p:cNvGrpSpPr/>
          <p:nvPr/>
        </p:nvGrpSpPr>
        <p:grpSpPr>
          <a:xfrm>
            <a:off x="7772400" y="914400"/>
            <a:ext cx="1243800" cy="2500560"/>
            <a:chOff x="7772400" y="914400"/>
            <a:chExt cx="1243800" cy="2500560"/>
          </a:xfrm>
        </p:grpSpPr>
        <p:sp>
          <p:nvSpPr>
            <p:cNvPr id="433" name="Text Box 220"/>
            <p:cNvSpPr/>
            <p:nvPr/>
          </p:nvSpPr>
          <p:spPr>
            <a:xfrm>
              <a:off x="8047440" y="2590920"/>
              <a:ext cx="9687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Times New Roman"/>
                </a:rPr>
                <a:t>User</a:t>
              </a:r>
              <a:endParaRPr b="0" lang="en-US" sz="16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Times New Roman"/>
                </a:rPr>
                <a:t>Interface</a:t>
              </a:r>
              <a:endParaRPr b="0" lang="en-US" sz="16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Times New Roman"/>
                </a:rPr>
                <a:t>Gateway</a:t>
              </a:r>
              <a:endParaRPr b="0" lang="en-US" sz="1600" spc="-1" strike="noStrike">
                <a:solidFill>
                  <a:srgbClr val="336666"/>
                </a:solidFill>
                <a:latin typeface="Arial"/>
              </a:endParaRPr>
            </a:p>
          </p:txBody>
        </p:sp>
        <p:grpSp>
          <p:nvGrpSpPr>
            <p:cNvPr id="434" name="Group 221"/>
            <p:cNvGrpSpPr/>
            <p:nvPr/>
          </p:nvGrpSpPr>
          <p:grpSpPr>
            <a:xfrm>
              <a:off x="7772400" y="914400"/>
              <a:ext cx="1143000" cy="1600200"/>
              <a:chOff x="7772400" y="914400"/>
              <a:chExt cx="1143000" cy="1600200"/>
            </a:xfrm>
          </p:grpSpPr>
          <p:pic>
            <p:nvPicPr>
              <p:cNvPr id="435" name="Object 222" descr=""/>
              <p:cNvPicPr/>
              <p:nvPr/>
            </p:nvPicPr>
            <p:blipFill>
              <a:blip r:embed="rId7"/>
              <a:stretch/>
            </p:blipFill>
            <p:spPr>
              <a:xfrm>
                <a:off x="8077320" y="914400"/>
                <a:ext cx="838080" cy="668160"/>
              </a:xfrm>
              <a:prstGeom prst="rect">
                <a:avLst/>
              </a:prstGeom>
              <a:ln w="0">
                <a:noFill/>
              </a:ln>
            </p:spPr>
          </p:pic>
          <p:sp>
            <p:nvSpPr>
              <p:cNvPr id="436" name="Oval 223"/>
              <p:cNvSpPr/>
              <p:nvPr/>
            </p:nvSpPr>
            <p:spPr>
              <a:xfrm>
                <a:off x="7772400" y="1905120"/>
                <a:ext cx="685800" cy="609480"/>
              </a:xfrm>
              <a:prstGeom prst="ellipse">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37" name="Line 224"/>
              <p:cNvSpPr/>
              <p:nvPr/>
            </p:nvSpPr>
            <p:spPr>
              <a:xfrm flipH="1">
                <a:off x="8229240" y="152388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grpSp>
      <p:grpSp>
        <p:nvGrpSpPr>
          <p:cNvPr id="438" name="Group 225"/>
          <p:cNvGrpSpPr/>
          <p:nvPr/>
        </p:nvGrpSpPr>
        <p:grpSpPr>
          <a:xfrm>
            <a:off x="3048120" y="4267080"/>
            <a:ext cx="2895480" cy="1524240"/>
            <a:chOff x="3048120" y="4267080"/>
            <a:chExt cx="2895480" cy="1524240"/>
          </a:xfrm>
        </p:grpSpPr>
        <p:sp>
          <p:nvSpPr>
            <p:cNvPr id="439" name="Line 226"/>
            <p:cNvSpPr/>
            <p:nvPr/>
          </p:nvSpPr>
          <p:spPr>
            <a:xfrm>
              <a:off x="3048120" y="5791320"/>
              <a:ext cx="609480" cy="0"/>
            </a:xfrm>
            <a:prstGeom prst="line">
              <a:avLst/>
            </a:prstGeom>
            <a:ln w="9360">
              <a:solidFill>
                <a:srgbClr val="cc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Line 227"/>
            <p:cNvSpPr/>
            <p:nvPr/>
          </p:nvSpPr>
          <p:spPr>
            <a:xfrm>
              <a:off x="4114800" y="4267080"/>
              <a:ext cx="1828800" cy="0"/>
            </a:xfrm>
            <a:prstGeom prst="line">
              <a:avLst/>
            </a:prstGeom>
            <a:ln w="9360">
              <a:solidFill>
                <a:srgbClr val="cc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41" name="Text Box 228"/>
          <p:cNvSpPr/>
          <p:nvPr/>
        </p:nvSpPr>
        <p:spPr>
          <a:xfrm>
            <a:off x="153360" y="5181480"/>
            <a:ext cx="88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Times New Roman"/>
              </a:rPr>
              <a:t>Digital</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66"/>
                </a:solidFill>
                <a:latin typeface="Times New Roman"/>
              </a:rPr>
              <a:t>Objects</a:t>
            </a:r>
            <a:endParaRPr b="0" lang="en-US" sz="1800" spc="-1" strike="noStrike">
              <a:solidFill>
                <a:srgbClr val="336666"/>
              </a:solidFill>
              <a:latin typeface="Arial"/>
            </a:endParaRPr>
          </a:p>
        </p:txBody>
      </p:sp>
      <p:sp>
        <p:nvSpPr>
          <p:cNvPr id="442" name="Line 229"/>
          <p:cNvSpPr/>
          <p:nvPr/>
        </p:nvSpPr>
        <p:spPr>
          <a:xfrm>
            <a:off x="990720" y="563868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215"/>
                                        </p:tgtEl>
                                        <p:attrNameLst>
                                          <p:attrName>style.visibility</p:attrName>
                                        </p:attrNameLst>
                                      </p:cBhvr>
                                      <p:to>
                                        <p:strVal val="visible"/>
                                      </p:to>
                                    </p:set>
                                    <p:animEffect filter="dissolve" transition="in">
                                      <p:cBhvr additive="repl">
                                        <p:cTn id="21" dur="500"/>
                                        <p:tgtEl>
                                          <p:spTgt spid="21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427"/>
                                        </p:tgtEl>
                                        <p:attrNameLst>
                                          <p:attrName>style.visibility</p:attrName>
                                        </p:attrNameLst>
                                      </p:cBhvr>
                                      <p:to>
                                        <p:strVal val="visible"/>
                                      </p:to>
                                    </p:set>
                                    <p:animEffect filter="dissolve" transition="in">
                                      <p:cBhvr additive="repl">
                                        <p:cTn id="26" dur="500"/>
                                        <p:tgtEl>
                                          <p:spTgt spid="427"/>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40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419"/>
                                        </p:tgtEl>
                                        <p:attrNameLst>
                                          <p:attrName>style.visibility</p:attrName>
                                        </p:attrNameLst>
                                      </p:cBhvr>
                                      <p:to>
                                        <p:strVal val="visible"/>
                                      </p:to>
                                    </p:set>
                                    <p:animEffect filter="dissolve" transition="in">
                                      <p:cBhvr additive="repl">
                                        <p:cTn id="35" dur="500"/>
                                        <p:tgtEl>
                                          <p:spTgt spid="419"/>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406"/>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301"/>
                                        </p:tgtEl>
                                        <p:attrNameLst>
                                          <p:attrName>style.visibility</p:attrName>
                                        </p:attrNameLst>
                                      </p:cBhvr>
                                      <p:to>
                                        <p:strVal val="visible"/>
                                      </p:to>
                                    </p:set>
                                    <p:animEffect filter="dissolve" transition="in">
                                      <p:cBhvr additive="repl">
                                        <p:cTn id="44" dur="500"/>
                                        <p:tgtEl>
                                          <p:spTgt spid="30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41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432"/>
                                        </p:tgtEl>
                                        <p:attrNameLst>
                                          <p:attrName>style.visibility</p:attrName>
                                        </p:attrNameLst>
                                      </p:cBhvr>
                                      <p:to>
                                        <p:strVal val="visible"/>
                                      </p:to>
                                    </p:set>
                                    <p:animEffect filter="dissolve" transition="in">
                                      <p:cBhvr additive="repl">
                                        <p:cTn id="53" dur="500"/>
                                        <p:tgtEl>
                                          <p:spTgt spid="432"/>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411"/>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1E55-B25E-471B-9020-0276DAAB76B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4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L open source software</a:t>
            </a: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eenston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dor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spa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pri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35A2-B567-4D9F-8A30-E4B7FBDC4C5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4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eenstone </a:t>
            </a: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open-source multilingual application developed by the New Zealand Digital Library Project at the University of Waikat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veloped and distributed in cooperation with </a:t>
            </a:r>
            <a:r>
              <a:rPr b="1" lang="en-US" sz="3000" spc="-1" strike="noStrike">
                <a:solidFill>
                  <a:srgbClr val="000000"/>
                </a:solidFill>
                <a:latin typeface="Arial"/>
              </a:rPr>
              <a:t>UNESCO</a:t>
            </a:r>
            <a:r>
              <a:rPr b="0" lang="en-US" sz="3000" spc="-1" strike="noStrike">
                <a:solidFill>
                  <a:srgbClr val="000000"/>
                </a:solidFill>
                <a:latin typeface="Arial"/>
              </a:rPr>
              <a:t> and the </a:t>
            </a:r>
            <a:r>
              <a:rPr b="1" lang="en-US" sz="3000" spc="-1" strike="noStrike">
                <a:solidFill>
                  <a:srgbClr val="000000"/>
                </a:solidFill>
                <a:latin typeface="Arial"/>
              </a:rPr>
              <a:t>Human Info NGO</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0867-D028-4C49-B907-90A20386D76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utline</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L architectur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ing blocks of DL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L model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onents of DL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L open source softwar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rn features in digital library architectu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A288-96FA-4DF3-9CB5-5C64D63BFE29}"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4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reenstone features</a:t>
            </a:r>
            <a:endParaRPr b="0" lang="en-US" sz="4200" spc="-1" strike="noStrike">
              <a:solidFill>
                <a:srgbClr val="000000"/>
              </a:solidFill>
              <a:latin typeface="Arial"/>
            </a:endParaRPr>
          </a:p>
        </p:txBody>
      </p:sp>
      <p:sp>
        <p:nvSpPr>
          <p:cNvPr id="451" name="PlaceHolder 2"/>
          <p:cNvSpPr>
            <a:spLocks noGrp="1"/>
          </p:cNvSpPr>
          <p:nvPr>
            <p:ph/>
          </p:nvPr>
        </p:nvSpPr>
        <p:spPr>
          <a:xfrm>
            <a:off x="1523880" y="1905120"/>
            <a:ext cx="7010640" cy="4114800"/>
          </a:xfrm>
          <a:prstGeom prst="rect">
            <a:avLst/>
          </a:prstGeom>
          <a:noFill/>
          <a:ln w="0">
            <a:noFill/>
          </a:ln>
        </p:spPr>
        <p:txBody>
          <a:bodyPr anchor="t">
            <a:normAutofit fontScale="95000"/>
          </a:bodyPr>
          <a:p>
            <a:pPr marL="325800" indent="-32580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ible through web browsers</a:t>
            </a:r>
            <a:endParaRPr b="0" lang="en-US" sz="3000" spc="-1" strike="noStrike">
              <a:solidFill>
                <a:srgbClr val="000000"/>
              </a:solidFill>
              <a:latin typeface="Arial"/>
            </a:endParaRPr>
          </a:p>
          <a:p>
            <a:pPr marL="325800" indent="-32580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ll text and fielded search</a:t>
            </a:r>
            <a:endParaRPr b="0" lang="en-US" sz="3000" spc="-1" strike="noStrike">
              <a:solidFill>
                <a:srgbClr val="000000"/>
              </a:solidFill>
              <a:latin typeface="Arial"/>
            </a:endParaRPr>
          </a:p>
          <a:p>
            <a:pPr marL="325800" indent="-32580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ing facilities</a:t>
            </a:r>
            <a:endParaRPr b="0" lang="en-US" sz="3000" spc="-1" strike="noStrike">
              <a:solidFill>
                <a:srgbClr val="000000"/>
              </a:solidFill>
              <a:latin typeface="Arial"/>
            </a:endParaRPr>
          </a:p>
          <a:p>
            <a:pPr marL="325800" indent="-32580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ility to add DC metadata</a:t>
            </a:r>
            <a:endParaRPr b="0" lang="en-US" sz="3000" spc="-1" strike="noStrike">
              <a:solidFill>
                <a:srgbClr val="000000"/>
              </a:solidFill>
              <a:latin typeface="Arial"/>
            </a:endParaRPr>
          </a:p>
          <a:p>
            <a:pPr marL="325800" indent="-32580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media collections</a:t>
            </a:r>
            <a:endParaRPr b="0" lang="en-US" sz="3000" spc="-1" strike="noStrike">
              <a:solidFill>
                <a:srgbClr val="000000"/>
              </a:solidFill>
              <a:latin typeface="Arial"/>
            </a:endParaRPr>
          </a:p>
          <a:p>
            <a:pPr marL="325800" indent="-32580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support millions of documents</a:t>
            </a:r>
            <a:endParaRPr b="0" lang="en-US" sz="3000" spc="-1" strike="noStrike">
              <a:solidFill>
                <a:srgbClr val="000000"/>
              </a:solidFill>
              <a:latin typeface="Arial"/>
            </a:endParaRPr>
          </a:p>
          <a:p>
            <a:pPr marL="325800" indent="-32580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ions can be published on CD-RO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41D1-9E6F-4C6B-8E91-5E05ADE8FC0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4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edora  </a:t>
            </a:r>
            <a:endParaRPr b="0" lang="en-US" sz="4200" spc="-1" strike="noStrike">
              <a:solidFill>
                <a:srgbClr val="000000"/>
              </a:solidFill>
              <a:latin typeface="Arial"/>
            </a:endParaRPr>
          </a:p>
        </p:txBody>
      </p:sp>
      <p:sp>
        <p:nvSpPr>
          <p:cNvPr id="4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ble tools for managing and delivering  digital content. </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intly developed by Cornell University and the University of Virginia Library  </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ional Science Digital Library (NSDL) uses Fedora </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upports the DC metadata forma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can run on MySQL and Oracl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FE2E-A965-4326-83C7-3C022A5B376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4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Space digital repository</a:t>
            </a:r>
            <a:r>
              <a:rPr b="1" lang="en-US" sz="4200" spc="-1" strike="noStrike">
                <a:solidFill>
                  <a:srgbClr val="000000"/>
                </a:solidFill>
                <a:latin typeface="Arial"/>
              </a:rPr>
              <a:t> </a:t>
            </a:r>
            <a:r>
              <a:rPr b="0" lang="en-US" sz="4200" spc="-1" strike="noStrike">
                <a:solidFill>
                  <a:srgbClr val="000000"/>
                </a:solidFill>
                <a:latin typeface="Arial"/>
              </a:rPr>
              <a:t>system </a:t>
            </a:r>
            <a:endParaRPr b="0" lang="en-US" sz="4200" spc="-1" strike="noStrike">
              <a:solidFill>
                <a:srgbClr val="000000"/>
              </a:solidFill>
              <a:latin typeface="Arial"/>
            </a:endParaRPr>
          </a:p>
        </p:txBody>
      </p:sp>
      <p:sp>
        <p:nvSpPr>
          <p:cNvPr id="45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intly developed by MIT Libraries and Hewlett-Packard Labs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es, indexes, preserves, and distributes digital research material.</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ious applications: Institutional Repositories, Learning Object Repositories (LORs), eTheses , Electronic Records Management (ERM), Digital Preservation, Publishi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525C-F326-4C42-81C1-82150B09044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4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Prints</a:t>
            </a:r>
            <a:endParaRPr b="0" lang="en-US" sz="4200" spc="-1" strike="noStrike">
              <a:solidFill>
                <a:srgbClr val="000000"/>
              </a:solidFill>
              <a:latin typeface="Arial"/>
            </a:endParaRPr>
          </a:p>
        </p:txBody>
      </p:sp>
      <p:sp>
        <p:nvSpPr>
          <p:cNvPr id="46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developed at the University of Southampton, released in late 2000</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jective was to facilitate open access to peer-reviewed research and scholarly literature </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rints serves as an archive for other electronic documents such as images and audio. </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installed in more than 241 institu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C1AF-5DD5-4E67-B436-DEB079174EA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462" name="TextBox 2"/>
          <p:cNvSpPr/>
          <p:nvPr/>
        </p:nvSpPr>
        <p:spPr>
          <a:xfrm>
            <a:off x="878400" y="2286000"/>
            <a:ext cx="65311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Modern Features in </a:t>
            </a:r>
            <a:endParaRPr b="0" lang="en-US" sz="4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66"/>
                </a:solidFill>
                <a:latin typeface="Arial"/>
              </a:rPr>
              <a:t>Digital Library Architectures </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ocial networking sites </a:t>
            </a:r>
            <a:endParaRPr b="0" lang="en-US" sz="4200" spc="-1" strike="noStrike">
              <a:solidFill>
                <a:srgbClr val="000000"/>
              </a:solidFill>
              <a:latin typeface="Arial"/>
            </a:endParaRPr>
          </a:p>
        </p:txBody>
      </p:sp>
      <p:sp>
        <p:nvSpPr>
          <p:cNvPr id="464"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al networking, bookmarking and tagging</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s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mmendation featur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tation and reference linking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bliometric tools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5" name="Slide Number Placeholder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25F2-AB31-4E4E-A50B-7A75BABDF83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
          <p:cNvPicPr/>
          <p:nvPr/>
        </p:nvPicPr>
        <p:blipFill>
          <a:blip r:embed="rId1"/>
          <a:stretch/>
        </p:blipFill>
        <p:spPr>
          <a:xfrm>
            <a:off x="142920" y="285840"/>
            <a:ext cx="8858160" cy="5548320"/>
          </a:xfrm>
          <a:prstGeom prst="rect">
            <a:avLst/>
          </a:prstGeom>
          <a:ln w="0">
            <a:noFill/>
          </a:ln>
        </p:spPr>
      </p:pic>
      <p:sp>
        <p:nvSpPr>
          <p:cNvPr id="467" name="Rectangle 3"/>
          <p:cNvSpPr/>
          <p:nvPr/>
        </p:nvSpPr>
        <p:spPr>
          <a:xfrm>
            <a:off x="428760" y="6286680"/>
            <a:ext cx="8501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Hull, D., Pettifer, S. R., and Kell, D. B. (2008). Defrosting the digital library: Bibliographic tools for the next generation web. </a:t>
            </a:r>
            <a:r>
              <a:rPr b="0" i="1" lang="en-US" sz="1200" spc="-1" strike="noStrike">
                <a:solidFill>
                  <a:srgbClr val="336666"/>
                </a:solidFill>
                <a:latin typeface="Arial"/>
              </a:rPr>
              <a:t>PLoS Comput Biol</a:t>
            </a:r>
            <a:r>
              <a:rPr b="0" lang="en-US" sz="1200" spc="-1" strike="noStrike">
                <a:solidFill>
                  <a:srgbClr val="336666"/>
                </a:solidFill>
                <a:latin typeface="Arial"/>
              </a:rPr>
              <a:t>, 4(10):e1000204+.</a:t>
            </a:r>
            <a:endParaRPr b="0" lang="en-US" sz="1200" spc="-1" strike="noStrike">
              <a:solidFill>
                <a:srgbClr val="336666"/>
              </a:solidFill>
              <a:latin typeface="Arial"/>
            </a:endParaRPr>
          </a:p>
        </p:txBody>
      </p:sp>
      <p:cxnSp>
        <p:nvCxnSpPr>
          <p:cNvPr id="468" name="Straight Arrow Connector 4"/>
          <p:cNvCxnSpPr/>
          <p:nvPr/>
        </p:nvCxnSpPr>
        <p:spPr>
          <a:xfrm flipV="1">
            <a:off x="6500520" y="1428120"/>
            <a:ext cx="857880" cy="572040"/>
          </a:xfrm>
          <a:prstGeom prst="straightConnector1">
            <a:avLst/>
          </a:prstGeom>
          <a:ln w="9360">
            <a:solidFill>
              <a:srgbClr val="94c9c9"/>
            </a:solidFill>
            <a:miter/>
            <a:tailEnd len="med" type="triangle" w="med"/>
          </a:ln>
        </p:spPr>
      </p:cxnSp>
      <p:sp>
        <p:nvSpPr>
          <p:cNvPr id="469" name="Oval 5"/>
          <p:cNvSpPr/>
          <p:nvPr/>
        </p:nvSpPr>
        <p:spPr>
          <a:xfrm>
            <a:off x="7072200" y="714240"/>
            <a:ext cx="1714680" cy="785880"/>
          </a:xfrm>
          <a:prstGeom prst="ellipse">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0" name="TextBox 6"/>
          <p:cNvSpPr/>
          <p:nvPr/>
        </p:nvSpPr>
        <p:spPr>
          <a:xfrm>
            <a:off x="7365960" y="100008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Bookmark</a:t>
            </a:r>
            <a:endParaRPr b="0" lang="en-US" sz="1800" spc="-1" strike="noStrike">
              <a:solidFill>
                <a:srgbClr val="336666"/>
              </a:solidFill>
              <a:latin typeface="Arial"/>
            </a:endParaRPr>
          </a:p>
        </p:txBody>
      </p:sp>
      <p:cxnSp>
        <p:nvCxnSpPr>
          <p:cNvPr id="471" name="Straight Arrow Connector 8"/>
          <p:cNvCxnSpPr/>
          <p:nvPr/>
        </p:nvCxnSpPr>
        <p:spPr>
          <a:xfrm>
            <a:off x="6643800" y="2071800"/>
            <a:ext cx="643320" cy="72000"/>
          </a:xfrm>
          <a:prstGeom prst="straightConnector1">
            <a:avLst/>
          </a:prstGeom>
          <a:ln w="9360">
            <a:solidFill>
              <a:srgbClr val="94c9c9"/>
            </a:solidFill>
            <a:miter/>
            <a:tailEnd len="med" type="triangle" w="med"/>
          </a:ln>
        </p:spPr>
      </p:cxnSp>
      <p:sp>
        <p:nvSpPr>
          <p:cNvPr id="472" name="Oval 9"/>
          <p:cNvSpPr/>
          <p:nvPr/>
        </p:nvSpPr>
        <p:spPr>
          <a:xfrm>
            <a:off x="7358040" y="1857240"/>
            <a:ext cx="1571760" cy="714600"/>
          </a:xfrm>
          <a:prstGeom prst="ellipse">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3" name="TextBox 10"/>
          <p:cNvSpPr/>
          <p:nvPr/>
        </p:nvSpPr>
        <p:spPr>
          <a:xfrm>
            <a:off x="7849800" y="20718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Tag</a:t>
            </a:r>
            <a:endParaRPr b="0" lang="en-US" sz="1800" spc="-1" strike="noStrike">
              <a:solidFill>
                <a:srgbClr val="336666"/>
              </a:solidFill>
              <a:latin typeface="Arial"/>
            </a:endParaRPr>
          </a:p>
        </p:txBody>
      </p:sp>
      <p:cxnSp>
        <p:nvCxnSpPr>
          <p:cNvPr id="474" name="Straight Arrow Connector 13"/>
          <p:cNvCxnSpPr/>
          <p:nvPr/>
        </p:nvCxnSpPr>
        <p:spPr>
          <a:xfrm flipH="1" flipV="1">
            <a:off x="6214320" y="999720"/>
            <a:ext cx="143640" cy="929520"/>
          </a:xfrm>
          <a:prstGeom prst="straightConnector1">
            <a:avLst/>
          </a:prstGeom>
          <a:ln w="9360">
            <a:solidFill>
              <a:srgbClr val="94c9c9"/>
            </a:solidFill>
            <a:miter/>
            <a:tailEnd len="med" type="triangle" w="med"/>
          </a:ln>
        </p:spPr>
      </p:cxnSp>
      <p:sp>
        <p:nvSpPr>
          <p:cNvPr id="475" name="Oval 14"/>
          <p:cNvSpPr/>
          <p:nvPr/>
        </p:nvSpPr>
        <p:spPr>
          <a:xfrm>
            <a:off x="5572080" y="214200"/>
            <a:ext cx="1714680" cy="642960"/>
          </a:xfrm>
          <a:prstGeom prst="ellipse">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6" name="TextBox 15"/>
          <p:cNvSpPr/>
          <p:nvPr/>
        </p:nvSpPr>
        <p:spPr>
          <a:xfrm>
            <a:off x="6006240" y="3571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hare</a:t>
            </a:r>
            <a:endParaRPr b="0" lang="en-US" sz="1800" spc="-1" strike="noStrike">
              <a:solidFill>
                <a:srgbClr val="336666"/>
              </a:solidFill>
              <a:latin typeface="Arial"/>
            </a:endParaRPr>
          </a:p>
        </p:txBody>
      </p:sp>
      <p:cxnSp>
        <p:nvCxnSpPr>
          <p:cNvPr id="477" name="Straight Arrow Connector 17"/>
          <p:cNvCxnSpPr/>
          <p:nvPr/>
        </p:nvCxnSpPr>
        <p:spPr>
          <a:xfrm>
            <a:off x="6786720" y="2214360"/>
            <a:ext cx="1072080" cy="857880"/>
          </a:xfrm>
          <a:prstGeom prst="straightConnector1">
            <a:avLst/>
          </a:prstGeom>
          <a:ln w="9360">
            <a:solidFill>
              <a:srgbClr val="94c9c9"/>
            </a:solidFill>
            <a:miter/>
            <a:tailEnd len="med" type="triangle" w="med"/>
          </a:ln>
        </p:spPr>
      </p:cxnSp>
      <p:sp>
        <p:nvSpPr>
          <p:cNvPr id="478" name="Oval 18"/>
          <p:cNvSpPr/>
          <p:nvPr/>
        </p:nvSpPr>
        <p:spPr>
          <a:xfrm>
            <a:off x="7643880" y="3214800"/>
            <a:ext cx="1285920" cy="642960"/>
          </a:xfrm>
          <a:prstGeom prst="ellipse">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9" name="TextBox 19"/>
          <p:cNvSpPr/>
          <p:nvPr/>
        </p:nvSpPr>
        <p:spPr>
          <a:xfrm>
            <a:off x="7929720" y="3357720"/>
            <a:ext cx="785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Write </a:t>
            </a:r>
            <a:endParaRPr b="0" lang="en-US" sz="1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reviews</a:t>
            </a:r>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6" descr=""/>
          <p:cNvPicPr/>
          <p:nvPr/>
        </p:nvPicPr>
        <p:blipFill>
          <a:blip r:embed="rId1"/>
          <a:stretch/>
        </p:blipFill>
        <p:spPr>
          <a:xfrm>
            <a:off x="3720960" y="212760"/>
            <a:ext cx="669960" cy="668160"/>
          </a:xfrm>
          <a:prstGeom prst="rect">
            <a:avLst/>
          </a:prstGeom>
          <a:ln w="0">
            <a:noFill/>
          </a:ln>
        </p:spPr>
      </p:pic>
      <p:pic>
        <p:nvPicPr>
          <p:cNvPr id="481" name="Picture 9" descr=""/>
          <p:cNvPicPr/>
          <p:nvPr/>
        </p:nvPicPr>
        <p:blipFill>
          <a:blip r:embed="rId2"/>
          <a:stretch/>
        </p:blipFill>
        <p:spPr>
          <a:xfrm>
            <a:off x="5522760" y="3209760"/>
            <a:ext cx="704880" cy="704880"/>
          </a:xfrm>
          <a:prstGeom prst="rect">
            <a:avLst/>
          </a:prstGeom>
          <a:ln w="0">
            <a:noFill/>
          </a:ln>
        </p:spPr>
      </p:pic>
      <p:sp>
        <p:nvSpPr>
          <p:cNvPr id="482" name="TextBox 14"/>
          <p:cNvSpPr/>
          <p:nvPr/>
        </p:nvSpPr>
        <p:spPr>
          <a:xfrm>
            <a:off x="0" y="3492360"/>
            <a:ext cx="195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5d5d"/>
                </a:solidFill>
                <a:latin typeface="Arial"/>
              </a:rPr>
              <a:t>Users interact </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5d5d"/>
                </a:solidFill>
                <a:latin typeface="Arial"/>
              </a:rPr>
              <a:t>with resources </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5d5d"/>
                </a:solidFill>
                <a:latin typeface="Arial"/>
              </a:rPr>
              <a:t>and create </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5d5d"/>
                </a:solidFill>
                <a:latin typeface="Arial"/>
              </a:rPr>
              <a:t>tags</a:t>
            </a:r>
            <a:endParaRPr b="0" lang="en-US" sz="1800" spc="-1" strike="noStrike">
              <a:solidFill>
                <a:srgbClr val="336666"/>
              </a:solidFill>
              <a:latin typeface="Arial"/>
            </a:endParaRPr>
          </a:p>
        </p:txBody>
      </p:sp>
      <p:pic>
        <p:nvPicPr>
          <p:cNvPr id="483" name="Picture 11" descr=""/>
          <p:cNvPicPr/>
          <p:nvPr/>
        </p:nvPicPr>
        <p:blipFill>
          <a:blip r:embed="rId3"/>
          <a:stretch/>
        </p:blipFill>
        <p:spPr>
          <a:xfrm>
            <a:off x="6032520" y="654120"/>
            <a:ext cx="3111480" cy="1968480"/>
          </a:xfrm>
          <a:prstGeom prst="rect">
            <a:avLst/>
          </a:prstGeom>
          <a:ln w="0">
            <a:noFill/>
          </a:ln>
        </p:spPr>
      </p:pic>
      <p:pic>
        <p:nvPicPr>
          <p:cNvPr id="484" name="Picture 12" descr=""/>
          <p:cNvPicPr/>
          <p:nvPr/>
        </p:nvPicPr>
        <p:blipFill>
          <a:blip r:embed="rId4"/>
          <a:stretch/>
        </p:blipFill>
        <p:spPr>
          <a:xfrm>
            <a:off x="5338800" y="4237200"/>
            <a:ext cx="690480" cy="690480"/>
          </a:xfrm>
          <a:prstGeom prst="rect">
            <a:avLst/>
          </a:prstGeom>
          <a:ln w="0">
            <a:noFill/>
          </a:ln>
        </p:spPr>
      </p:pic>
      <p:grpSp>
        <p:nvGrpSpPr>
          <p:cNvPr id="485" name="Group 20"/>
          <p:cNvGrpSpPr/>
          <p:nvPr/>
        </p:nvGrpSpPr>
        <p:grpSpPr>
          <a:xfrm>
            <a:off x="4567320" y="5230800"/>
            <a:ext cx="823680" cy="960480"/>
            <a:chOff x="4567320" y="5230800"/>
            <a:chExt cx="823680" cy="960480"/>
          </a:xfrm>
        </p:grpSpPr>
        <p:pic>
          <p:nvPicPr>
            <p:cNvPr id="486" name="Picture 13" descr=""/>
            <p:cNvPicPr/>
            <p:nvPr/>
          </p:nvPicPr>
          <p:blipFill>
            <a:blip r:embed="rId5"/>
            <a:stretch/>
          </p:blipFill>
          <p:spPr>
            <a:xfrm>
              <a:off x="4567320" y="5230800"/>
              <a:ext cx="556200" cy="737640"/>
            </a:xfrm>
            <a:prstGeom prst="rect">
              <a:avLst/>
            </a:prstGeom>
            <a:ln w="0">
              <a:noFill/>
            </a:ln>
          </p:spPr>
        </p:pic>
        <p:pic>
          <p:nvPicPr>
            <p:cNvPr id="487" name="Picture 14" descr=""/>
            <p:cNvPicPr/>
            <p:nvPr/>
          </p:nvPicPr>
          <p:blipFill>
            <a:blip r:embed="rId6"/>
            <a:stretch/>
          </p:blipFill>
          <p:spPr>
            <a:xfrm>
              <a:off x="4690800" y="5304960"/>
              <a:ext cx="547920" cy="734040"/>
            </a:xfrm>
            <a:prstGeom prst="rect">
              <a:avLst/>
            </a:prstGeom>
            <a:ln w="0">
              <a:noFill/>
            </a:ln>
          </p:spPr>
        </p:pic>
        <p:pic>
          <p:nvPicPr>
            <p:cNvPr id="488" name="Picture 14" descr=""/>
            <p:cNvPicPr/>
            <p:nvPr/>
          </p:nvPicPr>
          <p:blipFill>
            <a:blip r:embed="rId7"/>
            <a:stretch/>
          </p:blipFill>
          <p:spPr>
            <a:xfrm>
              <a:off x="4843080" y="5457240"/>
              <a:ext cx="547920" cy="734040"/>
            </a:xfrm>
            <a:prstGeom prst="rect">
              <a:avLst/>
            </a:prstGeom>
            <a:ln w="0">
              <a:noFill/>
            </a:ln>
          </p:spPr>
        </p:pic>
      </p:grpSp>
      <p:pic>
        <p:nvPicPr>
          <p:cNvPr id="489" name="Picture 15" descr=""/>
          <p:cNvPicPr/>
          <p:nvPr/>
        </p:nvPicPr>
        <p:blipFill>
          <a:blip r:embed="rId8"/>
          <a:stretch/>
        </p:blipFill>
        <p:spPr>
          <a:xfrm>
            <a:off x="3630600" y="6024600"/>
            <a:ext cx="644400" cy="660240"/>
          </a:xfrm>
          <a:prstGeom prst="rect">
            <a:avLst/>
          </a:prstGeom>
          <a:ln w="0">
            <a:noFill/>
          </a:ln>
        </p:spPr>
      </p:pic>
      <p:pic>
        <p:nvPicPr>
          <p:cNvPr id="490" name="Picture 16" descr=""/>
          <p:cNvPicPr/>
          <p:nvPr/>
        </p:nvPicPr>
        <p:blipFill>
          <a:blip r:embed="rId9"/>
          <a:stretch/>
        </p:blipFill>
        <p:spPr>
          <a:xfrm>
            <a:off x="230040" y="2325600"/>
            <a:ext cx="1055880" cy="1054080"/>
          </a:xfrm>
          <a:prstGeom prst="rect">
            <a:avLst/>
          </a:prstGeom>
          <a:ln w="0">
            <a:noFill/>
          </a:ln>
        </p:spPr>
      </p:pic>
      <p:pic>
        <p:nvPicPr>
          <p:cNvPr id="491" name="Picture 17" descr=""/>
          <p:cNvPicPr/>
          <p:nvPr/>
        </p:nvPicPr>
        <p:blipFill>
          <a:blip r:embed="rId10"/>
          <a:stretch/>
        </p:blipFill>
        <p:spPr>
          <a:xfrm>
            <a:off x="5075280" y="2217600"/>
            <a:ext cx="741240" cy="741600"/>
          </a:xfrm>
          <a:prstGeom prst="rect">
            <a:avLst/>
          </a:prstGeom>
          <a:ln w="0">
            <a:noFill/>
          </a:ln>
        </p:spPr>
      </p:pic>
      <p:pic>
        <p:nvPicPr>
          <p:cNvPr id="492" name="Picture 18" descr=""/>
          <p:cNvPicPr/>
          <p:nvPr/>
        </p:nvPicPr>
        <p:blipFill>
          <a:blip r:embed="rId11"/>
          <a:stretch/>
        </p:blipFill>
        <p:spPr>
          <a:xfrm>
            <a:off x="4564080" y="1155600"/>
            <a:ext cx="884160" cy="673200"/>
          </a:xfrm>
          <a:prstGeom prst="rect">
            <a:avLst/>
          </a:prstGeom>
          <a:ln w="0">
            <a:noFill/>
          </a:ln>
        </p:spPr>
      </p:pic>
      <p:sp>
        <p:nvSpPr>
          <p:cNvPr id="493" name="TextBox 25"/>
          <p:cNvSpPr/>
          <p:nvPr/>
        </p:nvSpPr>
        <p:spPr>
          <a:xfrm>
            <a:off x="3171960" y="609480"/>
            <a:ext cx="66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1</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2</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3</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494" name="TextBox 26"/>
          <p:cNvSpPr/>
          <p:nvPr/>
        </p:nvSpPr>
        <p:spPr>
          <a:xfrm>
            <a:off x="3825720" y="1314360"/>
            <a:ext cx="668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1</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2</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3</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495" name="TextBox 27"/>
          <p:cNvSpPr/>
          <p:nvPr/>
        </p:nvSpPr>
        <p:spPr>
          <a:xfrm>
            <a:off x="4282920" y="2232000"/>
            <a:ext cx="668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1</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2</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3</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496" name="TextBox 28"/>
          <p:cNvSpPr/>
          <p:nvPr/>
        </p:nvSpPr>
        <p:spPr>
          <a:xfrm>
            <a:off x="4394160" y="4122720"/>
            <a:ext cx="668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1</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2</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3</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497" name="TextBox 29"/>
          <p:cNvSpPr/>
          <p:nvPr/>
        </p:nvSpPr>
        <p:spPr>
          <a:xfrm>
            <a:off x="3794040" y="4979880"/>
            <a:ext cx="66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1</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2</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3</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498" name="TextBox 30"/>
          <p:cNvSpPr/>
          <p:nvPr/>
        </p:nvSpPr>
        <p:spPr>
          <a:xfrm>
            <a:off x="2795760" y="5681520"/>
            <a:ext cx="668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1</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2</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3</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sp>
        <p:nvSpPr>
          <p:cNvPr id="499" name="TextBox 31"/>
          <p:cNvSpPr/>
          <p:nvPr/>
        </p:nvSpPr>
        <p:spPr>
          <a:xfrm>
            <a:off x="4476600" y="3117960"/>
            <a:ext cx="668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1</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2</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d5d5d"/>
                </a:solidFill>
                <a:latin typeface="Arial"/>
              </a:rPr>
              <a:t>Tag 3</a:t>
            </a:r>
            <a:endParaRPr b="0" lang="en-US" sz="12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p:txBody>
      </p:sp>
      <p:cxnSp>
        <p:nvCxnSpPr>
          <p:cNvPr id="500" name="Straight Arrow Connector 35"/>
          <p:cNvCxnSpPr/>
          <p:nvPr/>
        </p:nvCxnSpPr>
        <p:spPr>
          <a:xfrm flipV="1">
            <a:off x="1285920" y="1371240"/>
            <a:ext cx="2040480" cy="1481760"/>
          </a:xfrm>
          <a:prstGeom prst="straightConnector1">
            <a:avLst/>
          </a:prstGeom>
          <a:ln w="9360">
            <a:solidFill>
              <a:srgbClr val="336666"/>
            </a:solidFill>
            <a:miter/>
            <a:tailEnd len="med" type="triangle" w="med"/>
          </a:ln>
        </p:spPr>
      </p:cxnSp>
      <p:cxnSp>
        <p:nvCxnSpPr>
          <p:cNvPr id="501" name="Straight Arrow Connector 37"/>
          <p:cNvCxnSpPr/>
          <p:nvPr/>
        </p:nvCxnSpPr>
        <p:spPr>
          <a:xfrm flipV="1">
            <a:off x="1285560" y="2025000"/>
            <a:ext cx="2578680" cy="827640"/>
          </a:xfrm>
          <a:prstGeom prst="straightConnector1">
            <a:avLst/>
          </a:prstGeom>
          <a:ln w="9360">
            <a:solidFill>
              <a:srgbClr val="336666"/>
            </a:solidFill>
            <a:miter/>
            <a:tailEnd len="med" type="triangle" w="med"/>
          </a:ln>
        </p:spPr>
      </p:cxnSp>
      <p:cxnSp>
        <p:nvCxnSpPr>
          <p:cNvPr id="502" name="Straight Arrow Connector 39"/>
          <p:cNvCxnSpPr/>
          <p:nvPr/>
        </p:nvCxnSpPr>
        <p:spPr>
          <a:xfrm>
            <a:off x="1295280" y="2835360"/>
            <a:ext cx="3286800" cy="70200"/>
          </a:xfrm>
          <a:prstGeom prst="straightConnector1">
            <a:avLst/>
          </a:prstGeom>
          <a:ln w="9360">
            <a:solidFill>
              <a:srgbClr val="336666"/>
            </a:solidFill>
            <a:miter/>
            <a:tailEnd len="med" type="triangle" w="med"/>
          </a:ln>
        </p:spPr>
      </p:cxnSp>
      <p:cxnSp>
        <p:nvCxnSpPr>
          <p:cNvPr id="503" name="Straight Arrow Connector 41"/>
          <p:cNvCxnSpPr/>
          <p:nvPr/>
        </p:nvCxnSpPr>
        <p:spPr>
          <a:xfrm>
            <a:off x="1285560" y="2852640"/>
            <a:ext cx="3134520" cy="697680"/>
          </a:xfrm>
          <a:prstGeom prst="straightConnector1">
            <a:avLst/>
          </a:prstGeom>
          <a:ln w="9360">
            <a:solidFill>
              <a:srgbClr val="336666"/>
            </a:solidFill>
            <a:miter/>
            <a:tailEnd len="med" type="triangle" w="med"/>
          </a:ln>
        </p:spPr>
      </p:cxnSp>
      <p:cxnSp>
        <p:nvCxnSpPr>
          <p:cNvPr id="504" name="Straight Arrow Connector 43"/>
          <p:cNvCxnSpPr/>
          <p:nvPr/>
        </p:nvCxnSpPr>
        <p:spPr>
          <a:xfrm>
            <a:off x="1285920" y="2852640"/>
            <a:ext cx="2613600" cy="2106000"/>
          </a:xfrm>
          <a:prstGeom prst="straightConnector1">
            <a:avLst/>
          </a:prstGeom>
          <a:ln w="9360">
            <a:solidFill>
              <a:srgbClr val="336666"/>
            </a:solidFill>
            <a:miter/>
            <a:tailEnd len="med" type="triangle" w="med"/>
          </a:ln>
        </p:spPr>
      </p:cxnSp>
      <p:cxnSp>
        <p:nvCxnSpPr>
          <p:cNvPr id="505" name="Straight Arrow Connector 45"/>
          <p:cNvCxnSpPr/>
          <p:nvPr/>
        </p:nvCxnSpPr>
        <p:spPr>
          <a:xfrm>
            <a:off x="1285920" y="2852640"/>
            <a:ext cx="2247120" cy="3028320"/>
          </a:xfrm>
          <a:prstGeom prst="straightConnector1">
            <a:avLst/>
          </a:prstGeom>
          <a:ln w="9360">
            <a:solidFill>
              <a:srgbClr val="336666"/>
            </a:solidFill>
            <a:miter/>
            <a:tailEnd len="med" type="triangle" w="med"/>
          </a:ln>
        </p:spPr>
      </p:cxnSp>
    </p:spTree>
  </p:cSld>
  <p:transition spd="med">
    <p:fade thruBlk="true"/>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93"/>
                                        </p:tgtEl>
                                        <p:attrNameLst>
                                          <p:attrName>style.visibility</p:attrName>
                                        </p:attrNameLst>
                                      </p:cBhvr>
                                      <p:to>
                                        <p:strVal val="visible"/>
                                      </p:to>
                                    </p:set>
                                    <p:animEffect filter="blinds(horizontal)" transition="in">
                                      <p:cBhvr additive="repl">
                                        <p:cTn id="68" dur="500"/>
                                        <p:tgtEl>
                                          <p:spTgt spid="493"/>
                                        </p:tgtEl>
                                      </p:cBhvr>
                                    </p:animEffect>
                                  </p:childTnLst>
                                </p:cTn>
                              </p:par>
                              <p:par>
                                <p:cTn id="69" nodeType="withEffect" fill="hold" presetClass="entr" presetID="3" presetSubtype="10">
                                  <p:stCondLst>
                                    <p:cond delay="0"/>
                                  </p:stCondLst>
                                  <p:childTnLst>
                                    <p:set>
                                      <p:cBhvr>
                                        <p:cTn id="70" dur="1" fill="hold">
                                          <p:stCondLst>
                                            <p:cond delay="0"/>
                                          </p:stCondLst>
                                        </p:cTn>
                                        <p:tgtEl>
                                          <p:spTgt spid="494"/>
                                        </p:tgtEl>
                                        <p:attrNameLst>
                                          <p:attrName>style.visibility</p:attrName>
                                        </p:attrNameLst>
                                      </p:cBhvr>
                                      <p:to>
                                        <p:strVal val="visible"/>
                                      </p:to>
                                    </p:set>
                                    <p:animEffect filter="blinds(horizontal)" transition="in">
                                      <p:cBhvr additive="repl">
                                        <p:cTn id="71" dur="500"/>
                                        <p:tgtEl>
                                          <p:spTgt spid="494"/>
                                        </p:tgtEl>
                                      </p:cBhvr>
                                    </p:animEffect>
                                  </p:childTnLst>
                                </p:cTn>
                              </p:par>
                              <p:par>
                                <p:cTn id="72" nodeType="withEffect" fill="hold" presetClass="entr" presetID="3" presetSubtype="10">
                                  <p:stCondLst>
                                    <p:cond delay="0"/>
                                  </p:stCondLst>
                                  <p:childTnLst>
                                    <p:set>
                                      <p:cBhvr>
                                        <p:cTn id="73" dur="1" fill="hold">
                                          <p:stCondLst>
                                            <p:cond delay="0"/>
                                          </p:stCondLst>
                                        </p:cTn>
                                        <p:tgtEl>
                                          <p:spTgt spid="495"/>
                                        </p:tgtEl>
                                        <p:attrNameLst>
                                          <p:attrName>style.visibility</p:attrName>
                                        </p:attrNameLst>
                                      </p:cBhvr>
                                      <p:to>
                                        <p:strVal val="visible"/>
                                      </p:to>
                                    </p:set>
                                    <p:animEffect filter="blinds(horizontal)" transition="in">
                                      <p:cBhvr additive="repl">
                                        <p:cTn id="74" dur="500"/>
                                        <p:tgtEl>
                                          <p:spTgt spid="495"/>
                                        </p:tgtEl>
                                      </p:cBhvr>
                                    </p:animEffect>
                                  </p:childTnLst>
                                </p:cTn>
                              </p:par>
                              <p:par>
                                <p:cTn id="75" nodeType="withEffect" fill="hold" presetClass="entr" presetID="3" presetSubtype="10">
                                  <p:stCondLst>
                                    <p:cond delay="0"/>
                                  </p:stCondLst>
                                  <p:childTnLst>
                                    <p:set>
                                      <p:cBhvr>
                                        <p:cTn id="76" dur="1" fill="hold">
                                          <p:stCondLst>
                                            <p:cond delay="0"/>
                                          </p:stCondLst>
                                        </p:cTn>
                                        <p:tgtEl>
                                          <p:spTgt spid="499"/>
                                        </p:tgtEl>
                                        <p:attrNameLst>
                                          <p:attrName>style.visibility</p:attrName>
                                        </p:attrNameLst>
                                      </p:cBhvr>
                                      <p:to>
                                        <p:strVal val="visible"/>
                                      </p:to>
                                    </p:set>
                                    <p:animEffect filter="blinds(horizontal)" transition="in">
                                      <p:cBhvr additive="repl">
                                        <p:cTn id="77" dur="500"/>
                                        <p:tgtEl>
                                          <p:spTgt spid="499"/>
                                        </p:tgtEl>
                                      </p:cBhvr>
                                    </p:animEffect>
                                  </p:childTnLst>
                                </p:cTn>
                              </p:par>
                              <p:par>
                                <p:cTn id="78" nodeType="withEffect" fill="hold" presetClass="entr" presetID="3" presetSubtype="10">
                                  <p:stCondLst>
                                    <p:cond delay="0"/>
                                  </p:stCondLst>
                                  <p:childTnLst>
                                    <p:set>
                                      <p:cBhvr>
                                        <p:cTn id="79" dur="1" fill="hold">
                                          <p:stCondLst>
                                            <p:cond delay="0"/>
                                          </p:stCondLst>
                                        </p:cTn>
                                        <p:tgtEl>
                                          <p:spTgt spid="496"/>
                                        </p:tgtEl>
                                        <p:attrNameLst>
                                          <p:attrName>style.visibility</p:attrName>
                                        </p:attrNameLst>
                                      </p:cBhvr>
                                      <p:to>
                                        <p:strVal val="visible"/>
                                      </p:to>
                                    </p:set>
                                    <p:animEffect filter="blinds(horizontal)" transition="in">
                                      <p:cBhvr additive="repl">
                                        <p:cTn id="80" dur="500"/>
                                        <p:tgtEl>
                                          <p:spTgt spid="496"/>
                                        </p:tgtEl>
                                      </p:cBhvr>
                                    </p:animEffect>
                                  </p:childTnLst>
                                </p:cTn>
                              </p:par>
                              <p:par>
                                <p:cTn id="81" nodeType="withEffect" fill="hold" presetClass="entr" presetID="3" presetSubtype="10">
                                  <p:stCondLst>
                                    <p:cond delay="0"/>
                                  </p:stCondLst>
                                  <p:childTnLst>
                                    <p:set>
                                      <p:cBhvr>
                                        <p:cTn id="82" dur="1" fill="hold">
                                          <p:stCondLst>
                                            <p:cond delay="0"/>
                                          </p:stCondLst>
                                        </p:cTn>
                                        <p:tgtEl>
                                          <p:spTgt spid="497"/>
                                        </p:tgtEl>
                                        <p:attrNameLst>
                                          <p:attrName>style.visibility</p:attrName>
                                        </p:attrNameLst>
                                      </p:cBhvr>
                                      <p:to>
                                        <p:strVal val="visible"/>
                                      </p:to>
                                    </p:set>
                                    <p:animEffect filter="blinds(horizontal)" transition="in">
                                      <p:cBhvr additive="repl">
                                        <p:cTn id="83" dur="500"/>
                                        <p:tgtEl>
                                          <p:spTgt spid="497"/>
                                        </p:tgtEl>
                                      </p:cBhvr>
                                    </p:animEffect>
                                  </p:childTnLst>
                                </p:cTn>
                              </p:par>
                              <p:par>
                                <p:cTn id="84" nodeType="withEffect" fill="hold" presetClass="entr" presetID="3" presetSubtype="10">
                                  <p:stCondLst>
                                    <p:cond delay="0"/>
                                  </p:stCondLst>
                                  <p:childTnLst>
                                    <p:set>
                                      <p:cBhvr>
                                        <p:cTn id="85" dur="1" fill="hold">
                                          <p:stCondLst>
                                            <p:cond delay="0"/>
                                          </p:stCondLst>
                                        </p:cTn>
                                        <p:tgtEl>
                                          <p:spTgt spid="498"/>
                                        </p:tgtEl>
                                        <p:attrNameLst>
                                          <p:attrName>style.visibility</p:attrName>
                                        </p:attrNameLst>
                                      </p:cBhvr>
                                      <p:to>
                                        <p:strVal val="visible"/>
                                      </p:to>
                                    </p:set>
                                    <p:animEffect filter="blinds(horizontal)" transition="in">
                                      <p:cBhvr additive="repl">
                                        <p:cTn id="86" dur="500"/>
                                        <p:tgtEl>
                                          <p:spTgt spid="49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83"/>
                                        </p:tgtEl>
                                        <p:attrNameLst>
                                          <p:attrName>style.visibility</p:attrName>
                                        </p:attrNameLst>
                                      </p:cBhvr>
                                      <p:to>
                                        <p:strVal val="visible"/>
                                      </p:to>
                                    </p:set>
                                    <p:animEffect filter="blinds(horizontal)" transition="in">
                                      <p:cBhvr additive="repl">
                                        <p:cTn id="91"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6" name="Group 41"/>
          <p:cNvGrpSpPr/>
          <p:nvPr/>
        </p:nvGrpSpPr>
        <p:grpSpPr>
          <a:xfrm>
            <a:off x="179280" y="152280"/>
            <a:ext cx="8805600" cy="6248520"/>
            <a:chOff x="179280" y="152280"/>
            <a:chExt cx="8805600" cy="6248520"/>
          </a:xfrm>
        </p:grpSpPr>
        <p:sp>
          <p:nvSpPr>
            <p:cNvPr id="507" name="Oval 2"/>
            <p:cNvSpPr/>
            <p:nvPr/>
          </p:nvSpPr>
          <p:spPr>
            <a:xfrm>
              <a:off x="3504960" y="2971800"/>
              <a:ext cx="1828800" cy="1218960"/>
            </a:xfrm>
            <a:prstGeom prst="ellipse">
              <a:avLst/>
            </a:prstGeom>
            <a:solidFill>
              <a:srgbClr val="ffffff"/>
            </a:solidFill>
            <a:ln w="9360">
              <a:solidFill>
                <a:srgbClr val="33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ocial Tagging </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nvironment</a:t>
              </a:r>
              <a:endParaRPr b="0" lang="en-US" sz="1800" spc="-1" strike="noStrike">
                <a:solidFill>
                  <a:srgbClr val="336666"/>
                </a:solidFill>
                <a:latin typeface="Arial"/>
              </a:endParaRPr>
            </a:p>
          </p:txBody>
        </p:sp>
        <p:sp>
          <p:nvSpPr>
            <p:cNvPr id="508" name="Line 3"/>
            <p:cNvSpPr/>
            <p:nvPr/>
          </p:nvSpPr>
          <p:spPr>
            <a:xfrm flipV="1">
              <a:off x="5257800" y="2590560"/>
              <a:ext cx="1600200" cy="7617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9" name="Line 4"/>
            <p:cNvSpPr/>
            <p:nvPr/>
          </p:nvSpPr>
          <p:spPr>
            <a:xfrm>
              <a:off x="4495680" y="4191120"/>
              <a:ext cx="0" cy="8380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0" name="Line 5"/>
            <p:cNvSpPr/>
            <p:nvPr/>
          </p:nvSpPr>
          <p:spPr>
            <a:xfrm flipH="1">
              <a:off x="2133360" y="3657600"/>
              <a:ext cx="1371600" cy="3808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1" name="Line 6"/>
            <p:cNvSpPr/>
            <p:nvPr/>
          </p:nvSpPr>
          <p:spPr>
            <a:xfrm flipH="1" flipV="1">
              <a:off x="2411280" y="2492280"/>
              <a:ext cx="1218960" cy="7617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2" name="Line 7"/>
            <p:cNvSpPr/>
            <p:nvPr/>
          </p:nvSpPr>
          <p:spPr>
            <a:xfrm flipH="1" flipV="1">
              <a:off x="4343040" y="2133360"/>
              <a:ext cx="75960" cy="8380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13" name="Line 8"/>
            <p:cNvSpPr/>
            <p:nvPr/>
          </p:nvSpPr>
          <p:spPr>
            <a:xfrm>
              <a:off x="5334120" y="3657600"/>
              <a:ext cx="1904760" cy="7617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514" name="Group 9"/>
            <p:cNvGrpSpPr/>
            <p:nvPr/>
          </p:nvGrpSpPr>
          <p:grpSpPr>
            <a:xfrm>
              <a:off x="6314760" y="533160"/>
              <a:ext cx="2448360" cy="1917720"/>
              <a:chOff x="6314760" y="533160"/>
              <a:chExt cx="2448360" cy="1917720"/>
            </a:xfrm>
          </p:grpSpPr>
          <p:pic>
            <p:nvPicPr>
              <p:cNvPr id="515" name="Picture 10" descr="flickr_logo"/>
              <p:cNvPicPr/>
              <p:nvPr/>
            </p:nvPicPr>
            <p:blipFill>
              <a:blip r:embed="rId1"/>
              <a:stretch/>
            </p:blipFill>
            <p:spPr>
              <a:xfrm>
                <a:off x="7010280" y="1599840"/>
                <a:ext cx="1371600" cy="380880"/>
              </a:xfrm>
              <a:prstGeom prst="rect">
                <a:avLst/>
              </a:prstGeom>
              <a:ln w="0">
                <a:noFill/>
              </a:ln>
            </p:spPr>
          </p:pic>
          <p:pic>
            <p:nvPicPr>
              <p:cNvPr id="516" name="Picture 11" descr=""/>
              <p:cNvPicPr/>
              <p:nvPr/>
            </p:nvPicPr>
            <p:blipFill>
              <a:blip r:embed="rId2"/>
              <a:stretch/>
            </p:blipFill>
            <p:spPr>
              <a:xfrm>
                <a:off x="7772400" y="533160"/>
                <a:ext cx="990720" cy="323640"/>
              </a:xfrm>
              <a:prstGeom prst="rect">
                <a:avLst/>
              </a:prstGeom>
              <a:ln w="0">
                <a:noFill/>
              </a:ln>
            </p:spPr>
          </p:pic>
          <p:pic>
            <p:nvPicPr>
              <p:cNvPr id="517" name="Picture 12" descr=""/>
              <p:cNvPicPr/>
              <p:nvPr/>
            </p:nvPicPr>
            <p:blipFill>
              <a:blip r:embed="rId3"/>
              <a:stretch/>
            </p:blipFill>
            <p:spPr>
              <a:xfrm>
                <a:off x="7315200" y="1142640"/>
                <a:ext cx="1219320" cy="380880"/>
              </a:xfrm>
              <a:prstGeom prst="rect">
                <a:avLst/>
              </a:prstGeom>
              <a:ln w="0">
                <a:noFill/>
              </a:ln>
            </p:spPr>
          </p:pic>
          <p:sp>
            <p:nvSpPr>
              <p:cNvPr id="518" name="Text Box 13"/>
              <p:cNvSpPr/>
              <p:nvPr/>
            </p:nvSpPr>
            <p:spPr>
              <a:xfrm>
                <a:off x="6314760" y="208260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Photo sharing </a:t>
                </a:r>
                <a:endParaRPr b="0" lang="en-US" sz="1800" spc="-1" strike="noStrike">
                  <a:solidFill>
                    <a:srgbClr val="336666"/>
                  </a:solidFill>
                  <a:latin typeface="Arial"/>
                </a:endParaRPr>
              </a:p>
            </p:txBody>
          </p:sp>
        </p:grpSp>
        <p:grpSp>
          <p:nvGrpSpPr>
            <p:cNvPr id="519" name="Group 14"/>
            <p:cNvGrpSpPr/>
            <p:nvPr/>
          </p:nvGrpSpPr>
          <p:grpSpPr>
            <a:xfrm>
              <a:off x="3642120" y="4978440"/>
              <a:ext cx="1539360" cy="1422360"/>
              <a:chOff x="3642120" y="4978440"/>
              <a:chExt cx="1539360" cy="1422360"/>
            </a:xfrm>
          </p:grpSpPr>
          <p:pic>
            <p:nvPicPr>
              <p:cNvPr id="520" name="Picture 15" descr="slidelogo"/>
              <p:cNvPicPr/>
              <p:nvPr/>
            </p:nvPicPr>
            <p:blipFill>
              <a:blip r:embed="rId4"/>
              <a:stretch/>
            </p:blipFill>
            <p:spPr>
              <a:xfrm>
                <a:off x="3809880" y="5486400"/>
                <a:ext cx="1305000" cy="380880"/>
              </a:xfrm>
              <a:prstGeom prst="rect">
                <a:avLst/>
              </a:prstGeom>
              <a:ln w="0">
                <a:noFill/>
              </a:ln>
            </p:spPr>
          </p:pic>
          <p:pic>
            <p:nvPicPr>
              <p:cNvPr id="521" name="Picture 16" descr="slide-logo"/>
              <p:cNvPicPr/>
              <p:nvPr/>
            </p:nvPicPr>
            <p:blipFill>
              <a:blip r:embed="rId5"/>
              <a:stretch/>
            </p:blipFill>
            <p:spPr>
              <a:xfrm>
                <a:off x="3886200" y="6019920"/>
                <a:ext cx="1295280" cy="380880"/>
              </a:xfrm>
              <a:prstGeom prst="rect">
                <a:avLst/>
              </a:prstGeom>
              <a:ln w="0">
                <a:noFill/>
              </a:ln>
            </p:spPr>
          </p:pic>
          <p:sp>
            <p:nvSpPr>
              <p:cNvPr id="522" name="Text Box 17"/>
              <p:cNvSpPr/>
              <p:nvPr/>
            </p:nvSpPr>
            <p:spPr>
              <a:xfrm>
                <a:off x="3642120" y="4978440"/>
                <a:ext cx="149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lide sharing</a:t>
                </a:r>
                <a:endParaRPr b="0" lang="en-US" sz="1800" spc="-1" strike="noStrike">
                  <a:solidFill>
                    <a:srgbClr val="336666"/>
                  </a:solidFill>
                  <a:latin typeface="Arial"/>
                </a:endParaRPr>
              </a:p>
            </p:txBody>
          </p:sp>
        </p:grpSp>
        <p:grpSp>
          <p:nvGrpSpPr>
            <p:cNvPr id="523" name="Group 18"/>
            <p:cNvGrpSpPr/>
            <p:nvPr/>
          </p:nvGrpSpPr>
          <p:grpSpPr>
            <a:xfrm>
              <a:off x="3427200" y="304560"/>
              <a:ext cx="1622520" cy="1810800"/>
              <a:chOff x="3427200" y="304560"/>
              <a:chExt cx="1622520" cy="1810800"/>
            </a:xfrm>
          </p:grpSpPr>
          <p:pic>
            <p:nvPicPr>
              <p:cNvPr id="524" name="Picture 19" descr="youtube_logo"/>
              <p:cNvPicPr/>
              <p:nvPr/>
            </p:nvPicPr>
            <p:blipFill>
              <a:blip r:embed="rId6"/>
              <a:stretch/>
            </p:blipFill>
            <p:spPr>
              <a:xfrm>
                <a:off x="3733560" y="914040"/>
                <a:ext cx="914040" cy="609480"/>
              </a:xfrm>
              <a:prstGeom prst="rect">
                <a:avLst/>
              </a:prstGeom>
              <a:ln w="0">
                <a:noFill/>
              </a:ln>
            </p:spPr>
          </p:pic>
          <p:pic>
            <p:nvPicPr>
              <p:cNvPr id="525" name="Picture 20" descr="home_bliptv"/>
              <p:cNvPicPr/>
              <p:nvPr/>
            </p:nvPicPr>
            <p:blipFill>
              <a:blip r:embed="rId7"/>
              <a:stretch/>
            </p:blipFill>
            <p:spPr>
              <a:xfrm>
                <a:off x="3657240" y="304560"/>
                <a:ext cx="1142640" cy="533160"/>
              </a:xfrm>
              <a:prstGeom prst="rect">
                <a:avLst/>
              </a:prstGeom>
              <a:ln w="0">
                <a:noFill/>
              </a:ln>
            </p:spPr>
          </p:pic>
          <p:sp>
            <p:nvSpPr>
              <p:cNvPr id="526" name="Text Box 21"/>
              <p:cNvSpPr/>
              <p:nvPr/>
            </p:nvSpPr>
            <p:spPr>
              <a:xfrm>
                <a:off x="3427200" y="1472760"/>
                <a:ext cx="162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ideoblogging</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nd sharing</a:t>
                </a:r>
                <a:endParaRPr b="0" lang="en-US" sz="1800" spc="-1" strike="noStrike">
                  <a:solidFill>
                    <a:srgbClr val="336666"/>
                  </a:solidFill>
                  <a:latin typeface="Arial"/>
                </a:endParaRPr>
              </a:p>
            </p:txBody>
          </p:sp>
        </p:grpSp>
        <p:grpSp>
          <p:nvGrpSpPr>
            <p:cNvPr id="527" name="Group 22"/>
            <p:cNvGrpSpPr/>
            <p:nvPr/>
          </p:nvGrpSpPr>
          <p:grpSpPr>
            <a:xfrm>
              <a:off x="228240" y="152280"/>
              <a:ext cx="2155680" cy="2374920"/>
              <a:chOff x="228240" y="152280"/>
              <a:chExt cx="2155680" cy="2374920"/>
            </a:xfrm>
          </p:grpSpPr>
          <p:pic>
            <p:nvPicPr>
              <p:cNvPr id="528" name="Picture 23" descr="myspace%20logo"/>
              <p:cNvPicPr/>
              <p:nvPr/>
            </p:nvPicPr>
            <p:blipFill>
              <a:blip r:embed="rId8"/>
              <a:stretch/>
            </p:blipFill>
            <p:spPr>
              <a:xfrm>
                <a:off x="380520" y="914400"/>
                <a:ext cx="914400" cy="685800"/>
              </a:xfrm>
              <a:prstGeom prst="rect">
                <a:avLst/>
              </a:prstGeom>
              <a:ln w="0">
                <a:noFill/>
              </a:ln>
            </p:spPr>
          </p:pic>
          <p:pic>
            <p:nvPicPr>
              <p:cNvPr id="529" name="Picture 24" descr=""/>
              <p:cNvPicPr/>
              <p:nvPr/>
            </p:nvPicPr>
            <p:blipFill>
              <a:blip r:embed="rId9"/>
              <a:stretch/>
            </p:blipFill>
            <p:spPr>
              <a:xfrm>
                <a:off x="533160" y="1676520"/>
                <a:ext cx="1066680" cy="380880"/>
              </a:xfrm>
              <a:prstGeom prst="rect">
                <a:avLst/>
              </a:prstGeom>
              <a:ln w="0">
                <a:noFill/>
              </a:ln>
            </p:spPr>
          </p:pic>
          <p:pic>
            <p:nvPicPr>
              <p:cNvPr id="530" name="Picture 25" descr=""/>
              <p:cNvPicPr/>
              <p:nvPr/>
            </p:nvPicPr>
            <p:blipFill>
              <a:blip r:embed="rId10"/>
              <a:stretch/>
            </p:blipFill>
            <p:spPr>
              <a:xfrm>
                <a:off x="228240" y="609480"/>
                <a:ext cx="990720" cy="276480"/>
              </a:xfrm>
              <a:prstGeom prst="rect">
                <a:avLst/>
              </a:prstGeom>
              <a:ln w="0">
                <a:noFill/>
              </a:ln>
            </p:spPr>
          </p:pic>
          <p:sp>
            <p:nvSpPr>
              <p:cNvPr id="531" name="Text Box 26"/>
              <p:cNvSpPr/>
              <p:nvPr/>
            </p:nvSpPr>
            <p:spPr>
              <a:xfrm>
                <a:off x="605880" y="215892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ocial networks</a:t>
                </a:r>
                <a:endParaRPr b="0" lang="en-US" sz="1800" spc="-1" strike="noStrike">
                  <a:solidFill>
                    <a:srgbClr val="336666"/>
                  </a:solidFill>
                  <a:latin typeface="Arial"/>
                </a:endParaRPr>
              </a:p>
            </p:txBody>
          </p:sp>
          <p:pic>
            <p:nvPicPr>
              <p:cNvPr id="532" name="Picture 27" descr=""/>
              <p:cNvPicPr/>
              <p:nvPr/>
            </p:nvPicPr>
            <p:blipFill>
              <a:blip r:embed="rId11"/>
              <a:stretch/>
            </p:blipFill>
            <p:spPr>
              <a:xfrm>
                <a:off x="228240" y="152280"/>
                <a:ext cx="1143000" cy="381240"/>
              </a:xfrm>
              <a:prstGeom prst="rect">
                <a:avLst/>
              </a:prstGeom>
              <a:ln w="0">
                <a:noFill/>
              </a:ln>
            </p:spPr>
          </p:pic>
        </p:grpSp>
        <p:grpSp>
          <p:nvGrpSpPr>
            <p:cNvPr id="533" name="Group 28"/>
            <p:cNvGrpSpPr/>
            <p:nvPr/>
          </p:nvGrpSpPr>
          <p:grpSpPr>
            <a:xfrm>
              <a:off x="7375680" y="4508640"/>
              <a:ext cx="1609200" cy="1679040"/>
              <a:chOff x="7375680" y="4508640"/>
              <a:chExt cx="1609200" cy="1679040"/>
            </a:xfrm>
          </p:grpSpPr>
          <p:pic>
            <p:nvPicPr>
              <p:cNvPr id="534" name="Picture 29" descr=""/>
              <p:cNvPicPr/>
              <p:nvPr/>
            </p:nvPicPr>
            <p:blipFill>
              <a:blip r:embed="rId12"/>
              <a:stretch/>
            </p:blipFill>
            <p:spPr>
              <a:xfrm>
                <a:off x="7385040" y="5270400"/>
                <a:ext cx="1599840" cy="380520"/>
              </a:xfrm>
              <a:prstGeom prst="rect">
                <a:avLst/>
              </a:prstGeom>
              <a:ln w="0">
                <a:noFill/>
              </a:ln>
            </p:spPr>
          </p:pic>
          <p:pic>
            <p:nvPicPr>
              <p:cNvPr id="535" name="Picture 30" descr=""/>
              <p:cNvPicPr/>
              <p:nvPr/>
            </p:nvPicPr>
            <p:blipFill>
              <a:blip r:embed="rId13"/>
              <a:srcRect l="0" t="0" r="0" b="5302"/>
              <a:stretch/>
            </p:blipFill>
            <p:spPr>
              <a:xfrm>
                <a:off x="7613640" y="5803920"/>
                <a:ext cx="1223640" cy="383760"/>
              </a:xfrm>
              <a:prstGeom prst="rect">
                <a:avLst/>
              </a:prstGeom>
              <a:ln w="0">
                <a:noFill/>
              </a:ln>
            </p:spPr>
          </p:pic>
          <p:sp>
            <p:nvSpPr>
              <p:cNvPr id="536" name="Text Box 31"/>
              <p:cNvSpPr/>
              <p:nvPr/>
            </p:nvSpPr>
            <p:spPr>
              <a:xfrm>
                <a:off x="7375680" y="4508640"/>
                <a:ext cx="148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cademic </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ookmarking</a:t>
                </a:r>
                <a:endParaRPr b="0" lang="en-US" sz="1800" spc="-1" strike="noStrike">
                  <a:solidFill>
                    <a:srgbClr val="336666"/>
                  </a:solidFill>
                  <a:latin typeface="Arial"/>
                </a:endParaRPr>
              </a:p>
            </p:txBody>
          </p:sp>
        </p:grpSp>
        <p:grpSp>
          <p:nvGrpSpPr>
            <p:cNvPr id="537" name="Group 32"/>
            <p:cNvGrpSpPr/>
            <p:nvPr/>
          </p:nvGrpSpPr>
          <p:grpSpPr>
            <a:xfrm>
              <a:off x="179280" y="4005360"/>
              <a:ext cx="2638440" cy="2209680"/>
              <a:chOff x="179280" y="4005360"/>
              <a:chExt cx="2638440" cy="2209680"/>
            </a:xfrm>
          </p:grpSpPr>
          <p:pic>
            <p:nvPicPr>
              <p:cNvPr id="538" name="Picture 33" descr=""/>
              <p:cNvPicPr/>
              <p:nvPr/>
            </p:nvPicPr>
            <p:blipFill>
              <a:blip r:embed="rId14"/>
              <a:stretch/>
            </p:blipFill>
            <p:spPr>
              <a:xfrm>
                <a:off x="331560" y="5986440"/>
                <a:ext cx="990720" cy="228600"/>
              </a:xfrm>
              <a:prstGeom prst="rect">
                <a:avLst/>
              </a:prstGeom>
              <a:ln w="0">
                <a:noFill/>
              </a:ln>
            </p:spPr>
          </p:pic>
          <p:pic>
            <p:nvPicPr>
              <p:cNvPr id="539" name="Picture 34" descr="delicious"/>
              <p:cNvPicPr/>
              <p:nvPr/>
            </p:nvPicPr>
            <p:blipFill>
              <a:blip r:embed="rId15"/>
              <a:stretch/>
            </p:blipFill>
            <p:spPr>
              <a:xfrm>
                <a:off x="179280" y="4538520"/>
                <a:ext cx="1371600" cy="381240"/>
              </a:xfrm>
              <a:prstGeom prst="rect">
                <a:avLst/>
              </a:prstGeom>
              <a:ln w="0">
                <a:noFill/>
              </a:ln>
            </p:spPr>
          </p:pic>
          <p:pic>
            <p:nvPicPr>
              <p:cNvPr id="540" name="Picture 35" descr=""/>
              <p:cNvPicPr/>
              <p:nvPr/>
            </p:nvPicPr>
            <p:blipFill>
              <a:blip r:embed="rId16"/>
              <a:srcRect l="0" t="0" r="0" b="15756"/>
              <a:stretch/>
            </p:blipFill>
            <p:spPr>
              <a:xfrm>
                <a:off x="1627200" y="5452920"/>
                <a:ext cx="957240" cy="270000"/>
              </a:xfrm>
              <a:prstGeom prst="rect">
                <a:avLst/>
              </a:prstGeom>
              <a:ln w="0">
                <a:noFill/>
              </a:ln>
            </p:spPr>
          </p:pic>
          <p:pic>
            <p:nvPicPr>
              <p:cNvPr id="541" name="Picture 36" descr=""/>
              <p:cNvPicPr/>
              <p:nvPr/>
            </p:nvPicPr>
            <p:blipFill>
              <a:blip r:embed="rId17"/>
              <a:stretch/>
            </p:blipFill>
            <p:spPr>
              <a:xfrm>
                <a:off x="1627200" y="4614840"/>
                <a:ext cx="1190520" cy="304920"/>
              </a:xfrm>
              <a:prstGeom prst="rect">
                <a:avLst/>
              </a:prstGeom>
              <a:ln w="0">
                <a:noFill/>
              </a:ln>
            </p:spPr>
          </p:pic>
          <p:pic>
            <p:nvPicPr>
              <p:cNvPr id="542" name="Picture 37" descr=""/>
              <p:cNvPicPr/>
              <p:nvPr/>
            </p:nvPicPr>
            <p:blipFill>
              <a:blip r:embed="rId18"/>
              <a:stretch/>
            </p:blipFill>
            <p:spPr>
              <a:xfrm>
                <a:off x="1703160" y="5148360"/>
                <a:ext cx="1067040" cy="228600"/>
              </a:xfrm>
              <a:prstGeom prst="rect">
                <a:avLst/>
              </a:prstGeom>
              <a:ln w="0">
                <a:noFill/>
              </a:ln>
            </p:spPr>
          </p:pic>
          <p:pic>
            <p:nvPicPr>
              <p:cNvPr id="543" name="Picture 38" descr=""/>
              <p:cNvPicPr/>
              <p:nvPr/>
            </p:nvPicPr>
            <p:blipFill>
              <a:blip r:embed="rId19"/>
              <a:stretch/>
            </p:blipFill>
            <p:spPr>
              <a:xfrm>
                <a:off x="407880" y="5452920"/>
                <a:ext cx="990720" cy="228600"/>
              </a:xfrm>
              <a:prstGeom prst="rect">
                <a:avLst/>
              </a:prstGeom>
              <a:ln w="0">
                <a:noFill/>
              </a:ln>
            </p:spPr>
          </p:pic>
          <p:sp>
            <p:nvSpPr>
              <p:cNvPr id="544" name="Text Box 39"/>
              <p:cNvSpPr/>
              <p:nvPr/>
            </p:nvSpPr>
            <p:spPr>
              <a:xfrm>
                <a:off x="703080" y="40053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ookmarking</a:t>
                </a:r>
                <a:endParaRPr b="0" lang="en-US" sz="1800" spc="-1" strike="noStrike">
                  <a:solidFill>
                    <a:srgbClr val="336666"/>
                  </a:solidFill>
                  <a:latin typeface="Arial"/>
                </a:endParaRPr>
              </a:p>
            </p:txBody>
          </p:sp>
          <p:pic>
            <p:nvPicPr>
              <p:cNvPr id="545" name="Picture 40" descr=""/>
              <p:cNvPicPr/>
              <p:nvPr/>
            </p:nvPicPr>
            <p:blipFill>
              <a:blip r:embed="rId20"/>
              <a:stretch/>
            </p:blipFill>
            <p:spPr>
              <a:xfrm>
                <a:off x="407880" y="5072040"/>
                <a:ext cx="1143000" cy="228600"/>
              </a:xfrm>
              <a:prstGeom prst="rect">
                <a:avLst/>
              </a:prstGeom>
              <a:ln w="0">
                <a:noFill/>
              </a:ln>
            </p:spPr>
          </p:pic>
          <p:pic>
            <p:nvPicPr>
              <p:cNvPr id="546" name="Picture 41" descr=""/>
              <p:cNvPicPr/>
              <p:nvPr/>
            </p:nvPicPr>
            <p:blipFill>
              <a:blip r:embed="rId21"/>
              <a:stretch/>
            </p:blipFill>
            <p:spPr>
              <a:xfrm>
                <a:off x="1627200" y="5834160"/>
                <a:ext cx="1143000" cy="380880"/>
              </a:xfrm>
              <a:prstGeom prst="rect">
                <a:avLst/>
              </a:prstGeom>
              <a:ln w="0">
                <a:noFill/>
              </a:ln>
            </p:spPr>
          </p:pic>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25FC-F335-4EEC-8EF2-D36493A3850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548" name="Picture 2" descr=""/>
          <p:cNvPicPr/>
          <p:nvPr/>
        </p:nvPicPr>
        <p:blipFill>
          <a:blip r:embed="rId1"/>
          <a:stretch/>
        </p:blipFill>
        <p:spPr>
          <a:xfrm>
            <a:off x="0" y="0"/>
            <a:ext cx="9144000" cy="6858000"/>
          </a:xfrm>
          <a:prstGeom prst="rect">
            <a:avLst/>
          </a:prstGeom>
          <a:ln w="0">
            <a:noFill/>
          </a:ln>
        </p:spPr>
      </p:pic>
      <p:sp>
        <p:nvSpPr>
          <p:cNvPr id="549" name="Oval 3"/>
          <p:cNvSpPr/>
          <p:nvPr/>
        </p:nvSpPr>
        <p:spPr>
          <a:xfrm>
            <a:off x="142920" y="3500280"/>
            <a:ext cx="928800" cy="1214640"/>
          </a:xfrm>
          <a:prstGeom prst="ellipse">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0" name="Rounded Rectangle 4"/>
          <p:cNvSpPr/>
          <p:nvPr/>
        </p:nvSpPr>
        <p:spPr>
          <a:xfrm>
            <a:off x="142920" y="4929120"/>
            <a:ext cx="1143000" cy="857160"/>
          </a:xfrm>
          <a:prstGeom prst="roundRect">
            <a:avLst>
              <a:gd name="adj" fmla="val 16667"/>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549"/>
                                        </p:tgtEl>
                                        <p:attrNameLst>
                                          <p:attrName>style.visibility</p:attrName>
                                        </p:attrNameLst>
                                      </p:cBhvr>
                                      <p:to>
                                        <p:strVal val="visible"/>
                                      </p:to>
                                    </p:set>
                                    <p:animEffect filter="box(in)" transition="in">
                                      <p:cBhvr additive="repl">
                                        <p:cTn id="98" dur="500"/>
                                        <p:tgtEl>
                                          <p:spTgt spid="54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550"/>
                                        </p:tgtEl>
                                        <p:attrNameLst>
                                          <p:attrName>style.visibility</p:attrName>
                                        </p:attrNameLst>
                                      </p:cBhvr>
                                      <p:to>
                                        <p:strVal val="visible"/>
                                      </p:to>
                                    </p:set>
                                    <p:animEffect filter="box(in)" transition="in">
                                      <p:cBhvr additive="repl">
                                        <p:cTn id="103"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62AA-8943-4C7A-97DE-0AAEE921FE48}"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roduction</a:t>
            </a:r>
            <a:endParaRPr b="0" lang="en-US" sz="4200" spc="-1" strike="noStrike">
              <a:solidFill>
                <a:srgbClr val="000000"/>
              </a:solidFill>
              <a:latin typeface="Arial"/>
            </a:endParaRPr>
          </a:p>
        </p:txBody>
      </p:sp>
      <p:sp>
        <p:nvSpPr>
          <p:cNvPr id="14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Ls contain a variety of materials, technologies, services and standard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eb itself, LIS centres as well as database providers and vendors are all examples of information services that can play a role in DLs </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library architectures provide a view of the underlying structures and frameworks on which DLs are built  </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BAEF-E257-4133-A95C-B902C9F6338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552" name="Picture 2" descr=""/>
          <p:cNvPicPr/>
          <p:nvPr/>
        </p:nvPicPr>
        <p:blipFill>
          <a:blip r:embed="rId1"/>
          <a:stretch/>
        </p:blipFill>
        <p:spPr>
          <a:xfrm>
            <a:off x="0" y="71280"/>
            <a:ext cx="9144000" cy="6786720"/>
          </a:xfrm>
          <a:prstGeom prst="rect">
            <a:avLst/>
          </a:prstGeom>
          <a:ln w="0">
            <a:noFill/>
          </a:ln>
        </p:spPr>
      </p:pic>
      <p:sp>
        <p:nvSpPr>
          <p:cNvPr id="553" name="Rounded Rectangle 4"/>
          <p:cNvSpPr/>
          <p:nvPr/>
        </p:nvSpPr>
        <p:spPr>
          <a:xfrm>
            <a:off x="142920" y="4572000"/>
            <a:ext cx="2500200" cy="1143000"/>
          </a:xfrm>
          <a:prstGeom prst="roundRect">
            <a:avLst>
              <a:gd name="adj" fmla="val 16667"/>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553"/>
                                        </p:tgtEl>
                                        <p:attrNameLst>
                                          <p:attrName>style.visibility</p:attrName>
                                        </p:attrNameLst>
                                      </p:cBhvr>
                                      <p:to>
                                        <p:strVal val="visible"/>
                                      </p:to>
                                    </p:set>
                                    <p:animEffect filter="diamond(in)" transition="in">
                                      <p:cBhvr additive="repl">
                                        <p:cTn id="110"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0468-FB0B-48E5-946D-7497BE61A8C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555" name="Picture 2" descr=""/>
          <p:cNvPicPr/>
          <p:nvPr/>
        </p:nvPicPr>
        <p:blipFill>
          <a:blip r:embed="rId1"/>
          <a:stretch/>
        </p:blipFill>
        <p:spPr>
          <a:xfrm>
            <a:off x="0" y="0"/>
            <a:ext cx="9715680" cy="6858000"/>
          </a:xfrm>
          <a:prstGeom prst="rect">
            <a:avLst/>
          </a:prstGeom>
          <a:ln w="0">
            <a:noFill/>
          </a:ln>
        </p:spPr>
      </p:pic>
      <p:sp>
        <p:nvSpPr>
          <p:cNvPr id="556" name="Oval 3"/>
          <p:cNvSpPr/>
          <p:nvPr/>
        </p:nvSpPr>
        <p:spPr>
          <a:xfrm>
            <a:off x="1571760" y="1428840"/>
            <a:ext cx="2071440" cy="35712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56"/>
                                        </p:tgtEl>
                                        <p:attrNameLst>
                                          <p:attrName>style.visibility</p:attrName>
                                        </p:attrNameLst>
                                      </p:cBhvr>
                                      <p:to>
                                        <p:strVal val="visible"/>
                                      </p:to>
                                    </p:set>
                                    <p:animEffect filter="blinds(horizontal)" transition="in">
                                      <p:cBhvr additive="repl">
                                        <p:cTn id="11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B888-5265-490F-A04C-8541D9E0FE1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558" name="Picture 2" descr=""/>
          <p:cNvPicPr/>
          <p:nvPr/>
        </p:nvPicPr>
        <p:blipFill>
          <a:blip r:embed="rId1"/>
          <a:stretch/>
        </p:blipFill>
        <p:spPr>
          <a:xfrm>
            <a:off x="0" y="0"/>
            <a:ext cx="9144000" cy="6858000"/>
          </a:xfrm>
          <a:prstGeom prst="rect">
            <a:avLst/>
          </a:prstGeom>
          <a:ln w="0">
            <a:noFill/>
          </a:ln>
        </p:spPr>
      </p:pic>
      <p:sp>
        <p:nvSpPr>
          <p:cNvPr id="559" name="Rounded Rectangle 3"/>
          <p:cNvSpPr/>
          <p:nvPr/>
        </p:nvSpPr>
        <p:spPr>
          <a:xfrm>
            <a:off x="0" y="4500720"/>
            <a:ext cx="9001080" cy="15001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559"/>
                                        </p:tgtEl>
                                        <p:attrNameLst>
                                          <p:attrName>style.visibility</p:attrName>
                                        </p:attrNameLst>
                                      </p:cBhvr>
                                      <p:to>
                                        <p:strVal val="visible"/>
                                      </p:to>
                                    </p:set>
                                    <p:animEffect filter="box(in)" transition="in">
                                      <p:cBhvr additive="repl">
                                        <p:cTn id="124"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D1F5-66FE-4FB4-BB91-08BB447A6B5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561" name="Picture 2" descr=""/>
          <p:cNvPicPr/>
          <p:nvPr/>
        </p:nvPicPr>
        <p:blipFill>
          <a:blip r:embed="rId1"/>
          <a:stretch/>
        </p:blipFill>
        <p:spPr>
          <a:xfrm>
            <a:off x="0" y="0"/>
            <a:ext cx="9144000" cy="6858000"/>
          </a:xfrm>
          <a:prstGeom prst="rect">
            <a:avLst/>
          </a:prstGeom>
          <a:ln w="0">
            <a:noFill/>
          </a:ln>
        </p:spPr>
      </p:pic>
      <p:sp>
        <p:nvSpPr>
          <p:cNvPr id="562" name="Oval 3"/>
          <p:cNvSpPr/>
          <p:nvPr/>
        </p:nvSpPr>
        <p:spPr>
          <a:xfrm>
            <a:off x="6072120" y="2428920"/>
            <a:ext cx="1428840" cy="3857760"/>
          </a:xfrm>
          <a:prstGeom prst="ellipse">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562"/>
                                        </p:tgtEl>
                                        <p:attrNameLst>
                                          <p:attrName>style.visibility</p:attrName>
                                        </p:attrNameLst>
                                      </p:cBhvr>
                                      <p:to>
                                        <p:strVal val="visible"/>
                                      </p:to>
                                    </p:set>
                                    <p:animEffect filter="blinds(horizontal)" transition="in">
                                      <p:cBhvr additive="repl">
                                        <p:cTn id="131"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F771-2123-4C64-BF36-D1D2B23EE84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564" name="Picture 2" descr=""/>
          <p:cNvPicPr/>
          <p:nvPr/>
        </p:nvPicPr>
        <p:blipFill>
          <a:blip r:embed="rId1"/>
          <a:stretch/>
        </p:blipFill>
        <p:spPr>
          <a:xfrm>
            <a:off x="0" y="0"/>
            <a:ext cx="9144000" cy="6858000"/>
          </a:xfrm>
          <a:prstGeom prst="rect">
            <a:avLst/>
          </a:prstGeom>
          <a:ln w="0">
            <a:noFill/>
          </a:ln>
        </p:spPr>
      </p:pic>
      <p:sp>
        <p:nvSpPr>
          <p:cNvPr id="565" name="Rounded Rectangle 3"/>
          <p:cNvSpPr/>
          <p:nvPr/>
        </p:nvSpPr>
        <p:spPr>
          <a:xfrm>
            <a:off x="6643800" y="2071800"/>
            <a:ext cx="2071440" cy="1785960"/>
          </a:xfrm>
          <a:prstGeom prst="roundRect">
            <a:avLst>
              <a:gd name="adj" fmla="val 16667"/>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565"/>
                                        </p:tgtEl>
                                        <p:attrNameLst>
                                          <p:attrName>style.visibility</p:attrName>
                                        </p:attrNameLst>
                                      </p:cBhvr>
                                      <p:to>
                                        <p:strVal val="visible"/>
                                      </p:to>
                                    </p:set>
                                    <p:animEffect filter="diamond(in)" transition="in">
                                      <p:cBhvr additive="repl">
                                        <p:cTn id="138" dur="2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AFB8-7B40-4B9D-AFB9-2E8DC4424AE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567" name="Picture 2" descr=""/>
          <p:cNvPicPr/>
          <p:nvPr/>
        </p:nvPicPr>
        <p:blipFill>
          <a:blip r:embed="rId1"/>
          <a:stretch/>
        </p:blipFill>
        <p:spPr>
          <a:xfrm>
            <a:off x="0" y="0"/>
            <a:ext cx="9286920" cy="6858000"/>
          </a:xfrm>
          <a:prstGeom prst="rect">
            <a:avLst/>
          </a:prstGeom>
          <a:ln w="0">
            <a:noFill/>
          </a:ln>
        </p:spPr>
      </p:pic>
      <p:sp>
        <p:nvSpPr>
          <p:cNvPr id="568" name="Rounded Rectangle 3"/>
          <p:cNvSpPr/>
          <p:nvPr/>
        </p:nvSpPr>
        <p:spPr>
          <a:xfrm>
            <a:off x="785880" y="5786280"/>
            <a:ext cx="7786800" cy="500400"/>
          </a:xfrm>
          <a:prstGeom prst="roundRect">
            <a:avLst>
              <a:gd name="adj" fmla="val 16667"/>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69" name="TextBox 4"/>
          <p:cNvSpPr/>
          <p:nvPr/>
        </p:nvSpPr>
        <p:spPr>
          <a:xfrm>
            <a:off x="6840" y="5000760"/>
            <a:ext cx="95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itation</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linking</a:t>
            </a:r>
            <a:endParaRPr b="0" lang="en-US" sz="1800" spc="-1" strike="noStrike">
              <a:solidFill>
                <a:srgbClr val="336666"/>
              </a:solidFill>
              <a:latin typeface="Arial"/>
            </a:endParaRPr>
          </a:p>
        </p:txBody>
      </p:sp>
      <p:cxnSp>
        <p:nvCxnSpPr>
          <p:cNvPr id="570" name="Straight Arrow Connector 6"/>
          <p:cNvCxnSpPr>
            <a:stCxn id="569" idx="2"/>
          </p:cNvCxnSpPr>
          <p:nvPr/>
        </p:nvCxnSpPr>
        <p:spPr>
          <a:xfrm>
            <a:off x="483120" y="5646240"/>
            <a:ext cx="230760" cy="212040"/>
          </a:xfrm>
          <a:prstGeom prst="straightConnector1">
            <a:avLst/>
          </a:prstGeom>
          <a:ln w="9360">
            <a:solidFill>
              <a:srgbClr val="94c9c9"/>
            </a:solidFill>
            <a:miter/>
            <a:tailEnd len="med" type="triangle" w="med"/>
          </a:ln>
        </p:spPr>
      </p:cxn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569"/>
                                        </p:tgtEl>
                                        <p:attrNameLst>
                                          <p:attrName>style.visibility</p:attrName>
                                        </p:attrNameLst>
                                      </p:cBhvr>
                                      <p:to>
                                        <p:strVal val="visible"/>
                                      </p:to>
                                    </p:set>
                                    <p:animEffect filter="box(in)" transition="in">
                                      <p:cBhvr additive="repl">
                                        <p:cTn id="145" dur="500"/>
                                        <p:tgtEl>
                                          <p:spTgt spid="569"/>
                                        </p:tgtEl>
                                      </p:cBhvr>
                                    </p:animEffect>
                                  </p:childTnLst>
                                </p:cTn>
                              </p:par>
                              <p:par>
                                <p:cTn id="146" nodeType="withEffect" fill="hold" presetClass="entr" presetID="4" presetSubtype="16">
                                  <p:stCondLst>
                                    <p:cond delay="0"/>
                                  </p:stCondLst>
                                  <p:childTnLst>
                                    <p:set>
                                      <p:cBhvr>
                                        <p:cTn id="147" dur="1" fill="hold">
                                          <p:stCondLst>
                                            <p:cond delay="0"/>
                                          </p:stCondLst>
                                        </p:cTn>
                                        <p:tgtEl>
                                          <p:spTgt spid="568"/>
                                        </p:tgtEl>
                                        <p:attrNameLst>
                                          <p:attrName>style.visibility</p:attrName>
                                        </p:attrNameLst>
                                      </p:cBhvr>
                                      <p:to>
                                        <p:strVal val="visible"/>
                                      </p:to>
                                    </p:set>
                                    <p:animEffect filter="box(in)" transition="in">
                                      <p:cBhvr additive="repl">
                                        <p:cTn id="148" dur="500"/>
                                        <p:tgtEl>
                                          <p:spTgt spid="568"/>
                                        </p:tgtEl>
                                      </p:cBhvr>
                                    </p:animEffect>
                                  </p:childTnLst>
                                </p:cTn>
                              </p:par>
                              <p:par>
                                <p:cTn id="149" nodeType="withEffect" fill="hold" presetClass="entr" presetID="4" presetSubtype="16">
                                  <p:stCondLst>
                                    <p:cond delay="0"/>
                                  </p:stCondLst>
                                  <p:childTnLst>
                                    <p:set>
                                      <p:cBhvr>
                                        <p:cTn id="150" dur="1" fill="hold">
                                          <p:stCondLst>
                                            <p:cond delay="0"/>
                                          </p:stCondLst>
                                        </p:cTn>
                                        <p:tgtEl>
                                          <p:spTgt spid="570"/>
                                        </p:tgtEl>
                                        <p:attrNameLst>
                                          <p:attrName>style.visibility</p:attrName>
                                        </p:attrNameLst>
                                      </p:cBhvr>
                                      <p:to>
                                        <p:strVal val="visible"/>
                                      </p:to>
                                    </p:set>
                                    <p:animEffect filter="box(in)" transition="in">
                                      <p:cBhvr additive="repl">
                                        <p:cTn id="151"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7018-C059-4190-A2AB-4E965F54626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572" name="Picture 2" descr=""/>
          <p:cNvPicPr/>
          <p:nvPr/>
        </p:nvPicPr>
        <p:blipFill>
          <a:blip r:embed="rId1"/>
          <a:stretch/>
        </p:blipFill>
        <p:spPr>
          <a:xfrm>
            <a:off x="0" y="0"/>
            <a:ext cx="9144000" cy="6858000"/>
          </a:xfrm>
          <a:prstGeom prst="rect">
            <a:avLst/>
          </a:prstGeom>
          <a:ln w="0">
            <a:noFill/>
          </a:ln>
        </p:spPr>
      </p:pic>
      <p:sp>
        <p:nvSpPr>
          <p:cNvPr id="573" name="Oval 3"/>
          <p:cNvSpPr/>
          <p:nvPr/>
        </p:nvSpPr>
        <p:spPr>
          <a:xfrm>
            <a:off x="714240" y="1714680"/>
            <a:ext cx="1143000" cy="285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TextBox 4"/>
          <p:cNvSpPr/>
          <p:nvPr/>
        </p:nvSpPr>
        <p:spPr>
          <a:xfrm>
            <a:off x="4298760" y="2071800"/>
            <a:ext cx="22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Get it! Citation linker</a:t>
            </a:r>
            <a:endParaRPr b="0" lang="en-US" sz="1800" spc="-1" strike="noStrike">
              <a:solidFill>
                <a:srgbClr val="336666"/>
              </a:solidFill>
              <a:latin typeface="Arial"/>
            </a:endParaRPr>
          </a:p>
        </p:txBody>
      </p:sp>
      <p:cxnSp>
        <p:nvCxnSpPr>
          <p:cNvPr id="575" name="Straight Arrow Connector 6"/>
          <p:cNvCxnSpPr>
            <a:stCxn id="574" idx="1"/>
          </p:cNvCxnSpPr>
          <p:nvPr/>
        </p:nvCxnSpPr>
        <p:spPr>
          <a:xfrm flipH="1" flipV="1">
            <a:off x="1928520" y="1928520"/>
            <a:ext cx="2358000" cy="327600"/>
          </a:xfrm>
          <a:prstGeom prst="straightConnector1">
            <a:avLst/>
          </a:prstGeom>
          <a:ln w="9360">
            <a:solidFill>
              <a:srgbClr val="94c9c9"/>
            </a:solidFill>
            <a:miter/>
            <a:tailEnd len="med" type="triangle" w="med"/>
          </a:ln>
        </p:spPr>
      </p:cxn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573"/>
                                        </p:tgtEl>
                                        <p:attrNameLst>
                                          <p:attrName>style.visibility</p:attrName>
                                        </p:attrNameLst>
                                      </p:cBhvr>
                                      <p:to>
                                        <p:strVal val="visible"/>
                                      </p:to>
                                    </p:set>
                                    <p:animEffect filter="box(in)" transition="in">
                                      <p:cBhvr additive="repl">
                                        <p:cTn id="158" dur="500"/>
                                        <p:tgtEl>
                                          <p:spTgt spid="573"/>
                                        </p:tgtEl>
                                      </p:cBhvr>
                                    </p:animEffect>
                                  </p:childTnLst>
                                </p:cTn>
                              </p:par>
                              <p:par>
                                <p:cTn id="159" nodeType="withEffect" fill="hold" presetClass="entr" presetID="4" presetSubtype="16">
                                  <p:stCondLst>
                                    <p:cond delay="0"/>
                                  </p:stCondLst>
                                  <p:childTnLst>
                                    <p:set>
                                      <p:cBhvr>
                                        <p:cTn id="160" dur="1" fill="hold">
                                          <p:stCondLst>
                                            <p:cond delay="0"/>
                                          </p:stCondLst>
                                        </p:cTn>
                                        <p:tgtEl>
                                          <p:spTgt spid="575"/>
                                        </p:tgtEl>
                                        <p:attrNameLst>
                                          <p:attrName>style.visibility</p:attrName>
                                        </p:attrNameLst>
                                      </p:cBhvr>
                                      <p:to>
                                        <p:strVal val="visible"/>
                                      </p:to>
                                    </p:set>
                                    <p:animEffect filter="box(in)" transition="in">
                                      <p:cBhvr additive="repl">
                                        <p:cTn id="161" dur="500"/>
                                        <p:tgtEl>
                                          <p:spTgt spid="575"/>
                                        </p:tgtEl>
                                      </p:cBhvr>
                                    </p:animEffect>
                                  </p:childTnLst>
                                </p:cTn>
                              </p:par>
                              <p:par>
                                <p:cTn id="162" nodeType="withEffect" fill="hold" presetClass="entr" presetID="4" presetSubtype="16">
                                  <p:stCondLst>
                                    <p:cond delay="0"/>
                                  </p:stCondLst>
                                  <p:childTnLst>
                                    <p:set>
                                      <p:cBhvr>
                                        <p:cTn id="163" dur="1" fill="hold">
                                          <p:stCondLst>
                                            <p:cond delay="0"/>
                                          </p:stCondLst>
                                        </p:cTn>
                                        <p:tgtEl>
                                          <p:spTgt spid="574"/>
                                        </p:tgtEl>
                                        <p:attrNameLst>
                                          <p:attrName>style.visibility</p:attrName>
                                        </p:attrNameLst>
                                      </p:cBhvr>
                                      <p:to>
                                        <p:strVal val="visible"/>
                                      </p:to>
                                    </p:set>
                                    <p:animEffect filter="box(in)" transition="in">
                                      <p:cBhvr additive="repl">
                                        <p:cTn id="164"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960D-6E84-46E3-B9C1-67569CD56F9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577" name="Picture 2" descr=""/>
          <p:cNvPicPr/>
          <p:nvPr/>
        </p:nvPicPr>
        <p:blipFill>
          <a:blip r:embed="rId1"/>
          <a:stretch/>
        </p:blipFill>
        <p:spPr>
          <a:xfrm>
            <a:off x="0" y="0"/>
            <a:ext cx="9144000" cy="6858000"/>
          </a:xfrm>
          <a:prstGeom prst="rect">
            <a:avLst/>
          </a:prstGeom>
          <a:ln w="0">
            <a:noFill/>
          </a:ln>
        </p:spPr>
      </p:pic>
      <p:sp>
        <p:nvSpPr>
          <p:cNvPr id="578" name="Oval 3"/>
          <p:cNvSpPr/>
          <p:nvPr/>
        </p:nvSpPr>
        <p:spPr>
          <a:xfrm>
            <a:off x="285840" y="2786040"/>
            <a:ext cx="4143240" cy="285840"/>
          </a:xfrm>
          <a:prstGeom prst="ellipse">
            <a:avLst/>
          </a:prstGeom>
          <a:noFill/>
          <a:ln w="25560">
            <a:solidFill>
              <a:srgbClr val="6f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578"/>
                                        </p:tgtEl>
                                        <p:attrNameLst>
                                          <p:attrName>style.visibility</p:attrName>
                                        </p:attrNameLst>
                                      </p:cBhvr>
                                      <p:to>
                                        <p:strVal val="visible"/>
                                      </p:to>
                                    </p:set>
                                    <p:animEffect filter="blinds(horizontal)" transition="in">
                                      <p:cBhvr additive="repl">
                                        <p:cTn id="171"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9A86-58ED-4B20-A676-92F6FACF0637}"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58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s</a:t>
            </a:r>
            <a:endParaRPr b="0" lang="en-US" sz="4200" spc="-1" strike="noStrike">
              <a:solidFill>
                <a:srgbClr val="000000"/>
              </a:solidFill>
              <a:latin typeface="Arial"/>
            </a:endParaRPr>
          </a:p>
        </p:txBody>
      </p:sp>
      <p:sp>
        <p:nvSpPr>
          <p:cNvPr id="581" name="PlaceHolder 2"/>
          <p:cNvSpPr>
            <a:spLocks noGrp="1"/>
          </p:cNvSpPr>
          <p:nvPr>
            <p:ph/>
          </p:nvPr>
        </p:nvSpPr>
        <p:spPr>
          <a:xfrm>
            <a:off x="1523880" y="1905120"/>
            <a:ext cx="7010640" cy="4114800"/>
          </a:xfrm>
          <a:prstGeom prst="rect">
            <a:avLst/>
          </a:prstGeom>
          <a:noFill/>
          <a:ln w="0">
            <a:noFill/>
          </a:ln>
        </p:spPr>
        <p:txBody>
          <a:bodyPr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reenstone</a:t>
            </a:r>
            <a:r>
              <a:rPr b="0" lang="en-US" sz="1900" spc="-1" strike="noStrike">
                <a:solidFill>
                  <a:srgbClr val="000000"/>
                </a:solidFill>
                <a:latin typeface="Arial"/>
              </a:rPr>
              <a:t>: http://www.greenstone.org/examples </a:t>
            </a:r>
            <a:endParaRPr b="0" lang="en-US" sz="1900" spc="-1" strike="noStrike">
              <a:solidFill>
                <a:srgbClr val="000000"/>
              </a:solidFill>
              <a:latin typeface="Arial"/>
            </a:endParaRPr>
          </a:p>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dora</a:t>
            </a:r>
            <a:r>
              <a:rPr b="0" lang="en-US" sz="1900" spc="-1" strike="noStrike">
                <a:solidFill>
                  <a:srgbClr val="000000"/>
                </a:solidFill>
                <a:latin typeface="Arial"/>
              </a:rPr>
              <a:t>: </a:t>
            </a:r>
            <a:endParaRPr b="0" lang="en-US" sz="19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fts University: http://dl.tufts.edu/</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Viginia: http://www.lib.virginia.edu/digital/collections/</a:t>
            </a:r>
            <a:endParaRPr b="0" lang="en-US" sz="1800" spc="-1" strike="noStrike">
              <a:solidFill>
                <a:srgbClr val="000000"/>
              </a:solidFill>
              <a:latin typeface="Arial"/>
            </a:endParaRPr>
          </a:p>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Space</a:t>
            </a:r>
            <a:endParaRPr b="0" lang="en-US" sz="19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of A: http://repository.library.ualberta.ca/dspace/index.jsp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of Wolverhampton(UK) : http://wlv.openrepository.com/wlv/</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en’s University: https://qspace.library.queensu.ca</a:t>
            </a:r>
            <a:endParaRPr b="0" lang="en-US" sz="1800" spc="-1" strike="noStrike">
              <a:solidFill>
                <a:srgbClr val="000000"/>
              </a:solidFill>
              <a:latin typeface="Arial"/>
            </a:endParaRPr>
          </a:p>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Prints</a:t>
            </a:r>
            <a:r>
              <a:rPr b="0" lang="en-US" sz="1900" spc="-1" strike="noStrike">
                <a:solidFill>
                  <a:srgbClr val="000000"/>
                </a:solidFill>
                <a:latin typeface="Arial"/>
              </a:rPr>
              <a:t> </a:t>
            </a:r>
            <a:endParaRPr b="0" lang="en-US" sz="19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ish Library: http://sherpa.bl.uk/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S: http://eprints.rclis.org/</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Theory of Psychology: http://htpprints.yorku.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4" name="PlaceHolder 1"/>
          <p:cNvSpPr>
            <a:spLocks noGrp="1"/>
          </p:cNvSpPr>
          <p:nvPr>
            <p:ph type="title"/>
          </p:nvPr>
        </p:nvSpPr>
        <p:spPr>
          <a:xfrm>
            <a:off x="152280" y="2133360"/>
            <a:ext cx="87631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gital Libraries</a:t>
            </a:r>
            <a:br>
              <a:rPr sz="5400"/>
            </a:br>
            <a:r>
              <a:rPr b="0" lang="en-US" sz="5400" spc="-1" strike="noStrike">
                <a:solidFill>
                  <a:srgbClr val="000000"/>
                </a:solidFill>
                <a:latin typeface="Arial"/>
              </a:rPr>
              <a:t>In a Nutshell</a:t>
            </a:r>
            <a:endParaRPr b="0" lang="en-US" sz="5400" spc="-1" strike="noStrike">
              <a:solidFill>
                <a:srgbClr val="000000"/>
              </a:solidFill>
              <a:latin typeface="Arial"/>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4331-DC65-4D46-A6E9-9D697B2DFCE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51" name="Rectangle 2"/>
          <p:cNvSpPr/>
          <p:nvPr/>
        </p:nvSpPr>
        <p:spPr>
          <a:xfrm>
            <a:off x="1332000" y="1125360"/>
            <a:ext cx="1152360" cy="5763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journals</a:t>
            </a:r>
            <a:endParaRPr b="0" lang="en-US" sz="2000" spc="-1" strike="noStrike">
              <a:solidFill>
                <a:srgbClr val="336666"/>
              </a:solidFill>
              <a:latin typeface="Arial"/>
            </a:endParaRPr>
          </a:p>
        </p:txBody>
      </p:sp>
      <p:sp>
        <p:nvSpPr>
          <p:cNvPr id="152" name="Rectangle 3"/>
          <p:cNvSpPr/>
          <p:nvPr/>
        </p:nvSpPr>
        <p:spPr>
          <a:xfrm>
            <a:off x="3059280" y="1125360"/>
            <a:ext cx="1152360" cy="5763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Onlin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databases</a:t>
            </a:r>
            <a:endParaRPr b="0" lang="en-US" sz="1800" spc="-1" strike="noStrike">
              <a:solidFill>
                <a:srgbClr val="336666"/>
              </a:solidFill>
              <a:latin typeface="Arial"/>
            </a:endParaRPr>
          </a:p>
        </p:txBody>
      </p:sp>
      <p:sp>
        <p:nvSpPr>
          <p:cNvPr id="153" name="Rectangle 4"/>
          <p:cNvSpPr/>
          <p:nvPr/>
        </p:nvSpPr>
        <p:spPr>
          <a:xfrm>
            <a:off x="4500720" y="1125360"/>
            <a:ext cx="1295280" cy="5763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rPr>
              <a:t>Remote digital</a:t>
            </a:r>
            <a:endParaRPr b="0" lang="en-US" sz="16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rPr>
              <a:t>libraries</a:t>
            </a:r>
            <a:endParaRPr b="0" lang="en-US" sz="1600" spc="-1" strike="noStrike">
              <a:solidFill>
                <a:srgbClr val="336666"/>
              </a:solidFill>
              <a:latin typeface="Arial"/>
            </a:endParaRPr>
          </a:p>
        </p:txBody>
      </p:sp>
      <p:sp>
        <p:nvSpPr>
          <p:cNvPr id="154" name="Rectangle 5"/>
          <p:cNvSpPr/>
          <p:nvPr/>
        </p:nvSpPr>
        <p:spPr>
          <a:xfrm>
            <a:off x="6300720" y="1125360"/>
            <a:ext cx="1152720" cy="5763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WWW</a:t>
            </a:r>
            <a:endParaRPr b="0" lang="en-US" sz="2400" spc="-1" strike="noStrike">
              <a:solidFill>
                <a:srgbClr val="336666"/>
              </a:solidFill>
              <a:latin typeface="Arial"/>
            </a:endParaRPr>
          </a:p>
        </p:txBody>
      </p:sp>
      <p:sp>
        <p:nvSpPr>
          <p:cNvPr id="155" name="Oval 6"/>
          <p:cNvSpPr/>
          <p:nvPr/>
        </p:nvSpPr>
        <p:spPr>
          <a:xfrm>
            <a:off x="1116000" y="2060640"/>
            <a:ext cx="1440000" cy="6476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Search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interfaces</a:t>
            </a:r>
            <a:endParaRPr b="0" lang="en-US" sz="1800" spc="-1" strike="noStrike">
              <a:solidFill>
                <a:srgbClr val="336666"/>
              </a:solidFill>
              <a:latin typeface="Arial"/>
            </a:endParaRPr>
          </a:p>
        </p:txBody>
      </p:sp>
      <p:sp>
        <p:nvSpPr>
          <p:cNvPr id="156" name="Oval 7"/>
          <p:cNvSpPr/>
          <p:nvPr/>
        </p:nvSpPr>
        <p:spPr>
          <a:xfrm>
            <a:off x="2843280" y="2060640"/>
            <a:ext cx="1439640" cy="6476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Search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interfaces</a:t>
            </a:r>
            <a:endParaRPr b="0" lang="en-US" sz="1800" spc="-1" strike="noStrike">
              <a:solidFill>
                <a:srgbClr val="336666"/>
              </a:solidFill>
              <a:latin typeface="Arial"/>
            </a:endParaRPr>
          </a:p>
        </p:txBody>
      </p:sp>
      <p:sp>
        <p:nvSpPr>
          <p:cNvPr id="157" name="Oval 8"/>
          <p:cNvSpPr/>
          <p:nvPr/>
        </p:nvSpPr>
        <p:spPr>
          <a:xfrm>
            <a:off x="4500720" y="2060640"/>
            <a:ext cx="1439640" cy="6476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Search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interfaces</a:t>
            </a:r>
            <a:endParaRPr b="0" lang="en-US" sz="1800" spc="-1" strike="noStrike">
              <a:solidFill>
                <a:srgbClr val="336666"/>
              </a:solidFill>
              <a:latin typeface="Arial"/>
            </a:endParaRPr>
          </a:p>
        </p:txBody>
      </p:sp>
      <p:sp>
        <p:nvSpPr>
          <p:cNvPr id="158" name="Oval 9"/>
          <p:cNvSpPr/>
          <p:nvPr/>
        </p:nvSpPr>
        <p:spPr>
          <a:xfrm>
            <a:off x="6227640" y="2060640"/>
            <a:ext cx="1584360" cy="6476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rPr>
              <a:t>Search engines&amp;</a:t>
            </a:r>
            <a:endParaRPr b="0" lang="en-US" sz="16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Times New Roman"/>
              </a:rPr>
              <a:t>directories</a:t>
            </a:r>
            <a:endParaRPr b="0" lang="en-US" sz="1600" spc="-1" strike="noStrike">
              <a:solidFill>
                <a:srgbClr val="336666"/>
              </a:solidFill>
              <a:latin typeface="Arial"/>
            </a:endParaRPr>
          </a:p>
        </p:txBody>
      </p:sp>
      <p:sp>
        <p:nvSpPr>
          <p:cNvPr id="159" name="Oval 10"/>
          <p:cNvSpPr/>
          <p:nvPr/>
        </p:nvSpPr>
        <p:spPr>
          <a:xfrm>
            <a:off x="2050920" y="4005360"/>
            <a:ext cx="1440000" cy="6476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OPACs</a:t>
            </a:r>
            <a:endParaRPr b="0" lang="en-US" sz="2400" spc="-1" strike="noStrike">
              <a:solidFill>
                <a:srgbClr val="336666"/>
              </a:solidFill>
              <a:latin typeface="Arial"/>
            </a:endParaRPr>
          </a:p>
        </p:txBody>
      </p:sp>
      <p:sp>
        <p:nvSpPr>
          <p:cNvPr id="160" name="Oval 11"/>
          <p:cNvSpPr/>
          <p:nvPr/>
        </p:nvSpPr>
        <p:spPr>
          <a:xfrm>
            <a:off x="5435640" y="4005360"/>
            <a:ext cx="1440000" cy="6476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Search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interface</a:t>
            </a:r>
            <a:endParaRPr b="0" lang="en-US" sz="1800" spc="-1" strike="noStrike">
              <a:solidFill>
                <a:srgbClr val="336666"/>
              </a:solidFill>
              <a:latin typeface="Arial"/>
            </a:endParaRPr>
          </a:p>
        </p:txBody>
      </p:sp>
      <p:sp>
        <p:nvSpPr>
          <p:cNvPr id="161" name="Oval 12"/>
          <p:cNvSpPr/>
          <p:nvPr/>
        </p:nvSpPr>
        <p:spPr>
          <a:xfrm>
            <a:off x="3203640" y="4797360"/>
            <a:ext cx="2663640" cy="647640"/>
          </a:xfrm>
          <a:prstGeom prst="ellipse">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Digital library interface</a:t>
            </a:r>
            <a:endParaRPr b="0" lang="en-US" sz="2000" spc="-1" strike="noStrike">
              <a:solidFill>
                <a:srgbClr val="336666"/>
              </a:solidFill>
              <a:latin typeface="Arial"/>
            </a:endParaRPr>
          </a:p>
        </p:txBody>
      </p:sp>
      <p:sp>
        <p:nvSpPr>
          <p:cNvPr id="162" name="Rectangle 13"/>
          <p:cNvSpPr/>
          <p:nvPr/>
        </p:nvSpPr>
        <p:spPr>
          <a:xfrm>
            <a:off x="3924360" y="5805360"/>
            <a:ext cx="1152360" cy="5763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Users</a:t>
            </a:r>
            <a:endParaRPr b="0" lang="en-US" sz="2400" spc="-1" strike="noStrike">
              <a:solidFill>
                <a:srgbClr val="336666"/>
              </a:solidFill>
              <a:latin typeface="Arial"/>
            </a:endParaRPr>
          </a:p>
        </p:txBody>
      </p:sp>
      <p:sp>
        <p:nvSpPr>
          <p:cNvPr id="163" name="Rectangle 14"/>
          <p:cNvSpPr/>
          <p:nvPr/>
        </p:nvSpPr>
        <p:spPr>
          <a:xfrm>
            <a:off x="6372360" y="3068640"/>
            <a:ext cx="1295280" cy="5763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Local digital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Times New Roman"/>
              </a:rPr>
              <a:t>library</a:t>
            </a:r>
            <a:endParaRPr b="0" lang="en-US" sz="1800" spc="-1" strike="noStrike">
              <a:solidFill>
                <a:srgbClr val="336666"/>
              </a:solidFill>
              <a:latin typeface="Arial"/>
            </a:endParaRPr>
          </a:p>
        </p:txBody>
      </p:sp>
      <p:sp>
        <p:nvSpPr>
          <p:cNvPr id="164" name="Rectangle 15"/>
          <p:cNvSpPr/>
          <p:nvPr/>
        </p:nvSpPr>
        <p:spPr>
          <a:xfrm>
            <a:off x="1258920" y="3068640"/>
            <a:ext cx="1152360" cy="576360"/>
          </a:xfrm>
          <a:prstGeom prst="rect">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Libra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s</a:t>
            </a:r>
            <a:endParaRPr b="0" lang="en-US" sz="2000" spc="-1" strike="noStrike">
              <a:solidFill>
                <a:srgbClr val="336666"/>
              </a:solidFill>
              <a:latin typeface="Arial"/>
            </a:endParaRPr>
          </a:p>
        </p:txBody>
      </p:sp>
      <p:sp>
        <p:nvSpPr>
          <p:cNvPr id="165" name="Line 16"/>
          <p:cNvSpPr/>
          <p:nvPr/>
        </p:nvSpPr>
        <p:spPr>
          <a:xfrm>
            <a:off x="1835280" y="1700280"/>
            <a:ext cx="0" cy="36036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Line 17"/>
          <p:cNvSpPr/>
          <p:nvPr/>
        </p:nvSpPr>
        <p:spPr>
          <a:xfrm>
            <a:off x="6877080" y="1700280"/>
            <a:ext cx="0" cy="36036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Line 18"/>
          <p:cNvSpPr/>
          <p:nvPr/>
        </p:nvSpPr>
        <p:spPr>
          <a:xfrm>
            <a:off x="5219640" y="1700280"/>
            <a:ext cx="0" cy="36036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Line 19"/>
          <p:cNvSpPr/>
          <p:nvPr/>
        </p:nvSpPr>
        <p:spPr>
          <a:xfrm>
            <a:off x="3564000" y="1700280"/>
            <a:ext cx="0" cy="36036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Line 20"/>
          <p:cNvSpPr/>
          <p:nvPr/>
        </p:nvSpPr>
        <p:spPr>
          <a:xfrm flipH="1">
            <a:off x="6587640" y="3645000"/>
            <a:ext cx="505080" cy="43164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Line 21"/>
          <p:cNvSpPr/>
          <p:nvPr/>
        </p:nvSpPr>
        <p:spPr>
          <a:xfrm>
            <a:off x="1835280" y="3645000"/>
            <a:ext cx="720720" cy="36036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Line 22"/>
          <p:cNvSpPr/>
          <p:nvPr/>
        </p:nvSpPr>
        <p:spPr>
          <a:xfrm>
            <a:off x="1835280" y="2708280"/>
            <a:ext cx="0" cy="36036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Line 23"/>
          <p:cNvSpPr/>
          <p:nvPr/>
        </p:nvSpPr>
        <p:spPr>
          <a:xfrm>
            <a:off x="7020000" y="2708280"/>
            <a:ext cx="0" cy="36036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Line 24"/>
          <p:cNvSpPr/>
          <p:nvPr/>
        </p:nvSpPr>
        <p:spPr>
          <a:xfrm>
            <a:off x="2987640" y="4653000"/>
            <a:ext cx="504720" cy="2887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Line 25"/>
          <p:cNvSpPr/>
          <p:nvPr/>
        </p:nvSpPr>
        <p:spPr>
          <a:xfrm flipH="1">
            <a:off x="5508720" y="4653000"/>
            <a:ext cx="358560" cy="2887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Line 26"/>
          <p:cNvSpPr/>
          <p:nvPr/>
        </p:nvSpPr>
        <p:spPr>
          <a:xfrm>
            <a:off x="4500720" y="5445000"/>
            <a:ext cx="0" cy="36036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6" name="Text Box 27"/>
          <p:cNvSpPr/>
          <p:nvPr/>
        </p:nvSpPr>
        <p:spPr>
          <a:xfrm>
            <a:off x="1468080" y="189000"/>
            <a:ext cx="636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Conceptual design of a digital library </a:t>
            </a:r>
            <a:endParaRPr b="0" lang="en-US" sz="3200" spc="-1" strike="noStrike">
              <a:solidFill>
                <a:srgbClr val="336666"/>
              </a:solidFill>
              <a:latin typeface="Arial"/>
            </a:endParaRPr>
          </a:p>
        </p:txBody>
      </p:sp>
      <p:sp>
        <p:nvSpPr>
          <p:cNvPr id="177" name="Text Box 28"/>
          <p:cNvSpPr/>
          <p:nvPr/>
        </p:nvSpPr>
        <p:spPr>
          <a:xfrm>
            <a:off x="5511600" y="6478560"/>
            <a:ext cx="3022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Chowdhury (2002) Introduction to digital libraries…</a:t>
            </a:r>
            <a:endParaRPr b="0" lang="en-US" sz="1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6"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7"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Vision</a:t>
            </a:r>
            <a:endParaRPr b="0" lang="en-US" sz="4200" spc="-1" strike="noStrike">
              <a:solidFill>
                <a:srgbClr val="000000"/>
              </a:solidFill>
              <a:latin typeface="Arial"/>
            </a:endParaRPr>
          </a:p>
        </p:txBody>
      </p:sp>
      <p:sp>
        <p:nvSpPr>
          <p:cNvPr id="58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one, anywhere, will be able to easily locate and use any image, text, database, or other type of digital resource — often in sophisticated ways or in association with other related objects</a:t>
            </a:r>
            <a:endParaRPr b="0" lang="en-US" sz="28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ly requirements: </a:t>
            </a:r>
            <a:endParaRPr b="0" lang="en-US" sz="28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the Internet</a:t>
            </a:r>
            <a:endParaRPr b="0" lang="en-US" sz="24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ation or payment if required</a:t>
            </a:r>
            <a:endParaRPr b="0" lang="en-US" sz="2400" spc="-1" strike="noStrike">
              <a:solidFill>
                <a:srgbClr val="000000"/>
              </a:solidFill>
              <a:latin typeface="Arial"/>
            </a:endParaRPr>
          </a:p>
        </p:txBody>
      </p:sp>
    </p:spTree>
  </p:cSld>
  <p:transition>
    <p:pull dir="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588">
                                            <p:txEl>
                                              <p:pRg st="0" end="0"/>
                                            </p:txEl>
                                          </p:spTgt>
                                        </p:tgtEl>
                                        <p:attrNameLst>
                                          <p:attrName>style.visibility</p:attrName>
                                        </p:attrNameLst>
                                      </p:cBhvr>
                                      <p:to>
                                        <p:strVal val="visible"/>
                                      </p:to>
                                    </p:set>
                                    <p:anim calcmode="lin" valueType="num">
                                      <p:cBhvr additive="base">
                                        <p:cTn id="178" dur="500" fill="hold"/>
                                        <p:tgtEl>
                                          <p:spTgt spid="588">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5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588">
                                            <p:txEl>
                                              <p:pRg st="1" end="1"/>
                                            </p:txEl>
                                          </p:spTgt>
                                        </p:tgtEl>
                                        <p:attrNameLst>
                                          <p:attrName>style.visibility</p:attrName>
                                        </p:attrNameLst>
                                      </p:cBhvr>
                                      <p:to>
                                        <p:strVal val="visible"/>
                                      </p:to>
                                    </p:set>
                                    <p:anim calcmode="lin" valueType="num">
                                      <p:cBhvr additive="base">
                                        <p:cTn id="184" dur="500" fill="hold"/>
                                        <p:tgtEl>
                                          <p:spTgt spid="588">
                                            <p:txEl>
                                              <p:pRg st="1" end="1"/>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588">
                                            <p:txEl>
                                              <p:pRg st="1" end="1"/>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588">
                                            <p:txEl>
                                              <p:pRg st="2" end="2"/>
                                            </p:txEl>
                                          </p:spTgt>
                                        </p:tgtEl>
                                        <p:attrNameLst>
                                          <p:attrName>style.visibility</p:attrName>
                                        </p:attrNameLst>
                                      </p:cBhvr>
                                      <p:to>
                                        <p:strVal val="visible"/>
                                      </p:to>
                                    </p:set>
                                    <p:anim calcmode="lin" valueType="num">
                                      <p:cBhvr additive="base">
                                        <p:cTn id="188" dur="500" fill="hold"/>
                                        <p:tgtEl>
                                          <p:spTgt spid="588">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588">
                                            <p:txEl>
                                              <p:pRg st="2" end="2"/>
                                            </p:txEl>
                                          </p:spTgt>
                                        </p:tgtEl>
                                        <p:attrNameLst>
                                          <p:attrName>ppt_y</p:attrName>
                                        </p:attrNameLst>
                                      </p:cBhvr>
                                      <p:tavLst>
                                        <p:tav tm="0">
                                          <p:val>
                                            <p:strVal val="#ppt_y"/>
                                          </p:val>
                                        </p:tav>
                                        <p:tav tm="100000">
                                          <p:val>
                                            <p:strVal val="#ppt_y"/>
                                          </p:val>
                                        </p:tav>
                                      </p:tavLst>
                                    </p:anim>
                                  </p:childTnLst>
                                </p:cTn>
                              </p:par>
                              <p:par>
                                <p:cTn id="190" nodeType="withEffect" fill="hold" presetClass="entr" presetID="2" presetSubtype="8">
                                  <p:stCondLst>
                                    <p:cond delay="0"/>
                                  </p:stCondLst>
                                  <p:childTnLst>
                                    <p:set>
                                      <p:cBhvr>
                                        <p:cTn id="191" dur="1" fill="hold">
                                          <p:stCondLst>
                                            <p:cond delay="0"/>
                                          </p:stCondLst>
                                        </p:cTn>
                                        <p:tgtEl>
                                          <p:spTgt spid="588">
                                            <p:txEl>
                                              <p:pRg st="3" end="3"/>
                                            </p:txEl>
                                          </p:spTgt>
                                        </p:tgtEl>
                                        <p:attrNameLst>
                                          <p:attrName>style.visibility</p:attrName>
                                        </p:attrNameLst>
                                      </p:cBhvr>
                                      <p:to>
                                        <p:strVal val="visible"/>
                                      </p:to>
                                    </p:set>
                                    <p:anim calcmode="lin" valueType="num">
                                      <p:cBhvr additive="base">
                                        <p:cTn id="192" dur="500" fill="hold"/>
                                        <p:tgtEl>
                                          <p:spTgt spid="588">
                                            <p:txEl>
                                              <p:pRg st="3" end="3"/>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5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1"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efinitions: Part I</a:t>
            </a:r>
            <a:endParaRPr b="0" lang="en-US" sz="4200" spc="-1" strike="noStrike">
              <a:solidFill>
                <a:srgbClr val="000000"/>
              </a:solidFill>
              <a:latin typeface="Arial"/>
            </a:endParaRPr>
          </a:p>
        </p:txBody>
      </p:sp>
      <p:sp>
        <p:nvSpPr>
          <p:cNvPr id="592"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electronic”</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tored and accessed by electronic devices</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digital”</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tored and accessed by computers (an electronic device)</a:t>
            </a:r>
            <a:endParaRPr b="0" lang="en-US" sz="2800" spc="-1" strike="noStrike">
              <a:solidFill>
                <a:srgbClr val="000000"/>
              </a:solidFill>
              <a:latin typeface="Arial"/>
            </a:endParaRPr>
          </a:p>
          <a:p>
            <a:pPr marL="343080" indent="-34308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virtual”</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ssence rather than in actual fact</a:t>
            </a:r>
            <a:endParaRPr b="0" lang="en-US" sz="2800" spc="-1" strike="noStrike">
              <a:solidFill>
                <a:srgbClr val="000000"/>
              </a:solidFill>
              <a:latin typeface="Arial"/>
            </a:endParaRPr>
          </a:p>
        </p:txBody>
      </p:sp>
    </p:spTree>
  </p:cSld>
  <p:transition>
    <p:pull dir="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592">
                                            <p:txEl>
                                              <p:pRg st="0" end="0"/>
                                            </p:txEl>
                                          </p:spTgt>
                                        </p:tgtEl>
                                        <p:attrNameLst>
                                          <p:attrName>style.visibility</p:attrName>
                                        </p:attrNameLst>
                                      </p:cBhvr>
                                      <p:to>
                                        <p:strVal val="visible"/>
                                      </p:to>
                                    </p:set>
                                    <p:anim calcmode="lin" valueType="num">
                                      <p:cBhvr additive="base">
                                        <p:cTn id="200" dur="500" fill="hold"/>
                                        <p:tgtEl>
                                          <p:spTgt spid="592">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92">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592">
                                            <p:txEl>
                                              <p:pRg st="1" end="1"/>
                                            </p:txEl>
                                          </p:spTgt>
                                        </p:tgtEl>
                                        <p:attrNameLst>
                                          <p:attrName>style.visibility</p:attrName>
                                        </p:attrNameLst>
                                      </p:cBhvr>
                                      <p:to>
                                        <p:strVal val="visible"/>
                                      </p:to>
                                    </p:set>
                                    <p:anim calcmode="lin" valueType="num">
                                      <p:cBhvr additive="base">
                                        <p:cTn id="204" dur="500" fill="hold"/>
                                        <p:tgtEl>
                                          <p:spTgt spid="592">
                                            <p:txEl>
                                              <p:pRg st="1" end="1"/>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5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592">
                                            <p:txEl>
                                              <p:pRg st="2" end="2"/>
                                            </p:txEl>
                                          </p:spTgt>
                                        </p:tgtEl>
                                        <p:attrNameLst>
                                          <p:attrName>style.visibility</p:attrName>
                                        </p:attrNameLst>
                                      </p:cBhvr>
                                      <p:to>
                                        <p:strVal val="visible"/>
                                      </p:to>
                                    </p:set>
                                    <p:anim calcmode="lin" valueType="num">
                                      <p:cBhvr additive="base">
                                        <p:cTn id="210" dur="500" fill="hold"/>
                                        <p:tgtEl>
                                          <p:spTgt spid="592">
                                            <p:txEl>
                                              <p:pRg st="2" end="2"/>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92">
                                            <p:txEl>
                                              <p:pRg st="2" end="2"/>
                                            </p:txEl>
                                          </p:spTgt>
                                        </p:tgtEl>
                                        <p:attrNameLst>
                                          <p:attrName>ppt_y</p:attrName>
                                        </p:attrNameLst>
                                      </p:cBhvr>
                                      <p:tavLst>
                                        <p:tav tm="0">
                                          <p:val>
                                            <p:strVal val="#ppt_y"/>
                                          </p:val>
                                        </p:tav>
                                        <p:tav tm="100000">
                                          <p:val>
                                            <p:strVal val="#ppt_y"/>
                                          </p:val>
                                        </p:tav>
                                      </p:tavLst>
                                    </p:anim>
                                  </p:childTnLst>
                                </p:cTn>
                              </p:par>
                              <p:par>
                                <p:cTn id="212" nodeType="withEffect" fill="hold" presetClass="entr" presetID="2" presetSubtype="8">
                                  <p:stCondLst>
                                    <p:cond delay="0"/>
                                  </p:stCondLst>
                                  <p:childTnLst>
                                    <p:set>
                                      <p:cBhvr>
                                        <p:cTn id="213" dur="1" fill="hold">
                                          <p:stCondLst>
                                            <p:cond delay="0"/>
                                          </p:stCondLst>
                                        </p:cTn>
                                        <p:tgtEl>
                                          <p:spTgt spid="592">
                                            <p:txEl>
                                              <p:pRg st="3" end="3"/>
                                            </p:txEl>
                                          </p:spTgt>
                                        </p:tgtEl>
                                        <p:attrNameLst>
                                          <p:attrName>style.visibility</p:attrName>
                                        </p:attrNameLst>
                                      </p:cBhvr>
                                      <p:to>
                                        <p:strVal val="visible"/>
                                      </p:to>
                                    </p:set>
                                    <p:anim calcmode="lin" valueType="num">
                                      <p:cBhvr additive="base">
                                        <p:cTn id="214" dur="500" fill="hold"/>
                                        <p:tgtEl>
                                          <p:spTgt spid="592">
                                            <p:txEl>
                                              <p:pRg st="3" end="3"/>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5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592">
                                            <p:txEl>
                                              <p:pRg st="4" end="4"/>
                                            </p:txEl>
                                          </p:spTgt>
                                        </p:tgtEl>
                                        <p:attrNameLst>
                                          <p:attrName>style.visibility</p:attrName>
                                        </p:attrNameLst>
                                      </p:cBhvr>
                                      <p:to>
                                        <p:strVal val="visible"/>
                                      </p:to>
                                    </p:set>
                                    <p:anim calcmode="lin" valueType="num">
                                      <p:cBhvr additive="base">
                                        <p:cTn id="220" dur="500" fill="hold"/>
                                        <p:tgtEl>
                                          <p:spTgt spid="592">
                                            <p:txEl>
                                              <p:pRg st="4" end="4"/>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92">
                                            <p:txEl>
                                              <p:pRg st="4" end="4"/>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8">
                                  <p:stCondLst>
                                    <p:cond delay="0"/>
                                  </p:stCondLst>
                                  <p:childTnLst>
                                    <p:set>
                                      <p:cBhvr>
                                        <p:cTn id="223" dur="1" fill="hold">
                                          <p:stCondLst>
                                            <p:cond delay="0"/>
                                          </p:stCondLst>
                                        </p:cTn>
                                        <p:tgtEl>
                                          <p:spTgt spid="592">
                                            <p:txEl>
                                              <p:pRg st="5" end="5"/>
                                            </p:txEl>
                                          </p:spTgt>
                                        </p:tgtEl>
                                        <p:attrNameLst>
                                          <p:attrName>style.visibility</p:attrName>
                                        </p:attrNameLst>
                                      </p:cBhvr>
                                      <p:to>
                                        <p:strVal val="visible"/>
                                      </p:to>
                                    </p:set>
                                    <p:anim calcmode="lin" valueType="num">
                                      <p:cBhvr additive="base">
                                        <p:cTn id="224" dur="500" fill="hold"/>
                                        <p:tgtEl>
                                          <p:spTgt spid="592">
                                            <p:txEl>
                                              <p:pRg st="5" end="5"/>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5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4"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5"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efinitions: Part II</a:t>
            </a:r>
            <a:endParaRPr b="0" lang="en-US" sz="4200" spc="-1" strike="noStrike">
              <a:solidFill>
                <a:srgbClr val="000000"/>
              </a:solidFill>
              <a:latin typeface="Arial"/>
            </a:endParaRPr>
          </a:p>
        </p:txBody>
      </p:sp>
      <p:sp>
        <p:nvSpPr>
          <p:cNvPr id="596"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fontScale="98000"/>
          </a:bodyPr>
          <a:p>
            <a:pPr marL="335880" indent="-335880">
              <a:spcBef>
                <a:spcPts val="499"/>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Association of Research Libraries -</a:t>
            </a:r>
            <a:r>
              <a:rPr b="0" lang="en-US" sz="2000" spc="-1" strike="noStrike">
                <a:solidFill>
                  <a:srgbClr val="000000"/>
                </a:solidFill>
                <a:latin typeface="Arial"/>
              </a:rPr>
              <a:t>http://sunsite.berkeley.edu/ARL/definition.html</a:t>
            </a:r>
            <a:endParaRPr b="0" lang="en-US" sz="2000" spc="-1" strike="noStrike">
              <a:solidFill>
                <a:srgbClr val="000000"/>
              </a:solidFill>
              <a:latin typeface="Arial"/>
            </a:endParaRPr>
          </a:p>
          <a:p>
            <a:pPr lvl="1" marL="727920" indent="-280080">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single entity</a:t>
            </a:r>
            <a:endParaRPr b="0" lang="en-US" sz="2400" spc="-1" strike="noStrike">
              <a:solidFill>
                <a:srgbClr val="000000"/>
              </a:solidFill>
              <a:latin typeface="Arial"/>
            </a:endParaRPr>
          </a:p>
          <a:p>
            <a:pPr lvl="1" marL="727920" indent="-280080">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technology to link the resources of many</a:t>
            </a:r>
            <a:endParaRPr b="0" lang="en-US" sz="2400" spc="-1" strike="noStrike">
              <a:solidFill>
                <a:srgbClr val="000000"/>
              </a:solidFill>
              <a:latin typeface="Arial"/>
            </a:endParaRPr>
          </a:p>
          <a:p>
            <a:pPr lvl="1" marL="727920" indent="-280080">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ages are transparent to the user</a:t>
            </a:r>
            <a:endParaRPr b="0" lang="en-US" sz="2400" spc="-1" strike="noStrike">
              <a:solidFill>
                <a:srgbClr val="000000"/>
              </a:solidFill>
              <a:latin typeface="Arial"/>
            </a:endParaRPr>
          </a:p>
          <a:p>
            <a:pPr lvl="1" marL="727920" indent="-280080">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ons are not limited to document surrogates, but include items that are exclusively digital</a:t>
            </a:r>
            <a:endParaRPr b="0" lang="en-US" sz="2400" spc="-1" strike="noStrike">
              <a:solidFill>
                <a:srgbClr val="000000"/>
              </a:solidFill>
              <a:latin typeface="Arial"/>
            </a:endParaRPr>
          </a:p>
        </p:txBody>
      </p:sp>
    </p:spTree>
  </p:cSld>
  <p:transition>
    <p:pull dir="ru"/>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596">
                                            <p:txEl>
                                              <p:pRg st="0" end="0"/>
                                            </p:txEl>
                                          </p:spTgt>
                                        </p:tgtEl>
                                        <p:attrNameLst>
                                          <p:attrName>style.visibility</p:attrName>
                                        </p:attrNameLst>
                                      </p:cBhvr>
                                      <p:to>
                                        <p:strVal val="visible"/>
                                      </p:to>
                                    </p:set>
                                    <p:anim calcmode="lin" valueType="num">
                                      <p:cBhvr additive="base">
                                        <p:cTn id="232" dur="500" fill="hold"/>
                                        <p:tgtEl>
                                          <p:spTgt spid="596">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596">
                                            <p:txEl>
                                              <p:pRg st="0" end="0"/>
                                            </p:txEl>
                                          </p:spTgt>
                                        </p:tgtEl>
                                        <p:attrNameLst>
                                          <p:attrName>ppt_y</p:attrName>
                                        </p:attrNameLst>
                                      </p:cBhvr>
                                      <p:tavLst>
                                        <p:tav tm="0">
                                          <p:val>
                                            <p:strVal val="#ppt_y"/>
                                          </p:val>
                                        </p:tav>
                                        <p:tav tm="100000">
                                          <p:val>
                                            <p:strVal val="#ppt_y"/>
                                          </p:val>
                                        </p:tav>
                                      </p:tavLst>
                                    </p:anim>
                                  </p:childTnLst>
                                </p:cTn>
                              </p:par>
                              <p:par>
                                <p:cTn id="234" nodeType="withEffect" fill="hold" presetClass="entr" presetID="2" presetSubtype="8">
                                  <p:stCondLst>
                                    <p:cond delay="0"/>
                                  </p:stCondLst>
                                  <p:childTnLst>
                                    <p:set>
                                      <p:cBhvr>
                                        <p:cTn id="235" dur="1" fill="hold">
                                          <p:stCondLst>
                                            <p:cond delay="0"/>
                                          </p:stCondLst>
                                        </p:cTn>
                                        <p:tgtEl>
                                          <p:spTgt spid="596">
                                            <p:txEl>
                                              <p:pRg st="1" end="1"/>
                                            </p:txEl>
                                          </p:spTgt>
                                        </p:tgtEl>
                                        <p:attrNameLst>
                                          <p:attrName>style.visibility</p:attrName>
                                        </p:attrNameLst>
                                      </p:cBhvr>
                                      <p:to>
                                        <p:strVal val="visible"/>
                                      </p:to>
                                    </p:set>
                                    <p:anim calcmode="lin" valueType="num">
                                      <p:cBhvr additive="base">
                                        <p:cTn id="236" dur="500" fill="hold"/>
                                        <p:tgtEl>
                                          <p:spTgt spid="596">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596">
                                            <p:txEl>
                                              <p:pRg st="1" end="1"/>
                                            </p:txEl>
                                          </p:spTgt>
                                        </p:tgtEl>
                                        <p:attrNameLst>
                                          <p:attrName>ppt_y</p:attrName>
                                        </p:attrNameLst>
                                      </p:cBhvr>
                                      <p:tavLst>
                                        <p:tav tm="0">
                                          <p:val>
                                            <p:strVal val="#ppt_y"/>
                                          </p:val>
                                        </p:tav>
                                        <p:tav tm="100000">
                                          <p:val>
                                            <p:strVal val="#ppt_y"/>
                                          </p:val>
                                        </p:tav>
                                      </p:tavLst>
                                    </p:anim>
                                  </p:childTnLst>
                                </p:cTn>
                              </p:par>
                              <p:par>
                                <p:cTn id="238" nodeType="withEffect" fill="hold" presetClass="entr" presetID="2" presetSubtype="8">
                                  <p:stCondLst>
                                    <p:cond delay="0"/>
                                  </p:stCondLst>
                                  <p:childTnLst>
                                    <p:set>
                                      <p:cBhvr>
                                        <p:cTn id="239" dur="1" fill="hold">
                                          <p:stCondLst>
                                            <p:cond delay="0"/>
                                          </p:stCondLst>
                                        </p:cTn>
                                        <p:tgtEl>
                                          <p:spTgt spid="596">
                                            <p:txEl>
                                              <p:pRg st="2" end="2"/>
                                            </p:txEl>
                                          </p:spTgt>
                                        </p:tgtEl>
                                        <p:attrNameLst>
                                          <p:attrName>style.visibility</p:attrName>
                                        </p:attrNameLst>
                                      </p:cBhvr>
                                      <p:to>
                                        <p:strVal val="visible"/>
                                      </p:to>
                                    </p:set>
                                    <p:anim calcmode="lin" valueType="num">
                                      <p:cBhvr additive="base">
                                        <p:cTn id="240" dur="500" fill="hold"/>
                                        <p:tgtEl>
                                          <p:spTgt spid="596">
                                            <p:txEl>
                                              <p:pRg st="2" end="2"/>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596">
                                            <p:txEl>
                                              <p:pRg st="2" end="2"/>
                                            </p:txEl>
                                          </p:spTgt>
                                        </p:tgtEl>
                                        <p:attrNameLst>
                                          <p:attrName>ppt_y</p:attrName>
                                        </p:attrNameLst>
                                      </p:cBhvr>
                                      <p:tavLst>
                                        <p:tav tm="0">
                                          <p:val>
                                            <p:strVal val="#ppt_y"/>
                                          </p:val>
                                        </p:tav>
                                        <p:tav tm="100000">
                                          <p:val>
                                            <p:strVal val="#ppt_y"/>
                                          </p:val>
                                        </p:tav>
                                      </p:tavLst>
                                    </p:anim>
                                  </p:childTnLst>
                                </p:cTn>
                              </p:par>
                              <p:par>
                                <p:cTn id="242" nodeType="withEffect" fill="hold" presetClass="entr" presetID="2" presetSubtype="8">
                                  <p:stCondLst>
                                    <p:cond delay="0"/>
                                  </p:stCondLst>
                                  <p:childTnLst>
                                    <p:set>
                                      <p:cBhvr>
                                        <p:cTn id="243" dur="1" fill="hold">
                                          <p:stCondLst>
                                            <p:cond delay="0"/>
                                          </p:stCondLst>
                                        </p:cTn>
                                        <p:tgtEl>
                                          <p:spTgt spid="596">
                                            <p:txEl>
                                              <p:pRg st="3" end="3"/>
                                            </p:txEl>
                                          </p:spTgt>
                                        </p:tgtEl>
                                        <p:attrNameLst>
                                          <p:attrName>style.visibility</p:attrName>
                                        </p:attrNameLst>
                                      </p:cBhvr>
                                      <p:to>
                                        <p:strVal val="visible"/>
                                      </p:to>
                                    </p:set>
                                    <p:anim calcmode="lin" valueType="num">
                                      <p:cBhvr additive="base">
                                        <p:cTn id="244" dur="500" fill="hold"/>
                                        <p:tgtEl>
                                          <p:spTgt spid="596">
                                            <p:txEl>
                                              <p:pRg st="3" end="3"/>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596">
                                            <p:txEl>
                                              <p:pRg st="3" end="3"/>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596">
                                            <p:txEl>
                                              <p:pRg st="4" end="4"/>
                                            </p:txEl>
                                          </p:spTgt>
                                        </p:tgtEl>
                                        <p:attrNameLst>
                                          <p:attrName>style.visibility</p:attrName>
                                        </p:attrNameLst>
                                      </p:cBhvr>
                                      <p:to>
                                        <p:strVal val="visible"/>
                                      </p:to>
                                    </p:set>
                                    <p:anim calcmode="lin" valueType="num">
                                      <p:cBhvr additive="base">
                                        <p:cTn id="248" dur="500" fill="hold"/>
                                        <p:tgtEl>
                                          <p:spTgt spid="596">
                                            <p:txEl>
                                              <p:pRg st="4" end="4"/>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5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8"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9" name="PlaceHolder 1"/>
          <p:cNvSpPr>
            <a:spLocks noGrp="1"/>
          </p:cNvSpPr>
          <p:nvPr>
            <p:ph type="title"/>
          </p:nvPr>
        </p:nvSpPr>
        <p:spPr>
          <a:xfrm>
            <a:off x="1763280" y="40428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rspectives: </a:t>
            </a:r>
            <a:r>
              <a:rPr b="0" i="1" lang="en-US" sz="4200" spc="-1" strike="noStrike">
                <a:solidFill>
                  <a:srgbClr val="000000"/>
                </a:solidFill>
                <a:latin typeface="Arial"/>
              </a:rPr>
              <a:t>Research</a:t>
            </a:r>
            <a:endParaRPr b="0" lang="en-US" sz="4200" spc="-1" strike="noStrike">
              <a:solidFill>
                <a:srgbClr val="000000"/>
              </a:solidFill>
              <a:latin typeface="Arial"/>
            </a:endParaRPr>
          </a:p>
        </p:txBody>
      </p:sp>
      <p:sp>
        <p:nvSpPr>
          <p:cNvPr id="600"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343080" indent="-343080">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Perspective</a:t>
            </a:r>
            <a:endParaRPr b="0" lang="en-US" sz="3000" spc="-1" strike="noStrike">
              <a:solidFill>
                <a:srgbClr val="000000"/>
              </a:solidFill>
              <a:latin typeface="Arial"/>
            </a:endParaRPr>
          </a:p>
          <a:p>
            <a:pPr lvl="1" marL="743040" indent="-285840">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to further knowledge</a:t>
            </a:r>
            <a:endParaRPr b="0" lang="en-US" sz="2800" spc="-1" strike="noStrike">
              <a:solidFill>
                <a:srgbClr val="000000"/>
              </a:solidFill>
              <a:latin typeface="Arial"/>
            </a:endParaRPr>
          </a:p>
          <a:p>
            <a:pPr lvl="1" marL="743040" indent="-285840">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computer science/library/information science faculty, a few line librarians</a:t>
            </a:r>
            <a:endParaRPr b="0" lang="en-US" sz="2800" spc="-1" strike="noStrike">
              <a:solidFill>
                <a:srgbClr val="000000"/>
              </a:solidFill>
              <a:latin typeface="Arial"/>
            </a:endParaRPr>
          </a:p>
          <a:p>
            <a:pPr lvl="1" marL="743040" indent="-285840">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2" marL="1143000" indent="-228600">
              <a:spcBef>
                <a:spcPts val="601"/>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igital Library Initiatives (also called the National Science Foundation DL projects)</a:t>
            </a:r>
            <a:endParaRPr b="0" lang="en-US" sz="2400" spc="-1" strike="noStrike">
              <a:solidFill>
                <a:srgbClr val="000000"/>
              </a:solidFill>
              <a:latin typeface="Arial"/>
            </a:endParaRPr>
          </a:p>
        </p:txBody>
      </p:sp>
    </p:spTree>
  </p:cSld>
  <p:transition>
    <p:pull dir="ru"/>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00">
                                            <p:txEl>
                                              <p:pRg st="0" end="0"/>
                                            </p:txEl>
                                          </p:spTgt>
                                        </p:tgtEl>
                                        <p:attrNameLst>
                                          <p:attrName>style.visibility</p:attrName>
                                        </p:attrNameLst>
                                      </p:cBhvr>
                                      <p:to>
                                        <p:strVal val="visible"/>
                                      </p:to>
                                    </p:set>
                                    <p:anim calcmode="lin" valueType="num">
                                      <p:cBhvr additive="base">
                                        <p:cTn id="256" dur="500" fill="hold"/>
                                        <p:tgtEl>
                                          <p:spTgt spid="600">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600">
                                            <p:txEl>
                                              <p:pRg st="0" end="0"/>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8">
                                  <p:stCondLst>
                                    <p:cond delay="0"/>
                                  </p:stCondLst>
                                  <p:childTnLst>
                                    <p:set>
                                      <p:cBhvr>
                                        <p:cTn id="259" dur="1" fill="hold">
                                          <p:stCondLst>
                                            <p:cond delay="0"/>
                                          </p:stCondLst>
                                        </p:cTn>
                                        <p:tgtEl>
                                          <p:spTgt spid="600">
                                            <p:txEl>
                                              <p:pRg st="1" end="1"/>
                                            </p:txEl>
                                          </p:spTgt>
                                        </p:tgtEl>
                                        <p:attrNameLst>
                                          <p:attrName>style.visibility</p:attrName>
                                        </p:attrNameLst>
                                      </p:cBhvr>
                                      <p:to>
                                        <p:strVal val="visible"/>
                                      </p:to>
                                    </p:set>
                                    <p:anim calcmode="lin" valueType="num">
                                      <p:cBhvr additive="base">
                                        <p:cTn id="260" dur="500" fill="hold"/>
                                        <p:tgtEl>
                                          <p:spTgt spid="600">
                                            <p:txEl>
                                              <p:pRg st="1" end="1"/>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600">
                                            <p:txEl>
                                              <p:pRg st="1" end="1"/>
                                            </p:txEl>
                                          </p:spTgt>
                                        </p:tgtEl>
                                        <p:attrNameLst>
                                          <p:attrName>ppt_y</p:attrName>
                                        </p:attrNameLst>
                                      </p:cBhvr>
                                      <p:tavLst>
                                        <p:tav tm="0">
                                          <p:val>
                                            <p:strVal val="#ppt_y"/>
                                          </p:val>
                                        </p:tav>
                                        <p:tav tm="100000">
                                          <p:val>
                                            <p:strVal val="#ppt_y"/>
                                          </p:val>
                                        </p:tav>
                                      </p:tavLst>
                                    </p:anim>
                                  </p:childTnLst>
                                </p:cTn>
                              </p:par>
                              <p:par>
                                <p:cTn id="262" nodeType="withEffect" fill="hold" presetClass="entr" presetID="2" presetSubtype="8">
                                  <p:stCondLst>
                                    <p:cond delay="0"/>
                                  </p:stCondLst>
                                  <p:childTnLst>
                                    <p:set>
                                      <p:cBhvr>
                                        <p:cTn id="263" dur="1" fill="hold">
                                          <p:stCondLst>
                                            <p:cond delay="0"/>
                                          </p:stCondLst>
                                        </p:cTn>
                                        <p:tgtEl>
                                          <p:spTgt spid="600">
                                            <p:txEl>
                                              <p:pRg st="2" end="2"/>
                                            </p:txEl>
                                          </p:spTgt>
                                        </p:tgtEl>
                                        <p:attrNameLst>
                                          <p:attrName>style.visibility</p:attrName>
                                        </p:attrNameLst>
                                      </p:cBhvr>
                                      <p:to>
                                        <p:strVal val="visible"/>
                                      </p:to>
                                    </p:set>
                                    <p:anim calcmode="lin" valueType="num">
                                      <p:cBhvr additive="base">
                                        <p:cTn id="264" dur="500" fill="hold"/>
                                        <p:tgtEl>
                                          <p:spTgt spid="600">
                                            <p:txEl>
                                              <p:pRg st="2" end="2"/>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600">
                                            <p:txEl>
                                              <p:pRg st="2" end="2"/>
                                            </p:txEl>
                                          </p:spTgt>
                                        </p:tgtEl>
                                        <p:attrNameLst>
                                          <p:attrName>ppt_y</p:attrName>
                                        </p:attrNameLst>
                                      </p:cBhvr>
                                      <p:tavLst>
                                        <p:tav tm="0">
                                          <p:val>
                                            <p:strVal val="#ppt_y"/>
                                          </p:val>
                                        </p:tav>
                                        <p:tav tm="100000">
                                          <p:val>
                                            <p:strVal val="#ppt_y"/>
                                          </p:val>
                                        </p:tav>
                                      </p:tavLst>
                                    </p:anim>
                                  </p:childTnLst>
                                </p:cTn>
                              </p:par>
                              <p:par>
                                <p:cTn id="266" nodeType="withEffect" fill="hold" presetClass="entr" presetID="2" presetSubtype="8">
                                  <p:stCondLst>
                                    <p:cond delay="0"/>
                                  </p:stCondLst>
                                  <p:childTnLst>
                                    <p:set>
                                      <p:cBhvr>
                                        <p:cTn id="267" dur="1" fill="hold">
                                          <p:stCondLst>
                                            <p:cond delay="0"/>
                                          </p:stCondLst>
                                        </p:cTn>
                                        <p:tgtEl>
                                          <p:spTgt spid="600">
                                            <p:txEl>
                                              <p:pRg st="3" end="3"/>
                                            </p:txEl>
                                          </p:spTgt>
                                        </p:tgtEl>
                                        <p:attrNameLst>
                                          <p:attrName>style.visibility</p:attrName>
                                        </p:attrNameLst>
                                      </p:cBhvr>
                                      <p:to>
                                        <p:strVal val="visible"/>
                                      </p:to>
                                    </p:set>
                                    <p:anim calcmode="lin" valueType="num">
                                      <p:cBhvr additive="base">
                                        <p:cTn id="268" dur="500" fill="hold"/>
                                        <p:tgtEl>
                                          <p:spTgt spid="600">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600">
                                            <p:txEl>
                                              <p:pRg st="3" end="3"/>
                                            </p:txEl>
                                          </p:spTgt>
                                        </p:tgtEl>
                                        <p:attrNameLst>
                                          <p:attrName>ppt_y</p:attrName>
                                        </p:attrNameLst>
                                      </p:cBhvr>
                                      <p:tavLst>
                                        <p:tav tm="0">
                                          <p:val>
                                            <p:strVal val="#ppt_y"/>
                                          </p:val>
                                        </p:tav>
                                        <p:tav tm="100000">
                                          <p:val>
                                            <p:strVal val="#ppt_y"/>
                                          </p:val>
                                        </p:tav>
                                      </p:tavLst>
                                    </p:anim>
                                  </p:childTnLst>
                                </p:cTn>
                              </p:par>
                              <p:par>
                                <p:cTn id="270" nodeType="withEffect" fill="hold" presetClass="entr" presetID="2" presetSubtype="8">
                                  <p:stCondLst>
                                    <p:cond delay="0"/>
                                  </p:stCondLst>
                                  <p:childTnLst>
                                    <p:set>
                                      <p:cBhvr>
                                        <p:cTn id="271" dur="1" fill="hold">
                                          <p:stCondLst>
                                            <p:cond delay="0"/>
                                          </p:stCondLst>
                                        </p:cTn>
                                        <p:tgtEl>
                                          <p:spTgt spid="600">
                                            <p:txEl>
                                              <p:pRg st="4" end="4"/>
                                            </p:txEl>
                                          </p:spTgt>
                                        </p:tgtEl>
                                        <p:attrNameLst>
                                          <p:attrName>style.visibility</p:attrName>
                                        </p:attrNameLst>
                                      </p:cBhvr>
                                      <p:to>
                                        <p:strVal val="visible"/>
                                      </p:to>
                                    </p:set>
                                    <p:anim calcmode="lin" valueType="num">
                                      <p:cBhvr additive="base">
                                        <p:cTn id="272" dur="500" fill="hold"/>
                                        <p:tgtEl>
                                          <p:spTgt spid="600">
                                            <p:txEl>
                                              <p:pRg st="4" end="4"/>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6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2"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3"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rspectives: </a:t>
            </a:r>
            <a:r>
              <a:rPr b="0" i="1" lang="en-US" sz="4200" spc="-1" strike="noStrike">
                <a:solidFill>
                  <a:srgbClr val="000000"/>
                </a:solidFill>
                <a:latin typeface="Arial"/>
              </a:rPr>
              <a:t>Production</a:t>
            </a:r>
            <a:endParaRPr b="0" lang="en-US" sz="4200" spc="-1" strike="noStrike">
              <a:solidFill>
                <a:srgbClr val="000000"/>
              </a:solidFill>
              <a:latin typeface="Arial"/>
            </a:endParaRPr>
          </a:p>
        </p:txBody>
      </p:sp>
      <p:sp>
        <p:nvSpPr>
          <p:cNvPr id="604" name="PlaceHolder 2"/>
          <p:cNvSpPr>
            <a:spLocks noGrp="1"/>
          </p:cNvSpPr>
          <p:nvPr>
            <p:ph/>
          </p:nvPr>
        </p:nvSpPr>
        <p:spPr>
          <a:xfrm>
            <a:off x="304920" y="1752480"/>
            <a:ext cx="71625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Perspective</a:t>
            </a:r>
            <a:endParaRPr b="0" lang="en-US" sz="28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to create digital library collections </a:t>
            </a:r>
            <a:br>
              <a:rPr sz="2400"/>
            </a:br>
            <a:r>
              <a:rPr b="0" lang="en-US" sz="2400" spc="-1" strike="noStrike">
                <a:solidFill>
                  <a:srgbClr val="000000"/>
                </a:solidFill>
                <a:latin typeface="Arial"/>
              </a:rPr>
              <a:t>and services</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libraries (mainly larger </a:t>
            </a:r>
            <a:br>
              <a:rPr sz="2400"/>
            </a:br>
            <a:r>
              <a:rPr b="0" lang="en-US" sz="2400" spc="-1" strike="noStrike">
                <a:solidFill>
                  <a:srgbClr val="000000"/>
                </a:solidFill>
                <a:latin typeface="Arial"/>
              </a:rPr>
              <a:t>research libraries, but not exclusively)</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2" marL="1143000" indent="-228600">
              <a:lnSpc>
                <a:spcPct val="90000"/>
              </a:lnSpc>
              <a:spcBef>
                <a:spcPts val="499"/>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 of Congress American Memory (memory.loc.gov/)</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b Programme (www.ukoln.ac.uk/services/elib/)</a:t>
            </a:r>
            <a:endParaRPr b="0" lang="en-US" sz="2000" spc="-1" strike="noStrike">
              <a:solidFill>
                <a:srgbClr val="000000"/>
              </a:solidFill>
              <a:latin typeface="Arial"/>
            </a:endParaRPr>
          </a:p>
          <a:p>
            <a:pPr lvl="2" marL="1143000" indent="-228600">
              <a:lnSpc>
                <a:spcPct val="90000"/>
              </a:lnSpc>
              <a:spcBef>
                <a:spcPts val="499"/>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Library Federation (www.clir.org/diglib/)</a:t>
            </a:r>
            <a:endParaRPr b="0" lang="en-US" sz="2000" spc="-1" strike="noStrike">
              <a:solidFill>
                <a:srgbClr val="000000"/>
              </a:solidFill>
              <a:latin typeface="Arial"/>
            </a:endParaRPr>
          </a:p>
        </p:txBody>
      </p:sp>
      <p:pic>
        <p:nvPicPr>
          <p:cNvPr id="605" name="Picture 6" descr=""/>
          <p:cNvPicPr/>
          <p:nvPr/>
        </p:nvPicPr>
        <p:blipFill>
          <a:blip r:embed="rId1"/>
          <a:stretch/>
        </p:blipFill>
        <p:spPr>
          <a:xfrm>
            <a:off x="6705720" y="1828800"/>
            <a:ext cx="2201760" cy="2631960"/>
          </a:xfrm>
          <a:prstGeom prst="rect">
            <a:avLst/>
          </a:prstGeom>
          <a:ln w="0">
            <a:noFill/>
          </a:ln>
        </p:spPr>
      </p:pic>
    </p:spTree>
  </p:cSld>
  <p:transition>
    <p:pull dir="ru"/>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604">
                                            <p:txEl>
                                              <p:pRg st="0" end="0"/>
                                            </p:txEl>
                                          </p:spTgt>
                                        </p:tgtEl>
                                        <p:attrNameLst>
                                          <p:attrName>style.visibility</p:attrName>
                                        </p:attrNameLst>
                                      </p:cBhvr>
                                      <p:to>
                                        <p:strVal val="visible"/>
                                      </p:to>
                                    </p:set>
                                    <p:anim calcmode="lin" valueType="num">
                                      <p:cBhvr additive="base">
                                        <p:cTn id="280"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604">
                                            <p:txEl>
                                              <p:pRg st="0" end="0"/>
                                            </p:txEl>
                                          </p:spTgt>
                                        </p:tgtEl>
                                        <p:attrNameLst>
                                          <p:attrName>ppt_y</p:attrName>
                                        </p:attrNameLst>
                                      </p:cBhvr>
                                      <p:tavLst>
                                        <p:tav tm="0">
                                          <p:val>
                                            <p:strVal val="#ppt_y"/>
                                          </p:val>
                                        </p:tav>
                                        <p:tav tm="100000">
                                          <p:val>
                                            <p:strVal val="#ppt_y"/>
                                          </p:val>
                                        </p:tav>
                                      </p:tavLst>
                                    </p:anim>
                                  </p:childTnLst>
                                </p:cTn>
                              </p:par>
                              <p:par>
                                <p:cTn id="282" nodeType="withEffect" fill="hold" presetClass="entr" presetID="2" presetSubtype="8">
                                  <p:stCondLst>
                                    <p:cond delay="0"/>
                                  </p:stCondLst>
                                  <p:childTnLst>
                                    <p:set>
                                      <p:cBhvr>
                                        <p:cTn id="283" dur="1" fill="hold">
                                          <p:stCondLst>
                                            <p:cond delay="0"/>
                                          </p:stCondLst>
                                        </p:cTn>
                                        <p:tgtEl>
                                          <p:spTgt spid="604">
                                            <p:txEl>
                                              <p:pRg st="1" end="1"/>
                                            </p:txEl>
                                          </p:spTgt>
                                        </p:tgtEl>
                                        <p:attrNameLst>
                                          <p:attrName>style.visibility</p:attrName>
                                        </p:attrNameLst>
                                      </p:cBhvr>
                                      <p:to>
                                        <p:strVal val="visible"/>
                                      </p:to>
                                    </p:set>
                                    <p:anim calcmode="lin" valueType="num">
                                      <p:cBhvr additive="base">
                                        <p:cTn id="284" dur="500" fill="hold"/>
                                        <p:tgtEl>
                                          <p:spTgt spid="604">
                                            <p:txEl>
                                              <p:pRg st="1" end="1"/>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604">
                                            <p:txEl>
                                              <p:pRg st="1" end="1"/>
                                            </p:txEl>
                                          </p:spTgt>
                                        </p:tgtEl>
                                        <p:attrNameLst>
                                          <p:attrName>ppt_y</p:attrName>
                                        </p:attrNameLst>
                                      </p:cBhvr>
                                      <p:tavLst>
                                        <p:tav tm="0">
                                          <p:val>
                                            <p:strVal val="#ppt_y"/>
                                          </p:val>
                                        </p:tav>
                                        <p:tav tm="100000">
                                          <p:val>
                                            <p:strVal val="#ppt_y"/>
                                          </p:val>
                                        </p:tav>
                                      </p:tavLst>
                                    </p:anim>
                                  </p:childTnLst>
                                </p:cTn>
                              </p:par>
                              <p:par>
                                <p:cTn id="286" nodeType="withEffect" fill="hold" presetClass="entr" presetID="2" presetSubtype="8">
                                  <p:stCondLst>
                                    <p:cond delay="0"/>
                                  </p:stCondLst>
                                  <p:childTnLst>
                                    <p:set>
                                      <p:cBhvr>
                                        <p:cTn id="287" dur="1" fill="hold">
                                          <p:stCondLst>
                                            <p:cond delay="0"/>
                                          </p:stCondLst>
                                        </p:cTn>
                                        <p:tgtEl>
                                          <p:spTgt spid="604">
                                            <p:txEl>
                                              <p:pRg st="2" end="2"/>
                                            </p:txEl>
                                          </p:spTgt>
                                        </p:tgtEl>
                                        <p:attrNameLst>
                                          <p:attrName>style.visibility</p:attrName>
                                        </p:attrNameLst>
                                      </p:cBhvr>
                                      <p:to>
                                        <p:strVal val="visible"/>
                                      </p:to>
                                    </p:set>
                                    <p:anim calcmode="lin" valueType="num">
                                      <p:cBhvr additive="base">
                                        <p:cTn id="288" dur="500" fill="hold"/>
                                        <p:tgtEl>
                                          <p:spTgt spid="604">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04">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04">
                                            <p:txEl>
                                              <p:pRg st="3" end="3"/>
                                            </p:txEl>
                                          </p:spTgt>
                                        </p:tgtEl>
                                        <p:attrNameLst>
                                          <p:attrName>style.visibility</p:attrName>
                                        </p:attrNameLst>
                                      </p:cBhvr>
                                      <p:to>
                                        <p:strVal val="visible"/>
                                      </p:to>
                                    </p:set>
                                    <p:anim calcmode="lin" valueType="num">
                                      <p:cBhvr additive="base">
                                        <p:cTn id="292" dur="500" fill="hold"/>
                                        <p:tgtEl>
                                          <p:spTgt spid="604">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04">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04">
                                            <p:txEl>
                                              <p:pRg st="4" end="4"/>
                                            </p:txEl>
                                          </p:spTgt>
                                        </p:tgtEl>
                                        <p:attrNameLst>
                                          <p:attrName>style.visibility</p:attrName>
                                        </p:attrNameLst>
                                      </p:cBhvr>
                                      <p:to>
                                        <p:strVal val="visible"/>
                                      </p:to>
                                    </p:set>
                                    <p:anim calcmode="lin" valueType="num">
                                      <p:cBhvr additive="base">
                                        <p:cTn id="296" dur="500" fill="hold"/>
                                        <p:tgtEl>
                                          <p:spTgt spid="604">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04">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04">
                                            <p:txEl>
                                              <p:pRg st="5" end="5"/>
                                            </p:txEl>
                                          </p:spTgt>
                                        </p:tgtEl>
                                        <p:attrNameLst>
                                          <p:attrName>style.visibility</p:attrName>
                                        </p:attrNameLst>
                                      </p:cBhvr>
                                      <p:to>
                                        <p:strVal val="visible"/>
                                      </p:to>
                                    </p:set>
                                    <p:anim calcmode="lin" valueType="num">
                                      <p:cBhvr additive="base">
                                        <p:cTn id="300" dur="500" fill="hold"/>
                                        <p:tgtEl>
                                          <p:spTgt spid="604">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04">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04">
                                            <p:txEl>
                                              <p:pRg st="6" end="6"/>
                                            </p:txEl>
                                          </p:spTgt>
                                        </p:tgtEl>
                                        <p:attrNameLst>
                                          <p:attrName>style.visibility</p:attrName>
                                        </p:attrNameLst>
                                      </p:cBhvr>
                                      <p:to>
                                        <p:strVal val="visible"/>
                                      </p:to>
                                    </p:set>
                                    <p:anim calcmode="lin" valueType="num">
                                      <p:cBhvr additive="base">
                                        <p:cTn id="304" dur="500" fill="hold"/>
                                        <p:tgtEl>
                                          <p:spTgt spid="604">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0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duction Issues</a:t>
            </a:r>
            <a:endParaRPr b="0" lang="en-US" sz="4200" spc="-1" strike="noStrike">
              <a:solidFill>
                <a:srgbClr val="000000"/>
              </a:solidFill>
              <a:latin typeface="Arial"/>
            </a:endParaRPr>
          </a:p>
        </p:txBody>
      </p:sp>
      <p:sp>
        <p:nvSpPr>
          <p:cNvPr id="609"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ions</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quiring</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ing</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Access</a:t>
            </a:r>
            <a:endParaRPr b="0" lang="en-US" sz="28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ing</a:t>
            </a:r>
            <a:endParaRPr b="0" lang="en-US" sz="2800" spc="-1" strike="noStrike">
              <a:solidFill>
                <a:srgbClr val="000000"/>
              </a:solidFill>
              <a:latin typeface="Arial"/>
            </a:endParaRPr>
          </a:p>
        </p:txBody>
      </p:sp>
    </p:spTree>
  </p:cSld>
  <p:transition>
    <p:pull dir="ru"/>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609">
                                            <p:txEl>
                                              <p:pRg st="0" end="0"/>
                                            </p:txEl>
                                          </p:spTgt>
                                        </p:tgtEl>
                                        <p:attrNameLst>
                                          <p:attrName>style.visibility</p:attrName>
                                        </p:attrNameLst>
                                      </p:cBhvr>
                                      <p:to>
                                        <p:strVal val="visible"/>
                                      </p:to>
                                    </p:set>
                                    <p:anim calcmode="lin" valueType="num">
                                      <p:cBhvr additive="base">
                                        <p:cTn id="312"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609">
                                            <p:txEl>
                                              <p:pRg st="1" end="1"/>
                                            </p:txEl>
                                          </p:spTgt>
                                        </p:tgtEl>
                                        <p:attrNameLst>
                                          <p:attrName>style.visibility</p:attrName>
                                        </p:attrNameLst>
                                      </p:cBhvr>
                                      <p:to>
                                        <p:strVal val="visible"/>
                                      </p:to>
                                    </p:set>
                                    <p:anim calcmode="lin" valueType="num">
                                      <p:cBhvr additive="base">
                                        <p:cTn id="318" dur="500" fill="hold"/>
                                        <p:tgtEl>
                                          <p:spTgt spid="609">
                                            <p:txEl>
                                              <p:pRg st="1" end="1"/>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609">
                                            <p:txEl>
                                              <p:pRg st="1" end="1"/>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8">
                                  <p:stCondLst>
                                    <p:cond delay="0"/>
                                  </p:stCondLst>
                                  <p:childTnLst>
                                    <p:set>
                                      <p:cBhvr>
                                        <p:cTn id="321" dur="1" fill="hold">
                                          <p:stCondLst>
                                            <p:cond delay="0"/>
                                          </p:stCondLst>
                                        </p:cTn>
                                        <p:tgtEl>
                                          <p:spTgt spid="609">
                                            <p:txEl>
                                              <p:pRg st="2" end="2"/>
                                            </p:txEl>
                                          </p:spTgt>
                                        </p:tgtEl>
                                        <p:attrNameLst>
                                          <p:attrName>style.visibility</p:attrName>
                                        </p:attrNameLst>
                                      </p:cBhvr>
                                      <p:to>
                                        <p:strVal val="visible"/>
                                      </p:to>
                                    </p:set>
                                    <p:anim calcmode="lin" valueType="num">
                                      <p:cBhvr additive="base">
                                        <p:cTn id="322" dur="500" fill="hold"/>
                                        <p:tgtEl>
                                          <p:spTgt spid="609">
                                            <p:txEl>
                                              <p:pRg st="2" end="2"/>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09">
                                            <p:txEl>
                                              <p:pRg st="2" end="2"/>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set>
                                      <p:cBhvr>
                                        <p:cTn id="325" dur="1" fill="hold">
                                          <p:stCondLst>
                                            <p:cond delay="0"/>
                                          </p:stCondLst>
                                        </p:cTn>
                                        <p:tgtEl>
                                          <p:spTgt spid="609">
                                            <p:txEl>
                                              <p:pRg st="3" end="3"/>
                                            </p:txEl>
                                          </p:spTgt>
                                        </p:tgtEl>
                                        <p:attrNameLst>
                                          <p:attrName>style.visibility</p:attrName>
                                        </p:attrNameLst>
                                      </p:cBhvr>
                                      <p:to>
                                        <p:strVal val="visible"/>
                                      </p:to>
                                    </p:set>
                                    <p:anim calcmode="lin" valueType="num">
                                      <p:cBhvr additive="base">
                                        <p:cTn id="326" dur="500" fill="hold"/>
                                        <p:tgtEl>
                                          <p:spTgt spid="609">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609">
                                            <p:txEl>
                                              <p:pRg st="3" end="3"/>
                                            </p:txEl>
                                          </p:spTgt>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609">
                                            <p:txEl>
                                              <p:pRg st="4" end="4"/>
                                            </p:txEl>
                                          </p:spTgt>
                                        </p:tgtEl>
                                        <p:attrNameLst>
                                          <p:attrName>style.visibility</p:attrName>
                                        </p:attrNameLst>
                                      </p:cBhvr>
                                      <p:to>
                                        <p:strVal val="visible"/>
                                      </p:to>
                                    </p:set>
                                    <p:anim calcmode="lin" valueType="num">
                                      <p:cBhvr additive="base">
                                        <p:cTn id="330" dur="500" fill="hold"/>
                                        <p:tgtEl>
                                          <p:spTgt spid="609">
                                            <p:txEl>
                                              <p:pRg st="4" end="4"/>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609">
                                            <p:txEl>
                                              <p:pRg st="4" end="4"/>
                                            </p:txEl>
                                          </p:spTgt>
                                        </p:tgtEl>
                                        <p:attrNameLst>
                                          <p:attrName>ppt_y</p:attrName>
                                        </p:attrNameLst>
                                      </p:cBhvr>
                                      <p:tavLst>
                                        <p:tav tm="0">
                                          <p:val>
                                            <p:strVal val="#ppt_y"/>
                                          </p:val>
                                        </p:tav>
                                        <p:tav tm="100000">
                                          <p:val>
                                            <p:strVal val="#ppt_y"/>
                                          </p:val>
                                        </p:tav>
                                      </p:tavLst>
                                    </p:anim>
                                  </p:childTnLst>
                                </p:cTn>
                              </p:par>
                              <p:par>
                                <p:cTn id="332" nodeType="withEffect" fill="hold" presetClass="entr" presetID="2" presetSubtype="8">
                                  <p:stCondLst>
                                    <p:cond delay="0"/>
                                  </p:stCondLst>
                                  <p:childTnLst>
                                    <p:set>
                                      <p:cBhvr>
                                        <p:cTn id="333" dur="1" fill="hold">
                                          <p:stCondLst>
                                            <p:cond delay="0"/>
                                          </p:stCondLst>
                                        </p:cTn>
                                        <p:tgtEl>
                                          <p:spTgt spid="609">
                                            <p:txEl>
                                              <p:pRg st="5" end="5"/>
                                            </p:txEl>
                                          </p:spTgt>
                                        </p:tgtEl>
                                        <p:attrNameLst>
                                          <p:attrName>style.visibility</p:attrName>
                                        </p:attrNameLst>
                                      </p:cBhvr>
                                      <p:to>
                                        <p:strVal val="visible"/>
                                      </p:to>
                                    </p:set>
                                    <p:anim calcmode="lin" valueType="num">
                                      <p:cBhvr additive="base">
                                        <p:cTn id="334" dur="500" fill="hold"/>
                                        <p:tgtEl>
                                          <p:spTgt spid="609">
                                            <p:txEl>
                                              <p:pRg st="5" end="5"/>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609">
                                            <p:txEl>
                                              <p:pRg st="5" end="5"/>
                                            </p:txEl>
                                          </p:spTgt>
                                        </p:tgtEl>
                                        <p:attrNameLst>
                                          <p:attrName>ppt_y</p:attrName>
                                        </p:attrNameLst>
                                      </p:cBhvr>
                                      <p:tavLst>
                                        <p:tav tm="0">
                                          <p:val>
                                            <p:strVal val="#ppt_y"/>
                                          </p:val>
                                        </p:tav>
                                        <p:tav tm="100000">
                                          <p:val>
                                            <p:strVal val="#ppt_y"/>
                                          </p:val>
                                        </p:tav>
                                      </p:tavLst>
                                    </p:anim>
                                  </p:childTnLst>
                                </p:cTn>
                              </p:par>
                              <p:par>
                                <p:cTn id="336" nodeType="withEffect" fill="hold" presetClass="entr" presetID="2" presetSubtype="8">
                                  <p:stCondLst>
                                    <p:cond delay="0"/>
                                  </p:stCondLst>
                                  <p:childTnLst>
                                    <p:set>
                                      <p:cBhvr>
                                        <p:cTn id="337" dur="1" fill="hold">
                                          <p:stCondLst>
                                            <p:cond delay="0"/>
                                          </p:stCondLst>
                                        </p:cTn>
                                        <p:tgtEl>
                                          <p:spTgt spid="609">
                                            <p:txEl>
                                              <p:pRg st="6" end="6"/>
                                            </p:txEl>
                                          </p:spTgt>
                                        </p:tgtEl>
                                        <p:attrNameLst>
                                          <p:attrName>style.visibility</p:attrName>
                                        </p:attrNameLst>
                                      </p:cBhvr>
                                      <p:to>
                                        <p:strVal val="visible"/>
                                      </p:to>
                                    </p:set>
                                    <p:anim calcmode="lin" valueType="num">
                                      <p:cBhvr additive="base">
                                        <p:cTn id="338" dur="500" fill="hold"/>
                                        <p:tgtEl>
                                          <p:spTgt spid="609">
                                            <p:txEl>
                                              <p:pRg st="6" end="6"/>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609">
                                            <p:txEl>
                                              <p:pRg st="6" end="6"/>
                                            </p:txEl>
                                          </p:spTgt>
                                        </p:tgtEl>
                                        <p:attrNameLst>
                                          <p:attrName>ppt_y</p:attrName>
                                        </p:attrNameLst>
                                      </p:cBhvr>
                                      <p:tavLst>
                                        <p:tav tm="0">
                                          <p:val>
                                            <p:strVal val="#ppt_y"/>
                                          </p:val>
                                        </p:tav>
                                        <p:tav tm="100000">
                                          <p:val>
                                            <p:strVal val="#ppt_y"/>
                                          </p:val>
                                        </p:tav>
                                      </p:tavLst>
                                    </p:anim>
                                  </p:childTnLst>
                                </p:cTn>
                              </p:par>
                              <p:animClr clrSpc="rgb">
                                <p:cBhvr>
                                  <p:cTn id="340" dur="1" fill="hold">
                                    <p:stCondLst>
                                      <p:cond delay="0"/>
                                    </p:stCondLst>
                                  </p:cTn>
                                  <p:tgtEl>
                                    <p:spTgt spid="609">
                                      <p:txEl>
                                        <p:pRg st="0" end="0"/>
                                      </p:txEl>
                                    </p:spTgt>
                                  </p:tgtEl>
                                  <p:attrNameLst>
                                    <p:attrName>ppt_c</p:attrName>
                                  </p:attrNameLst>
                                </p:cBhvr>
                                <p:to>
                                  <a:srgbClr val="006666"/>
                                </p:to>
                              </p:animClr>
                            </p:childTnLst>
                          </p:cTn>
                        </p:par>
                      </p:childTnLst>
                    </p:cTn>
                  </p:par>
                  <p:par>
                    <p:cTn id="341" fill="hold">
                      <p:stCondLst>
                        <p:cond delay="indefinite"/>
                      </p:stCondLst>
                      <p:childTnLst>
                        <p:par>
                          <p:cTn id="342" fill="hold">
                            <p:stCondLst>
                              <p:cond delay="0"/>
                            </p:stCondLst>
                            <p:childTnLst>
                              <p:animClr clrSpc="rgb">
                                <p:cBhvr>
                                  <p:cTn id="343" dur="1" fill="hold"/>
                                  <p:tgtEl>
                                    <p:spTgt spid="609">
                                      <p:txEl>
                                        <p:pRg st="1" end="1"/>
                                      </p:txEl>
                                    </p:spTgt>
                                  </p:tgtEl>
                                  <p:attrNameLst>
                                    <p:attrName>ppt_c</p:attrName>
                                  </p:attrNameLst>
                                </p:cBhvr>
                                <p:to>
                                  <a:srgbClr val="006666"/>
                                </p:to>
                              </p:animClr>
                              <p:animClr clrSpc="rgb">
                                <p:cBhvr>
                                  <p:cTn id="344" dur="1" fill="hold"/>
                                  <p:tgtEl>
                                    <p:spTgt spid="609">
                                      <p:txEl>
                                        <p:pRg st="2" end="2"/>
                                      </p:txEl>
                                    </p:spTgt>
                                  </p:tgtEl>
                                  <p:attrNameLst>
                                    <p:attrName>ppt_c</p:attrName>
                                  </p:attrNameLst>
                                </p:cBhvr>
                                <p:to>
                                  <a:srgbClr val="006666"/>
                                </p:to>
                              </p:animClr>
                              <p:animClr clrSpc="rgb">
                                <p:cBhvr>
                                  <p:cTn id="345" dur="1" fill="hold"/>
                                  <p:tgtEl>
                                    <p:spTgt spid="609">
                                      <p:txEl>
                                        <p:pRg st="3" end="3"/>
                                      </p:txEl>
                                    </p:spTgt>
                                  </p:tgtEl>
                                  <p:attrNameLst>
                                    <p:attrName>ppt_c</p:attrName>
                                  </p:attrNameLst>
                                </p:cBhvr>
                                <p:to>
                                  <a:srgbClr val="006666"/>
                                </p:to>
                              </p:animClr>
                              <p:animClr clrSpc="rgb">
                                <p:cBhvr>
                                  <p:cTn id="346" dur="1" fill="hold"/>
                                  <p:tgtEl>
                                    <p:spTgt spid="609">
                                      <p:txEl>
                                        <p:pRg st="4" end="4"/>
                                      </p:txEl>
                                    </p:spTgt>
                                  </p:tgtEl>
                                  <p:attrNameLst>
                                    <p:attrName>ppt_c</p:attrName>
                                  </p:attrNameLst>
                                </p:cBhvr>
                                <p:to>
                                  <a:srgbClr val="006666"/>
                                </p:to>
                              </p:animClr>
                              <p:animClr clrSpc="rgb">
                                <p:cBhvr>
                                  <p:cTn id="347" dur="1" fill="hold"/>
                                  <p:tgtEl>
                                    <p:spTgt spid="609">
                                      <p:txEl>
                                        <p:pRg st="5" end="5"/>
                                      </p:txEl>
                                    </p:spTgt>
                                  </p:tgtEl>
                                  <p:attrNameLst>
                                    <p:attrName>ppt_c</p:attrName>
                                  </p:attrNameLst>
                                </p:cBhvr>
                                <p:to>
                                  <a:srgbClr val="006666"/>
                                </p:to>
                              </p:animClr>
                              <p:animClr clrSpc="rgb">
                                <p:cBhvr>
                                  <p:cTn id="348" dur="1" fill="hold"/>
                                  <p:tgtEl>
                                    <p:spTgt spid="609">
                                      <p:txEl>
                                        <p:pRg st="6" end="6"/>
                                      </p:txEl>
                                    </p:spTgt>
                                  </p:tgtEl>
                                  <p:attrNameLst>
                                    <p:attrName>ppt_c</p:attrName>
                                  </p:attrNameLst>
                                </p:cBhvr>
                                <p:to>
                                  <a:srgbClr val="0066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1"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2"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rvices</a:t>
            </a:r>
            <a:endParaRPr b="0" lang="en-US" sz="4200" spc="-1" strike="noStrike">
              <a:solidFill>
                <a:srgbClr val="000000"/>
              </a:solidFill>
              <a:latin typeface="Arial"/>
            </a:endParaRPr>
          </a:p>
        </p:txBody>
      </p:sp>
      <p:sp>
        <p:nvSpPr>
          <p:cNvPr id="61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hallenge: providing services when and where they are neede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 to Internet resources</a:t>
            </a:r>
            <a:endParaRPr b="0" lang="en-US" sz="2800" spc="-1" strike="noStrike">
              <a:solidFill>
                <a:srgbClr val="000000"/>
              </a:solidFill>
              <a:latin typeface="Arial"/>
            </a:endParaRPr>
          </a:p>
          <a:p>
            <a:pPr lvl="2" marL="1143000" indent="-228600">
              <a:lnSpc>
                <a:spcPct val="90000"/>
              </a:lnSpc>
              <a:spcBef>
                <a:spcPts val="601"/>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ians’ Index - lii.org/</a:t>
            </a:r>
            <a:endParaRPr b="0" lang="en-US" sz="2400" spc="-1" strike="noStrike">
              <a:solidFill>
                <a:srgbClr val="000000"/>
              </a:solidFill>
              <a:latin typeface="Arial"/>
            </a:endParaRPr>
          </a:p>
          <a:p>
            <a:pPr lvl="2" marL="1143000" indent="-228600">
              <a:lnSpc>
                <a:spcPct val="90000"/>
              </a:lnSpc>
              <a:spcBef>
                <a:spcPts val="601"/>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sClick! - kidsclick.org/</a:t>
            </a:r>
            <a:endParaRPr b="0" lang="en-US" sz="24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based reference</a:t>
            </a:r>
            <a:endParaRPr b="0" lang="en-US" sz="2800" spc="-1" strike="noStrike">
              <a:solidFill>
                <a:srgbClr val="000000"/>
              </a:solidFill>
              <a:latin typeface="Arial"/>
            </a:endParaRPr>
          </a:p>
          <a:p>
            <a:pPr lvl="2" marL="1143000" indent="-228600">
              <a:lnSpc>
                <a:spcPct val="90000"/>
              </a:lnSpc>
              <a:spcBef>
                <a:spcPts val="601"/>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 24x7 - </a:t>
            </a:r>
            <a:br>
              <a:rPr sz="2400"/>
            </a:br>
            <a:r>
              <a:rPr b="0" lang="en-US" sz="2400" spc="-1" strike="noStrike">
                <a:solidFill>
                  <a:srgbClr val="000000"/>
                </a:solidFill>
                <a:latin typeface="Arial"/>
              </a:rPr>
              <a:t>247ref.org/</a:t>
            </a:r>
            <a:endParaRPr b="0" lang="en-US" sz="2400" spc="-1" strike="noStrike">
              <a:solidFill>
                <a:srgbClr val="000000"/>
              </a:solidFill>
              <a:latin typeface="Arial"/>
            </a:endParaRPr>
          </a:p>
        </p:txBody>
      </p:sp>
      <p:pic>
        <p:nvPicPr>
          <p:cNvPr id="614" name="Picture 6" descr="&#9;Picture 8                                                      00000002_x000b_Roy Tennant                    ABA78158:"/>
          <p:cNvPicPr/>
          <p:nvPr/>
        </p:nvPicPr>
        <p:blipFill>
          <a:blip r:embed="rId1"/>
          <a:stretch/>
        </p:blipFill>
        <p:spPr>
          <a:xfrm>
            <a:off x="5486400" y="3886200"/>
            <a:ext cx="3657600" cy="2682720"/>
          </a:xfrm>
          <a:prstGeom prst="rect">
            <a:avLst/>
          </a:prstGeom>
          <a:ln w="0">
            <a:noFill/>
          </a:ln>
        </p:spPr>
      </p:pic>
    </p:spTree>
  </p:cSld>
  <p:transition>
    <p:pull dir="ru"/>
  </p:transition>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13">
                                            <p:txEl>
                                              <p:pRg st="0" end="0"/>
                                            </p:txEl>
                                          </p:spTgt>
                                        </p:tgtEl>
                                        <p:attrNameLst>
                                          <p:attrName>style.visibility</p:attrName>
                                        </p:attrNameLst>
                                      </p:cBhvr>
                                      <p:to>
                                        <p:strVal val="visible"/>
                                      </p:to>
                                    </p:set>
                                    <p:anim calcmode="lin" valueType="num">
                                      <p:cBhvr additive="base">
                                        <p:cTn id="355"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13">
                                            <p:txEl>
                                              <p:pRg st="1" end="1"/>
                                            </p:txEl>
                                          </p:spTgt>
                                        </p:tgtEl>
                                        <p:attrNameLst>
                                          <p:attrName>style.visibility</p:attrName>
                                        </p:attrNameLst>
                                      </p:cBhvr>
                                      <p:to>
                                        <p:strVal val="visible"/>
                                      </p:to>
                                    </p:set>
                                    <p:anim calcmode="lin" valueType="num">
                                      <p:cBhvr additive="base">
                                        <p:cTn id="361" dur="500" fill="hold"/>
                                        <p:tgtEl>
                                          <p:spTgt spid="613">
                                            <p:txEl>
                                              <p:pRg st="1" end="1"/>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13">
                                            <p:txEl>
                                              <p:pRg st="1" end="1"/>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613">
                                            <p:txEl>
                                              <p:pRg st="2" end="2"/>
                                            </p:txEl>
                                          </p:spTgt>
                                        </p:tgtEl>
                                        <p:attrNameLst>
                                          <p:attrName>style.visibility</p:attrName>
                                        </p:attrNameLst>
                                      </p:cBhvr>
                                      <p:to>
                                        <p:strVal val="visible"/>
                                      </p:to>
                                    </p:set>
                                    <p:anim calcmode="lin" valueType="num">
                                      <p:cBhvr additive="base">
                                        <p:cTn id="365" dur="500" fill="hold"/>
                                        <p:tgtEl>
                                          <p:spTgt spid="613">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613">
                                            <p:txEl>
                                              <p:pRg st="2" end="2"/>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613">
                                            <p:txEl>
                                              <p:pRg st="3" end="3"/>
                                            </p:txEl>
                                          </p:spTgt>
                                        </p:tgtEl>
                                        <p:attrNameLst>
                                          <p:attrName>style.visibility</p:attrName>
                                        </p:attrNameLst>
                                      </p:cBhvr>
                                      <p:to>
                                        <p:strVal val="visible"/>
                                      </p:to>
                                    </p:set>
                                    <p:anim calcmode="lin" valueType="num">
                                      <p:cBhvr additive="base">
                                        <p:cTn id="369" dur="500" fill="hold"/>
                                        <p:tgtEl>
                                          <p:spTgt spid="613">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13">
                                            <p:txEl>
                                              <p:pRg st="3" end="3"/>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613">
                                            <p:txEl>
                                              <p:pRg st="4" end="4"/>
                                            </p:txEl>
                                          </p:spTgt>
                                        </p:tgtEl>
                                        <p:attrNameLst>
                                          <p:attrName>style.visibility</p:attrName>
                                        </p:attrNameLst>
                                      </p:cBhvr>
                                      <p:to>
                                        <p:strVal val="visible"/>
                                      </p:to>
                                    </p:set>
                                    <p:anim calcmode="lin" valueType="num">
                                      <p:cBhvr additive="base">
                                        <p:cTn id="373" dur="500" fill="hold"/>
                                        <p:tgtEl>
                                          <p:spTgt spid="613">
                                            <p:txEl>
                                              <p:pRg st="4" end="4"/>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13">
                                            <p:txEl>
                                              <p:pRg st="4" end="4"/>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613">
                                            <p:txEl>
                                              <p:pRg st="5" end="5"/>
                                            </p:txEl>
                                          </p:spTgt>
                                        </p:tgtEl>
                                        <p:attrNameLst>
                                          <p:attrName>style.visibility</p:attrName>
                                        </p:attrNameLst>
                                      </p:cBhvr>
                                      <p:to>
                                        <p:strVal val="visible"/>
                                      </p:to>
                                    </p:set>
                                    <p:anim calcmode="lin" valueType="num">
                                      <p:cBhvr additive="base">
                                        <p:cTn id="377" dur="500" fill="hold"/>
                                        <p:tgtEl>
                                          <p:spTgt spid="613">
                                            <p:txEl>
                                              <p:pRg st="5" end="5"/>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613">
                                            <p:txEl>
                                              <p:pRg st="5" end="5"/>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613">
                                            <p:txEl>
                                              <p:pRg st="6" end="6"/>
                                            </p:txEl>
                                          </p:spTgt>
                                        </p:tgtEl>
                                        <p:attrNameLst>
                                          <p:attrName>style.visibility</p:attrName>
                                        </p:attrNameLst>
                                      </p:cBhvr>
                                      <p:to>
                                        <p:strVal val="visible"/>
                                      </p:to>
                                    </p:set>
                                    <p:anim calcmode="lin" valueType="num">
                                      <p:cBhvr additive="base">
                                        <p:cTn id="381" dur="500" fill="hold"/>
                                        <p:tgtEl>
                                          <p:spTgt spid="613">
                                            <p:txEl>
                                              <p:pRg st="6" end="6"/>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1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6"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PlaceHolder 1"/>
          <p:cNvSpPr>
            <a:spLocks noGrp="1"/>
          </p:cNvSpPr>
          <p:nvPr>
            <p:ph type="title"/>
          </p:nvPr>
        </p:nvSpPr>
        <p:spPr>
          <a:xfrm>
            <a:off x="1547640" y="399600"/>
            <a:ext cx="79250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ecting Digital Material</a:t>
            </a:r>
            <a:endParaRPr b="0" lang="en-US" sz="4200" spc="-1" strike="noStrike">
              <a:solidFill>
                <a:srgbClr val="000000"/>
              </a:solidFill>
              <a:latin typeface="Arial"/>
            </a:endParaRPr>
          </a:p>
        </p:txBody>
      </p:sp>
      <p:sp>
        <p:nvSpPr>
          <p:cNvPr id="618" name="PlaceHolder 2"/>
          <p:cNvSpPr>
            <a:spLocks noGrp="1"/>
          </p:cNvSpPr>
          <p:nvPr>
            <p:ph/>
          </p:nvPr>
        </p:nvSpPr>
        <p:spPr>
          <a:xfrm>
            <a:off x="533160" y="1828800"/>
            <a:ext cx="800100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a:t>
            </a:r>
            <a:endParaRPr b="0" lang="en-US" sz="28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discover what is available?</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evaluate the quality of resources?</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cost effectiveness be determined? (books remain, databases frequently don’t)</a:t>
            </a:r>
            <a:endParaRPr b="0" lang="en-US" sz="2400" spc="-1" strike="noStrike">
              <a:solidFill>
                <a:srgbClr val="000000"/>
              </a:solidFill>
              <a:latin typeface="Arial"/>
            </a:endParaRPr>
          </a:p>
          <a:p>
            <a:pPr marL="343080" indent="-343080">
              <a:lnSpc>
                <a:spcPct val="90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tions:</a:t>
            </a:r>
            <a:endParaRPr b="0" lang="en-US" sz="28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chase or license agreement</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source</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structure required</a:t>
            </a:r>
            <a:endParaRPr b="0" lang="en-US" sz="2400" spc="-1" strike="noStrike">
              <a:solidFill>
                <a:srgbClr val="000000"/>
              </a:solidFill>
              <a:latin typeface="Arial"/>
            </a:endParaRPr>
          </a:p>
          <a:p>
            <a:pPr lvl="1" marL="743040" indent="-28584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time to mount and maintain</a:t>
            </a:r>
            <a:endParaRPr b="0" lang="en-US" sz="2400" spc="-1" strike="noStrike">
              <a:solidFill>
                <a:srgbClr val="000000"/>
              </a:solidFill>
              <a:latin typeface="Arial"/>
            </a:endParaRPr>
          </a:p>
        </p:txBody>
      </p:sp>
    </p:spTree>
  </p:cSld>
  <p:transition>
    <p:pull dir="ru"/>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618">
                                            <p:txEl>
                                              <p:pRg st="0" end="0"/>
                                            </p:txEl>
                                          </p:spTgt>
                                        </p:tgtEl>
                                        <p:attrNameLst>
                                          <p:attrName>style.visibility</p:attrName>
                                        </p:attrNameLst>
                                      </p:cBhvr>
                                      <p:to>
                                        <p:strVal val="visible"/>
                                      </p:to>
                                    </p:set>
                                    <p:anim calcmode="lin" valueType="num">
                                      <p:cBhvr additive="base">
                                        <p:cTn id="389" dur="500" fill="hold"/>
                                        <p:tgtEl>
                                          <p:spTgt spid="618">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618">
                                            <p:txEl>
                                              <p:pRg st="0" end="0"/>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8">
                                  <p:stCondLst>
                                    <p:cond delay="0"/>
                                  </p:stCondLst>
                                  <p:childTnLst>
                                    <p:set>
                                      <p:cBhvr>
                                        <p:cTn id="392" dur="1" fill="hold">
                                          <p:stCondLst>
                                            <p:cond delay="0"/>
                                          </p:stCondLst>
                                        </p:cTn>
                                        <p:tgtEl>
                                          <p:spTgt spid="618">
                                            <p:txEl>
                                              <p:pRg st="1" end="1"/>
                                            </p:txEl>
                                          </p:spTgt>
                                        </p:tgtEl>
                                        <p:attrNameLst>
                                          <p:attrName>style.visibility</p:attrName>
                                        </p:attrNameLst>
                                      </p:cBhvr>
                                      <p:to>
                                        <p:strVal val="visible"/>
                                      </p:to>
                                    </p:set>
                                    <p:anim calcmode="lin" valueType="num">
                                      <p:cBhvr additive="base">
                                        <p:cTn id="393" dur="500" fill="hold"/>
                                        <p:tgtEl>
                                          <p:spTgt spid="618">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618">
                                            <p:txEl>
                                              <p:pRg st="1" end="1"/>
                                            </p:txEl>
                                          </p:spTgt>
                                        </p:tgtEl>
                                        <p:attrNameLst>
                                          <p:attrName>ppt_y</p:attrName>
                                        </p:attrNameLst>
                                      </p:cBhvr>
                                      <p:tavLst>
                                        <p:tav tm="0">
                                          <p:val>
                                            <p:strVal val="#ppt_y"/>
                                          </p:val>
                                        </p:tav>
                                        <p:tav tm="100000">
                                          <p:val>
                                            <p:strVal val="#ppt_y"/>
                                          </p:val>
                                        </p:tav>
                                      </p:tavLst>
                                    </p:anim>
                                  </p:childTnLst>
                                </p:cTn>
                              </p:par>
                              <p:par>
                                <p:cTn id="395" nodeType="withEffect" fill="hold" presetClass="entr" presetID="2" presetSubtype="8">
                                  <p:stCondLst>
                                    <p:cond delay="0"/>
                                  </p:stCondLst>
                                  <p:childTnLst>
                                    <p:set>
                                      <p:cBhvr>
                                        <p:cTn id="396" dur="1" fill="hold">
                                          <p:stCondLst>
                                            <p:cond delay="0"/>
                                          </p:stCondLst>
                                        </p:cTn>
                                        <p:tgtEl>
                                          <p:spTgt spid="618">
                                            <p:txEl>
                                              <p:pRg st="2" end="2"/>
                                            </p:txEl>
                                          </p:spTgt>
                                        </p:tgtEl>
                                        <p:attrNameLst>
                                          <p:attrName>style.visibility</p:attrName>
                                        </p:attrNameLst>
                                      </p:cBhvr>
                                      <p:to>
                                        <p:strVal val="visible"/>
                                      </p:to>
                                    </p:set>
                                    <p:anim calcmode="lin" valueType="num">
                                      <p:cBhvr additive="base">
                                        <p:cTn id="397" dur="500" fill="hold"/>
                                        <p:tgtEl>
                                          <p:spTgt spid="618">
                                            <p:txEl>
                                              <p:pRg st="2" end="2"/>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618">
                                            <p:txEl>
                                              <p:pRg st="2" end="2"/>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618">
                                            <p:txEl>
                                              <p:pRg st="3" end="3"/>
                                            </p:txEl>
                                          </p:spTgt>
                                        </p:tgtEl>
                                        <p:attrNameLst>
                                          <p:attrName>style.visibility</p:attrName>
                                        </p:attrNameLst>
                                      </p:cBhvr>
                                      <p:to>
                                        <p:strVal val="visible"/>
                                      </p:to>
                                    </p:set>
                                    <p:anim calcmode="lin" valueType="num">
                                      <p:cBhvr additive="base">
                                        <p:cTn id="401" dur="500" fill="hold"/>
                                        <p:tgtEl>
                                          <p:spTgt spid="618">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618">
                                            <p:txEl>
                                              <p:pRg st="4" end="4"/>
                                            </p:txEl>
                                          </p:spTgt>
                                        </p:tgtEl>
                                        <p:attrNameLst>
                                          <p:attrName>style.visibility</p:attrName>
                                        </p:attrNameLst>
                                      </p:cBhvr>
                                      <p:to>
                                        <p:strVal val="visible"/>
                                      </p:to>
                                    </p:set>
                                    <p:anim calcmode="lin" valueType="num">
                                      <p:cBhvr additive="base">
                                        <p:cTn id="407" dur="500" fill="hold"/>
                                        <p:tgtEl>
                                          <p:spTgt spid="618">
                                            <p:txEl>
                                              <p:pRg st="4" end="4"/>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618">
                                            <p:txEl>
                                              <p:pRg st="4" end="4"/>
                                            </p:txEl>
                                          </p:spTgt>
                                        </p:tgtEl>
                                        <p:attrNameLst>
                                          <p:attrName>ppt_y</p:attrName>
                                        </p:attrNameLst>
                                      </p:cBhvr>
                                      <p:tavLst>
                                        <p:tav tm="0">
                                          <p:val>
                                            <p:strVal val="#ppt_y"/>
                                          </p:val>
                                        </p:tav>
                                        <p:tav tm="100000">
                                          <p:val>
                                            <p:strVal val="#ppt_y"/>
                                          </p:val>
                                        </p:tav>
                                      </p:tavLst>
                                    </p:anim>
                                  </p:childTnLst>
                                </p:cTn>
                              </p:par>
                              <p:par>
                                <p:cTn id="409" nodeType="withEffect" fill="hold" presetClass="entr" presetID="2" presetSubtype="8">
                                  <p:stCondLst>
                                    <p:cond delay="0"/>
                                  </p:stCondLst>
                                  <p:childTnLst>
                                    <p:set>
                                      <p:cBhvr>
                                        <p:cTn id="410" dur="1" fill="hold">
                                          <p:stCondLst>
                                            <p:cond delay="0"/>
                                          </p:stCondLst>
                                        </p:cTn>
                                        <p:tgtEl>
                                          <p:spTgt spid="618">
                                            <p:txEl>
                                              <p:pRg st="5" end="5"/>
                                            </p:txEl>
                                          </p:spTgt>
                                        </p:tgtEl>
                                        <p:attrNameLst>
                                          <p:attrName>style.visibility</p:attrName>
                                        </p:attrNameLst>
                                      </p:cBhvr>
                                      <p:to>
                                        <p:strVal val="visible"/>
                                      </p:to>
                                    </p:set>
                                    <p:anim calcmode="lin" valueType="num">
                                      <p:cBhvr additive="base">
                                        <p:cTn id="411" dur="500" fill="hold"/>
                                        <p:tgtEl>
                                          <p:spTgt spid="618">
                                            <p:txEl>
                                              <p:pRg st="5" end="5"/>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618">
                                            <p:txEl>
                                              <p:pRg st="5" end="5"/>
                                            </p:txEl>
                                          </p:spTgt>
                                        </p:tgtEl>
                                        <p:attrNameLst>
                                          <p:attrName>ppt_y</p:attrName>
                                        </p:attrNameLst>
                                      </p:cBhvr>
                                      <p:tavLst>
                                        <p:tav tm="0">
                                          <p:val>
                                            <p:strVal val="#ppt_y"/>
                                          </p:val>
                                        </p:tav>
                                        <p:tav tm="100000">
                                          <p:val>
                                            <p:strVal val="#ppt_y"/>
                                          </p:val>
                                        </p:tav>
                                      </p:tavLst>
                                    </p:anim>
                                  </p:childTnLst>
                                </p:cTn>
                              </p:par>
                              <p:par>
                                <p:cTn id="413" nodeType="withEffect" fill="hold" presetClass="entr" presetID="2" presetSubtype="8">
                                  <p:stCondLst>
                                    <p:cond delay="0"/>
                                  </p:stCondLst>
                                  <p:childTnLst>
                                    <p:set>
                                      <p:cBhvr>
                                        <p:cTn id="414" dur="1" fill="hold">
                                          <p:stCondLst>
                                            <p:cond delay="0"/>
                                          </p:stCondLst>
                                        </p:cTn>
                                        <p:tgtEl>
                                          <p:spTgt spid="618">
                                            <p:txEl>
                                              <p:pRg st="6" end="6"/>
                                            </p:txEl>
                                          </p:spTgt>
                                        </p:tgtEl>
                                        <p:attrNameLst>
                                          <p:attrName>style.visibility</p:attrName>
                                        </p:attrNameLst>
                                      </p:cBhvr>
                                      <p:to>
                                        <p:strVal val="visible"/>
                                      </p:to>
                                    </p:set>
                                    <p:anim calcmode="lin" valueType="num">
                                      <p:cBhvr additive="base">
                                        <p:cTn id="415" dur="500" fill="hold"/>
                                        <p:tgtEl>
                                          <p:spTgt spid="618">
                                            <p:txEl>
                                              <p:pRg st="6" end="6"/>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18">
                                            <p:txEl>
                                              <p:pRg st="6" end="6"/>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618">
                                            <p:txEl>
                                              <p:pRg st="7" end="7"/>
                                            </p:txEl>
                                          </p:spTgt>
                                        </p:tgtEl>
                                        <p:attrNameLst>
                                          <p:attrName>style.visibility</p:attrName>
                                        </p:attrNameLst>
                                      </p:cBhvr>
                                      <p:to>
                                        <p:strVal val="visible"/>
                                      </p:to>
                                    </p:set>
                                    <p:anim calcmode="lin" valueType="num">
                                      <p:cBhvr additive="base">
                                        <p:cTn id="419" dur="500" fill="hold"/>
                                        <p:tgtEl>
                                          <p:spTgt spid="618">
                                            <p:txEl>
                                              <p:pRg st="7" end="7"/>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18">
                                            <p:txEl>
                                              <p:pRg st="7" end="7"/>
                                            </p:txEl>
                                          </p:spTgt>
                                        </p:tgtEl>
                                        <p:attrNameLst>
                                          <p:attrName>ppt_y</p:attrName>
                                        </p:attrNameLst>
                                      </p:cBhvr>
                                      <p:tavLst>
                                        <p:tav tm="0">
                                          <p:val>
                                            <p:strVal val="#ppt_y"/>
                                          </p:val>
                                        </p:tav>
                                        <p:tav tm="100000">
                                          <p:val>
                                            <p:strVal val="#ppt_y"/>
                                          </p:val>
                                        </p:tav>
                                      </p:tavLst>
                                    </p:anim>
                                  </p:childTnLst>
                                </p:cTn>
                              </p:par>
                              <p:par>
                                <p:cTn id="421" nodeType="withEffect" fill="hold" presetClass="entr" presetID="2" presetSubtype="8">
                                  <p:stCondLst>
                                    <p:cond delay="0"/>
                                  </p:stCondLst>
                                  <p:childTnLst>
                                    <p:set>
                                      <p:cBhvr>
                                        <p:cTn id="422" dur="1" fill="hold">
                                          <p:stCondLst>
                                            <p:cond delay="0"/>
                                          </p:stCondLst>
                                        </p:cTn>
                                        <p:tgtEl>
                                          <p:spTgt spid="618">
                                            <p:txEl>
                                              <p:pRg st="8" end="8"/>
                                            </p:txEl>
                                          </p:spTgt>
                                        </p:tgtEl>
                                        <p:attrNameLst>
                                          <p:attrName>style.visibility</p:attrName>
                                        </p:attrNameLst>
                                      </p:cBhvr>
                                      <p:to>
                                        <p:strVal val="visible"/>
                                      </p:to>
                                    </p:set>
                                    <p:anim calcmode="lin" valueType="num">
                                      <p:cBhvr additive="base">
                                        <p:cTn id="423" dur="500" fill="hold"/>
                                        <p:tgtEl>
                                          <p:spTgt spid="618">
                                            <p:txEl>
                                              <p:pRg st="8" end="8"/>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61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20"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21" name="PlaceHolder 1"/>
          <p:cNvSpPr>
            <a:spLocks noGrp="1"/>
          </p:cNvSpPr>
          <p:nvPr>
            <p:ph type="title"/>
          </p:nvPr>
        </p:nvSpPr>
        <p:spPr>
          <a:xfrm>
            <a:off x="1539720" y="333000"/>
            <a:ext cx="86868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ecting Material to Digitize</a:t>
            </a:r>
            <a:endParaRPr b="0" lang="en-US" sz="4200" spc="-1" strike="noStrike">
              <a:solidFill>
                <a:srgbClr val="000000"/>
              </a:solidFill>
              <a:latin typeface="Arial"/>
            </a:endParaRPr>
          </a:p>
        </p:txBody>
      </p:sp>
      <p:sp>
        <p:nvSpPr>
          <p:cNvPr id="622"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cus on unique materials that are likely to have broad interest</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ild on strengths (seek critical mass)</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 infrastructure required</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 technical limitations</a:t>
            </a:r>
            <a:endParaRPr b="0" lang="en-US" sz="3000" spc="-1" strike="noStrike">
              <a:solidFill>
                <a:srgbClr val="000000"/>
              </a:solidFill>
              <a:latin typeface="Arial"/>
            </a:endParaRPr>
          </a:p>
        </p:txBody>
      </p:sp>
    </p:spTree>
  </p:cSld>
  <p:transition>
    <p:pull dir="ru"/>
  </p:transition>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622">
                                            <p:txEl>
                                              <p:pRg st="0" end="0"/>
                                            </p:txEl>
                                          </p:spTgt>
                                        </p:tgtEl>
                                        <p:attrNameLst>
                                          <p:attrName>style.visibility</p:attrName>
                                        </p:attrNameLst>
                                      </p:cBhvr>
                                      <p:to>
                                        <p:strVal val="visible"/>
                                      </p:to>
                                    </p:set>
                                    <p:anim calcmode="lin" valueType="num">
                                      <p:cBhvr additive="base">
                                        <p:cTn id="431" dur="500" fill="hold"/>
                                        <p:tgtEl>
                                          <p:spTgt spid="622">
                                            <p:txEl>
                                              <p:pRg st="0" end="0"/>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622">
                                            <p:txEl>
                                              <p:pRg st="1" end="1"/>
                                            </p:txEl>
                                          </p:spTgt>
                                        </p:tgtEl>
                                        <p:attrNameLst>
                                          <p:attrName>style.visibility</p:attrName>
                                        </p:attrNameLst>
                                      </p:cBhvr>
                                      <p:to>
                                        <p:strVal val="visible"/>
                                      </p:to>
                                    </p:set>
                                    <p:anim calcmode="lin" valueType="num">
                                      <p:cBhvr additive="base">
                                        <p:cTn id="437" dur="500" fill="hold"/>
                                        <p:tgtEl>
                                          <p:spTgt spid="622">
                                            <p:txEl>
                                              <p:pRg st="1" end="1"/>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6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622">
                                            <p:txEl>
                                              <p:pRg st="2" end="2"/>
                                            </p:txEl>
                                          </p:spTgt>
                                        </p:tgtEl>
                                        <p:attrNameLst>
                                          <p:attrName>style.visibility</p:attrName>
                                        </p:attrNameLst>
                                      </p:cBhvr>
                                      <p:to>
                                        <p:strVal val="visible"/>
                                      </p:to>
                                    </p:set>
                                    <p:anim calcmode="lin" valueType="num">
                                      <p:cBhvr additive="base">
                                        <p:cTn id="443" dur="500" fill="hold"/>
                                        <p:tgtEl>
                                          <p:spTgt spid="622">
                                            <p:txEl>
                                              <p:pRg st="2" end="2"/>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622">
                                            <p:txEl>
                                              <p:pRg st="3" end="3"/>
                                            </p:txEl>
                                          </p:spTgt>
                                        </p:tgtEl>
                                        <p:attrNameLst>
                                          <p:attrName>style.visibility</p:attrName>
                                        </p:attrNameLst>
                                      </p:cBhvr>
                                      <p:to>
                                        <p:strVal val="visible"/>
                                      </p:to>
                                    </p:set>
                                    <p:anim calcmode="lin" valueType="num">
                                      <p:cBhvr additive="base">
                                        <p:cTn id="449" dur="500" fill="hold"/>
                                        <p:tgtEl>
                                          <p:spTgt spid="622">
                                            <p:txEl>
                                              <p:pRg st="3" end="3"/>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6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24"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25"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cquiring: Digital Collections</a:t>
            </a:r>
            <a:endParaRPr b="0" lang="en-US" sz="4200" spc="-1" strike="noStrike">
              <a:solidFill>
                <a:srgbClr val="000000"/>
              </a:solidFill>
              <a:latin typeface="Arial"/>
            </a:endParaRPr>
          </a:p>
        </p:txBody>
      </p:sp>
      <p:sp>
        <p:nvSpPr>
          <p:cNvPr id="626"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gital acquisition continuum:</a:t>
            </a:r>
            <a:br>
              <a:rPr sz="3000"/>
            </a:br>
            <a:br>
              <a:rPr sz="3000"/>
            </a:br>
            <a:br>
              <a:rPr sz="3000"/>
            </a:b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5800" indent="-32580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procedures and workflows are required</a:t>
            </a:r>
            <a:endParaRPr b="0" lang="en-US" sz="3000" spc="-1" strike="noStrike">
              <a:solidFill>
                <a:srgbClr val="000000"/>
              </a:solidFill>
              <a:latin typeface="Arial"/>
            </a:endParaRPr>
          </a:p>
          <a:p>
            <a:pPr lvl="1" marL="705600" indent="-2714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pe loading, scanning, format translation, etc.</a:t>
            </a:r>
            <a:endParaRPr b="0" lang="en-US" sz="2800" spc="-1" strike="noStrike">
              <a:solidFill>
                <a:srgbClr val="000000"/>
              </a:solidFill>
              <a:latin typeface="Arial"/>
            </a:endParaRPr>
          </a:p>
        </p:txBody>
      </p:sp>
      <p:sp>
        <p:nvSpPr>
          <p:cNvPr id="627" name="Rectangle 6"/>
          <p:cNvSpPr/>
          <p:nvPr/>
        </p:nvSpPr>
        <p:spPr>
          <a:xfrm>
            <a:off x="1191960" y="2793960"/>
            <a:ext cx="945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Times New Roman"/>
              </a:rPr>
              <a:t>linking</a:t>
            </a:r>
            <a:endParaRPr b="0" lang="en-US" sz="2000" spc="-1" strike="noStrike">
              <a:solidFill>
                <a:srgbClr val="336666"/>
              </a:solidFill>
              <a:latin typeface="Arial"/>
            </a:endParaRPr>
          </a:p>
        </p:txBody>
      </p:sp>
      <p:sp>
        <p:nvSpPr>
          <p:cNvPr id="628" name="Rectangle 7"/>
          <p:cNvSpPr/>
          <p:nvPr/>
        </p:nvSpPr>
        <p:spPr>
          <a:xfrm>
            <a:off x="2745720" y="2781360"/>
            <a:ext cx="1269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Times New Roman"/>
              </a:rPr>
              <a:t>mirroring</a:t>
            </a:r>
            <a:endParaRPr b="0" lang="en-US" sz="2000" spc="-1" strike="noStrike">
              <a:solidFill>
                <a:srgbClr val="336666"/>
              </a:solidFill>
              <a:latin typeface="Arial"/>
            </a:endParaRPr>
          </a:p>
        </p:txBody>
      </p:sp>
      <p:sp>
        <p:nvSpPr>
          <p:cNvPr id="629" name="Rectangle 8"/>
          <p:cNvSpPr/>
          <p:nvPr/>
        </p:nvSpPr>
        <p:spPr>
          <a:xfrm>
            <a:off x="4924800" y="2781360"/>
            <a:ext cx="975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Times New Roman"/>
              </a:rPr>
              <a:t>hosting</a:t>
            </a:r>
            <a:endParaRPr b="0" lang="en-US" sz="2000" spc="-1" strike="noStrike">
              <a:solidFill>
                <a:srgbClr val="336666"/>
              </a:solidFill>
              <a:latin typeface="Arial"/>
            </a:endParaRPr>
          </a:p>
        </p:txBody>
      </p:sp>
      <p:sp>
        <p:nvSpPr>
          <p:cNvPr id="630" name="Rectangle 9"/>
          <p:cNvSpPr/>
          <p:nvPr/>
        </p:nvSpPr>
        <p:spPr>
          <a:xfrm>
            <a:off x="6449040" y="2781360"/>
            <a:ext cx="1214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Times New Roman"/>
              </a:rPr>
              <a:t>archiving</a:t>
            </a:r>
            <a:endParaRPr b="0" lang="en-US" sz="2000" spc="-1" strike="noStrike">
              <a:solidFill>
                <a:srgbClr val="336666"/>
              </a:solidFill>
              <a:latin typeface="Arial"/>
            </a:endParaRPr>
          </a:p>
        </p:txBody>
      </p:sp>
      <p:sp>
        <p:nvSpPr>
          <p:cNvPr id="631" name="Rectangle 10"/>
          <p:cNvSpPr/>
          <p:nvPr/>
        </p:nvSpPr>
        <p:spPr>
          <a:xfrm>
            <a:off x="2939040" y="3708360"/>
            <a:ext cx="2958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Times New Roman"/>
              </a:rPr>
              <a:t>Amount of Responsibility</a:t>
            </a:r>
            <a:endParaRPr b="0" lang="en-US" sz="2000" spc="-1" strike="noStrike">
              <a:solidFill>
                <a:srgbClr val="336666"/>
              </a:solidFill>
              <a:latin typeface="Arial"/>
            </a:endParaRPr>
          </a:p>
        </p:txBody>
      </p:sp>
      <p:sp>
        <p:nvSpPr>
          <p:cNvPr id="632" name="Line 11"/>
          <p:cNvSpPr/>
          <p:nvPr/>
        </p:nvSpPr>
        <p:spPr>
          <a:xfrm>
            <a:off x="1149480" y="3352680"/>
            <a:ext cx="6546600" cy="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Line 12"/>
          <p:cNvSpPr/>
          <p:nvPr/>
        </p:nvSpPr>
        <p:spPr>
          <a:xfrm flipV="1">
            <a:off x="1066680" y="2771280"/>
            <a:ext cx="0" cy="62892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4" name="Line 13"/>
          <p:cNvSpPr/>
          <p:nvPr/>
        </p:nvSpPr>
        <p:spPr>
          <a:xfrm flipV="1">
            <a:off x="7772400" y="2771280"/>
            <a:ext cx="0" cy="628920"/>
          </a:xfrm>
          <a:prstGeom prst="line">
            <a:avLst/>
          </a:prstGeom>
          <a:ln w="507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5" name="Rectangle 14"/>
          <p:cNvSpPr/>
          <p:nvPr/>
        </p:nvSpPr>
        <p:spPr>
          <a:xfrm>
            <a:off x="660240" y="3403440"/>
            <a:ext cx="803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Times New Roman"/>
              </a:rPr>
              <a:t>LESS</a:t>
            </a:r>
            <a:endParaRPr b="0" lang="en-US" sz="2000" spc="-1" strike="noStrike">
              <a:solidFill>
                <a:srgbClr val="336666"/>
              </a:solidFill>
              <a:latin typeface="Arial"/>
            </a:endParaRPr>
          </a:p>
        </p:txBody>
      </p:sp>
      <p:sp>
        <p:nvSpPr>
          <p:cNvPr id="636" name="Rectangle 15"/>
          <p:cNvSpPr/>
          <p:nvPr/>
        </p:nvSpPr>
        <p:spPr>
          <a:xfrm>
            <a:off x="7307640" y="340344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Times New Roman"/>
              </a:rPr>
              <a:t>MORE</a:t>
            </a:r>
            <a:endParaRPr b="0" lang="en-US" sz="2000" spc="-1" strike="noStrike">
              <a:solidFill>
                <a:srgbClr val="336666"/>
              </a:solidFill>
              <a:latin typeface="Arial"/>
            </a:endParaRPr>
          </a:p>
        </p:txBody>
      </p:sp>
    </p:spTree>
  </p:cSld>
  <p:transition>
    <p:pull dir="ru"/>
  </p:transition>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626">
                                            <p:txEl>
                                              <p:pRg st="0" end="0"/>
                                            </p:txEl>
                                          </p:spTgt>
                                        </p:tgtEl>
                                        <p:attrNameLst>
                                          <p:attrName>style.visibility</p:attrName>
                                        </p:attrNameLst>
                                      </p:cBhvr>
                                      <p:to>
                                        <p:strVal val="visible"/>
                                      </p:to>
                                    </p:set>
                                    <p:anim calcmode="lin" valueType="num">
                                      <p:cBhvr additive="base">
                                        <p:cTn id="457" dur="500" fill="hold"/>
                                        <p:tgtEl>
                                          <p:spTgt spid="626">
                                            <p:txEl>
                                              <p:pRg st="0" end="0"/>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6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626">
                                            <p:txEl>
                                              <p:pRg st="2" end="2"/>
                                            </p:txEl>
                                          </p:spTgt>
                                        </p:tgtEl>
                                        <p:attrNameLst>
                                          <p:attrName>style.visibility</p:attrName>
                                        </p:attrNameLst>
                                      </p:cBhvr>
                                      <p:to>
                                        <p:strVal val="visible"/>
                                      </p:to>
                                    </p:set>
                                    <p:anim calcmode="lin" valueType="num">
                                      <p:cBhvr additive="base">
                                        <p:cTn id="463" dur="500" fill="hold"/>
                                        <p:tgtEl>
                                          <p:spTgt spid="626">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626">
                                            <p:txEl>
                                              <p:pRg st="2" end="2"/>
                                            </p:txEl>
                                          </p:spTgt>
                                        </p:tgtEl>
                                        <p:attrNameLst>
                                          <p:attrName>ppt_y</p:attrName>
                                        </p:attrNameLst>
                                      </p:cBhvr>
                                      <p:tavLst>
                                        <p:tav tm="0">
                                          <p:val>
                                            <p:strVal val="#ppt_y"/>
                                          </p:val>
                                        </p:tav>
                                        <p:tav tm="100000">
                                          <p:val>
                                            <p:strVal val="#ppt_y"/>
                                          </p:val>
                                        </p:tav>
                                      </p:tavLst>
                                    </p:anim>
                                  </p:childTnLst>
                                </p:cTn>
                              </p:par>
                              <p:par>
                                <p:cTn id="465" nodeType="withEffect" fill="hold" presetClass="entr" presetID="2" presetSubtype="8">
                                  <p:stCondLst>
                                    <p:cond delay="0"/>
                                  </p:stCondLst>
                                  <p:childTnLst>
                                    <p:set>
                                      <p:cBhvr>
                                        <p:cTn id="466" dur="1" fill="hold">
                                          <p:stCondLst>
                                            <p:cond delay="0"/>
                                          </p:stCondLst>
                                        </p:cTn>
                                        <p:tgtEl>
                                          <p:spTgt spid="626">
                                            <p:txEl>
                                              <p:pRg st="3" end="3"/>
                                            </p:txEl>
                                          </p:spTgt>
                                        </p:tgtEl>
                                        <p:attrNameLst>
                                          <p:attrName>style.visibility</p:attrName>
                                        </p:attrNameLst>
                                      </p:cBhvr>
                                      <p:to>
                                        <p:strVal val="visible"/>
                                      </p:to>
                                    </p:set>
                                    <p:anim calcmode="lin" valueType="num">
                                      <p:cBhvr additive="base">
                                        <p:cTn id="467" dur="500" fill="hold"/>
                                        <p:tgtEl>
                                          <p:spTgt spid="626">
                                            <p:txEl>
                                              <p:pRg st="3" end="3"/>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F29F-47F8-48D9-A226-D52AE4CE047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7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ponents of a DL system </a:t>
            </a: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ms (1997) names the following components for digital librar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 interfaces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ository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ndle system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 syste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8"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cquiring: Non-Digital Collections</a:t>
            </a:r>
            <a:endParaRPr b="0" lang="en-US" sz="4200" spc="-1" strike="noStrike">
              <a:solidFill>
                <a:srgbClr val="000000"/>
              </a:solidFill>
              <a:latin typeface="Arial"/>
            </a:endParaRPr>
          </a:p>
        </p:txBody>
      </p:sp>
      <p:sp>
        <p:nvSpPr>
          <p:cNvPr id="640" name="PlaceHolder 2"/>
          <p:cNvSpPr>
            <a:spLocks noGrp="1"/>
          </p:cNvSpPr>
          <p:nvPr>
            <p:ph/>
          </p:nvPr>
        </p:nvSpPr>
        <p:spPr>
          <a:xfrm>
            <a:off x="304560" y="1828800"/>
            <a:ext cx="8001000" cy="4114800"/>
          </a:xfrm>
          <a:prstGeom prst="rect">
            <a:avLst/>
          </a:prstGeom>
          <a:noFill/>
          <a:ln w="0">
            <a:noFill/>
          </a:ln>
        </p:spPr>
        <p:txBody>
          <a:bodyPr lIns="90360" rIns="90360" tIns="44280" bIns="44280" anchor="t">
            <a:normAutofit/>
          </a:bodyPr>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ization methods:</a:t>
            </a:r>
            <a:endParaRPr b="0" lang="en-US" sz="28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ner (flatbed, slide, handheld, etc.)</a:t>
            </a:r>
            <a:endParaRPr b="0" lang="en-US" sz="24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camera:</a:t>
            </a:r>
            <a:endParaRPr b="0" lang="en-US" sz="2400" spc="-1" strike="noStrike">
              <a:solidFill>
                <a:srgbClr val="000000"/>
              </a:solidFill>
              <a:latin typeface="Arial"/>
            </a:endParaRPr>
          </a:p>
          <a:p>
            <a:pPr lvl="2" marL="1143000" indent="-228600">
              <a:lnSpc>
                <a:spcPct val="89000"/>
              </a:lnSpc>
              <a:spcBef>
                <a:spcPts val="499"/>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resolution - $US300-3,000+</a:t>
            </a:r>
            <a:endParaRPr b="0" lang="en-US" sz="2000" spc="-1" strike="noStrike">
              <a:solidFill>
                <a:srgbClr val="000000"/>
              </a:solidFill>
              <a:latin typeface="Arial"/>
            </a:endParaRPr>
          </a:p>
          <a:p>
            <a:pPr lvl="2" marL="1143000" indent="-228600">
              <a:lnSpc>
                <a:spcPct val="89000"/>
              </a:lnSpc>
              <a:spcBef>
                <a:spcPts val="499"/>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resolution - $US25,000-35,000+</a:t>
            </a:r>
            <a:endParaRPr b="0" lang="en-US" sz="20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dak PhotoCD</a:t>
            </a:r>
            <a:endParaRPr b="0" lang="en-US" sz="24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step for text </a:t>
            </a:r>
            <a:br>
              <a:rPr sz="2800"/>
            </a:br>
            <a:r>
              <a:rPr b="0" lang="en-US" sz="2800" spc="-1" strike="noStrike">
                <a:solidFill>
                  <a:srgbClr val="000000"/>
                </a:solidFill>
                <a:latin typeface="Arial"/>
              </a:rPr>
              <a:t>conversion</a:t>
            </a:r>
            <a:endParaRPr b="0" lang="en-US" sz="28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cal Character Recognition </a:t>
            </a:r>
            <a:br>
              <a:rPr sz="2400"/>
            </a:br>
            <a:r>
              <a:rPr b="0" lang="en-US" sz="2400" spc="-1" strike="noStrike">
                <a:solidFill>
                  <a:srgbClr val="000000"/>
                </a:solidFill>
                <a:latin typeface="Arial"/>
              </a:rPr>
              <a:t>or Re-keying</a:t>
            </a:r>
            <a:endParaRPr b="0" lang="en-US" sz="2400" spc="-1" strike="noStrike">
              <a:solidFill>
                <a:srgbClr val="000000"/>
              </a:solidFill>
              <a:latin typeface="Arial"/>
            </a:endParaRPr>
          </a:p>
        </p:txBody>
      </p:sp>
      <p:pic>
        <p:nvPicPr>
          <p:cNvPr id="641" name="Picture 6" descr=""/>
          <p:cNvPicPr/>
          <p:nvPr/>
        </p:nvPicPr>
        <p:blipFill>
          <a:blip r:embed="rId1"/>
          <a:stretch/>
        </p:blipFill>
        <p:spPr>
          <a:xfrm>
            <a:off x="5486400" y="3889440"/>
            <a:ext cx="3430440" cy="2968560"/>
          </a:xfrm>
          <a:prstGeom prst="rect">
            <a:avLst/>
          </a:prstGeom>
          <a:ln w="0">
            <a:noFill/>
          </a:ln>
        </p:spPr>
      </p:pic>
    </p:spTree>
  </p:cSld>
  <p:transition>
    <p:pull dir="ru"/>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640">
                                            <p:txEl>
                                              <p:pRg st="0" end="0"/>
                                            </p:txEl>
                                          </p:spTgt>
                                        </p:tgtEl>
                                        <p:attrNameLst>
                                          <p:attrName>style.visibility</p:attrName>
                                        </p:attrNameLst>
                                      </p:cBhvr>
                                      <p:to>
                                        <p:strVal val="visible"/>
                                      </p:to>
                                    </p:set>
                                    <p:anim calcmode="lin" valueType="num">
                                      <p:cBhvr additive="base">
                                        <p:cTn id="475" dur="500" fill="hold"/>
                                        <p:tgtEl>
                                          <p:spTgt spid="64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640">
                                            <p:txEl>
                                              <p:pRg st="0" end="0"/>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8">
                                  <p:stCondLst>
                                    <p:cond delay="0"/>
                                  </p:stCondLst>
                                  <p:childTnLst>
                                    <p:set>
                                      <p:cBhvr>
                                        <p:cTn id="478" dur="1" fill="hold">
                                          <p:stCondLst>
                                            <p:cond delay="0"/>
                                          </p:stCondLst>
                                        </p:cTn>
                                        <p:tgtEl>
                                          <p:spTgt spid="640">
                                            <p:txEl>
                                              <p:pRg st="1" end="1"/>
                                            </p:txEl>
                                          </p:spTgt>
                                        </p:tgtEl>
                                        <p:attrNameLst>
                                          <p:attrName>style.visibility</p:attrName>
                                        </p:attrNameLst>
                                      </p:cBhvr>
                                      <p:to>
                                        <p:strVal val="visible"/>
                                      </p:to>
                                    </p:set>
                                    <p:anim calcmode="lin" valueType="num">
                                      <p:cBhvr additive="base">
                                        <p:cTn id="479" dur="500" fill="hold"/>
                                        <p:tgtEl>
                                          <p:spTgt spid="640">
                                            <p:txEl>
                                              <p:pRg st="1" end="1"/>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640">
                                            <p:txEl>
                                              <p:pRg st="1" end="1"/>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8">
                                  <p:stCondLst>
                                    <p:cond delay="0"/>
                                  </p:stCondLst>
                                  <p:childTnLst>
                                    <p:set>
                                      <p:cBhvr>
                                        <p:cTn id="482" dur="1" fill="hold">
                                          <p:stCondLst>
                                            <p:cond delay="0"/>
                                          </p:stCondLst>
                                        </p:cTn>
                                        <p:tgtEl>
                                          <p:spTgt spid="640">
                                            <p:txEl>
                                              <p:pRg st="2" end="2"/>
                                            </p:txEl>
                                          </p:spTgt>
                                        </p:tgtEl>
                                        <p:attrNameLst>
                                          <p:attrName>style.visibility</p:attrName>
                                        </p:attrNameLst>
                                      </p:cBhvr>
                                      <p:to>
                                        <p:strVal val="visible"/>
                                      </p:to>
                                    </p:set>
                                    <p:anim calcmode="lin" valueType="num">
                                      <p:cBhvr additive="base">
                                        <p:cTn id="483" dur="500" fill="hold"/>
                                        <p:tgtEl>
                                          <p:spTgt spid="640">
                                            <p:txEl>
                                              <p:pRg st="2" end="2"/>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640">
                                            <p:txEl>
                                              <p:pRg st="2" end="2"/>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8">
                                  <p:stCondLst>
                                    <p:cond delay="0"/>
                                  </p:stCondLst>
                                  <p:childTnLst>
                                    <p:set>
                                      <p:cBhvr>
                                        <p:cTn id="486" dur="1" fill="hold">
                                          <p:stCondLst>
                                            <p:cond delay="0"/>
                                          </p:stCondLst>
                                        </p:cTn>
                                        <p:tgtEl>
                                          <p:spTgt spid="640">
                                            <p:txEl>
                                              <p:pRg st="3" end="3"/>
                                            </p:txEl>
                                          </p:spTgt>
                                        </p:tgtEl>
                                        <p:attrNameLst>
                                          <p:attrName>style.visibility</p:attrName>
                                        </p:attrNameLst>
                                      </p:cBhvr>
                                      <p:to>
                                        <p:strVal val="visible"/>
                                      </p:to>
                                    </p:set>
                                    <p:anim calcmode="lin" valueType="num">
                                      <p:cBhvr additive="base">
                                        <p:cTn id="487" dur="500" fill="hold"/>
                                        <p:tgtEl>
                                          <p:spTgt spid="64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640">
                                            <p:txEl>
                                              <p:pRg st="3" end="3"/>
                                            </p:txEl>
                                          </p:spTgt>
                                        </p:tgtEl>
                                        <p:attrNameLst>
                                          <p:attrName>ppt_y</p:attrName>
                                        </p:attrNameLst>
                                      </p:cBhvr>
                                      <p:tavLst>
                                        <p:tav tm="0">
                                          <p:val>
                                            <p:strVal val="#ppt_y"/>
                                          </p:val>
                                        </p:tav>
                                        <p:tav tm="100000">
                                          <p:val>
                                            <p:strVal val="#ppt_y"/>
                                          </p:val>
                                        </p:tav>
                                      </p:tavLst>
                                    </p:anim>
                                  </p:childTnLst>
                                </p:cTn>
                              </p:par>
                              <p:par>
                                <p:cTn id="489" nodeType="withEffect" fill="hold" presetClass="entr" presetID="2" presetSubtype="8">
                                  <p:stCondLst>
                                    <p:cond delay="0"/>
                                  </p:stCondLst>
                                  <p:childTnLst>
                                    <p:set>
                                      <p:cBhvr>
                                        <p:cTn id="490" dur="1" fill="hold">
                                          <p:stCondLst>
                                            <p:cond delay="0"/>
                                          </p:stCondLst>
                                        </p:cTn>
                                        <p:tgtEl>
                                          <p:spTgt spid="640">
                                            <p:txEl>
                                              <p:pRg st="4" end="4"/>
                                            </p:txEl>
                                          </p:spTgt>
                                        </p:tgtEl>
                                        <p:attrNameLst>
                                          <p:attrName>style.visibility</p:attrName>
                                        </p:attrNameLst>
                                      </p:cBhvr>
                                      <p:to>
                                        <p:strVal val="visible"/>
                                      </p:to>
                                    </p:set>
                                    <p:anim calcmode="lin" valueType="num">
                                      <p:cBhvr additive="base">
                                        <p:cTn id="491" dur="500" fill="hold"/>
                                        <p:tgtEl>
                                          <p:spTgt spid="640">
                                            <p:txEl>
                                              <p:pRg st="4" end="4"/>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640">
                                            <p:txEl>
                                              <p:pRg st="4" end="4"/>
                                            </p:txEl>
                                          </p:spTgt>
                                        </p:tgtEl>
                                        <p:attrNameLst>
                                          <p:attrName>ppt_y</p:attrName>
                                        </p:attrNameLst>
                                      </p:cBhvr>
                                      <p:tavLst>
                                        <p:tav tm="0">
                                          <p:val>
                                            <p:strVal val="#ppt_y"/>
                                          </p:val>
                                        </p:tav>
                                        <p:tav tm="100000">
                                          <p:val>
                                            <p:strVal val="#ppt_y"/>
                                          </p:val>
                                        </p:tav>
                                      </p:tavLst>
                                    </p:anim>
                                  </p:childTnLst>
                                </p:cTn>
                              </p:par>
                              <p:par>
                                <p:cTn id="493" nodeType="withEffect" fill="hold" presetClass="entr" presetID="2" presetSubtype="8">
                                  <p:stCondLst>
                                    <p:cond delay="0"/>
                                  </p:stCondLst>
                                  <p:childTnLst>
                                    <p:set>
                                      <p:cBhvr>
                                        <p:cTn id="494" dur="1" fill="hold">
                                          <p:stCondLst>
                                            <p:cond delay="0"/>
                                          </p:stCondLst>
                                        </p:cTn>
                                        <p:tgtEl>
                                          <p:spTgt spid="640">
                                            <p:txEl>
                                              <p:pRg st="5" end="5"/>
                                            </p:txEl>
                                          </p:spTgt>
                                        </p:tgtEl>
                                        <p:attrNameLst>
                                          <p:attrName>style.visibility</p:attrName>
                                        </p:attrNameLst>
                                      </p:cBhvr>
                                      <p:to>
                                        <p:strVal val="visible"/>
                                      </p:to>
                                    </p:set>
                                    <p:anim calcmode="lin" valueType="num">
                                      <p:cBhvr additive="base">
                                        <p:cTn id="495" dur="500" fill="hold"/>
                                        <p:tgtEl>
                                          <p:spTgt spid="640">
                                            <p:txEl>
                                              <p:pRg st="5" end="5"/>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6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640">
                                            <p:txEl>
                                              <p:pRg st="6" end="6"/>
                                            </p:txEl>
                                          </p:spTgt>
                                        </p:tgtEl>
                                        <p:attrNameLst>
                                          <p:attrName>style.visibility</p:attrName>
                                        </p:attrNameLst>
                                      </p:cBhvr>
                                      <p:to>
                                        <p:strVal val="visible"/>
                                      </p:to>
                                    </p:set>
                                    <p:anim calcmode="lin" valueType="num">
                                      <p:cBhvr additive="base">
                                        <p:cTn id="501" dur="500" fill="hold"/>
                                        <p:tgtEl>
                                          <p:spTgt spid="640">
                                            <p:txEl>
                                              <p:pRg st="6" end="6"/>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40">
                                            <p:txEl>
                                              <p:pRg st="6" end="6"/>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640">
                                            <p:txEl>
                                              <p:pRg st="7" end="7"/>
                                            </p:txEl>
                                          </p:spTgt>
                                        </p:tgtEl>
                                        <p:attrNameLst>
                                          <p:attrName>style.visibility</p:attrName>
                                        </p:attrNameLst>
                                      </p:cBhvr>
                                      <p:to>
                                        <p:strVal val="visible"/>
                                      </p:to>
                                    </p:set>
                                    <p:anim calcmode="lin" valueType="num">
                                      <p:cBhvr additive="base">
                                        <p:cTn id="505" dur="500" fill="hold"/>
                                        <p:tgtEl>
                                          <p:spTgt spid="640">
                                            <p:txEl>
                                              <p:pRg st="7" end="7"/>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64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43"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44"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cquiring: Image File Formats</a:t>
            </a:r>
            <a:endParaRPr b="0" lang="en-US" sz="4200" spc="-1" strike="noStrike">
              <a:solidFill>
                <a:srgbClr val="000000"/>
              </a:solidFill>
              <a:latin typeface="Arial"/>
            </a:endParaRPr>
          </a:p>
        </p:txBody>
      </p:sp>
      <p:sp>
        <p:nvSpPr>
          <p:cNvPr id="645"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val version: high-resolution TIFF</a:t>
            </a:r>
            <a:endParaRPr b="0" lang="en-US" sz="28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versions: </a:t>
            </a:r>
            <a:endParaRPr b="0" lang="en-US" sz="28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low-resolution GIF </a:t>
            </a:r>
            <a:endParaRPr b="0" lang="en-US" sz="24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medium-resolution JPEG</a:t>
            </a:r>
            <a:endParaRPr b="0" lang="en-US" sz="24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med./high-resolution JPEG or TIFF</a:t>
            </a:r>
            <a:endParaRPr b="0" lang="en-US" sz="24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and-coming: MrSID, Flashpix, PNG</a:t>
            </a:r>
            <a:endParaRPr b="0" lang="en-US" sz="2800" spc="-1" strike="noStrike">
              <a:solidFill>
                <a:srgbClr val="000000"/>
              </a:solidFill>
              <a:latin typeface="Arial"/>
            </a:endParaRPr>
          </a:p>
        </p:txBody>
      </p:sp>
    </p:spTree>
  </p:cSld>
  <p:transition>
    <p:pull dir="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645">
                                            <p:txEl>
                                              <p:pRg st="0" end="0"/>
                                            </p:txEl>
                                          </p:spTgt>
                                        </p:tgtEl>
                                        <p:attrNameLst>
                                          <p:attrName>style.visibility</p:attrName>
                                        </p:attrNameLst>
                                      </p:cBhvr>
                                      <p:to>
                                        <p:strVal val="visible"/>
                                      </p:to>
                                    </p:set>
                                    <p:anim calcmode="lin" valueType="num">
                                      <p:cBhvr additive="base">
                                        <p:cTn id="513" dur="500" fill="hold"/>
                                        <p:tgtEl>
                                          <p:spTgt spid="645">
                                            <p:txEl>
                                              <p:pRg st="0" end="0"/>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6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645">
                                            <p:txEl>
                                              <p:pRg st="1" end="1"/>
                                            </p:txEl>
                                          </p:spTgt>
                                        </p:tgtEl>
                                        <p:attrNameLst>
                                          <p:attrName>style.visibility</p:attrName>
                                        </p:attrNameLst>
                                      </p:cBhvr>
                                      <p:to>
                                        <p:strVal val="visible"/>
                                      </p:to>
                                    </p:set>
                                    <p:anim calcmode="lin" valueType="num">
                                      <p:cBhvr additive="base">
                                        <p:cTn id="519" dur="500" fill="hold"/>
                                        <p:tgtEl>
                                          <p:spTgt spid="645">
                                            <p:txEl>
                                              <p:pRg st="1" end="1"/>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45">
                                            <p:txEl>
                                              <p:pRg st="1" end="1"/>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set>
                                      <p:cBhvr>
                                        <p:cTn id="522" dur="1" fill="hold">
                                          <p:stCondLst>
                                            <p:cond delay="0"/>
                                          </p:stCondLst>
                                        </p:cTn>
                                        <p:tgtEl>
                                          <p:spTgt spid="645">
                                            <p:txEl>
                                              <p:pRg st="2" end="2"/>
                                            </p:txEl>
                                          </p:spTgt>
                                        </p:tgtEl>
                                        <p:attrNameLst>
                                          <p:attrName>style.visibility</p:attrName>
                                        </p:attrNameLst>
                                      </p:cBhvr>
                                      <p:to>
                                        <p:strVal val="visible"/>
                                      </p:to>
                                    </p:set>
                                    <p:anim calcmode="lin" valueType="num">
                                      <p:cBhvr additive="base">
                                        <p:cTn id="523" dur="500" fill="hold"/>
                                        <p:tgtEl>
                                          <p:spTgt spid="645">
                                            <p:txEl>
                                              <p:pRg st="2" end="2"/>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645">
                                            <p:txEl>
                                              <p:pRg st="2" end="2"/>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set>
                                      <p:cBhvr>
                                        <p:cTn id="526" dur="1" fill="hold">
                                          <p:stCondLst>
                                            <p:cond delay="0"/>
                                          </p:stCondLst>
                                        </p:cTn>
                                        <p:tgtEl>
                                          <p:spTgt spid="645">
                                            <p:txEl>
                                              <p:pRg st="3" end="3"/>
                                            </p:txEl>
                                          </p:spTgt>
                                        </p:tgtEl>
                                        <p:attrNameLst>
                                          <p:attrName>style.visibility</p:attrName>
                                        </p:attrNameLst>
                                      </p:cBhvr>
                                      <p:to>
                                        <p:strVal val="visible"/>
                                      </p:to>
                                    </p:set>
                                    <p:anim calcmode="lin" valueType="num">
                                      <p:cBhvr additive="base">
                                        <p:cTn id="527" dur="500" fill="hold"/>
                                        <p:tgtEl>
                                          <p:spTgt spid="645">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645">
                                            <p:txEl>
                                              <p:pRg st="3" end="3"/>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set>
                                      <p:cBhvr>
                                        <p:cTn id="530" dur="1" fill="hold">
                                          <p:stCondLst>
                                            <p:cond delay="0"/>
                                          </p:stCondLst>
                                        </p:cTn>
                                        <p:tgtEl>
                                          <p:spTgt spid="645">
                                            <p:txEl>
                                              <p:pRg st="4" end="4"/>
                                            </p:txEl>
                                          </p:spTgt>
                                        </p:tgtEl>
                                        <p:attrNameLst>
                                          <p:attrName>style.visibility</p:attrName>
                                        </p:attrNameLst>
                                      </p:cBhvr>
                                      <p:to>
                                        <p:strVal val="visible"/>
                                      </p:to>
                                    </p:set>
                                    <p:anim calcmode="lin" valueType="num">
                                      <p:cBhvr additive="base">
                                        <p:cTn id="531" dur="500" fill="hold"/>
                                        <p:tgtEl>
                                          <p:spTgt spid="645">
                                            <p:txEl>
                                              <p:pRg st="4" end="4"/>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6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645">
                                            <p:txEl>
                                              <p:pRg st="5" end="5"/>
                                            </p:txEl>
                                          </p:spTgt>
                                        </p:tgtEl>
                                        <p:attrNameLst>
                                          <p:attrName>style.visibility</p:attrName>
                                        </p:attrNameLst>
                                      </p:cBhvr>
                                      <p:to>
                                        <p:strVal val="visible"/>
                                      </p:to>
                                    </p:set>
                                    <p:anim calcmode="lin" valueType="num">
                                      <p:cBhvr additive="base">
                                        <p:cTn id="537" dur="500" fill="hold"/>
                                        <p:tgtEl>
                                          <p:spTgt spid="645">
                                            <p:txEl>
                                              <p:pRg st="5" end="5"/>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6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47"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48" name="PlaceHolder 1"/>
          <p:cNvSpPr>
            <a:spLocks noGrp="1"/>
          </p:cNvSpPr>
          <p:nvPr>
            <p:ph type="title"/>
          </p:nvPr>
        </p:nvSpPr>
        <p:spPr>
          <a:xfrm>
            <a:off x="1547280" y="266400"/>
            <a:ext cx="8001000" cy="114300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cquiring: Text File Formats</a:t>
            </a:r>
            <a:endParaRPr b="0" lang="en-US" sz="4200" spc="-1" strike="noStrike">
              <a:solidFill>
                <a:srgbClr val="000000"/>
              </a:solidFill>
              <a:latin typeface="Arial"/>
            </a:endParaRPr>
          </a:p>
        </p:txBody>
      </p:sp>
      <p:sp>
        <p:nvSpPr>
          <p:cNvPr id="649"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a:t>
            </a:r>
            <a:endParaRPr b="0" lang="en-US" sz="28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Word, Adobe </a:t>
            </a:r>
            <a:br>
              <a:rPr sz="2400"/>
            </a:br>
            <a:r>
              <a:rPr b="0" lang="en-US" sz="2400" spc="-1" strike="noStrike">
                <a:solidFill>
                  <a:srgbClr val="000000"/>
                </a:solidFill>
                <a:latin typeface="Arial"/>
              </a:rPr>
              <a:t>Pagemaker, etc.</a:t>
            </a:r>
            <a:endParaRPr b="0" lang="en-US" sz="24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be Acrobat</a:t>
            </a:r>
            <a:endParaRPr b="0" lang="en-US" sz="28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in text</a:t>
            </a:r>
            <a:endParaRPr b="0" lang="en-US" sz="28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a:t>
            </a:r>
            <a:endParaRPr b="0" lang="en-US" sz="28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GML or XML</a:t>
            </a:r>
            <a:endParaRPr b="0" lang="en-US" sz="2800" spc="-1" strike="noStrike">
              <a:solidFill>
                <a:srgbClr val="000000"/>
              </a:solidFill>
              <a:latin typeface="Arial"/>
            </a:endParaRPr>
          </a:p>
        </p:txBody>
      </p:sp>
      <p:pic>
        <p:nvPicPr>
          <p:cNvPr id="650" name="Picture 6" descr="&#9;Picture 9                                                      00000002_x000b_Roy Tennant                    ABA78158:"/>
          <p:cNvPicPr/>
          <p:nvPr/>
        </p:nvPicPr>
        <p:blipFill>
          <a:blip r:embed="rId1"/>
          <a:stretch/>
        </p:blipFill>
        <p:spPr>
          <a:xfrm>
            <a:off x="4724280" y="1600200"/>
            <a:ext cx="4400640" cy="5105520"/>
          </a:xfrm>
          <a:prstGeom prst="rect">
            <a:avLst/>
          </a:prstGeom>
          <a:ln w="0">
            <a:noFill/>
          </a:ln>
        </p:spPr>
      </p:pic>
    </p:spTree>
  </p:cSld>
  <p:transition>
    <p:pull dir="ru"/>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649">
                                            <p:txEl>
                                              <p:pRg st="0" end="0"/>
                                            </p:txEl>
                                          </p:spTgt>
                                        </p:tgtEl>
                                        <p:attrNameLst>
                                          <p:attrName>style.visibility</p:attrName>
                                        </p:attrNameLst>
                                      </p:cBhvr>
                                      <p:to>
                                        <p:strVal val="visible"/>
                                      </p:to>
                                    </p:set>
                                    <p:anim calcmode="lin" valueType="num">
                                      <p:cBhvr additive="base">
                                        <p:cTn id="545"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649">
                                            <p:txEl>
                                              <p:pRg st="0" end="0"/>
                                            </p:txEl>
                                          </p:spTgt>
                                        </p:tgtEl>
                                        <p:attrNameLst>
                                          <p:attrName>ppt_y</p:attrName>
                                        </p:attrNameLst>
                                      </p:cBhvr>
                                      <p:tavLst>
                                        <p:tav tm="0">
                                          <p:val>
                                            <p:strVal val="#ppt_y"/>
                                          </p:val>
                                        </p:tav>
                                        <p:tav tm="100000">
                                          <p:val>
                                            <p:strVal val="#ppt_y"/>
                                          </p:val>
                                        </p:tav>
                                      </p:tavLst>
                                    </p:anim>
                                  </p:childTnLst>
                                </p:cTn>
                              </p:par>
                              <p:par>
                                <p:cTn id="547" nodeType="withEffect" fill="hold" presetClass="entr" presetID="2" presetSubtype="8">
                                  <p:stCondLst>
                                    <p:cond delay="0"/>
                                  </p:stCondLst>
                                  <p:childTnLst>
                                    <p:set>
                                      <p:cBhvr>
                                        <p:cTn id="548" dur="1" fill="hold">
                                          <p:stCondLst>
                                            <p:cond delay="0"/>
                                          </p:stCondLst>
                                        </p:cTn>
                                        <p:tgtEl>
                                          <p:spTgt spid="649">
                                            <p:txEl>
                                              <p:pRg st="1" end="1"/>
                                            </p:txEl>
                                          </p:spTgt>
                                        </p:tgtEl>
                                        <p:attrNameLst>
                                          <p:attrName>style.visibility</p:attrName>
                                        </p:attrNameLst>
                                      </p:cBhvr>
                                      <p:to>
                                        <p:strVal val="visible"/>
                                      </p:to>
                                    </p:set>
                                    <p:anim calcmode="lin" valueType="num">
                                      <p:cBhvr additive="base">
                                        <p:cTn id="549" dur="500" fill="hold"/>
                                        <p:tgtEl>
                                          <p:spTgt spid="649">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6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649">
                                            <p:txEl>
                                              <p:pRg st="2" end="2"/>
                                            </p:txEl>
                                          </p:spTgt>
                                        </p:tgtEl>
                                        <p:attrNameLst>
                                          <p:attrName>style.visibility</p:attrName>
                                        </p:attrNameLst>
                                      </p:cBhvr>
                                      <p:to>
                                        <p:strVal val="visible"/>
                                      </p:to>
                                    </p:set>
                                    <p:anim calcmode="lin" valueType="num">
                                      <p:cBhvr additive="base">
                                        <p:cTn id="555" dur="500" fill="hold"/>
                                        <p:tgtEl>
                                          <p:spTgt spid="649">
                                            <p:txEl>
                                              <p:pRg st="2" end="2"/>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6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649">
                                            <p:txEl>
                                              <p:pRg st="3" end="3"/>
                                            </p:txEl>
                                          </p:spTgt>
                                        </p:tgtEl>
                                        <p:attrNameLst>
                                          <p:attrName>style.visibility</p:attrName>
                                        </p:attrNameLst>
                                      </p:cBhvr>
                                      <p:to>
                                        <p:strVal val="visible"/>
                                      </p:to>
                                    </p:set>
                                    <p:anim calcmode="lin" valueType="num">
                                      <p:cBhvr additive="base">
                                        <p:cTn id="561" dur="500" fill="hold"/>
                                        <p:tgtEl>
                                          <p:spTgt spid="649">
                                            <p:txEl>
                                              <p:pRg st="3" end="3"/>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6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649">
                                            <p:txEl>
                                              <p:pRg st="4" end="4"/>
                                            </p:txEl>
                                          </p:spTgt>
                                        </p:tgtEl>
                                        <p:attrNameLst>
                                          <p:attrName>style.visibility</p:attrName>
                                        </p:attrNameLst>
                                      </p:cBhvr>
                                      <p:to>
                                        <p:strVal val="visible"/>
                                      </p:to>
                                    </p:set>
                                    <p:anim calcmode="lin" valueType="num">
                                      <p:cBhvr additive="base">
                                        <p:cTn id="567" dur="500" fill="hold"/>
                                        <p:tgtEl>
                                          <p:spTgt spid="649">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6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649">
                                            <p:txEl>
                                              <p:pRg st="5" end="5"/>
                                            </p:txEl>
                                          </p:spTgt>
                                        </p:tgtEl>
                                        <p:attrNameLst>
                                          <p:attrName>style.visibility</p:attrName>
                                        </p:attrNameLst>
                                      </p:cBhvr>
                                      <p:to>
                                        <p:strVal val="visible"/>
                                      </p:to>
                                    </p:set>
                                    <p:anim calcmode="lin" valueType="num">
                                      <p:cBhvr additive="base">
                                        <p:cTn id="573" dur="500" fill="hold"/>
                                        <p:tgtEl>
                                          <p:spTgt spid="649">
                                            <p:txEl>
                                              <p:pRg st="5" end="5"/>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6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2"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3" name="PlaceHolder 1"/>
          <p:cNvSpPr>
            <a:spLocks noGrp="1"/>
          </p:cNvSpPr>
          <p:nvPr>
            <p:ph type="title"/>
          </p:nvPr>
        </p:nvSpPr>
        <p:spPr>
          <a:xfrm>
            <a:off x="1618920" y="313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rganizing: Naming and Addressing</a:t>
            </a:r>
            <a:endParaRPr b="0" lang="en-US" sz="4200" spc="-1" strike="noStrike">
              <a:solidFill>
                <a:srgbClr val="000000"/>
              </a:solidFill>
              <a:latin typeface="Arial"/>
            </a:endParaRPr>
          </a:p>
        </p:txBody>
      </p:sp>
      <p:sp>
        <p:nvSpPr>
          <p:cNvPr id="654" name="PlaceHolder 2"/>
          <p:cNvSpPr>
            <a:spLocks noGrp="1"/>
          </p:cNvSpPr>
          <p:nvPr>
            <p:ph/>
          </p:nvPr>
        </p:nvSpPr>
        <p:spPr>
          <a:xfrm>
            <a:off x="990720" y="2057400"/>
            <a:ext cx="7162560" cy="4114800"/>
          </a:xfrm>
          <a:prstGeom prst="rect">
            <a:avLst/>
          </a:prstGeom>
          <a:noFill/>
          <a:ln w="0">
            <a:noFill/>
          </a:ln>
        </p:spPr>
        <p:txBody>
          <a:bodyPr lIns="90360" rIns="90360" tIns="44280" bIns="44280" anchor="t">
            <a:normAutofit/>
          </a:bodyPr>
          <a:p>
            <a:pPr marL="343080" indent="-343080">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naming:</a:t>
            </a:r>
            <a:endParaRPr b="0" lang="en-US" sz="2800" spc="-1" strike="noStrike">
              <a:solidFill>
                <a:srgbClr val="000000"/>
              </a:solidFill>
              <a:latin typeface="Arial"/>
            </a:endParaRPr>
          </a:p>
          <a:p>
            <a:pPr lvl="1" marL="743040" indent="-285840">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should be named in a fashion that promotes longevity (e.g., stay away from any kind of implied meaning)</a:t>
            </a:r>
            <a:endParaRPr b="0" lang="en-US" sz="2400" spc="-1" strike="noStrike">
              <a:solidFill>
                <a:srgbClr val="000000"/>
              </a:solidFill>
              <a:latin typeface="Arial"/>
            </a:endParaRPr>
          </a:p>
          <a:p>
            <a:pPr marL="343080" indent="-343080">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addressing:</a:t>
            </a:r>
            <a:endParaRPr b="0" lang="en-US" sz="2800" spc="-1" strike="noStrike">
              <a:solidFill>
                <a:srgbClr val="000000"/>
              </a:solidFill>
              <a:latin typeface="Arial"/>
            </a:endParaRPr>
          </a:p>
          <a:p>
            <a:pPr lvl="1" marL="743040" indent="-285840">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Ls (www.w3.org)</a:t>
            </a:r>
            <a:endParaRPr b="0" lang="en-US" sz="2400" spc="-1" strike="noStrike">
              <a:solidFill>
                <a:srgbClr val="000000"/>
              </a:solidFill>
              <a:latin typeface="Arial"/>
            </a:endParaRPr>
          </a:p>
          <a:p>
            <a:pPr lvl="1" marL="743040" indent="-285840">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I/Handles (www.cnri.reston.va.us)</a:t>
            </a:r>
            <a:endParaRPr b="0" lang="en-US" sz="2400" spc="-1" strike="noStrike">
              <a:solidFill>
                <a:srgbClr val="000000"/>
              </a:solidFill>
              <a:latin typeface="Arial"/>
            </a:endParaRPr>
          </a:p>
          <a:p>
            <a:pPr lvl="1" marL="743040" indent="-285840">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Ls (purl.org)</a:t>
            </a:r>
            <a:endParaRPr b="0" lang="en-US" sz="2400" spc="-1" strike="noStrike">
              <a:solidFill>
                <a:srgbClr val="000000"/>
              </a:solidFill>
              <a:latin typeface="Arial"/>
            </a:endParaRPr>
          </a:p>
          <a:p>
            <a:pPr lvl="1" marL="743040" indent="-285840">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Ks (www.ckm.ucsf.edu/people/jak/home/)</a:t>
            </a:r>
            <a:endParaRPr b="0" lang="en-US" sz="2400" spc="-1" strike="noStrike">
              <a:solidFill>
                <a:srgbClr val="000000"/>
              </a:solidFill>
              <a:latin typeface="Arial"/>
            </a:endParaRPr>
          </a:p>
        </p:txBody>
      </p:sp>
    </p:spTree>
  </p:cSld>
  <p:transition>
    <p:pull dir="ru"/>
  </p:transition>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654">
                                            <p:txEl>
                                              <p:pRg st="0" end="0"/>
                                            </p:txEl>
                                          </p:spTgt>
                                        </p:tgtEl>
                                        <p:attrNameLst>
                                          <p:attrName>style.visibility</p:attrName>
                                        </p:attrNameLst>
                                      </p:cBhvr>
                                      <p:to>
                                        <p:strVal val="visible"/>
                                      </p:to>
                                    </p:set>
                                    <p:anim calcmode="lin" valueType="num">
                                      <p:cBhvr additive="base">
                                        <p:cTn id="581"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654">
                                            <p:txEl>
                                              <p:pRg st="0" end="0"/>
                                            </p:txEl>
                                          </p:spTgt>
                                        </p:tgtEl>
                                        <p:attrNameLst>
                                          <p:attrName>ppt_y</p:attrName>
                                        </p:attrNameLst>
                                      </p:cBhvr>
                                      <p:tavLst>
                                        <p:tav tm="0">
                                          <p:val>
                                            <p:strVal val="#ppt_y"/>
                                          </p:val>
                                        </p:tav>
                                        <p:tav tm="100000">
                                          <p:val>
                                            <p:strVal val="#ppt_y"/>
                                          </p:val>
                                        </p:tav>
                                      </p:tavLst>
                                    </p:anim>
                                  </p:childTnLst>
                                </p:cTn>
                              </p:par>
                              <p:par>
                                <p:cTn id="583" nodeType="withEffect" fill="hold" presetClass="entr" presetID="2" presetSubtype="8">
                                  <p:stCondLst>
                                    <p:cond delay="0"/>
                                  </p:stCondLst>
                                  <p:childTnLst>
                                    <p:set>
                                      <p:cBhvr>
                                        <p:cTn id="584" dur="1" fill="hold">
                                          <p:stCondLst>
                                            <p:cond delay="0"/>
                                          </p:stCondLst>
                                        </p:cTn>
                                        <p:tgtEl>
                                          <p:spTgt spid="654">
                                            <p:txEl>
                                              <p:pRg st="1" end="1"/>
                                            </p:txEl>
                                          </p:spTgt>
                                        </p:tgtEl>
                                        <p:attrNameLst>
                                          <p:attrName>style.visibility</p:attrName>
                                        </p:attrNameLst>
                                      </p:cBhvr>
                                      <p:to>
                                        <p:strVal val="visible"/>
                                      </p:to>
                                    </p:set>
                                    <p:anim calcmode="lin" valueType="num">
                                      <p:cBhvr additive="base">
                                        <p:cTn id="585" dur="500" fill="hold"/>
                                        <p:tgtEl>
                                          <p:spTgt spid="654">
                                            <p:txEl>
                                              <p:pRg st="1" end="1"/>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6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654">
                                            <p:txEl>
                                              <p:pRg st="2" end="2"/>
                                            </p:txEl>
                                          </p:spTgt>
                                        </p:tgtEl>
                                        <p:attrNameLst>
                                          <p:attrName>style.visibility</p:attrName>
                                        </p:attrNameLst>
                                      </p:cBhvr>
                                      <p:to>
                                        <p:strVal val="visible"/>
                                      </p:to>
                                    </p:set>
                                    <p:anim calcmode="lin" valueType="num">
                                      <p:cBhvr additive="base">
                                        <p:cTn id="591" dur="500" fill="hold"/>
                                        <p:tgtEl>
                                          <p:spTgt spid="654">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654">
                                            <p:txEl>
                                              <p:pRg st="2" end="2"/>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set>
                                      <p:cBhvr>
                                        <p:cTn id="594" dur="1" fill="hold">
                                          <p:stCondLst>
                                            <p:cond delay="0"/>
                                          </p:stCondLst>
                                        </p:cTn>
                                        <p:tgtEl>
                                          <p:spTgt spid="654">
                                            <p:txEl>
                                              <p:pRg st="3" end="3"/>
                                            </p:txEl>
                                          </p:spTgt>
                                        </p:tgtEl>
                                        <p:attrNameLst>
                                          <p:attrName>style.visibility</p:attrName>
                                        </p:attrNameLst>
                                      </p:cBhvr>
                                      <p:to>
                                        <p:strVal val="visible"/>
                                      </p:to>
                                    </p:set>
                                    <p:anim calcmode="lin" valueType="num">
                                      <p:cBhvr additive="base">
                                        <p:cTn id="595" dur="500" fill="hold"/>
                                        <p:tgtEl>
                                          <p:spTgt spid="654">
                                            <p:txEl>
                                              <p:pRg st="3" end="3"/>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654">
                                            <p:txEl>
                                              <p:pRg st="3" end="3"/>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set>
                                      <p:cBhvr>
                                        <p:cTn id="598" dur="1" fill="hold">
                                          <p:stCondLst>
                                            <p:cond delay="0"/>
                                          </p:stCondLst>
                                        </p:cTn>
                                        <p:tgtEl>
                                          <p:spTgt spid="654">
                                            <p:txEl>
                                              <p:pRg st="4" end="4"/>
                                            </p:txEl>
                                          </p:spTgt>
                                        </p:tgtEl>
                                        <p:attrNameLst>
                                          <p:attrName>style.visibility</p:attrName>
                                        </p:attrNameLst>
                                      </p:cBhvr>
                                      <p:to>
                                        <p:strVal val="visible"/>
                                      </p:to>
                                    </p:set>
                                    <p:anim calcmode="lin" valueType="num">
                                      <p:cBhvr additive="base">
                                        <p:cTn id="599" dur="500" fill="hold"/>
                                        <p:tgtEl>
                                          <p:spTgt spid="654">
                                            <p:txEl>
                                              <p:pRg st="4" end="4"/>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654">
                                            <p:txEl>
                                              <p:pRg st="4" end="4"/>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set>
                                      <p:cBhvr>
                                        <p:cTn id="602" dur="1" fill="hold">
                                          <p:stCondLst>
                                            <p:cond delay="0"/>
                                          </p:stCondLst>
                                        </p:cTn>
                                        <p:tgtEl>
                                          <p:spTgt spid="654">
                                            <p:txEl>
                                              <p:pRg st="5" end="5"/>
                                            </p:txEl>
                                          </p:spTgt>
                                        </p:tgtEl>
                                        <p:attrNameLst>
                                          <p:attrName>style.visibility</p:attrName>
                                        </p:attrNameLst>
                                      </p:cBhvr>
                                      <p:to>
                                        <p:strVal val="visible"/>
                                      </p:to>
                                    </p:set>
                                    <p:anim calcmode="lin" valueType="num">
                                      <p:cBhvr additive="base">
                                        <p:cTn id="603" dur="500" fill="hold"/>
                                        <p:tgtEl>
                                          <p:spTgt spid="654">
                                            <p:txEl>
                                              <p:pRg st="5" end="5"/>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654">
                                            <p:txEl>
                                              <p:pRg st="5" end="5"/>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set>
                                      <p:cBhvr>
                                        <p:cTn id="606" dur="1" fill="hold">
                                          <p:stCondLst>
                                            <p:cond delay="0"/>
                                          </p:stCondLst>
                                        </p:cTn>
                                        <p:tgtEl>
                                          <p:spTgt spid="654">
                                            <p:txEl>
                                              <p:pRg st="6" end="6"/>
                                            </p:txEl>
                                          </p:spTgt>
                                        </p:tgtEl>
                                        <p:attrNameLst>
                                          <p:attrName>style.visibility</p:attrName>
                                        </p:attrNameLst>
                                      </p:cBhvr>
                                      <p:to>
                                        <p:strVal val="visible"/>
                                      </p:to>
                                    </p:set>
                                    <p:anim calcmode="lin" valueType="num">
                                      <p:cBhvr additive="base">
                                        <p:cTn id="607" dur="500" fill="hold"/>
                                        <p:tgtEl>
                                          <p:spTgt spid="654">
                                            <p:txEl>
                                              <p:pRg st="6" end="6"/>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654">
                                            <p:txEl>
                                              <p:pRg st="6" end="6"/>
                                            </p:txEl>
                                          </p:spTgt>
                                        </p:tgtEl>
                                        <p:attrNameLst>
                                          <p:attrName>ppt_y</p:attrName>
                                        </p:attrNameLst>
                                      </p:cBhvr>
                                      <p:tavLst>
                                        <p:tav tm="0">
                                          <p:val>
                                            <p:strVal val="#ppt_y"/>
                                          </p:val>
                                        </p:tav>
                                        <p:tav tm="100000">
                                          <p:val>
                                            <p:strVal val="#ppt_y"/>
                                          </p:val>
                                        </p:tav>
                                      </p:tavLst>
                                    </p:anim>
                                  </p:childTnLst>
                                </p:cTn>
                              </p:par>
                              <p:animClr clrSpc="rgb">
                                <p:cBhvr>
                                  <p:cTn id="609" dur="1" fill="hold">
                                    <p:stCondLst>
                                      <p:cond delay="0"/>
                                    </p:stCondLst>
                                  </p:cTn>
                                  <p:tgtEl>
                                    <p:spTgt spid="654">
                                      <p:txEl>
                                        <p:pRg st="0" end="0"/>
                                      </p:txEl>
                                    </p:spTgt>
                                  </p:tgtEl>
                                  <p:attrNameLst>
                                    <p:attrName>ppt_c</p:attrName>
                                  </p:attrNameLst>
                                </p:cBhvr>
                                <p:to>
                                  <a:srgbClr val="006666"/>
                                </p:to>
                              </p:animClr>
                              <p:animClr clrSpc="rgb">
                                <p:cBhvr>
                                  <p:cTn id="610" dur="1" fill="hold">
                                    <p:stCondLst>
                                      <p:cond delay="0"/>
                                    </p:stCondLst>
                                  </p:cTn>
                                  <p:tgtEl>
                                    <p:spTgt spid="654">
                                      <p:txEl>
                                        <p:pRg st="1" end="1"/>
                                      </p:txEl>
                                    </p:spTgt>
                                  </p:tgtEl>
                                  <p:attrNameLst>
                                    <p:attrName>ppt_c</p:attrName>
                                  </p:attrNameLst>
                                </p:cBhvr>
                                <p:to>
                                  <a:srgbClr val="006666"/>
                                </p:to>
                              </p:animClr>
                            </p:childTnLst>
                          </p:cTn>
                        </p:par>
                      </p:childTnLst>
                    </p:cTn>
                  </p:par>
                  <p:par>
                    <p:cTn id="611" fill="hold">
                      <p:stCondLst>
                        <p:cond delay="indefinite"/>
                      </p:stCondLst>
                      <p:childTnLst>
                        <p:par>
                          <p:cTn id="612" fill="hold">
                            <p:stCondLst>
                              <p:cond delay="0"/>
                            </p:stCondLst>
                            <p:childTnLst>
                              <p:animClr clrSpc="rgb">
                                <p:cBhvr>
                                  <p:cTn id="613" dur="1" fill="hold"/>
                                  <p:tgtEl>
                                    <p:spTgt spid="654">
                                      <p:txEl>
                                        <p:pRg st="2" end="2"/>
                                      </p:txEl>
                                    </p:spTgt>
                                  </p:tgtEl>
                                  <p:attrNameLst>
                                    <p:attrName>ppt_c</p:attrName>
                                  </p:attrNameLst>
                                </p:cBhvr>
                                <p:to>
                                  <a:srgbClr val="006666"/>
                                </p:to>
                              </p:animClr>
                              <p:animClr clrSpc="rgb">
                                <p:cBhvr>
                                  <p:cTn id="614" dur="1" fill="hold"/>
                                  <p:tgtEl>
                                    <p:spTgt spid="654">
                                      <p:txEl>
                                        <p:pRg st="3" end="3"/>
                                      </p:txEl>
                                    </p:spTgt>
                                  </p:tgtEl>
                                  <p:attrNameLst>
                                    <p:attrName>ppt_c</p:attrName>
                                  </p:attrNameLst>
                                </p:cBhvr>
                                <p:to>
                                  <a:srgbClr val="006666"/>
                                </p:to>
                              </p:animClr>
                              <p:animClr clrSpc="rgb">
                                <p:cBhvr>
                                  <p:cTn id="615" dur="1" fill="hold"/>
                                  <p:tgtEl>
                                    <p:spTgt spid="654">
                                      <p:txEl>
                                        <p:pRg st="4" end="4"/>
                                      </p:txEl>
                                    </p:spTgt>
                                  </p:tgtEl>
                                  <p:attrNameLst>
                                    <p:attrName>ppt_c</p:attrName>
                                  </p:attrNameLst>
                                </p:cBhvr>
                                <p:to>
                                  <a:srgbClr val="006666"/>
                                </p:to>
                              </p:animClr>
                              <p:animClr clrSpc="rgb">
                                <p:cBhvr>
                                  <p:cTn id="616" dur="1" fill="hold"/>
                                  <p:tgtEl>
                                    <p:spTgt spid="654">
                                      <p:txEl>
                                        <p:pRg st="5" end="5"/>
                                      </p:txEl>
                                    </p:spTgt>
                                  </p:tgtEl>
                                  <p:attrNameLst>
                                    <p:attrName>ppt_c</p:attrName>
                                  </p:attrNameLst>
                                </p:cBhvr>
                                <p:to>
                                  <a:srgbClr val="006666"/>
                                </p:to>
                              </p:animClr>
                              <p:animClr clrSpc="rgb">
                                <p:cBhvr>
                                  <p:cTn id="617" dur="1" fill="hold"/>
                                  <p:tgtEl>
                                    <p:spTgt spid="654">
                                      <p:txEl>
                                        <p:pRg st="6" end="6"/>
                                      </p:txEl>
                                    </p:spTgt>
                                  </p:tgtEl>
                                  <p:attrNameLst>
                                    <p:attrName>ppt_c</p:attrName>
                                  </p:attrNameLst>
                                </p:cBhvr>
                                <p:to>
                                  <a:srgbClr val="0066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6"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7" name="PlaceHolder 1"/>
          <p:cNvSpPr>
            <a:spLocks noGrp="1"/>
          </p:cNvSpPr>
          <p:nvPr>
            <p:ph type="title"/>
          </p:nvPr>
        </p:nvSpPr>
        <p:spPr>
          <a:xfrm>
            <a:off x="1692360" y="3330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rganizing: Metadata</a:t>
            </a:r>
            <a:endParaRPr b="0" lang="en-US" sz="4200" spc="-1" strike="noStrike">
              <a:solidFill>
                <a:srgbClr val="000000"/>
              </a:solidFill>
              <a:latin typeface="Arial"/>
            </a:endParaRPr>
          </a:p>
        </p:txBody>
      </p:sp>
      <p:sp>
        <p:nvSpPr>
          <p:cNvPr id="658" name="PlaceHolder 2"/>
          <p:cNvSpPr>
            <a:spLocks noGrp="1"/>
          </p:cNvSpPr>
          <p:nvPr>
            <p:ph/>
          </p:nvPr>
        </p:nvSpPr>
        <p:spPr>
          <a:xfrm>
            <a:off x="914040" y="1905120"/>
            <a:ext cx="7162920" cy="411480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d description of an object or collection of objects</a:t>
            </a:r>
            <a:endParaRPr b="0" lang="en-US" sz="2800" spc="-1" strike="noStrike">
              <a:solidFill>
                <a:srgbClr val="000000"/>
              </a:solidFill>
              <a:latin typeface="Arial"/>
            </a:endParaRPr>
          </a:p>
          <a:p>
            <a:pPr marL="318960" indent="-318960">
              <a:lnSpc>
                <a:spcPct val="90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basic types:</a:t>
            </a:r>
            <a:endParaRPr b="0" lang="en-US" sz="2800" spc="-1" strike="noStrike">
              <a:solidFill>
                <a:srgbClr val="000000"/>
              </a:solidFill>
              <a:latin typeface="Arial"/>
            </a:endParaRPr>
          </a:p>
          <a:p>
            <a:pPr lvl="1" marL="690840" indent="-26568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ptive</a:t>
            </a:r>
            <a:r>
              <a:rPr b="0" lang="en-US" sz="2800" spc="-1" strike="noStrike">
                <a:solidFill>
                  <a:srgbClr val="000000"/>
                </a:solidFill>
                <a:latin typeface="Arial"/>
              </a:rPr>
              <a:t> — e.g., title, creator, subject — used for discovery</a:t>
            </a:r>
            <a:endParaRPr b="0" lang="en-US" sz="2800" spc="-1" strike="noStrike">
              <a:solidFill>
                <a:srgbClr val="000000"/>
              </a:solidFill>
              <a:latin typeface="Arial"/>
            </a:endParaRPr>
          </a:p>
          <a:p>
            <a:pPr lvl="1" marL="690840" indent="-26568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ministrative</a:t>
            </a:r>
            <a:r>
              <a:rPr b="0" lang="en-US" sz="2800" spc="-1" strike="noStrike">
                <a:solidFill>
                  <a:srgbClr val="000000"/>
                </a:solidFill>
                <a:latin typeface="Arial"/>
              </a:rPr>
              <a:t> —  e.g., resolution, bit depth — used for managing the collection</a:t>
            </a:r>
            <a:endParaRPr b="0" lang="en-US" sz="2800" spc="-1" strike="noStrike">
              <a:solidFill>
                <a:srgbClr val="000000"/>
              </a:solidFill>
              <a:latin typeface="Arial"/>
            </a:endParaRPr>
          </a:p>
          <a:p>
            <a:pPr lvl="1" marL="690840" indent="-26568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ructural</a:t>
            </a:r>
            <a:r>
              <a:rPr b="0" lang="en-US" sz="2800" spc="-1" strike="noStrike">
                <a:solidFill>
                  <a:srgbClr val="000000"/>
                </a:solidFill>
                <a:latin typeface="Arial"/>
              </a:rPr>
              <a:t> — e.g., table of contents page, page 34, etc. — used for navigation</a:t>
            </a:r>
            <a:endParaRPr b="0" lang="en-US" sz="2800" spc="-1" strike="noStrike">
              <a:solidFill>
                <a:srgbClr val="000000"/>
              </a:solidFill>
              <a:latin typeface="Arial"/>
            </a:endParaRPr>
          </a:p>
        </p:txBody>
      </p:sp>
    </p:spTree>
  </p:cSld>
  <p:transition>
    <p:pull dir="ru"/>
  </p:transition>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658">
                                            <p:txEl>
                                              <p:pRg st="0" end="0"/>
                                            </p:txEl>
                                          </p:spTgt>
                                        </p:tgtEl>
                                        <p:attrNameLst>
                                          <p:attrName>style.visibility</p:attrName>
                                        </p:attrNameLst>
                                      </p:cBhvr>
                                      <p:to>
                                        <p:strVal val="visible"/>
                                      </p:to>
                                    </p:set>
                                    <p:anim calcmode="lin" valueType="num">
                                      <p:cBhvr additive="base">
                                        <p:cTn id="624" dur="500" fill="hold"/>
                                        <p:tgtEl>
                                          <p:spTgt spid="658">
                                            <p:txEl>
                                              <p:pRg st="0" end="0"/>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6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658">
                                            <p:txEl>
                                              <p:pRg st="1" end="1"/>
                                            </p:txEl>
                                          </p:spTgt>
                                        </p:tgtEl>
                                        <p:attrNameLst>
                                          <p:attrName>style.visibility</p:attrName>
                                        </p:attrNameLst>
                                      </p:cBhvr>
                                      <p:to>
                                        <p:strVal val="visible"/>
                                      </p:to>
                                    </p:set>
                                    <p:anim calcmode="lin" valueType="num">
                                      <p:cBhvr additive="base">
                                        <p:cTn id="630" dur="500" fill="hold"/>
                                        <p:tgtEl>
                                          <p:spTgt spid="658">
                                            <p:txEl>
                                              <p:pRg st="1" end="1"/>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658">
                                            <p:txEl>
                                              <p:pRg st="1" end="1"/>
                                            </p:txEl>
                                          </p:spTgt>
                                        </p:tgtEl>
                                        <p:attrNameLst>
                                          <p:attrName>ppt_y</p:attrName>
                                        </p:attrNameLst>
                                      </p:cBhvr>
                                      <p:tavLst>
                                        <p:tav tm="0">
                                          <p:val>
                                            <p:strVal val="#ppt_y"/>
                                          </p:val>
                                        </p:tav>
                                        <p:tav tm="100000">
                                          <p:val>
                                            <p:strVal val="#ppt_y"/>
                                          </p:val>
                                        </p:tav>
                                      </p:tavLst>
                                    </p:anim>
                                  </p:childTnLst>
                                </p:cTn>
                              </p:par>
                              <p:par>
                                <p:cTn id="632" nodeType="withEffect" fill="hold" presetClass="entr" presetID="2" presetSubtype="8">
                                  <p:stCondLst>
                                    <p:cond delay="0"/>
                                  </p:stCondLst>
                                  <p:childTnLst>
                                    <p:set>
                                      <p:cBhvr>
                                        <p:cTn id="633" dur="1" fill="hold">
                                          <p:stCondLst>
                                            <p:cond delay="0"/>
                                          </p:stCondLst>
                                        </p:cTn>
                                        <p:tgtEl>
                                          <p:spTgt spid="658">
                                            <p:txEl>
                                              <p:pRg st="2" end="2"/>
                                            </p:txEl>
                                          </p:spTgt>
                                        </p:tgtEl>
                                        <p:attrNameLst>
                                          <p:attrName>style.visibility</p:attrName>
                                        </p:attrNameLst>
                                      </p:cBhvr>
                                      <p:to>
                                        <p:strVal val="visible"/>
                                      </p:to>
                                    </p:set>
                                    <p:anim calcmode="lin" valueType="num">
                                      <p:cBhvr additive="base">
                                        <p:cTn id="634" dur="500" fill="hold"/>
                                        <p:tgtEl>
                                          <p:spTgt spid="658">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658">
                                            <p:txEl>
                                              <p:pRg st="2" end="2"/>
                                            </p:txEl>
                                          </p:spTgt>
                                        </p:tgtEl>
                                        <p:attrNameLst>
                                          <p:attrName>ppt_y</p:attrName>
                                        </p:attrNameLst>
                                      </p:cBhvr>
                                      <p:tavLst>
                                        <p:tav tm="0">
                                          <p:val>
                                            <p:strVal val="#ppt_y"/>
                                          </p:val>
                                        </p:tav>
                                        <p:tav tm="100000">
                                          <p:val>
                                            <p:strVal val="#ppt_y"/>
                                          </p:val>
                                        </p:tav>
                                      </p:tavLst>
                                    </p:anim>
                                  </p:childTnLst>
                                </p:cTn>
                              </p:par>
                              <p:par>
                                <p:cTn id="636" nodeType="withEffect" fill="hold" presetClass="entr" presetID="2" presetSubtype="8">
                                  <p:stCondLst>
                                    <p:cond delay="0"/>
                                  </p:stCondLst>
                                  <p:childTnLst>
                                    <p:set>
                                      <p:cBhvr>
                                        <p:cTn id="637" dur="1" fill="hold">
                                          <p:stCondLst>
                                            <p:cond delay="0"/>
                                          </p:stCondLst>
                                        </p:cTn>
                                        <p:tgtEl>
                                          <p:spTgt spid="658">
                                            <p:txEl>
                                              <p:pRg st="3" end="3"/>
                                            </p:txEl>
                                          </p:spTgt>
                                        </p:tgtEl>
                                        <p:attrNameLst>
                                          <p:attrName>style.visibility</p:attrName>
                                        </p:attrNameLst>
                                      </p:cBhvr>
                                      <p:to>
                                        <p:strVal val="visible"/>
                                      </p:to>
                                    </p:set>
                                    <p:anim calcmode="lin" valueType="num">
                                      <p:cBhvr additive="base">
                                        <p:cTn id="638" dur="500" fill="hold"/>
                                        <p:tgtEl>
                                          <p:spTgt spid="658">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658">
                                            <p:txEl>
                                              <p:pRg st="3" end="3"/>
                                            </p:txEl>
                                          </p:spTgt>
                                        </p:tgtEl>
                                        <p:attrNameLst>
                                          <p:attrName>ppt_y</p:attrName>
                                        </p:attrNameLst>
                                      </p:cBhvr>
                                      <p:tavLst>
                                        <p:tav tm="0">
                                          <p:val>
                                            <p:strVal val="#ppt_y"/>
                                          </p:val>
                                        </p:tav>
                                        <p:tav tm="100000">
                                          <p:val>
                                            <p:strVal val="#ppt_y"/>
                                          </p:val>
                                        </p:tav>
                                      </p:tavLst>
                                    </p:anim>
                                  </p:childTnLst>
                                </p:cTn>
                              </p:par>
                              <p:par>
                                <p:cTn id="640" nodeType="withEffect" fill="hold" presetClass="entr" presetID="2" presetSubtype="8">
                                  <p:stCondLst>
                                    <p:cond delay="0"/>
                                  </p:stCondLst>
                                  <p:childTnLst>
                                    <p:set>
                                      <p:cBhvr>
                                        <p:cTn id="641" dur="1" fill="hold">
                                          <p:stCondLst>
                                            <p:cond delay="0"/>
                                          </p:stCondLst>
                                        </p:cTn>
                                        <p:tgtEl>
                                          <p:spTgt spid="658">
                                            <p:txEl>
                                              <p:pRg st="4" end="4"/>
                                            </p:txEl>
                                          </p:spTgt>
                                        </p:tgtEl>
                                        <p:attrNameLst>
                                          <p:attrName>style.visibility</p:attrName>
                                        </p:attrNameLst>
                                      </p:cBhvr>
                                      <p:to>
                                        <p:strVal val="visible"/>
                                      </p:to>
                                    </p:set>
                                    <p:anim calcmode="lin" valueType="num">
                                      <p:cBhvr additive="base">
                                        <p:cTn id="642" dur="500" fill="hold"/>
                                        <p:tgtEl>
                                          <p:spTgt spid="658">
                                            <p:txEl>
                                              <p:pRg st="4" end="4"/>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6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0"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1" name="PlaceHolder 1"/>
          <p:cNvSpPr>
            <a:spLocks noGrp="1"/>
          </p:cNvSpPr>
          <p:nvPr>
            <p:ph type="title"/>
          </p:nvPr>
        </p:nvSpPr>
        <p:spPr>
          <a:xfrm>
            <a:off x="1763280" y="23148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rganizing: Metadata</a:t>
            </a:r>
            <a:endParaRPr b="0" lang="en-US" sz="4200" spc="-1" strike="noStrike">
              <a:solidFill>
                <a:srgbClr val="000000"/>
              </a:solidFill>
              <a:latin typeface="Arial"/>
            </a:endParaRPr>
          </a:p>
        </p:txBody>
      </p:sp>
      <p:sp>
        <p:nvSpPr>
          <p:cNvPr id="662" name="PlaceHolder 2"/>
          <p:cNvSpPr>
            <a:spLocks noGrp="1"/>
          </p:cNvSpPr>
          <p:nvPr>
            <p:ph/>
          </p:nvPr>
        </p:nvSpPr>
        <p:spPr>
          <a:xfrm>
            <a:off x="914040" y="1981080"/>
            <a:ext cx="716292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ropriate standards or draft standards:</a:t>
            </a:r>
            <a:endParaRPr b="0" lang="en-US" sz="30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on Level:</a:t>
            </a:r>
            <a:endParaRPr b="0" lang="en-US" sz="2800" spc="-1" strike="noStrike">
              <a:solidFill>
                <a:srgbClr val="000000"/>
              </a:solidFill>
              <a:latin typeface="Arial"/>
            </a:endParaRPr>
          </a:p>
          <a:p>
            <a:pPr lvl="2" marL="1143000" indent="-228600">
              <a:lnSpc>
                <a:spcPct val="90000"/>
              </a:lnSpc>
              <a:spcBef>
                <a:spcPts val="601"/>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ded Archival Description (EAD) -lcweb.loc.gov/ead/</a:t>
            </a:r>
            <a:endParaRPr b="0" lang="en-US" sz="2400" spc="-1" strike="noStrike">
              <a:solidFill>
                <a:srgbClr val="000000"/>
              </a:solidFill>
              <a:latin typeface="Arial"/>
            </a:endParaRPr>
          </a:p>
          <a:p>
            <a:pPr lvl="1" marL="743040" indent="-285840">
              <a:lnSpc>
                <a:spcPct val="90000"/>
              </a:lnSpc>
              <a:spcBef>
                <a:spcPts val="700"/>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Level:</a:t>
            </a:r>
            <a:endParaRPr b="0" lang="en-US" sz="2800" spc="-1" strike="noStrike">
              <a:solidFill>
                <a:srgbClr val="000000"/>
              </a:solidFill>
              <a:latin typeface="Arial"/>
            </a:endParaRPr>
          </a:p>
          <a:p>
            <a:pPr lvl="2" marL="1143000" indent="-228600">
              <a:lnSpc>
                <a:spcPct val="90000"/>
              </a:lnSpc>
              <a:spcBef>
                <a:spcPts val="601"/>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a:t>
            </a:r>
            <a:endParaRPr b="0" lang="en-US" sz="2400" spc="-1" strike="noStrike">
              <a:solidFill>
                <a:srgbClr val="000000"/>
              </a:solidFill>
              <a:latin typeface="Arial"/>
            </a:endParaRPr>
          </a:p>
          <a:p>
            <a:pPr lvl="2" marL="1143000" indent="-228600">
              <a:lnSpc>
                <a:spcPct val="90000"/>
              </a:lnSpc>
              <a:spcBef>
                <a:spcPts val="601"/>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blin Core - dublincore.org</a:t>
            </a:r>
            <a:endParaRPr b="0" lang="en-US" sz="2400" spc="-1" strike="noStrike">
              <a:solidFill>
                <a:srgbClr val="000000"/>
              </a:solidFill>
              <a:latin typeface="Arial"/>
            </a:endParaRPr>
          </a:p>
          <a:p>
            <a:pPr lvl="2" marL="1143000" indent="-228600">
              <a:lnSpc>
                <a:spcPct val="90000"/>
              </a:lnSpc>
              <a:spcBef>
                <a:spcPts val="601"/>
              </a:spcBef>
              <a:buClr>
                <a:srgbClr val="cccccc"/>
              </a:buClr>
              <a:buFont typeface="Zapf 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S - www.loc.gov/standards/mets/</a:t>
            </a:r>
            <a:endParaRPr b="0" lang="en-US" sz="2400" spc="-1" strike="noStrike">
              <a:solidFill>
                <a:srgbClr val="000000"/>
              </a:solidFill>
              <a:latin typeface="Arial"/>
            </a:endParaRPr>
          </a:p>
        </p:txBody>
      </p:sp>
    </p:spTree>
  </p:cSld>
  <p:transition>
    <p:pull dir="ru"/>
  </p:transition>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662">
                                            <p:txEl>
                                              <p:pRg st="0" end="0"/>
                                            </p:txEl>
                                          </p:spTgt>
                                        </p:tgtEl>
                                        <p:attrNameLst>
                                          <p:attrName>style.visibility</p:attrName>
                                        </p:attrNameLst>
                                      </p:cBhvr>
                                      <p:to>
                                        <p:strVal val="visible"/>
                                      </p:to>
                                    </p:set>
                                    <p:anim calcmode="lin" valueType="num">
                                      <p:cBhvr additive="base">
                                        <p:cTn id="650" dur="500" fill="hold"/>
                                        <p:tgtEl>
                                          <p:spTgt spid="662">
                                            <p:txEl>
                                              <p:pRg st="0" end="0"/>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662">
                                            <p:txEl>
                                              <p:pRg st="0" end="0"/>
                                            </p:txEl>
                                          </p:spTgt>
                                        </p:tgtEl>
                                        <p:attrNameLst>
                                          <p:attrName>ppt_y</p:attrName>
                                        </p:attrNameLst>
                                      </p:cBhvr>
                                      <p:tavLst>
                                        <p:tav tm="0">
                                          <p:val>
                                            <p:strVal val="#ppt_y"/>
                                          </p:val>
                                        </p:tav>
                                        <p:tav tm="100000">
                                          <p:val>
                                            <p:strVal val="#ppt_y"/>
                                          </p:val>
                                        </p:tav>
                                      </p:tavLst>
                                    </p:anim>
                                  </p:childTnLst>
                                </p:cTn>
                              </p:par>
                              <p:par>
                                <p:cTn id="652" nodeType="withEffect" fill="hold" presetClass="entr" presetID="2" presetSubtype="8">
                                  <p:stCondLst>
                                    <p:cond delay="0"/>
                                  </p:stCondLst>
                                  <p:childTnLst>
                                    <p:set>
                                      <p:cBhvr>
                                        <p:cTn id="653" dur="1" fill="hold">
                                          <p:stCondLst>
                                            <p:cond delay="0"/>
                                          </p:stCondLst>
                                        </p:cTn>
                                        <p:tgtEl>
                                          <p:spTgt spid="662">
                                            <p:txEl>
                                              <p:pRg st="1" end="1"/>
                                            </p:txEl>
                                          </p:spTgt>
                                        </p:tgtEl>
                                        <p:attrNameLst>
                                          <p:attrName>style.visibility</p:attrName>
                                        </p:attrNameLst>
                                      </p:cBhvr>
                                      <p:to>
                                        <p:strVal val="visible"/>
                                      </p:to>
                                    </p:set>
                                    <p:anim calcmode="lin" valueType="num">
                                      <p:cBhvr additive="base">
                                        <p:cTn id="654" dur="500" fill="hold"/>
                                        <p:tgtEl>
                                          <p:spTgt spid="662">
                                            <p:txEl>
                                              <p:pRg st="1" end="1"/>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662">
                                            <p:txEl>
                                              <p:pRg st="1" end="1"/>
                                            </p:txEl>
                                          </p:spTgt>
                                        </p:tgtEl>
                                        <p:attrNameLst>
                                          <p:attrName>ppt_y</p:attrName>
                                        </p:attrNameLst>
                                      </p:cBhvr>
                                      <p:tavLst>
                                        <p:tav tm="0">
                                          <p:val>
                                            <p:strVal val="#ppt_y"/>
                                          </p:val>
                                        </p:tav>
                                        <p:tav tm="100000">
                                          <p:val>
                                            <p:strVal val="#ppt_y"/>
                                          </p:val>
                                        </p:tav>
                                      </p:tavLst>
                                    </p:anim>
                                  </p:childTnLst>
                                </p:cTn>
                              </p:par>
                              <p:par>
                                <p:cTn id="656" nodeType="withEffect" fill="hold" presetClass="entr" presetID="2" presetSubtype="8">
                                  <p:stCondLst>
                                    <p:cond delay="0"/>
                                  </p:stCondLst>
                                  <p:childTnLst>
                                    <p:set>
                                      <p:cBhvr>
                                        <p:cTn id="657" dur="1" fill="hold">
                                          <p:stCondLst>
                                            <p:cond delay="0"/>
                                          </p:stCondLst>
                                        </p:cTn>
                                        <p:tgtEl>
                                          <p:spTgt spid="662">
                                            <p:txEl>
                                              <p:pRg st="2" end="2"/>
                                            </p:txEl>
                                          </p:spTgt>
                                        </p:tgtEl>
                                        <p:attrNameLst>
                                          <p:attrName>style.visibility</p:attrName>
                                        </p:attrNameLst>
                                      </p:cBhvr>
                                      <p:to>
                                        <p:strVal val="visible"/>
                                      </p:to>
                                    </p:set>
                                    <p:anim calcmode="lin" valueType="num">
                                      <p:cBhvr additive="base">
                                        <p:cTn id="658" dur="500" fill="hold"/>
                                        <p:tgtEl>
                                          <p:spTgt spid="662">
                                            <p:txEl>
                                              <p:pRg st="2" end="2"/>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662">
                                            <p:txEl>
                                              <p:pRg st="2" end="2"/>
                                            </p:txEl>
                                          </p:spTgt>
                                        </p:tgtEl>
                                        <p:attrNameLst>
                                          <p:attrName>ppt_y</p:attrName>
                                        </p:attrNameLst>
                                      </p:cBhvr>
                                      <p:tavLst>
                                        <p:tav tm="0">
                                          <p:val>
                                            <p:strVal val="#ppt_y"/>
                                          </p:val>
                                        </p:tav>
                                        <p:tav tm="100000">
                                          <p:val>
                                            <p:strVal val="#ppt_y"/>
                                          </p:val>
                                        </p:tav>
                                      </p:tavLst>
                                    </p:anim>
                                  </p:childTnLst>
                                </p:cTn>
                              </p:par>
                              <p:par>
                                <p:cTn id="660" nodeType="withEffect" fill="hold" presetClass="entr" presetID="2" presetSubtype="8">
                                  <p:stCondLst>
                                    <p:cond delay="0"/>
                                  </p:stCondLst>
                                  <p:childTnLst>
                                    <p:set>
                                      <p:cBhvr>
                                        <p:cTn id="661" dur="1" fill="hold">
                                          <p:stCondLst>
                                            <p:cond delay="0"/>
                                          </p:stCondLst>
                                        </p:cTn>
                                        <p:tgtEl>
                                          <p:spTgt spid="662">
                                            <p:txEl>
                                              <p:pRg st="3" end="3"/>
                                            </p:txEl>
                                          </p:spTgt>
                                        </p:tgtEl>
                                        <p:attrNameLst>
                                          <p:attrName>style.visibility</p:attrName>
                                        </p:attrNameLst>
                                      </p:cBhvr>
                                      <p:to>
                                        <p:strVal val="visible"/>
                                      </p:to>
                                    </p:set>
                                    <p:anim calcmode="lin" valueType="num">
                                      <p:cBhvr additive="base">
                                        <p:cTn id="662" dur="500" fill="hold"/>
                                        <p:tgtEl>
                                          <p:spTgt spid="662">
                                            <p:txEl>
                                              <p:pRg st="3" end="3"/>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662">
                                            <p:txEl>
                                              <p:pRg st="3" end="3"/>
                                            </p:txEl>
                                          </p:spTgt>
                                        </p:tgtEl>
                                        <p:attrNameLst>
                                          <p:attrName>ppt_y</p:attrName>
                                        </p:attrNameLst>
                                      </p:cBhvr>
                                      <p:tavLst>
                                        <p:tav tm="0">
                                          <p:val>
                                            <p:strVal val="#ppt_y"/>
                                          </p:val>
                                        </p:tav>
                                        <p:tav tm="100000">
                                          <p:val>
                                            <p:strVal val="#ppt_y"/>
                                          </p:val>
                                        </p:tav>
                                      </p:tavLst>
                                    </p:anim>
                                  </p:childTnLst>
                                </p:cTn>
                              </p:par>
                              <p:par>
                                <p:cTn id="664" nodeType="withEffect" fill="hold" presetClass="entr" presetID="2" presetSubtype="8">
                                  <p:stCondLst>
                                    <p:cond delay="0"/>
                                  </p:stCondLst>
                                  <p:childTnLst>
                                    <p:set>
                                      <p:cBhvr>
                                        <p:cTn id="665" dur="1" fill="hold">
                                          <p:stCondLst>
                                            <p:cond delay="0"/>
                                          </p:stCondLst>
                                        </p:cTn>
                                        <p:tgtEl>
                                          <p:spTgt spid="662">
                                            <p:txEl>
                                              <p:pRg st="4" end="4"/>
                                            </p:txEl>
                                          </p:spTgt>
                                        </p:tgtEl>
                                        <p:attrNameLst>
                                          <p:attrName>style.visibility</p:attrName>
                                        </p:attrNameLst>
                                      </p:cBhvr>
                                      <p:to>
                                        <p:strVal val="visible"/>
                                      </p:to>
                                    </p:set>
                                    <p:anim calcmode="lin" valueType="num">
                                      <p:cBhvr additive="base">
                                        <p:cTn id="666" dur="500" fill="hold"/>
                                        <p:tgtEl>
                                          <p:spTgt spid="662">
                                            <p:txEl>
                                              <p:pRg st="4" end="4"/>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662">
                                            <p:txEl>
                                              <p:pRg st="4" end="4"/>
                                            </p:txEl>
                                          </p:spTgt>
                                        </p:tgtEl>
                                        <p:attrNameLst>
                                          <p:attrName>ppt_y</p:attrName>
                                        </p:attrNameLst>
                                      </p:cBhvr>
                                      <p:tavLst>
                                        <p:tav tm="0">
                                          <p:val>
                                            <p:strVal val="#ppt_y"/>
                                          </p:val>
                                        </p:tav>
                                        <p:tav tm="100000">
                                          <p:val>
                                            <p:strVal val="#ppt_y"/>
                                          </p:val>
                                        </p:tav>
                                      </p:tavLst>
                                    </p:anim>
                                  </p:childTnLst>
                                </p:cTn>
                              </p:par>
                              <p:par>
                                <p:cTn id="668" nodeType="withEffect" fill="hold" presetClass="entr" presetID="2" presetSubtype="8">
                                  <p:stCondLst>
                                    <p:cond delay="0"/>
                                  </p:stCondLst>
                                  <p:childTnLst>
                                    <p:set>
                                      <p:cBhvr>
                                        <p:cTn id="669" dur="1" fill="hold">
                                          <p:stCondLst>
                                            <p:cond delay="0"/>
                                          </p:stCondLst>
                                        </p:cTn>
                                        <p:tgtEl>
                                          <p:spTgt spid="662">
                                            <p:txEl>
                                              <p:pRg st="5" end="5"/>
                                            </p:txEl>
                                          </p:spTgt>
                                        </p:tgtEl>
                                        <p:attrNameLst>
                                          <p:attrName>style.visibility</p:attrName>
                                        </p:attrNameLst>
                                      </p:cBhvr>
                                      <p:to>
                                        <p:strVal val="visible"/>
                                      </p:to>
                                    </p:set>
                                    <p:anim calcmode="lin" valueType="num">
                                      <p:cBhvr additive="base">
                                        <p:cTn id="670" dur="500" fill="hold"/>
                                        <p:tgtEl>
                                          <p:spTgt spid="662">
                                            <p:txEl>
                                              <p:pRg st="5" end="5"/>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662">
                                            <p:txEl>
                                              <p:pRg st="5" end="5"/>
                                            </p:txEl>
                                          </p:spTgt>
                                        </p:tgtEl>
                                        <p:attrNameLst>
                                          <p:attrName>ppt_y</p:attrName>
                                        </p:attrNameLst>
                                      </p:cBhvr>
                                      <p:tavLst>
                                        <p:tav tm="0">
                                          <p:val>
                                            <p:strVal val="#ppt_y"/>
                                          </p:val>
                                        </p:tav>
                                        <p:tav tm="100000">
                                          <p:val>
                                            <p:strVal val="#ppt_y"/>
                                          </p:val>
                                        </p:tav>
                                      </p:tavLst>
                                    </p:anim>
                                  </p:childTnLst>
                                </p:cTn>
                              </p:par>
                              <p:par>
                                <p:cTn id="672" nodeType="withEffect" fill="hold" presetClass="entr" presetID="2" presetSubtype="8">
                                  <p:stCondLst>
                                    <p:cond delay="0"/>
                                  </p:stCondLst>
                                  <p:childTnLst>
                                    <p:set>
                                      <p:cBhvr>
                                        <p:cTn id="673" dur="1" fill="hold">
                                          <p:stCondLst>
                                            <p:cond delay="0"/>
                                          </p:stCondLst>
                                        </p:cTn>
                                        <p:tgtEl>
                                          <p:spTgt spid="662">
                                            <p:txEl>
                                              <p:pRg st="6" end="6"/>
                                            </p:txEl>
                                          </p:spTgt>
                                        </p:tgtEl>
                                        <p:attrNameLst>
                                          <p:attrName>style.visibility</p:attrName>
                                        </p:attrNameLst>
                                      </p:cBhvr>
                                      <p:to>
                                        <p:strVal val="visible"/>
                                      </p:to>
                                    </p:set>
                                    <p:anim calcmode="lin" valueType="num">
                                      <p:cBhvr additive="base">
                                        <p:cTn id="674" dur="500" fill="hold"/>
                                        <p:tgtEl>
                                          <p:spTgt spid="662">
                                            <p:txEl>
                                              <p:pRg st="6" end="6"/>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6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4"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5" name="PlaceHolder 1"/>
          <p:cNvSpPr>
            <a:spLocks noGrp="1"/>
          </p:cNvSpPr>
          <p:nvPr>
            <p:ph type="title"/>
          </p:nvPr>
        </p:nvSpPr>
        <p:spPr>
          <a:xfrm>
            <a:off x="1618920" y="4093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viding Access</a:t>
            </a:r>
            <a:endParaRPr b="0" lang="en-US" sz="4200" spc="-1" strike="noStrike">
              <a:solidFill>
                <a:srgbClr val="000000"/>
              </a:solidFill>
              <a:latin typeface="Arial"/>
            </a:endParaRPr>
          </a:p>
        </p:txBody>
      </p:sp>
      <p:sp>
        <p:nvSpPr>
          <p:cNvPr id="666" name="PlaceHolder 2"/>
          <p:cNvSpPr>
            <a:spLocks noGrp="1"/>
          </p:cNvSpPr>
          <p:nvPr>
            <p:ph/>
          </p:nvPr>
        </p:nvSpPr>
        <p:spPr>
          <a:xfrm>
            <a:off x="609480" y="1752120"/>
            <a:ext cx="7925040" cy="4800600"/>
          </a:xfrm>
          <a:prstGeom prst="rect">
            <a:avLst/>
          </a:prstGeom>
          <a:noFill/>
          <a:ln w="0">
            <a:noFill/>
          </a:ln>
        </p:spPr>
        <p:txBody>
          <a:bodyPr lIns="90360" rIns="90360" tIns="44280" bIns="4428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make our resources easily available to a diversity of users with a multiplicity of purpose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integrate access to both print and digital resource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a:t>
            </a:r>
            <a:br>
              <a:rPr sz="2800"/>
            </a:br>
            <a:r>
              <a:rPr b="0" lang="en-US" sz="2800" spc="-1" strike="noStrike">
                <a:solidFill>
                  <a:srgbClr val="000000"/>
                </a:solidFill>
                <a:latin typeface="Arial"/>
              </a:rPr>
              <a:t>interoperate with </a:t>
            </a:r>
            <a:br>
              <a:rPr sz="2800"/>
            </a:br>
            <a:r>
              <a:rPr b="0" lang="en-US" sz="2800" spc="-1" strike="noStrike">
                <a:solidFill>
                  <a:srgbClr val="000000"/>
                </a:solidFill>
                <a:latin typeface="Arial"/>
              </a:rPr>
              <a:t>other digital </a:t>
            </a:r>
            <a:br>
              <a:rPr sz="2800"/>
            </a:br>
            <a:r>
              <a:rPr b="0" lang="en-US" sz="2800" spc="-1" strike="noStrike">
                <a:solidFill>
                  <a:srgbClr val="000000"/>
                </a:solidFill>
                <a:latin typeface="Arial"/>
              </a:rPr>
              <a:t>collections?</a:t>
            </a:r>
            <a:endParaRPr b="0" lang="en-US" sz="2800" spc="-1" strike="noStrike">
              <a:solidFill>
                <a:srgbClr val="000000"/>
              </a:solidFill>
              <a:latin typeface="Arial"/>
            </a:endParaRPr>
          </a:p>
        </p:txBody>
      </p:sp>
      <p:pic>
        <p:nvPicPr>
          <p:cNvPr id="667" name="Picture 6" descr="&#9;jarda.bmp                                                      0000363E_x000b_Roy Tennant                    ABA78158:"/>
          <p:cNvPicPr/>
          <p:nvPr/>
        </p:nvPicPr>
        <p:blipFill>
          <a:blip r:embed="rId1"/>
          <a:stretch/>
        </p:blipFill>
        <p:spPr>
          <a:xfrm>
            <a:off x="4343400" y="3111480"/>
            <a:ext cx="4800600" cy="3746520"/>
          </a:xfrm>
          <a:prstGeom prst="rect">
            <a:avLst/>
          </a:prstGeom>
          <a:ln w="0">
            <a:noFill/>
          </a:ln>
        </p:spPr>
      </p:pic>
    </p:spTree>
  </p:cSld>
  <p:transition>
    <p:pull dir="ru"/>
  </p:transition>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666">
                                            <p:txEl>
                                              <p:pRg st="0" end="0"/>
                                            </p:txEl>
                                          </p:spTgt>
                                        </p:tgtEl>
                                        <p:attrNameLst>
                                          <p:attrName>style.visibility</p:attrName>
                                        </p:attrNameLst>
                                      </p:cBhvr>
                                      <p:to>
                                        <p:strVal val="visible"/>
                                      </p:to>
                                    </p:set>
                                    <p:anim calcmode="lin" valueType="num">
                                      <p:cBhvr additive="base">
                                        <p:cTn id="682"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666">
                                            <p:txEl>
                                              <p:pRg st="1" end="1"/>
                                            </p:txEl>
                                          </p:spTgt>
                                        </p:tgtEl>
                                        <p:attrNameLst>
                                          <p:attrName>style.visibility</p:attrName>
                                        </p:attrNameLst>
                                      </p:cBhvr>
                                      <p:to>
                                        <p:strVal val="visible"/>
                                      </p:to>
                                    </p:set>
                                    <p:anim calcmode="lin" valueType="num">
                                      <p:cBhvr additive="base">
                                        <p:cTn id="688" dur="500" fill="hold"/>
                                        <p:tgtEl>
                                          <p:spTgt spid="666">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6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666">
                                            <p:txEl>
                                              <p:pRg st="2" end="2"/>
                                            </p:txEl>
                                          </p:spTgt>
                                        </p:tgtEl>
                                        <p:attrNameLst>
                                          <p:attrName>style.visibility</p:attrName>
                                        </p:attrNameLst>
                                      </p:cBhvr>
                                      <p:to>
                                        <p:strVal val="visible"/>
                                      </p:to>
                                    </p:set>
                                    <p:anim calcmode="lin" valueType="num">
                                      <p:cBhvr additive="base">
                                        <p:cTn id="694" dur="500" fill="hold"/>
                                        <p:tgtEl>
                                          <p:spTgt spid="666">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6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9"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0"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eserving</a:t>
            </a:r>
            <a:endParaRPr b="0" lang="en-US" sz="4200" spc="-1" strike="noStrike">
              <a:solidFill>
                <a:srgbClr val="000000"/>
              </a:solidFill>
              <a:latin typeface="Arial"/>
            </a:endParaRPr>
          </a:p>
        </p:txBody>
      </p:sp>
      <p:sp>
        <p:nvSpPr>
          <p:cNvPr id="671" name="PlaceHolder 2"/>
          <p:cNvSpPr>
            <a:spLocks noGrp="1"/>
          </p:cNvSpPr>
          <p:nvPr>
            <p:ph/>
          </p:nvPr>
        </p:nvSpPr>
        <p:spPr>
          <a:xfrm>
            <a:off x="609480" y="1752480"/>
            <a:ext cx="7772400" cy="4114800"/>
          </a:xfrm>
          <a:prstGeom prst="rect">
            <a:avLst/>
          </a:prstGeom>
          <a:noFill/>
          <a:ln w="0">
            <a:noFill/>
          </a:ln>
        </p:spPr>
        <p:txBody>
          <a:bodyPr lIns="90360" rIns="90360" tIns="44280" bIns="44280" anchor="t">
            <a:normAutofit fontScale="97000"/>
          </a:bodyPr>
          <a:p>
            <a:pPr marL="332640" indent="-332640">
              <a:lnSpc>
                <a:spcPct val="90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preservation methods:</a:t>
            </a:r>
            <a:endParaRPr b="0" lang="en-US" sz="2800" spc="-1" strike="noStrike">
              <a:solidFill>
                <a:srgbClr val="000000"/>
              </a:solidFill>
              <a:latin typeface="Arial"/>
            </a:endParaRPr>
          </a:p>
          <a:p>
            <a:pPr lvl="1" marL="720720" indent="-27720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free paper</a:t>
            </a:r>
            <a:endParaRPr b="0" lang="en-US" sz="2400" spc="-1" strike="noStrike">
              <a:solidFill>
                <a:srgbClr val="000000"/>
              </a:solidFill>
              <a:latin typeface="Arial"/>
            </a:endParaRPr>
          </a:p>
          <a:p>
            <a:pPr lvl="1" marL="720720" indent="-27720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film</a:t>
            </a:r>
            <a:endParaRPr b="0" lang="en-US" sz="2400" spc="-1" strike="noStrike">
              <a:solidFill>
                <a:srgbClr val="000000"/>
              </a:solidFill>
              <a:latin typeface="Arial"/>
            </a:endParaRPr>
          </a:p>
          <a:p>
            <a:pPr lvl="1" marL="720720" indent="-27720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ic reproduction</a:t>
            </a:r>
            <a:endParaRPr b="0" lang="en-US" sz="2400" spc="-1" strike="noStrike">
              <a:solidFill>
                <a:srgbClr val="000000"/>
              </a:solidFill>
              <a:latin typeface="Arial"/>
            </a:endParaRPr>
          </a:p>
          <a:p>
            <a:pPr marL="332640" indent="-332640">
              <a:lnSpc>
                <a:spcPct val="90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gital preservation </a:t>
            </a:r>
            <a:r>
              <a:rPr b="0" i="1" lang="en-US" sz="2800" spc="-1" strike="noStrike">
                <a:solidFill>
                  <a:srgbClr val="000000"/>
                </a:solidFill>
                <a:latin typeface="Arial"/>
              </a:rPr>
              <a:t>strategy</a:t>
            </a:r>
            <a:r>
              <a:rPr b="0" lang="en-US" sz="2800" spc="-1" strike="noStrike">
                <a:solidFill>
                  <a:srgbClr val="000000"/>
                </a:solidFill>
                <a:latin typeface="Arial"/>
              </a:rPr>
              <a:t>:</a:t>
            </a:r>
            <a:endParaRPr b="0" lang="en-US" sz="2800" spc="-1" strike="noStrike">
              <a:solidFill>
                <a:srgbClr val="000000"/>
              </a:solidFill>
              <a:latin typeface="Arial"/>
            </a:endParaRPr>
          </a:p>
          <a:p>
            <a:pPr lvl="1" marL="720720" indent="-27720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ing</a:t>
            </a:r>
            <a:endParaRPr b="0" lang="en-US" sz="2400" spc="-1" strike="noStrike">
              <a:solidFill>
                <a:srgbClr val="000000"/>
              </a:solidFill>
              <a:latin typeface="Arial"/>
            </a:endParaRPr>
          </a:p>
          <a:p>
            <a:pPr lvl="1" marL="720720" indent="-27720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reshing</a:t>
            </a:r>
            <a:endParaRPr b="0" lang="en-US" sz="2400" spc="-1" strike="noStrike">
              <a:solidFill>
                <a:srgbClr val="000000"/>
              </a:solidFill>
              <a:latin typeface="Arial"/>
            </a:endParaRPr>
          </a:p>
          <a:p>
            <a:pPr lvl="1" marL="720720" indent="-277200">
              <a:lnSpc>
                <a:spcPct val="90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ating</a:t>
            </a:r>
            <a:endParaRPr b="0" lang="en-US" sz="2400" spc="-1" strike="noStrike">
              <a:solidFill>
                <a:srgbClr val="000000"/>
              </a:solidFill>
              <a:latin typeface="Arial"/>
            </a:endParaRPr>
          </a:p>
          <a:p>
            <a:pPr marL="332640" indent="-332640">
              <a:lnSpc>
                <a:spcPct val="90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ngle most important aspect: </a:t>
            </a:r>
            <a:r>
              <a:rPr b="0" i="1" lang="en-US" sz="2800" spc="-1" strike="noStrike">
                <a:solidFill>
                  <a:srgbClr val="000000"/>
                </a:solidFill>
                <a:latin typeface="Arial"/>
              </a:rPr>
              <a:t>institutional commitment</a:t>
            </a:r>
            <a:endParaRPr b="0" lang="en-US" sz="2800" spc="-1" strike="noStrike">
              <a:solidFill>
                <a:srgbClr val="000000"/>
              </a:solidFill>
              <a:latin typeface="Arial"/>
            </a:endParaRPr>
          </a:p>
        </p:txBody>
      </p:sp>
    </p:spTree>
  </p:cSld>
  <p:transition>
    <p:pull dir="ru"/>
  </p:transition>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671">
                                            <p:txEl>
                                              <p:pRg st="0" end="0"/>
                                            </p:txEl>
                                          </p:spTgt>
                                        </p:tgtEl>
                                        <p:attrNameLst>
                                          <p:attrName>style.visibility</p:attrName>
                                        </p:attrNameLst>
                                      </p:cBhvr>
                                      <p:to>
                                        <p:strVal val="visible"/>
                                      </p:to>
                                    </p:set>
                                    <p:anim calcmode="lin" valueType="num">
                                      <p:cBhvr additive="base">
                                        <p:cTn id="702" dur="500" fill="hold"/>
                                        <p:tgtEl>
                                          <p:spTgt spid="671">
                                            <p:txEl>
                                              <p:pRg st="0" end="0"/>
                                            </p:txEl>
                                          </p:spTgt>
                                        </p:tgtEl>
                                        <p:attrNameLst>
                                          <p:attrName>ppt_x</p:attrName>
                                        </p:attrNameLst>
                                      </p:cBhvr>
                                      <p:tavLst>
                                        <p:tav tm="0">
                                          <p:val>
                                            <p:strVal val="0-#ppt_w/2"/>
                                          </p:val>
                                        </p:tav>
                                        <p:tav tm="100000">
                                          <p:val>
                                            <p:strVal val="#ppt_x"/>
                                          </p:val>
                                        </p:tav>
                                      </p:tavLst>
                                    </p:anim>
                                    <p:anim calcmode="lin" valueType="num">
                                      <p:cBhvr additive="base">
                                        <p:cTn id="703" dur="500" fill="hold"/>
                                        <p:tgtEl>
                                          <p:spTgt spid="671">
                                            <p:txEl>
                                              <p:pRg st="0" end="0"/>
                                            </p:txEl>
                                          </p:spTgt>
                                        </p:tgtEl>
                                        <p:attrNameLst>
                                          <p:attrName>ppt_y</p:attrName>
                                        </p:attrNameLst>
                                      </p:cBhvr>
                                      <p:tavLst>
                                        <p:tav tm="0">
                                          <p:val>
                                            <p:strVal val="#ppt_y"/>
                                          </p:val>
                                        </p:tav>
                                        <p:tav tm="100000">
                                          <p:val>
                                            <p:strVal val="#ppt_y"/>
                                          </p:val>
                                        </p:tav>
                                      </p:tavLst>
                                    </p:anim>
                                  </p:childTnLst>
                                </p:cTn>
                              </p:par>
                              <p:par>
                                <p:cTn id="704" nodeType="withEffect" fill="hold" presetClass="entr" presetID="2" presetSubtype="8">
                                  <p:stCondLst>
                                    <p:cond delay="0"/>
                                  </p:stCondLst>
                                  <p:childTnLst>
                                    <p:set>
                                      <p:cBhvr>
                                        <p:cTn id="705" dur="1" fill="hold">
                                          <p:stCondLst>
                                            <p:cond delay="0"/>
                                          </p:stCondLst>
                                        </p:cTn>
                                        <p:tgtEl>
                                          <p:spTgt spid="671">
                                            <p:txEl>
                                              <p:pRg st="1" end="1"/>
                                            </p:txEl>
                                          </p:spTgt>
                                        </p:tgtEl>
                                        <p:attrNameLst>
                                          <p:attrName>style.visibility</p:attrName>
                                        </p:attrNameLst>
                                      </p:cBhvr>
                                      <p:to>
                                        <p:strVal val="visible"/>
                                      </p:to>
                                    </p:set>
                                    <p:anim calcmode="lin" valueType="num">
                                      <p:cBhvr additive="base">
                                        <p:cTn id="706" dur="500" fill="hold"/>
                                        <p:tgtEl>
                                          <p:spTgt spid="671">
                                            <p:txEl>
                                              <p:pRg st="1" end="1"/>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671">
                                            <p:txEl>
                                              <p:pRg st="1" end="1"/>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8">
                                  <p:stCondLst>
                                    <p:cond delay="0"/>
                                  </p:stCondLst>
                                  <p:childTnLst>
                                    <p:set>
                                      <p:cBhvr>
                                        <p:cTn id="709" dur="1" fill="hold">
                                          <p:stCondLst>
                                            <p:cond delay="0"/>
                                          </p:stCondLst>
                                        </p:cTn>
                                        <p:tgtEl>
                                          <p:spTgt spid="671">
                                            <p:txEl>
                                              <p:pRg st="2" end="2"/>
                                            </p:txEl>
                                          </p:spTgt>
                                        </p:tgtEl>
                                        <p:attrNameLst>
                                          <p:attrName>style.visibility</p:attrName>
                                        </p:attrNameLst>
                                      </p:cBhvr>
                                      <p:to>
                                        <p:strVal val="visible"/>
                                      </p:to>
                                    </p:set>
                                    <p:anim calcmode="lin" valueType="num">
                                      <p:cBhvr additive="base">
                                        <p:cTn id="710" dur="500" fill="hold"/>
                                        <p:tgtEl>
                                          <p:spTgt spid="671">
                                            <p:txEl>
                                              <p:pRg st="2" end="2"/>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671">
                                            <p:txEl>
                                              <p:pRg st="2" end="2"/>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8">
                                  <p:stCondLst>
                                    <p:cond delay="0"/>
                                  </p:stCondLst>
                                  <p:childTnLst>
                                    <p:set>
                                      <p:cBhvr>
                                        <p:cTn id="713" dur="1" fill="hold">
                                          <p:stCondLst>
                                            <p:cond delay="0"/>
                                          </p:stCondLst>
                                        </p:cTn>
                                        <p:tgtEl>
                                          <p:spTgt spid="671">
                                            <p:txEl>
                                              <p:pRg st="3" end="3"/>
                                            </p:txEl>
                                          </p:spTgt>
                                        </p:tgtEl>
                                        <p:attrNameLst>
                                          <p:attrName>style.visibility</p:attrName>
                                        </p:attrNameLst>
                                      </p:cBhvr>
                                      <p:to>
                                        <p:strVal val="visible"/>
                                      </p:to>
                                    </p:set>
                                    <p:anim calcmode="lin" valueType="num">
                                      <p:cBhvr additive="base">
                                        <p:cTn id="714" dur="500" fill="hold"/>
                                        <p:tgtEl>
                                          <p:spTgt spid="671">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6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671">
                                            <p:txEl>
                                              <p:pRg st="4" end="4"/>
                                            </p:txEl>
                                          </p:spTgt>
                                        </p:tgtEl>
                                        <p:attrNameLst>
                                          <p:attrName>style.visibility</p:attrName>
                                        </p:attrNameLst>
                                      </p:cBhvr>
                                      <p:to>
                                        <p:strVal val="visible"/>
                                      </p:to>
                                    </p:set>
                                    <p:anim calcmode="lin" valueType="num">
                                      <p:cBhvr additive="base">
                                        <p:cTn id="720" dur="500" fill="hold"/>
                                        <p:tgtEl>
                                          <p:spTgt spid="671">
                                            <p:txEl>
                                              <p:pRg st="4" end="4"/>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671">
                                            <p:txEl>
                                              <p:pRg st="4" end="4"/>
                                            </p:txEl>
                                          </p:spTgt>
                                        </p:tgtEl>
                                        <p:attrNameLst>
                                          <p:attrName>ppt_y</p:attrName>
                                        </p:attrNameLst>
                                      </p:cBhvr>
                                      <p:tavLst>
                                        <p:tav tm="0">
                                          <p:val>
                                            <p:strVal val="#ppt_y"/>
                                          </p:val>
                                        </p:tav>
                                        <p:tav tm="100000">
                                          <p:val>
                                            <p:strVal val="#ppt_y"/>
                                          </p:val>
                                        </p:tav>
                                      </p:tavLst>
                                    </p:anim>
                                  </p:childTnLst>
                                </p:cTn>
                              </p:par>
                              <p:par>
                                <p:cTn id="722" nodeType="withEffect" fill="hold" presetClass="entr" presetID="2" presetSubtype="8">
                                  <p:stCondLst>
                                    <p:cond delay="0"/>
                                  </p:stCondLst>
                                  <p:childTnLst>
                                    <p:set>
                                      <p:cBhvr>
                                        <p:cTn id="723" dur="1" fill="hold">
                                          <p:stCondLst>
                                            <p:cond delay="0"/>
                                          </p:stCondLst>
                                        </p:cTn>
                                        <p:tgtEl>
                                          <p:spTgt spid="671">
                                            <p:txEl>
                                              <p:pRg st="5" end="5"/>
                                            </p:txEl>
                                          </p:spTgt>
                                        </p:tgtEl>
                                        <p:attrNameLst>
                                          <p:attrName>style.visibility</p:attrName>
                                        </p:attrNameLst>
                                      </p:cBhvr>
                                      <p:to>
                                        <p:strVal val="visible"/>
                                      </p:to>
                                    </p:set>
                                    <p:anim calcmode="lin" valueType="num">
                                      <p:cBhvr additive="base">
                                        <p:cTn id="724" dur="500" fill="hold"/>
                                        <p:tgtEl>
                                          <p:spTgt spid="671">
                                            <p:txEl>
                                              <p:pRg st="5" end="5"/>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671">
                                            <p:txEl>
                                              <p:pRg st="5" end="5"/>
                                            </p:txEl>
                                          </p:spTgt>
                                        </p:tgtEl>
                                        <p:attrNameLst>
                                          <p:attrName>ppt_y</p:attrName>
                                        </p:attrNameLst>
                                      </p:cBhvr>
                                      <p:tavLst>
                                        <p:tav tm="0">
                                          <p:val>
                                            <p:strVal val="#ppt_y"/>
                                          </p:val>
                                        </p:tav>
                                        <p:tav tm="100000">
                                          <p:val>
                                            <p:strVal val="#ppt_y"/>
                                          </p:val>
                                        </p:tav>
                                      </p:tavLst>
                                    </p:anim>
                                  </p:childTnLst>
                                </p:cTn>
                              </p:par>
                              <p:par>
                                <p:cTn id="726" nodeType="withEffect" fill="hold" presetClass="entr" presetID="2" presetSubtype="8">
                                  <p:stCondLst>
                                    <p:cond delay="0"/>
                                  </p:stCondLst>
                                  <p:childTnLst>
                                    <p:set>
                                      <p:cBhvr>
                                        <p:cTn id="727" dur="1" fill="hold">
                                          <p:stCondLst>
                                            <p:cond delay="0"/>
                                          </p:stCondLst>
                                        </p:cTn>
                                        <p:tgtEl>
                                          <p:spTgt spid="671">
                                            <p:txEl>
                                              <p:pRg st="6" end="6"/>
                                            </p:txEl>
                                          </p:spTgt>
                                        </p:tgtEl>
                                        <p:attrNameLst>
                                          <p:attrName>style.visibility</p:attrName>
                                        </p:attrNameLst>
                                      </p:cBhvr>
                                      <p:to>
                                        <p:strVal val="visible"/>
                                      </p:to>
                                    </p:set>
                                    <p:anim calcmode="lin" valueType="num">
                                      <p:cBhvr additive="base">
                                        <p:cTn id="728" dur="500" fill="hold"/>
                                        <p:tgtEl>
                                          <p:spTgt spid="671">
                                            <p:txEl>
                                              <p:pRg st="6" end="6"/>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671">
                                            <p:txEl>
                                              <p:pRg st="6" end="6"/>
                                            </p:txEl>
                                          </p:spTgt>
                                        </p:tgtEl>
                                        <p:attrNameLst>
                                          <p:attrName>ppt_y</p:attrName>
                                        </p:attrNameLst>
                                      </p:cBhvr>
                                      <p:tavLst>
                                        <p:tav tm="0">
                                          <p:val>
                                            <p:strVal val="#ppt_y"/>
                                          </p:val>
                                        </p:tav>
                                        <p:tav tm="100000">
                                          <p:val>
                                            <p:strVal val="#ppt_y"/>
                                          </p:val>
                                        </p:tav>
                                      </p:tavLst>
                                    </p:anim>
                                  </p:childTnLst>
                                </p:cTn>
                              </p:par>
                              <p:par>
                                <p:cTn id="730" nodeType="withEffect" fill="hold" presetClass="entr" presetID="2" presetSubtype="8">
                                  <p:stCondLst>
                                    <p:cond delay="0"/>
                                  </p:stCondLst>
                                  <p:childTnLst>
                                    <p:set>
                                      <p:cBhvr>
                                        <p:cTn id="731" dur="1" fill="hold">
                                          <p:stCondLst>
                                            <p:cond delay="0"/>
                                          </p:stCondLst>
                                        </p:cTn>
                                        <p:tgtEl>
                                          <p:spTgt spid="671">
                                            <p:txEl>
                                              <p:pRg st="7" end="7"/>
                                            </p:txEl>
                                          </p:spTgt>
                                        </p:tgtEl>
                                        <p:attrNameLst>
                                          <p:attrName>style.visibility</p:attrName>
                                        </p:attrNameLst>
                                      </p:cBhvr>
                                      <p:to>
                                        <p:strVal val="visible"/>
                                      </p:to>
                                    </p:set>
                                    <p:anim calcmode="lin" valueType="num">
                                      <p:cBhvr additive="base">
                                        <p:cTn id="732" dur="500" fill="hold"/>
                                        <p:tgtEl>
                                          <p:spTgt spid="671">
                                            <p:txEl>
                                              <p:pRg st="7" end="7"/>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671">
                                            <p:txEl>
                                              <p:pRg st="7" end="7"/>
                                            </p:txEl>
                                          </p:spTgt>
                                        </p:tgtEl>
                                        <p:attrNameLst>
                                          <p:attrName>ppt_y</p:attrName>
                                        </p:attrNameLst>
                                      </p:cBhvr>
                                      <p:tavLst>
                                        <p:tav tm="0">
                                          <p:val>
                                            <p:strVal val="#ppt_y"/>
                                          </p:val>
                                        </p:tav>
                                        <p:tav tm="100000">
                                          <p:val>
                                            <p:strVal val="#ppt_y"/>
                                          </p:val>
                                        </p:tav>
                                      </p:tavLst>
                                    </p:anim>
                                  </p:childTnLst>
                                </p:cTn>
                              </p:par>
                              <p:animClr clrSpc="rgb">
                                <p:cBhvr>
                                  <p:cTn id="734" dur="1" fill="hold">
                                    <p:stCondLst>
                                      <p:cond delay="0"/>
                                    </p:stCondLst>
                                  </p:cTn>
                                  <p:tgtEl>
                                    <p:spTgt spid="671">
                                      <p:txEl>
                                        <p:pRg st="0" end="0"/>
                                      </p:txEl>
                                    </p:spTgt>
                                  </p:tgtEl>
                                  <p:attrNameLst>
                                    <p:attrName>ppt_c</p:attrName>
                                  </p:attrNameLst>
                                </p:cBhvr>
                                <p:to>
                                  <a:srgbClr val="006666"/>
                                </p:to>
                              </p:animClr>
                              <p:animClr clrSpc="rgb">
                                <p:cBhvr>
                                  <p:cTn id="735" dur="1" fill="hold">
                                    <p:stCondLst>
                                      <p:cond delay="0"/>
                                    </p:stCondLst>
                                  </p:cTn>
                                  <p:tgtEl>
                                    <p:spTgt spid="671">
                                      <p:txEl>
                                        <p:pRg st="1" end="1"/>
                                      </p:txEl>
                                    </p:spTgt>
                                  </p:tgtEl>
                                  <p:attrNameLst>
                                    <p:attrName>ppt_c</p:attrName>
                                  </p:attrNameLst>
                                </p:cBhvr>
                                <p:to>
                                  <a:srgbClr val="006666"/>
                                </p:to>
                              </p:animClr>
                              <p:animClr clrSpc="rgb">
                                <p:cBhvr>
                                  <p:cTn id="736" dur="1" fill="hold">
                                    <p:stCondLst>
                                      <p:cond delay="0"/>
                                    </p:stCondLst>
                                  </p:cTn>
                                  <p:tgtEl>
                                    <p:spTgt spid="671">
                                      <p:txEl>
                                        <p:pRg st="2" end="2"/>
                                      </p:txEl>
                                    </p:spTgt>
                                  </p:tgtEl>
                                  <p:attrNameLst>
                                    <p:attrName>ppt_c</p:attrName>
                                  </p:attrNameLst>
                                </p:cBhvr>
                                <p:to>
                                  <a:srgbClr val="006666"/>
                                </p:to>
                              </p:animClr>
                              <p:animClr clrSpc="rgb">
                                <p:cBhvr>
                                  <p:cTn id="737" dur="1" fill="hold">
                                    <p:stCondLst>
                                      <p:cond delay="0"/>
                                    </p:stCondLst>
                                  </p:cTn>
                                  <p:tgtEl>
                                    <p:spTgt spid="671">
                                      <p:txEl>
                                        <p:pRg st="3" end="3"/>
                                      </p:txEl>
                                    </p:spTgt>
                                  </p:tgtEl>
                                  <p:attrNameLst>
                                    <p:attrName>ppt_c</p:attrName>
                                  </p:attrNameLst>
                                </p:cBhvr>
                                <p:to>
                                  <a:srgbClr val="006666"/>
                                </p:to>
                              </p:animCl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71">
                                            <p:txEl>
                                              <p:pRg st="8" end="8"/>
                                            </p:txEl>
                                          </p:spTgt>
                                        </p:tgtEl>
                                        <p:attrNameLst>
                                          <p:attrName>style.visibility</p:attrName>
                                        </p:attrNameLst>
                                      </p:cBhvr>
                                      <p:to>
                                        <p:strVal val="visible"/>
                                      </p:to>
                                    </p:set>
                                    <p:anim calcmode="lin" valueType="num">
                                      <p:cBhvr additive="base">
                                        <p:cTn id="742" dur="500" fill="hold"/>
                                        <p:tgtEl>
                                          <p:spTgt spid="671">
                                            <p:txEl>
                                              <p:pRg st="8" end="8"/>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671">
                                            <p:txEl>
                                              <p:pRg st="8" end="8"/>
                                            </p:txEl>
                                          </p:spTgt>
                                        </p:tgtEl>
                                        <p:attrNameLst>
                                          <p:attrName>ppt_y</p:attrName>
                                        </p:attrNameLst>
                                      </p:cBhvr>
                                      <p:tavLst>
                                        <p:tav tm="0">
                                          <p:val>
                                            <p:strVal val="#ppt_y"/>
                                          </p:val>
                                        </p:tav>
                                        <p:tav tm="100000">
                                          <p:val>
                                            <p:strVal val="#ppt_y"/>
                                          </p:val>
                                        </p:tav>
                                      </p:tavLst>
                                    </p:anim>
                                  </p:childTnLst>
                                </p:cTn>
                              </p:par>
                              <p:animClr clrSpc="rgb">
                                <p:cBhvr>
                                  <p:cTn id="744" dur="1" fill="hold">
                                    <p:stCondLst>
                                      <p:cond delay="0"/>
                                    </p:stCondLst>
                                  </p:cTn>
                                  <p:tgtEl>
                                    <p:spTgt spid="671">
                                      <p:txEl>
                                        <p:pRg st="4" end="4"/>
                                      </p:txEl>
                                    </p:spTgt>
                                  </p:tgtEl>
                                  <p:attrNameLst>
                                    <p:attrName>ppt_c</p:attrName>
                                  </p:attrNameLst>
                                </p:cBhvr>
                                <p:to>
                                  <a:srgbClr val="006666"/>
                                </p:to>
                              </p:animClr>
                              <p:animClr clrSpc="rgb">
                                <p:cBhvr>
                                  <p:cTn id="745" dur="1" fill="hold">
                                    <p:stCondLst>
                                      <p:cond delay="0"/>
                                    </p:stCondLst>
                                  </p:cTn>
                                  <p:tgtEl>
                                    <p:spTgt spid="671">
                                      <p:txEl>
                                        <p:pRg st="5" end="5"/>
                                      </p:txEl>
                                    </p:spTgt>
                                  </p:tgtEl>
                                  <p:attrNameLst>
                                    <p:attrName>ppt_c</p:attrName>
                                  </p:attrNameLst>
                                </p:cBhvr>
                                <p:to>
                                  <a:srgbClr val="006666"/>
                                </p:to>
                              </p:animClr>
                              <p:animClr clrSpc="rgb">
                                <p:cBhvr>
                                  <p:cTn id="746" dur="1" fill="hold">
                                    <p:stCondLst>
                                      <p:cond delay="0"/>
                                    </p:stCondLst>
                                  </p:cTn>
                                  <p:tgtEl>
                                    <p:spTgt spid="671">
                                      <p:txEl>
                                        <p:pRg st="6" end="6"/>
                                      </p:txEl>
                                    </p:spTgt>
                                  </p:tgtEl>
                                  <p:attrNameLst>
                                    <p:attrName>ppt_c</p:attrName>
                                  </p:attrNameLst>
                                </p:cBhvr>
                                <p:to>
                                  <a:srgbClr val="006666"/>
                                </p:to>
                              </p:animClr>
                              <p:animClr clrSpc="rgb">
                                <p:cBhvr>
                                  <p:cTn id="747" dur="1" fill="hold">
                                    <p:stCondLst>
                                      <p:cond delay="0"/>
                                    </p:stCondLst>
                                  </p:cTn>
                                  <p:tgtEl>
                                    <p:spTgt spid="671">
                                      <p:txEl>
                                        <p:pRg st="7" end="7"/>
                                      </p:txEl>
                                    </p:spTgt>
                                  </p:tgtEl>
                                  <p:attrNameLst>
                                    <p:attrName>ppt_c</p:attrName>
                                  </p:attrNameLst>
                                </p:cBhvr>
                                <p:to>
                                  <a:srgbClr val="006666"/>
                                </p:to>
                              </p:animClr>
                            </p:childTnLst>
                          </p:cTn>
                        </p:par>
                      </p:childTnLst>
                    </p:cTn>
                  </p:par>
                  <p:par>
                    <p:cTn id="748" fill="hold">
                      <p:stCondLst>
                        <p:cond delay="indefinite"/>
                      </p:stCondLst>
                      <p:childTnLst>
                        <p:par>
                          <p:cTn id="749" fill="hold">
                            <p:stCondLst>
                              <p:cond delay="0"/>
                            </p:stCondLst>
                            <p:childTnLst>
                              <p:animClr clrSpc="rgb">
                                <p:cBhvr>
                                  <p:cTn id="750" dur="1" fill="hold"/>
                                  <p:tgtEl>
                                    <p:spTgt spid="671">
                                      <p:txEl>
                                        <p:pRg st="8" end="8"/>
                                      </p:txEl>
                                    </p:spTgt>
                                  </p:tgtEl>
                                  <p:attrNameLst>
                                    <p:attrName>ppt_c</p:attrName>
                                  </p:attrNameLst>
                                </p:cBhvr>
                                <p:to>
                                  <a:srgbClr val="0066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431640" y="6229440"/>
            <a:ext cx="19051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3" name="Rectangle 3"/>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4"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operability</a:t>
            </a:r>
            <a:endParaRPr b="0" lang="en-US" sz="4200" spc="-1" strike="noStrike">
              <a:solidFill>
                <a:srgbClr val="000000"/>
              </a:solidFill>
              <a:latin typeface="Arial"/>
            </a:endParaRPr>
          </a:p>
        </p:txBody>
      </p:sp>
      <p:sp>
        <p:nvSpPr>
          <p:cNvPr id="675"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pability of two or more different digital collections to be used as one in a transparent fashion</a:t>
            </a:r>
            <a:endParaRPr b="0" lang="en-US" sz="28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example:</a:t>
            </a:r>
            <a:endParaRPr b="0" lang="en-US" sz="2800" spc="-1" strike="noStrike">
              <a:solidFill>
                <a:srgbClr val="000000"/>
              </a:solidFill>
              <a:latin typeface="Arial"/>
            </a:endParaRPr>
          </a:p>
          <a:p>
            <a:pPr lvl="1" marL="743040" indent="-285840">
              <a:lnSpc>
                <a:spcPct val="89000"/>
              </a:lnSpc>
              <a:spcBef>
                <a:spcPts val="601"/>
              </a:spcBef>
              <a:buClr>
                <a:srgbClr val="99cccc"/>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rchives Initiative: http://www.openarchives.org/</a:t>
            </a:r>
            <a:endParaRPr b="0" lang="en-US" sz="2400" spc="-1" strike="noStrike">
              <a:solidFill>
                <a:srgbClr val="000000"/>
              </a:solidFill>
              <a:latin typeface="Arial"/>
            </a:endParaRPr>
          </a:p>
          <a:p>
            <a:pPr marL="343080" indent="-343080">
              <a:lnSpc>
                <a:spcPct val="89000"/>
              </a:lnSpc>
              <a:spcBef>
                <a:spcPts val="700"/>
              </a:spcBef>
              <a:buClr>
                <a:srgbClr val="336666"/>
              </a:buClr>
              <a:buSzPct val="7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tandards (at minimum) or a common platform</a:t>
            </a:r>
            <a:endParaRPr b="0" lang="en-US" sz="2800" spc="-1" strike="noStrike">
              <a:solidFill>
                <a:srgbClr val="000000"/>
              </a:solidFill>
              <a:latin typeface="Arial"/>
            </a:endParaRPr>
          </a:p>
        </p:txBody>
      </p:sp>
    </p:spTree>
  </p:cSld>
  <p:transition>
    <p:pull dir="ru"/>
  </p:transition>
  <p:timing>
    <p:tnLst>
      <p:par>
        <p:cTn id="751" dur="indefinite" restart="never" nodeType="tmRoot">
          <p:childTnLst>
            <p:seq>
              <p:cTn id="752" dur="indefinite" nodeType="mainSeq">
                <p:childTnLst>
                  <p:par>
                    <p:cTn id="753" nodeType="clickEffect" fill="hold">
                      <p:stCondLst>
                        <p:cond delay="indefinite"/>
                      </p:stCondLst>
                      <p:childTnLst>
                        <p:par>
                          <p:cTn id="754" nodeType="withEffect"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675">
                                            <p:txEl>
                                              <p:pRg st="0" end="0"/>
                                            </p:txEl>
                                          </p:spTgt>
                                        </p:tgtEl>
                                        <p:attrNameLst>
                                          <p:attrName>style.visibility</p:attrName>
                                        </p:attrNameLst>
                                      </p:cBhvr>
                                      <p:to>
                                        <p:strVal val="visible"/>
                                      </p:to>
                                    </p:set>
                                    <p:anim calcmode="lin" valueType="num">
                                      <p:cBhvr additive="base">
                                        <p:cTn id="757" dur="500" fill="hold"/>
                                        <p:tgtEl>
                                          <p:spTgt spid="675">
                                            <p:txEl>
                                              <p:pRg st="0" end="0"/>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6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675">
                                            <p:txEl>
                                              <p:pRg st="1" end="1"/>
                                            </p:txEl>
                                          </p:spTgt>
                                        </p:tgtEl>
                                        <p:attrNameLst>
                                          <p:attrName>style.visibility</p:attrName>
                                        </p:attrNameLst>
                                      </p:cBhvr>
                                      <p:to>
                                        <p:strVal val="visible"/>
                                      </p:to>
                                    </p:set>
                                    <p:anim calcmode="lin" valueType="num">
                                      <p:cBhvr additive="base">
                                        <p:cTn id="763" dur="500" fill="hold"/>
                                        <p:tgtEl>
                                          <p:spTgt spid="675">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675">
                                            <p:txEl>
                                              <p:pRg st="1" end="1"/>
                                            </p:txEl>
                                          </p:spTgt>
                                        </p:tgtEl>
                                        <p:attrNameLst>
                                          <p:attrName>ppt_y</p:attrName>
                                        </p:attrNameLst>
                                      </p:cBhvr>
                                      <p:tavLst>
                                        <p:tav tm="0">
                                          <p:val>
                                            <p:strVal val="#ppt_y"/>
                                          </p:val>
                                        </p:tav>
                                        <p:tav tm="100000">
                                          <p:val>
                                            <p:strVal val="#ppt_y"/>
                                          </p:val>
                                        </p:tav>
                                      </p:tavLst>
                                    </p:anim>
                                  </p:childTnLst>
                                </p:cTn>
                              </p:par>
                              <p:par>
                                <p:cTn id="765" nodeType="withEffect" fill="hold" presetClass="entr" presetID="2" presetSubtype="8">
                                  <p:stCondLst>
                                    <p:cond delay="0"/>
                                  </p:stCondLst>
                                  <p:childTnLst>
                                    <p:set>
                                      <p:cBhvr>
                                        <p:cTn id="766" dur="1" fill="hold">
                                          <p:stCondLst>
                                            <p:cond delay="0"/>
                                          </p:stCondLst>
                                        </p:cTn>
                                        <p:tgtEl>
                                          <p:spTgt spid="675">
                                            <p:txEl>
                                              <p:pRg st="2" end="2"/>
                                            </p:txEl>
                                          </p:spTgt>
                                        </p:tgtEl>
                                        <p:attrNameLst>
                                          <p:attrName>style.visibility</p:attrName>
                                        </p:attrNameLst>
                                      </p:cBhvr>
                                      <p:to>
                                        <p:strVal val="visible"/>
                                      </p:to>
                                    </p:set>
                                    <p:anim calcmode="lin" valueType="num">
                                      <p:cBhvr additive="base">
                                        <p:cTn id="767" dur="500" fill="hold"/>
                                        <p:tgtEl>
                                          <p:spTgt spid="675">
                                            <p:txEl>
                                              <p:pRg st="2" end="2"/>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6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675">
                                            <p:txEl>
                                              <p:pRg st="3" end="3"/>
                                            </p:txEl>
                                          </p:spTgt>
                                        </p:tgtEl>
                                        <p:attrNameLst>
                                          <p:attrName>style.visibility</p:attrName>
                                        </p:attrNameLst>
                                      </p:cBhvr>
                                      <p:to>
                                        <p:strVal val="visible"/>
                                      </p:to>
                                    </p:set>
                                    <p:anim calcmode="lin" valueType="num">
                                      <p:cBhvr additive="base">
                                        <p:cTn id="773" dur="500" fill="hold"/>
                                        <p:tgtEl>
                                          <p:spTgt spid="675">
                                            <p:txEl>
                                              <p:pRg st="3" end="3"/>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6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ow to Keep Current</a:t>
            </a:r>
            <a:endParaRPr b="0" lang="en-US" sz="4200" spc="-1" strike="noStrike">
              <a:solidFill>
                <a:srgbClr val="000000"/>
              </a:solidFill>
              <a:latin typeface="Arial"/>
            </a:endParaRPr>
          </a:p>
        </p:txBody>
      </p:sp>
      <p:sp>
        <p:nvSpPr>
          <p:cNvPr id="677" name="PlaceHolder 2"/>
          <p:cNvSpPr>
            <a:spLocks noGrp="1"/>
          </p:cNvSpPr>
          <p:nvPr>
            <p:ph/>
          </p:nvPr>
        </p:nvSpPr>
        <p:spPr>
          <a:xfrm>
            <a:off x="1523880" y="1905120"/>
            <a:ext cx="7010640" cy="4114800"/>
          </a:xfrm>
          <a:prstGeom prst="rect">
            <a:avLst/>
          </a:prstGeom>
          <a:noFill/>
          <a:ln w="0">
            <a:noFill/>
          </a:ln>
        </p:spPr>
        <p:txBody>
          <a:bodyPr anchor="t">
            <a:normAutofit fontScale="92000"/>
          </a:bodyPr>
          <a:p>
            <a:pPr marL="315360" indent="-31536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cussions:</a:t>
            </a:r>
            <a:endParaRPr b="0" lang="en-US" sz="2800" spc="-1" strike="noStrike">
              <a:solidFill>
                <a:srgbClr val="000000"/>
              </a:solidFill>
              <a:latin typeface="Arial"/>
            </a:endParaRPr>
          </a:p>
          <a:p>
            <a:pPr lvl="1" marL="683280" indent="-2628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LIB: www.ifla.org/II/lists/diglib.html</a:t>
            </a:r>
            <a:endParaRPr b="0" lang="en-US" sz="2400" spc="-1" strike="noStrike">
              <a:solidFill>
                <a:srgbClr val="000000"/>
              </a:solidFill>
              <a:latin typeface="Arial"/>
            </a:endParaRPr>
          </a:p>
          <a:p>
            <a:pPr lvl="1" marL="683280" indent="-2628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4Lib: sunsite.berkeley.edu/Web4Lib/</a:t>
            </a:r>
            <a:endParaRPr b="0" lang="en-US" sz="2400" spc="-1" strike="noStrike">
              <a:solidFill>
                <a:srgbClr val="000000"/>
              </a:solidFill>
              <a:latin typeface="Arial"/>
            </a:endParaRPr>
          </a:p>
          <a:p>
            <a:pPr lvl="1" marL="683280" indent="-2628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4Lib: sunsite.berkeley.edu/XML4Lib/</a:t>
            </a:r>
            <a:endParaRPr b="0" lang="en-US" sz="2400" spc="-1" strike="noStrike">
              <a:solidFill>
                <a:srgbClr val="000000"/>
              </a:solidFill>
              <a:latin typeface="Arial"/>
            </a:endParaRPr>
          </a:p>
          <a:p>
            <a:pPr marL="315360" indent="-31536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a:t>
            </a:r>
            <a:endParaRPr b="0" lang="en-US" sz="2800" spc="-1" strike="noStrike">
              <a:solidFill>
                <a:srgbClr val="000000"/>
              </a:solidFill>
              <a:latin typeface="Arial"/>
            </a:endParaRPr>
          </a:p>
          <a:p>
            <a:pPr lvl="1" marL="683280" indent="-2628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igital Libraries” column in LJ — libraryjournal.reviewsnews.com</a:t>
            </a:r>
            <a:endParaRPr b="0" lang="en-US" sz="2400" spc="-1" strike="noStrike">
              <a:solidFill>
                <a:srgbClr val="000000"/>
              </a:solidFill>
              <a:latin typeface="Arial"/>
            </a:endParaRPr>
          </a:p>
          <a:p>
            <a:pPr lvl="1" marL="683280" indent="-2628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ib Magazine — www.dlib.org</a:t>
            </a:r>
            <a:endParaRPr b="0" lang="en-US" sz="2400" spc="-1" strike="noStrike">
              <a:solidFill>
                <a:srgbClr val="000000"/>
              </a:solidFill>
              <a:latin typeface="Arial"/>
            </a:endParaRPr>
          </a:p>
          <a:p>
            <a:pPr lvl="1" marL="683280" indent="-2628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ites — sunsite.berkeley.edu/CurrentCites/</a:t>
            </a:r>
            <a:endParaRPr b="0" lang="en-US" sz="2400" spc="-1" strike="noStrike">
              <a:solidFill>
                <a:srgbClr val="000000"/>
              </a:solidFill>
              <a:latin typeface="Arial"/>
            </a:endParaRPr>
          </a:p>
          <a:p>
            <a:pPr lvl="1" marL="683280" indent="-26280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LG DigiNews — www.rlg.org/preserv/diginews/</a:t>
            </a:r>
            <a:endParaRPr b="0" lang="en-US" sz="2400" spc="-1" strike="noStrike">
              <a:solidFill>
                <a:srgbClr val="000000"/>
              </a:solidFill>
              <a:latin typeface="Arial"/>
            </a:endParaRPr>
          </a:p>
        </p:txBody>
      </p:sp>
    </p:spTree>
  </p:cSld>
  <p:transition>
    <p:pull dir="ru"/>
  </p:transition>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677">
                                            <p:txEl>
                                              <p:pRg st="0" end="0"/>
                                            </p:txEl>
                                          </p:spTgt>
                                        </p:tgtEl>
                                        <p:attrNameLst>
                                          <p:attrName>style.visibility</p:attrName>
                                        </p:attrNameLst>
                                      </p:cBhvr>
                                      <p:to>
                                        <p:strVal val="visible"/>
                                      </p:to>
                                    </p:set>
                                    <p:anim calcmode="lin" valueType="num">
                                      <p:cBhvr additive="base">
                                        <p:cTn id="781" dur="500" fill="hold"/>
                                        <p:tgtEl>
                                          <p:spTgt spid="677">
                                            <p:txEl>
                                              <p:pRg st="0" end="0"/>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677">
                                            <p:txEl>
                                              <p:pRg st="0" end="0"/>
                                            </p:txEl>
                                          </p:spTgt>
                                        </p:tgtEl>
                                        <p:attrNameLst>
                                          <p:attrName>ppt_y</p:attrName>
                                        </p:attrNameLst>
                                      </p:cBhvr>
                                      <p:tavLst>
                                        <p:tav tm="0">
                                          <p:val>
                                            <p:strVal val="#ppt_y"/>
                                          </p:val>
                                        </p:tav>
                                        <p:tav tm="100000">
                                          <p:val>
                                            <p:strVal val="#ppt_y"/>
                                          </p:val>
                                        </p:tav>
                                      </p:tavLst>
                                    </p:anim>
                                  </p:childTnLst>
                                </p:cTn>
                              </p:par>
                              <p:par>
                                <p:cTn id="783" nodeType="withEffect" fill="hold" presetClass="entr" presetID="2" presetSubtype="8">
                                  <p:stCondLst>
                                    <p:cond delay="0"/>
                                  </p:stCondLst>
                                  <p:childTnLst>
                                    <p:set>
                                      <p:cBhvr>
                                        <p:cTn id="784" dur="1" fill="hold">
                                          <p:stCondLst>
                                            <p:cond delay="0"/>
                                          </p:stCondLst>
                                        </p:cTn>
                                        <p:tgtEl>
                                          <p:spTgt spid="677">
                                            <p:txEl>
                                              <p:pRg st="1" end="1"/>
                                            </p:txEl>
                                          </p:spTgt>
                                        </p:tgtEl>
                                        <p:attrNameLst>
                                          <p:attrName>style.visibility</p:attrName>
                                        </p:attrNameLst>
                                      </p:cBhvr>
                                      <p:to>
                                        <p:strVal val="visible"/>
                                      </p:to>
                                    </p:set>
                                    <p:anim calcmode="lin" valueType="num">
                                      <p:cBhvr additive="base">
                                        <p:cTn id="785" dur="500" fill="hold"/>
                                        <p:tgtEl>
                                          <p:spTgt spid="677">
                                            <p:txEl>
                                              <p:pRg st="1" end="1"/>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677">
                                            <p:txEl>
                                              <p:pRg st="1" end="1"/>
                                            </p:txEl>
                                          </p:spTgt>
                                        </p:tgtEl>
                                        <p:attrNameLst>
                                          <p:attrName>ppt_y</p:attrName>
                                        </p:attrNameLst>
                                      </p:cBhvr>
                                      <p:tavLst>
                                        <p:tav tm="0">
                                          <p:val>
                                            <p:strVal val="#ppt_y"/>
                                          </p:val>
                                        </p:tav>
                                        <p:tav tm="100000">
                                          <p:val>
                                            <p:strVal val="#ppt_y"/>
                                          </p:val>
                                        </p:tav>
                                      </p:tavLst>
                                    </p:anim>
                                  </p:childTnLst>
                                </p:cTn>
                              </p:par>
                              <p:par>
                                <p:cTn id="787" nodeType="withEffect" fill="hold" presetClass="entr" presetID="2" presetSubtype="8">
                                  <p:stCondLst>
                                    <p:cond delay="0"/>
                                  </p:stCondLst>
                                  <p:childTnLst>
                                    <p:set>
                                      <p:cBhvr>
                                        <p:cTn id="788" dur="1" fill="hold">
                                          <p:stCondLst>
                                            <p:cond delay="0"/>
                                          </p:stCondLst>
                                        </p:cTn>
                                        <p:tgtEl>
                                          <p:spTgt spid="677">
                                            <p:txEl>
                                              <p:pRg st="2" end="2"/>
                                            </p:txEl>
                                          </p:spTgt>
                                        </p:tgtEl>
                                        <p:attrNameLst>
                                          <p:attrName>style.visibility</p:attrName>
                                        </p:attrNameLst>
                                      </p:cBhvr>
                                      <p:to>
                                        <p:strVal val="visible"/>
                                      </p:to>
                                    </p:set>
                                    <p:anim calcmode="lin" valueType="num">
                                      <p:cBhvr additive="base">
                                        <p:cTn id="789" dur="500" fill="hold"/>
                                        <p:tgtEl>
                                          <p:spTgt spid="677">
                                            <p:txEl>
                                              <p:pRg st="2" end="2"/>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677">
                                            <p:txEl>
                                              <p:pRg st="2" end="2"/>
                                            </p:txEl>
                                          </p:spTgt>
                                        </p:tgtEl>
                                        <p:attrNameLst>
                                          <p:attrName>ppt_y</p:attrName>
                                        </p:attrNameLst>
                                      </p:cBhvr>
                                      <p:tavLst>
                                        <p:tav tm="0">
                                          <p:val>
                                            <p:strVal val="#ppt_y"/>
                                          </p:val>
                                        </p:tav>
                                        <p:tav tm="100000">
                                          <p:val>
                                            <p:strVal val="#ppt_y"/>
                                          </p:val>
                                        </p:tav>
                                      </p:tavLst>
                                    </p:anim>
                                  </p:childTnLst>
                                </p:cTn>
                              </p:par>
                              <p:par>
                                <p:cTn id="791" nodeType="withEffect" fill="hold" presetClass="entr" presetID="2" presetSubtype="8">
                                  <p:stCondLst>
                                    <p:cond delay="0"/>
                                  </p:stCondLst>
                                  <p:childTnLst>
                                    <p:set>
                                      <p:cBhvr>
                                        <p:cTn id="792" dur="1" fill="hold">
                                          <p:stCondLst>
                                            <p:cond delay="0"/>
                                          </p:stCondLst>
                                        </p:cTn>
                                        <p:tgtEl>
                                          <p:spTgt spid="677">
                                            <p:txEl>
                                              <p:pRg st="3" end="3"/>
                                            </p:txEl>
                                          </p:spTgt>
                                        </p:tgtEl>
                                        <p:attrNameLst>
                                          <p:attrName>style.visibility</p:attrName>
                                        </p:attrNameLst>
                                      </p:cBhvr>
                                      <p:to>
                                        <p:strVal val="visible"/>
                                      </p:to>
                                    </p:set>
                                    <p:anim calcmode="lin" valueType="num">
                                      <p:cBhvr additive="base">
                                        <p:cTn id="793" dur="500" fill="hold"/>
                                        <p:tgtEl>
                                          <p:spTgt spid="677">
                                            <p:txEl>
                                              <p:pRg st="3" end="3"/>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6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677">
                                            <p:txEl>
                                              <p:pRg st="4" end="4"/>
                                            </p:txEl>
                                          </p:spTgt>
                                        </p:tgtEl>
                                        <p:attrNameLst>
                                          <p:attrName>style.visibility</p:attrName>
                                        </p:attrNameLst>
                                      </p:cBhvr>
                                      <p:to>
                                        <p:strVal val="visible"/>
                                      </p:to>
                                    </p:set>
                                    <p:anim calcmode="lin" valueType="num">
                                      <p:cBhvr additive="base">
                                        <p:cTn id="799" dur="500" fill="hold"/>
                                        <p:tgtEl>
                                          <p:spTgt spid="677">
                                            <p:txEl>
                                              <p:pRg st="4" end="4"/>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677">
                                            <p:txEl>
                                              <p:pRg st="4" end="4"/>
                                            </p:txEl>
                                          </p:spTgt>
                                        </p:tgtEl>
                                        <p:attrNameLst>
                                          <p:attrName>ppt_y</p:attrName>
                                        </p:attrNameLst>
                                      </p:cBhvr>
                                      <p:tavLst>
                                        <p:tav tm="0">
                                          <p:val>
                                            <p:strVal val="#ppt_y"/>
                                          </p:val>
                                        </p:tav>
                                        <p:tav tm="100000">
                                          <p:val>
                                            <p:strVal val="#ppt_y"/>
                                          </p:val>
                                        </p:tav>
                                      </p:tavLst>
                                    </p:anim>
                                  </p:childTnLst>
                                </p:cTn>
                              </p:par>
                              <p:par>
                                <p:cTn id="801" nodeType="withEffect" fill="hold" presetClass="entr" presetID="2" presetSubtype="8">
                                  <p:stCondLst>
                                    <p:cond delay="0"/>
                                  </p:stCondLst>
                                  <p:childTnLst>
                                    <p:set>
                                      <p:cBhvr>
                                        <p:cTn id="802" dur="1" fill="hold">
                                          <p:stCondLst>
                                            <p:cond delay="0"/>
                                          </p:stCondLst>
                                        </p:cTn>
                                        <p:tgtEl>
                                          <p:spTgt spid="677">
                                            <p:txEl>
                                              <p:pRg st="5" end="5"/>
                                            </p:txEl>
                                          </p:spTgt>
                                        </p:tgtEl>
                                        <p:attrNameLst>
                                          <p:attrName>style.visibility</p:attrName>
                                        </p:attrNameLst>
                                      </p:cBhvr>
                                      <p:to>
                                        <p:strVal val="visible"/>
                                      </p:to>
                                    </p:set>
                                    <p:anim calcmode="lin" valueType="num">
                                      <p:cBhvr additive="base">
                                        <p:cTn id="803" dur="500" fill="hold"/>
                                        <p:tgtEl>
                                          <p:spTgt spid="677">
                                            <p:txEl>
                                              <p:pRg st="5" end="5"/>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677">
                                            <p:txEl>
                                              <p:pRg st="5" end="5"/>
                                            </p:txEl>
                                          </p:spTgt>
                                        </p:tgtEl>
                                        <p:attrNameLst>
                                          <p:attrName>ppt_y</p:attrName>
                                        </p:attrNameLst>
                                      </p:cBhvr>
                                      <p:tavLst>
                                        <p:tav tm="0">
                                          <p:val>
                                            <p:strVal val="#ppt_y"/>
                                          </p:val>
                                        </p:tav>
                                        <p:tav tm="100000">
                                          <p:val>
                                            <p:strVal val="#ppt_y"/>
                                          </p:val>
                                        </p:tav>
                                      </p:tavLst>
                                    </p:anim>
                                  </p:childTnLst>
                                </p:cTn>
                              </p:par>
                              <p:par>
                                <p:cTn id="805" nodeType="withEffect" fill="hold" presetClass="entr" presetID="2" presetSubtype="8">
                                  <p:stCondLst>
                                    <p:cond delay="0"/>
                                  </p:stCondLst>
                                  <p:childTnLst>
                                    <p:set>
                                      <p:cBhvr>
                                        <p:cTn id="806" dur="1" fill="hold">
                                          <p:stCondLst>
                                            <p:cond delay="0"/>
                                          </p:stCondLst>
                                        </p:cTn>
                                        <p:tgtEl>
                                          <p:spTgt spid="677">
                                            <p:txEl>
                                              <p:pRg st="6" end="6"/>
                                            </p:txEl>
                                          </p:spTgt>
                                        </p:tgtEl>
                                        <p:attrNameLst>
                                          <p:attrName>style.visibility</p:attrName>
                                        </p:attrNameLst>
                                      </p:cBhvr>
                                      <p:to>
                                        <p:strVal val="visible"/>
                                      </p:to>
                                    </p:set>
                                    <p:anim calcmode="lin" valueType="num">
                                      <p:cBhvr additive="base">
                                        <p:cTn id="807" dur="500" fill="hold"/>
                                        <p:tgtEl>
                                          <p:spTgt spid="677">
                                            <p:txEl>
                                              <p:pRg st="6" end="6"/>
                                            </p:txEl>
                                          </p:spTgt>
                                        </p:tgtEl>
                                        <p:attrNameLst>
                                          <p:attrName>ppt_x</p:attrName>
                                        </p:attrNameLst>
                                      </p:cBhvr>
                                      <p:tavLst>
                                        <p:tav tm="0">
                                          <p:val>
                                            <p:strVal val="0-#ppt_w/2"/>
                                          </p:val>
                                        </p:tav>
                                        <p:tav tm="100000">
                                          <p:val>
                                            <p:strVal val="#ppt_x"/>
                                          </p:val>
                                        </p:tav>
                                      </p:tavLst>
                                    </p:anim>
                                    <p:anim calcmode="lin" valueType="num">
                                      <p:cBhvr additive="base">
                                        <p:cTn id="808" dur="500" fill="hold"/>
                                        <p:tgtEl>
                                          <p:spTgt spid="677">
                                            <p:txEl>
                                              <p:pRg st="6" end="6"/>
                                            </p:txEl>
                                          </p:spTgt>
                                        </p:tgtEl>
                                        <p:attrNameLst>
                                          <p:attrName>ppt_y</p:attrName>
                                        </p:attrNameLst>
                                      </p:cBhvr>
                                      <p:tavLst>
                                        <p:tav tm="0">
                                          <p:val>
                                            <p:strVal val="#ppt_y"/>
                                          </p:val>
                                        </p:tav>
                                        <p:tav tm="100000">
                                          <p:val>
                                            <p:strVal val="#ppt_y"/>
                                          </p:val>
                                        </p:tav>
                                      </p:tavLst>
                                    </p:anim>
                                  </p:childTnLst>
                                </p:cTn>
                              </p:par>
                              <p:par>
                                <p:cTn id="809" nodeType="withEffect" fill="hold" presetClass="entr" presetID="2" presetSubtype="8">
                                  <p:stCondLst>
                                    <p:cond delay="0"/>
                                  </p:stCondLst>
                                  <p:childTnLst>
                                    <p:set>
                                      <p:cBhvr>
                                        <p:cTn id="810" dur="1" fill="hold">
                                          <p:stCondLst>
                                            <p:cond delay="0"/>
                                          </p:stCondLst>
                                        </p:cTn>
                                        <p:tgtEl>
                                          <p:spTgt spid="677">
                                            <p:txEl>
                                              <p:pRg st="7" end="7"/>
                                            </p:txEl>
                                          </p:spTgt>
                                        </p:tgtEl>
                                        <p:attrNameLst>
                                          <p:attrName>style.visibility</p:attrName>
                                        </p:attrNameLst>
                                      </p:cBhvr>
                                      <p:to>
                                        <p:strVal val="visible"/>
                                      </p:to>
                                    </p:set>
                                    <p:anim calcmode="lin" valueType="num">
                                      <p:cBhvr additive="base">
                                        <p:cTn id="811" dur="500" fill="hold"/>
                                        <p:tgtEl>
                                          <p:spTgt spid="677">
                                            <p:txEl>
                                              <p:pRg st="7" end="7"/>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677">
                                            <p:txEl>
                                              <p:pRg st="7" end="7"/>
                                            </p:txEl>
                                          </p:spTgt>
                                        </p:tgtEl>
                                        <p:attrNameLst>
                                          <p:attrName>ppt_y</p:attrName>
                                        </p:attrNameLst>
                                      </p:cBhvr>
                                      <p:tavLst>
                                        <p:tav tm="0">
                                          <p:val>
                                            <p:strVal val="#ppt_y"/>
                                          </p:val>
                                        </p:tav>
                                        <p:tav tm="100000">
                                          <p:val>
                                            <p:strVal val="#ppt_y"/>
                                          </p:val>
                                        </p:tav>
                                      </p:tavLst>
                                    </p:anim>
                                  </p:childTnLst>
                                </p:cTn>
                              </p:par>
                              <p:par>
                                <p:cTn id="813" nodeType="withEffect" fill="hold" presetClass="entr" presetID="2" presetSubtype="8">
                                  <p:stCondLst>
                                    <p:cond delay="0"/>
                                  </p:stCondLst>
                                  <p:childTnLst>
                                    <p:set>
                                      <p:cBhvr>
                                        <p:cTn id="814" dur="1" fill="hold">
                                          <p:stCondLst>
                                            <p:cond delay="0"/>
                                          </p:stCondLst>
                                        </p:cTn>
                                        <p:tgtEl>
                                          <p:spTgt spid="677">
                                            <p:txEl>
                                              <p:pRg st="8" end="8"/>
                                            </p:txEl>
                                          </p:spTgt>
                                        </p:tgtEl>
                                        <p:attrNameLst>
                                          <p:attrName>style.visibility</p:attrName>
                                        </p:attrNameLst>
                                      </p:cBhvr>
                                      <p:to>
                                        <p:strVal val="visible"/>
                                      </p:to>
                                    </p:set>
                                    <p:anim calcmode="lin" valueType="num">
                                      <p:cBhvr additive="base">
                                        <p:cTn id="815" dur="500" fill="hold"/>
                                        <p:tgtEl>
                                          <p:spTgt spid="677">
                                            <p:txEl>
                                              <p:pRg st="8" end="8"/>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67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8393-DF5B-4150-86B6-C8AD37CBD94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82" name="Picture 2" descr="sys1"/>
          <p:cNvPicPr/>
          <p:nvPr/>
        </p:nvPicPr>
        <p:blipFill>
          <a:blip r:embed="rId1"/>
          <a:stretch/>
        </p:blipFill>
        <p:spPr>
          <a:xfrm>
            <a:off x="1116000" y="765000"/>
            <a:ext cx="6840720" cy="4969080"/>
          </a:xfrm>
          <a:prstGeom prst="rect">
            <a:avLst/>
          </a:prstGeom>
          <a:ln w="0">
            <a:noFill/>
          </a:ln>
        </p:spPr>
      </p:pic>
      <p:sp>
        <p:nvSpPr>
          <p:cNvPr id="183" name="Text Box 3"/>
          <p:cNvSpPr/>
          <p:nvPr/>
        </p:nvSpPr>
        <p:spPr>
          <a:xfrm>
            <a:off x="2541600" y="6381720"/>
            <a:ext cx="50454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66"/>
                </a:solidFill>
                <a:latin typeface="Arial"/>
              </a:rPr>
              <a:t>Arms et al. </a:t>
            </a:r>
            <a:r>
              <a:rPr b="0" lang="en-US" sz="900" spc="-1" strike="noStrike" u="sng">
                <a:solidFill>
                  <a:srgbClr val="336666"/>
                </a:solidFill>
                <a:uFillTx/>
                <a:latin typeface="Arial"/>
              </a:rPr>
              <a:t>An Architecture for Information in Digital Libraries</a:t>
            </a:r>
            <a:r>
              <a:rPr b="0" lang="en-US" sz="900" spc="-1" strike="noStrike">
                <a:solidFill>
                  <a:srgbClr val="336666"/>
                </a:solidFill>
                <a:latin typeface="Arial"/>
              </a:rPr>
              <a:t>. </a:t>
            </a:r>
            <a:r>
              <a:rPr b="0" i="1" lang="en-US" sz="900" spc="-1" strike="noStrike">
                <a:solidFill>
                  <a:srgbClr val="336666"/>
                </a:solidFill>
                <a:latin typeface="Arial"/>
              </a:rPr>
              <a:t>D-Lib Magazine</a:t>
            </a:r>
            <a:r>
              <a:rPr b="0" lang="en-US" sz="900" spc="-1" strike="noStrike">
                <a:solidFill>
                  <a:srgbClr val="336666"/>
                </a:solidFill>
                <a:latin typeface="Arial"/>
              </a:rPr>
              <a:t>, February 1997.  </a:t>
            </a:r>
            <a:endParaRPr b="0" lang="en-US" sz="9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887E-CD55-415D-AB59-D23F74A66E5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8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er interfaces</a:t>
            </a: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 interface for end-users to get access to the library and its collection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 interface for librarians and system administrators who manage collection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1"/>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38C5-0497-441E-A5E6-595C09551F3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pic>
        <p:nvPicPr>
          <p:cNvPr id="188" name="Picture 2" descr=""/>
          <p:cNvPicPr/>
          <p:nvPr/>
        </p:nvPicPr>
        <p:blipFill>
          <a:blip r:embed="rId1"/>
          <a:stretch/>
        </p:blipFill>
        <p:spPr>
          <a:xfrm>
            <a:off x="0" y="0"/>
            <a:ext cx="9144000" cy="6858000"/>
          </a:xfrm>
          <a:prstGeom prst="rect">
            <a:avLst/>
          </a:prstGeom>
          <a:ln w="0">
            <a:noFill/>
          </a:ln>
        </p:spPr>
      </p:pic>
      <p:pic>
        <p:nvPicPr>
          <p:cNvPr id="189" name="Picture 3"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9"/>
                                        </p:tgtEl>
                                        <p:attrNameLst>
                                          <p:attrName>style.visibility</p:attrName>
                                        </p:attrNameLst>
                                      </p:cBhvr>
                                      <p:to>
                                        <p:strVal val="visible"/>
                                      </p:to>
                                    </p:set>
                                    <p:animEffect filter="blinds(horizontal)" transition="in">
                                      <p:cBhvr additive="repl">
                                        <p:cTn id="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4FAE-0DEB-4446-A5F4-136C897A64C2}"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pository </a:t>
            </a:r>
            <a:endParaRPr b="0" lang="en-US" sz="4200" spc="-1" strike="noStrike">
              <a:solidFill>
                <a:srgbClr val="000000"/>
              </a:solidFill>
              <a:latin typeface="Arial"/>
            </a:endParaRPr>
          </a:p>
        </p:txBody>
      </p:sp>
      <p:sp>
        <p:nvSpPr>
          <p:cNvPr id="1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sitories store and manage digital objects and other information. A large digital library may have many repositories of various types, including modern repositories, legacy databases, and Web server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a:t>
            </a:r>
            <a:r>
              <a:rPr b="1" lang="en-US" sz="2600" spc="-1" strike="noStrike">
                <a:solidFill>
                  <a:srgbClr val="000000"/>
                </a:solidFill>
                <a:latin typeface="Arial"/>
              </a:rPr>
              <a:t> repository access protocol (RAP)</a:t>
            </a:r>
            <a:r>
              <a:rPr b="0" lang="en-US" sz="2600" spc="-1" strike="noStrike">
                <a:solidFill>
                  <a:srgbClr val="000000"/>
                </a:solidFill>
                <a:latin typeface="Arial"/>
              </a:rPr>
              <a:t>. Is used to recognize the rights and permissions that need to be satisfied before a client can access a digital obje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hdk</dc:creator>
  <dc:description/>
  <dc:language>en-US</dc:language>
  <cp:lastModifiedBy>hhdk</cp:lastModifiedBy>
  <cp:lastPrinted>2018-10-16T09:47:26Z</cp:lastPrinted>
  <dcterms:modified xsi:type="dcterms:W3CDTF">2018-10-16T09:48:03Z</dcterms:modified>
  <cp:revision>171</cp:revision>
  <dc:subject/>
  <dc:title>PowerPoint Presentation</dc:title>
</cp:coreProperties>
</file>